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EE9-7BFE-42E5-B756-2364E31E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AC1-7E4D-468C-93E9-9721BB4B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858-90BB-4BDC-A26C-0B0ECB27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EB1-124A-4592-B774-721EC74E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B256-7418-4667-B1EB-B4854CAB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E601-D569-431E-8D28-BFFD15EA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04DC-F611-428E-B2B4-9A97F31C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8A9C-DA59-4CAB-9190-6762E1D5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70A9-DDE4-4338-B163-734EAA2D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D859-F900-44BC-BD7D-5B512397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EAB4-6656-4C0D-BB0B-E62DD775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38B-70ED-4706-AC56-45521D6A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EE08-11DF-463B-906D-D781A5A1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D850-963A-4E2D-94D4-F6E5D9A4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A95F-85DD-4BEB-A6D0-67E6914E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C27E-81A8-4EE6-8D18-0FD466AD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ED64-1C32-4363-81C0-56BEDAFF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79D-4012-4719-8862-3AD8D72B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947-1952-4BBB-B64C-976CD4F6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C98-8910-4AFE-A208-B0CFC180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8CD-0BE0-44ED-A745-D663D939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1D7-F8FB-4FA9-B537-1BB714C4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D5F-E742-4682-87EF-41470717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A7E-2315-4BF4-B238-3D262A5E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f6fc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FEC4-4849-4DF3-B5EA-BBDC7D870206}" type="slidenum"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f6fc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2A7C-3481-4A35-9258-F470D784DE51}" type="slidenum"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182680" y="1054080"/>
            <a:ext cx="5334120" cy="280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Раскраска для малышей: Фрукты. Рыжий апельсин &quot; ALLDAY - народный сайт о дизайне"/>
          <p:cNvPicPr/>
          <p:nvPr/>
        </p:nvPicPr>
        <p:blipFill>
          <a:blip r:embed="rId2"/>
          <a:stretch/>
        </p:blipFill>
        <p:spPr>
          <a:xfrm>
            <a:off x="5145120" y="3170160"/>
            <a:ext cx="2773440" cy="3273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pic4you.ru Фотохостинг с оплатой Бесплатный хостинг картинок"/>
          <p:cNvPicPr/>
          <p:nvPr/>
        </p:nvPicPr>
        <p:blipFill>
          <a:blip r:embed="rId3"/>
          <a:stretch/>
        </p:blipFill>
        <p:spPr>
          <a:xfrm>
            <a:off x="1682640" y="3170160"/>
            <a:ext cx="28893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229600" cy="890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Администратор\Рабочий стол\картинки к презент\сканирование0022.jpg"/>
          <p:cNvPicPr/>
          <p:nvPr/>
        </p:nvPicPr>
        <p:blipFill>
          <a:blip r:embed="rId2"/>
          <a:stretch/>
        </p:blipFill>
        <p:spPr>
          <a:xfrm>
            <a:off x="285840" y="2214720"/>
            <a:ext cx="5214960" cy="3929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Documents and Settings\Администратор\Рабочий стол\картинки к презент\сканирование0025.jpg"/>
          <p:cNvPicPr/>
          <p:nvPr/>
        </p:nvPicPr>
        <p:blipFill>
          <a:blip r:embed="rId3"/>
          <a:stretch/>
        </p:blipFill>
        <p:spPr>
          <a:xfrm>
            <a:off x="5643720" y="3786120"/>
            <a:ext cx="3124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07880" y="426960"/>
            <a:ext cx="8425080" cy="1650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6840" y="1935000"/>
            <a:ext cx="825804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ращивают                                Привез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2" descr="C:\Documents and Settings\Администратор\Рабочий стол\картинки к презент\сканирование0063.jpg"/>
          <p:cNvPicPr/>
          <p:nvPr/>
        </p:nvPicPr>
        <p:blipFill>
          <a:blip r:embed="rId2"/>
          <a:stretch/>
        </p:blipFill>
        <p:spPr>
          <a:xfrm>
            <a:off x="4168800" y="2571840"/>
            <a:ext cx="1565280" cy="128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Администратор\Рабочий стол\картинки к презент\сканирование0055.jpg"/>
          <p:cNvPicPr/>
          <p:nvPr/>
        </p:nvPicPr>
        <p:blipFill>
          <a:blip r:embed="rId3"/>
          <a:stretch/>
        </p:blipFill>
        <p:spPr>
          <a:xfrm>
            <a:off x="5764320" y="2571840"/>
            <a:ext cx="1379520" cy="128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" descr="C:\Documents and Settings\Администратор\Рабочий стол\картинки к презент\сканирование0059.jpg"/>
          <p:cNvPicPr/>
          <p:nvPr/>
        </p:nvPicPr>
        <p:blipFill>
          <a:blip r:embed="rId4"/>
          <a:stretch/>
        </p:blipFill>
        <p:spPr>
          <a:xfrm>
            <a:off x="4132440" y="4121280"/>
            <a:ext cx="1712880" cy="1468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Documents and Settings\Администратор\Рабочий стол\картинки к презент\сканирование0056.jpg"/>
          <p:cNvPicPr/>
          <p:nvPr/>
        </p:nvPicPr>
        <p:blipFill>
          <a:blip r:embed="rId5"/>
          <a:stretch/>
        </p:blipFill>
        <p:spPr>
          <a:xfrm>
            <a:off x="7205760" y="2571840"/>
            <a:ext cx="1366920" cy="128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Documents and Settings\Администратор\Рабочий стол\картинки к презент\сканирование0058.jpg"/>
          <p:cNvPicPr/>
          <p:nvPr/>
        </p:nvPicPr>
        <p:blipFill>
          <a:blip r:embed="rId6"/>
          <a:stretch/>
        </p:blipFill>
        <p:spPr>
          <a:xfrm>
            <a:off x="7524720" y="4121280"/>
            <a:ext cx="1468440" cy="130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Documents and Settings\Администратор\Рабочий стол\картинки к презент\сканирование0066.jpg"/>
          <p:cNvPicPr/>
          <p:nvPr/>
        </p:nvPicPr>
        <p:blipFill>
          <a:blip r:embed="rId7">
            <a:lum contrast="10000"/>
          </a:blip>
          <a:stretch/>
        </p:blipFill>
        <p:spPr>
          <a:xfrm>
            <a:off x="5981760" y="4168800"/>
            <a:ext cx="1519200" cy="1371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Documents and Settings\Администратор\Рабочий стол\картинки к презент\сканирование0061.jpg"/>
          <p:cNvPicPr/>
          <p:nvPr/>
        </p:nvPicPr>
        <p:blipFill>
          <a:blip r:embed="rId8"/>
          <a:stretch/>
        </p:blipFill>
        <p:spPr>
          <a:xfrm>
            <a:off x="157320" y="2500200"/>
            <a:ext cx="1414440" cy="1357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Documents and Settings\Администратор\Рабочий стол\картинки к презент\сканирование0057.jpg"/>
          <p:cNvPicPr/>
          <p:nvPr/>
        </p:nvPicPr>
        <p:blipFill>
          <a:blip r:embed="rId9"/>
          <a:stretch/>
        </p:blipFill>
        <p:spPr>
          <a:xfrm>
            <a:off x="1776240" y="2500200"/>
            <a:ext cx="1509840" cy="1357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Администратор\Рабочий стол\картинки к презент\сканирование0060.jpg"/>
          <p:cNvPicPr/>
          <p:nvPr/>
        </p:nvPicPr>
        <p:blipFill>
          <a:blip r:embed="rId10"/>
          <a:stretch/>
        </p:blipFill>
        <p:spPr>
          <a:xfrm>
            <a:off x="90360" y="4373640"/>
            <a:ext cx="1481400" cy="128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Documents and Settings\Администратор\Рабочий стол\картинки к презент\сканирование0062.jpg"/>
          <p:cNvPicPr/>
          <p:nvPr/>
        </p:nvPicPr>
        <p:blipFill>
          <a:blip r:embed="rId11"/>
          <a:stretch/>
        </p:blipFill>
        <p:spPr>
          <a:xfrm>
            <a:off x="1835280" y="4341960"/>
            <a:ext cx="15462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229600" cy="897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2268360" y="1400040"/>
            <a:ext cx="48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229600" cy="866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85480" y="157140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7" name="Picture 7" descr="Дерево груши со спелыми плодами Дерево груши со спелыми плодами - векторная иллюстрация. Pear tree with ripe fruits vector illus"/>
          <p:cNvPicPr/>
          <p:nvPr/>
        </p:nvPicPr>
        <p:blipFill>
          <a:blip r:embed="rId2"/>
          <a:srcRect l="0" t="0" r="0" b="5636"/>
          <a:stretch/>
        </p:blipFill>
        <p:spPr>
          <a:xfrm>
            <a:off x="2490840" y="1517760"/>
            <a:ext cx="40971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появилось на яблоне яблоко?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4000680" y="1857240"/>
            <a:ext cx="50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Природа, Яблоко и Деревья Вектор"/>
          <p:cNvPicPr/>
          <p:nvPr/>
        </p:nvPicPr>
        <p:blipFill>
          <a:blip r:embed="rId1"/>
          <a:stretch/>
        </p:blipFill>
        <p:spPr>
          <a:xfrm>
            <a:off x="755640" y="2158920"/>
            <a:ext cx="74167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32" name="Picture 10" descr="1920x1080 фрукты, еда, спелые, витамины, красные, яблоки, сочные картинки на рабочий стол обои фото скачать"/>
          <p:cNvPicPr/>
          <p:nvPr/>
        </p:nvPicPr>
        <p:blipFill>
          <a:blip r:embed="rId1"/>
          <a:stretch/>
        </p:blipFill>
        <p:spPr>
          <a:xfrm>
            <a:off x="299880" y="620640"/>
            <a:ext cx="823284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134" name="Picture 8" descr="Спелые груши фото, Спелые груши фото обои рабочий стол, фото фотографии фрукты картинка изображение wallpaper"/>
          <p:cNvPicPr/>
          <p:nvPr/>
        </p:nvPicPr>
        <p:blipFill>
          <a:blip r:embed="rId1"/>
          <a:stretch/>
        </p:blipFill>
        <p:spPr>
          <a:xfrm>
            <a:off x="250920" y="304920"/>
            <a:ext cx="829476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ита</cp:lastModifiedBy>
  <dcterms:modified xsi:type="dcterms:W3CDTF">2015-01-26T19:56:59Z</dcterms:modified>
  <cp:revision>49</cp:revision>
  <dc:subject/>
  <dc:title>Слайд 1</dc:title>
</cp:coreProperties>
</file>