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33C-AC0B-4990-80E1-D838B6C8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121-5F11-4E9A-AE52-344ADDDC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D02-80C9-4E0F-986E-E7DC8607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F06-3735-49FC-BD16-3A77F69D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4815-8983-4F81-9912-B8A17FE2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42AB-9516-4DA9-A455-53427915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9DFE-868B-4DF7-BAB8-EFB7D417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D0F6-3417-40CE-A3B3-500F6DE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2143-C56D-4AAA-8084-7F0BC33A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27FC-899A-4B19-B94F-19F6A4C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0579-7BDB-4045-A8B8-558FF647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5D4-A821-434B-9786-37E1A536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DC60-1693-435A-B457-3F3D7C6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2432-22F3-4EC8-88F6-97B7EF05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2604-3F35-462B-8BFA-2FC4CD4C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7F18-32FD-42F8-8818-BCD2F1F6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02C0-66B1-4511-ADC1-33284E30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067-6DDC-4DFA-B8CF-3BC91E36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6B0-B90D-4E25-98EC-36B064AA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024-9ADF-4119-AA42-AB9297B9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614-E6AD-4EA9-9888-B42F4AE3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F79-7B6B-4FA4-AAF3-1AD431E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525-0F19-4116-8440-19DD5E65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AC1-50FA-44E7-AF88-F945DC4A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f6fc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F5FA-0599-4401-B38D-F1CA5D013FAB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f6fc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18F-F89C-4F64-BC22-E04E688AC1F0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182680" y="1054080"/>
            <a:ext cx="5334120" cy="28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Раскраска для малышей: Фрукты. Рыжий апельсин &quot; ALLDAY - народный сайт о дизайне"/>
          <p:cNvPicPr/>
          <p:nvPr/>
        </p:nvPicPr>
        <p:blipFill>
          <a:blip r:embed="rId2"/>
          <a:stretch/>
        </p:blipFill>
        <p:spPr>
          <a:xfrm>
            <a:off x="5145120" y="3170160"/>
            <a:ext cx="2773440" cy="3273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pic4you.ru Фотохостинг с оплатой Бесплатный хостинг картинок"/>
          <p:cNvPicPr/>
          <p:nvPr/>
        </p:nvPicPr>
        <p:blipFill>
          <a:blip r:embed="rId3"/>
          <a:stretch/>
        </p:blipFill>
        <p:spPr>
          <a:xfrm>
            <a:off x="1682640" y="3170160"/>
            <a:ext cx="2889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890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Администратор\Рабочий стол\картинки к презент\сканирование0022.jpg"/>
          <p:cNvPicPr/>
          <p:nvPr/>
        </p:nvPicPr>
        <p:blipFill>
          <a:blip r:embed="rId2"/>
          <a:stretch/>
        </p:blipFill>
        <p:spPr>
          <a:xfrm>
            <a:off x="285840" y="2214720"/>
            <a:ext cx="5214960" cy="3929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Администратор\Рабочий стол\картинки к презент\сканирование0025.jpg"/>
          <p:cNvPicPr/>
          <p:nvPr/>
        </p:nvPicPr>
        <p:blipFill>
          <a:blip r:embed="rId3"/>
          <a:stretch/>
        </p:blipFill>
        <p:spPr>
          <a:xfrm>
            <a:off x="5643720" y="3786120"/>
            <a:ext cx="3124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07880" y="426960"/>
            <a:ext cx="8425080" cy="1650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6840" y="1935000"/>
            <a:ext cx="825804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ращивают                                Привез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2" descr="C:\Documents and Settings\Администратор\Рабочий стол\картинки к презент\сканирование0063.jpg"/>
          <p:cNvPicPr/>
          <p:nvPr/>
        </p:nvPicPr>
        <p:blipFill>
          <a:blip r:embed="rId2"/>
          <a:stretch/>
        </p:blipFill>
        <p:spPr>
          <a:xfrm>
            <a:off x="4168800" y="2571840"/>
            <a:ext cx="156528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картинки к презент\сканирование0055.jpg"/>
          <p:cNvPicPr/>
          <p:nvPr/>
        </p:nvPicPr>
        <p:blipFill>
          <a:blip r:embed="rId3"/>
          <a:stretch/>
        </p:blipFill>
        <p:spPr>
          <a:xfrm>
            <a:off x="5764320" y="2571840"/>
            <a:ext cx="1379520" cy="128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C:\Documents and Settings\Администратор\Рабочий стол\картинки к презент\сканирование0059.jpg"/>
          <p:cNvPicPr/>
          <p:nvPr/>
        </p:nvPicPr>
        <p:blipFill>
          <a:blip r:embed="rId4"/>
          <a:stretch/>
        </p:blipFill>
        <p:spPr>
          <a:xfrm>
            <a:off x="4132440" y="4121280"/>
            <a:ext cx="1712880" cy="1468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Documents and Settings\Администратор\Рабочий стол\картинки к презент\сканирование0056.jpg"/>
          <p:cNvPicPr/>
          <p:nvPr/>
        </p:nvPicPr>
        <p:blipFill>
          <a:blip r:embed="rId5"/>
          <a:stretch/>
        </p:blipFill>
        <p:spPr>
          <a:xfrm>
            <a:off x="7205760" y="2571840"/>
            <a:ext cx="1366920" cy="128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Documents and Settings\Администратор\Рабочий стол\картинки к презент\сканирование0058.jpg"/>
          <p:cNvPicPr/>
          <p:nvPr/>
        </p:nvPicPr>
        <p:blipFill>
          <a:blip r:embed="rId6"/>
          <a:stretch/>
        </p:blipFill>
        <p:spPr>
          <a:xfrm>
            <a:off x="7524720" y="4121280"/>
            <a:ext cx="1468440" cy="130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Documents and Settings\Администратор\Рабочий стол\картинки к презент\сканирование0066.jpg"/>
          <p:cNvPicPr/>
          <p:nvPr/>
        </p:nvPicPr>
        <p:blipFill>
          <a:blip r:embed="rId7">
            <a:lum contrast="10000"/>
          </a:blip>
          <a:stretch/>
        </p:blipFill>
        <p:spPr>
          <a:xfrm>
            <a:off x="5981760" y="4168800"/>
            <a:ext cx="151920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Администратор\Рабочий стол\картинки к презент\сканирование0061.jpg"/>
          <p:cNvPicPr/>
          <p:nvPr/>
        </p:nvPicPr>
        <p:blipFill>
          <a:blip r:embed="rId8"/>
          <a:stretch/>
        </p:blipFill>
        <p:spPr>
          <a:xfrm>
            <a:off x="157320" y="2500200"/>
            <a:ext cx="1414440" cy="1357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Documents and Settings\Администратор\Рабочий стол\картинки к презент\сканирование0057.jpg"/>
          <p:cNvPicPr/>
          <p:nvPr/>
        </p:nvPicPr>
        <p:blipFill>
          <a:blip r:embed="rId9"/>
          <a:stretch/>
        </p:blipFill>
        <p:spPr>
          <a:xfrm>
            <a:off x="1776240" y="2500200"/>
            <a:ext cx="1509840" cy="135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Администратор\Рабочий стол\картинки к презент\сканирование0060.jpg"/>
          <p:cNvPicPr/>
          <p:nvPr/>
        </p:nvPicPr>
        <p:blipFill>
          <a:blip r:embed="rId10"/>
          <a:stretch/>
        </p:blipFill>
        <p:spPr>
          <a:xfrm>
            <a:off x="90360" y="4373640"/>
            <a:ext cx="1481400" cy="128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Администратор\Рабочий стол\картинки к презент\сканирование0062.jpg"/>
          <p:cNvPicPr/>
          <p:nvPr/>
        </p:nvPicPr>
        <p:blipFill>
          <a:blip r:embed="rId11"/>
          <a:stretch/>
        </p:blipFill>
        <p:spPr>
          <a:xfrm>
            <a:off x="1835280" y="4341960"/>
            <a:ext cx="1546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897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2268360" y="140004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8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85480" y="1571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Picture 7" descr="Дерево груши со спелыми плодами Дерево груши со спелыми плодами - векторная иллюстрация. Pear tree with ripe fruits vector illus"/>
          <p:cNvPicPr/>
          <p:nvPr/>
        </p:nvPicPr>
        <p:blipFill>
          <a:blip r:embed="rId2"/>
          <a:srcRect l="0" t="0" r="0" b="5636"/>
          <a:stretch/>
        </p:blipFill>
        <p:spPr>
          <a:xfrm>
            <a:off x="2490840" y="1517760"/>
            <a:ext cx="4097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появилось на яблоне яблоко?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4000680" y="1857240"/>
            <a:ext cx="50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Природа, Яблоко и Деревья Вектор"/>
          <p:cNvPicPr/>
          <p:nvPr/>
        </p:nvPicPr>
        <p:blipFill>
          <a:blip r:embed="rId1"/>
          <a:stretch/>
        </p:blipFill>
        <p:spPr>
          <a:xfrm>
            <a:off x="755640" y="2158920"/>
            <a:ext cx="74167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32" name="Picture 10" descr="1920x1080 фрукты, еда, спелые, витамины, красные, яблоки, сочные картинки на рабочий стол обои фото скачать"/>
          <p:cNvPicPr/>
          <p:nvPr/>
        </p:nvPicPr>
        <p:blipFill>
          <a:blip r:embed="rId1"/>
          <a:stretch/>
        </p:blipFill>
        <p:spPr>
          <a:xfrm>
            <a:off x="299880" y="620640"/>
            <a:ext cx="823284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34" name="Picture 8" descr="Спелые груши фото, Спелые груши фото обои рабочий стол, фото фотографии фрукты картинка изображение wallpaper"/>
          <p:cNvPicPr/>
          <p:nvPr/>
        </p:nvPicPr>
        <p:blipFill>
          <a:blip r:embed="rId1"/>
          <a:stretch/>
        </p:blipFill>
        <p:spPr>
          <a:xfrm>
            <a:off x="250920" y="304920"/>
            <a:ext cx="82947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ита</cp:lastModifiedBy>
  <dcterms:modified xsi:type="dcterms:W3CDTF">2015-01-26T19:56:59Z</dcterms:modified>
  <cp:revision>49</cp:revision>
  <dc:subject/>
  <dc:title>Слайд 1</dc:title>
</cp:coreProperties>
</file>