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>
    <p:sldRg st="1" end="8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E54C3-583A-4F26-9123-F006F56C1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795C8-0AE1-497B-806F-6DAD12BFC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46298-616E-4282-BC09-5DF031ADE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84E52-9BC2-42E3-9F75-0806FEF2B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17BF4-D571-48B7-83F5-13BBFF975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BB553-A60A-40E9-B66A-24A1C11E0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F6779-BC8B-44E5-8D8F-4A2446C83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3F63F-6AED-468E-8128-93A3C8CE0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950BC-B21F-405C-B07D-53ABC2A0E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54431-B4DF-4A48-B957-297549402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CB436-4DD0-4FCD-A3D7-A618EF64A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AEC28-385F-479A-A822-63D94C2FE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6D9E9-C516-4A45-B93D-6843901C4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9F553-A9D7-4621-BA43-CD4676C69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8D4F6-F330-46CE-B9C3-8366B95ED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0F4EE-8340-45BA-8060-2E68379F0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EAF0A-F1E0-421D-918D-46DDD0913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3250B-DF02-4EEC-B44C-6A54205C4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9F716-2C74-4486-8718-B7265075F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EA4D4-DD39-449A-9D10-F5065EC33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B50A1-D6F6-4712-BBE8-10D3D407E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85A94-2F8A-4100-9A44-1EDA541B6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63B52-5250-4841-8E70-86345496F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AA1F0-5389-4CE9-BD2B-1602C179D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6A265-56A5-430B-AE59-EB2F3FCA6577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89279-89C2-4EFD-9EBA-B5F9AD8B64BB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440" y="1341360"/>
            <a:ext cx="7270920" cy="29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ff"/>
                </a:solidFill>
                <a:latin typeface="Wingdings 2"/>
                <a:ea typeface="Wingdings 2"/>
              </a:rPr>
              <a:t>Художественно</a:t>
            </a:r>
            <a:r>
              <a:rPr b="0" i="1" lang="en-US" sz="4400" spc="-1" strike="noStrike">
                <a:solidFill>
                  <a:srgbClr val="ffffff"/>
                </a:solidFill>
                <a:latin typeface="Wingdings 2"/>
                <a:ea typeface="Wingdings 2"/>
              </a:rPr>
              <a:t></a:t>
            </a:r>
            <a:r>
              <a:rPr b="0" i="1" lang="ru-RU" sz="4400" spc="-1" strike="noStrike">
                <a:solidFill>
                  <a:srgbClr val="ffffff"/>
                </a:solidFill>
                <a:latin typeface="Wingdings 2"/>
                <a:ea typeface="Wingdings 2"/>
              </a:rPr>
              <a:t>–эстетическоеразвитиевсреднейгруппе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transition>
    <p:pull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640872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В процессе рисования, лепки, аппликации ребенок испытывает</a:t>
            </a: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разнообразные чувства: радуется красивому изображению, которое он создал и, наоборот, огорчается, если что-то не получается. Но самое главное, создавая изображение, ребенок приобретает различные знания, уточняются и углубляются его представления об окружающем мире, в процессе работы над изображением образа ребенок начинает осмысливать качества предметов, запоминать их характерные особенности, признаки и детали, овладевать изобразительными навыками и умениями, учится осознанно их использовать.</a:t>
            </a: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51" name="" descr="Художественно-эстетическое развитие"/>
          <p:cNvPicPr/>
          <p:nvPr/>
        </p:nvPicPr>
        <p:blipFill>
          <a:blip r:embed="rId1"/>
          <a:stretch/>
        </p:blipFill>
        <p:spPr>
          <a:xfrm>
            <a:off x="5614920" y="3784680"/>
            <a:ext cx="3529080" cy="3073320"/>
          </a:xfrm>
          <a:prstGeom prst="rect">
            <a:avLst/>
          </a:prstGeom>
          <a:ln w="0">
            <a:noFill/>
          </a:ln>
        </p:spPr>
      </p:pic>
    </p:spTree>
  </p:cSld>
  <p:transition advTm="1000">
    <p:pull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851280" y="1412640"/>
            <a:ext cx="489744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Segoe Script"/>
              </a:rPr>
              <a:t>Виды традиционного и нетрадиционного рисования </a:t>
            </a:r>
            <a:br>
              <a:rPr sz="2800"/>
            </a:br>
            <a:r>
              <a:rPr b="0" lang="ru-RU" sz="1800" spc="-1" strike="noStrike">
                <a:solidFill>
                  <a:srgbClr val="ffffff"/>
                </a:solidFill>
                <a:latin typeface="Segoe Script"/>
              </a:rPr>
              <a:t>К первому виду относится рисование предметное и сюжетное красками и цветными карандашами; нетрадиционные виды рисования отличаются необычными приемами работы и сочетанием разных художественных  материалов: рисование нитками, трубочками, руками и пальцами, кляксография обычная. </a:t>
            </a: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В своей работе мы использовали различные методы, приемы и техники рисования: рисование пальчиками, с помощью ватных палочек, ватных дисков, использовали трубочки для коктейля, зубные щетки, жесткие кисточки для клея.</a:t>
            </a:r>
            <a:r>
              <a:rPr b="0" lang="ru-RU" sz="44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187280" y="2492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54" name="" descr="Картинки по запросу картинки к художественно - эстетическому развитию"/>
          <p:cNvPicPr/>
          <p:nvPr/>
        </p:nvPicPr>
        <p:blipFill>
          <a:blip r:embed="rId1"/>
          <a:stretch/>
        </p:blipFill>
        <p:spPr>
          <a:xfrm>
            <a:off x="324000" y="333360"/>
            <a:ext cx="3095640" cy="3600360"/>
          </a:xfrm>
          <a:prstGeom prst="rect">
            <a:avLst/>
          </a:prstGeom>
          <a:ln w="0">
            <a:noFill/>
          </a:ln>
        </p:spPr>
      </p:pic>
    </p:spTree>
  </p:cSld>
  <p:transition advTm="1000">
    <p:pull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486560" cy="118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Лепка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324000" y="2492280"/>
            <a:ext cx="842472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 Black"/>
              </a:rPr>
              <a:t>     </a:t>
            </a:r>
            <a:r>
              <a:rPr b="0" lang="ru-RU" sz="1800" spc="-1" strike="noStrike">
                <a:solidFill>
                  <a:srgbClr val="ffcc00"/>
                </a:solidFill>
                <a:latin typeface="Arial Black"/>
              </a:rPr>
              <a:t>Лепка – процесс создания скульптурного произведения, связанный с работой над мягким пластическим материалом. Основными приемами являются выкатывание, сплющивание, вытягивание, прищипывание, примазывание. Можно лепить из глины и пластилина, но интересно освоить что-то новое. Солёное тесто – это самый экономичный и безопасный способ попробовать свои силы в развитии фантазии.  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 Black"/>
              </a:rPr>
              <a:t>     </a:t>
            </a:r>
            <a:r>
              <a:rPr b="0" lang="ru-RU" sz="1800" spc="-1" strike="noStrike">
                <a:solidFill>
                  <a:srgbClr val="ffcc00"/>
                </a:solidFill>
                <a:latin typeface="Arial Black"/>
              </a:rPr>
              <a:t>В нашей работе с детьми мы ведем кружок </a:t>
            </a:r>
            <a:r>
              <a:rPr b="1" i="1" lang="ru-RU" sz="1800" spc="-1" strike="noStrike">
                <a:solidFill>
                  <a:srgbClr val="ffcc00"/>
                </a:solidFill>
                <a:latin typeface="Arial Black"/>
              </a:rPr>
              <a:t>«Мукасолька».</a:t>
            </a:r>
            <a:r>
              <a:rPr b="0" lang="ru-RU" sz="1800" spc="-1" strike="noStrike">
                <a:solidFill>
                  <a:srgbClr val="ffcc00"/>
                </a:solidFill>
                <a:latin typeface="Arial Black"/>
              </a:rPr>
              <a:t> Тестопластика является одним из видов народно-прикладного искусства. Лепка – полезное занятие для пальчиков, так как развитие мелкой моторики рук у детей напрямую связано с развитием речи и мышления.       Тесто – доступный всем, дешёвый и лёгкий в применении материал, его можно заготовить заранее (впрок). Тесто можно окрасить и лепить уже цветное изделие, а можно расписать готовую работу после окончательного высыхания. Красота и изящество «солёных поделок» дадут пищу для творческого размышления. Работы отличаются легкостью, прочностью.  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57" name="" descr="Картинки по запросу картинки к художественно - эстетическому развитию"/>
          <p:cNvPicPr/>
          <p:nvPr/>
        </p:nvPicPr>
        <p:blipFill>
          <a:blip r:embed="rId1"/>
          <a:stretch/>
        </p:blipFill>
        <p:spPr>
          <a:xfrm>
            <a:off x="250920" y="220680"/>
            <a:ext cx="4174920" cy="2128680"/>
          </a:xfrm>
          <a:prstGeom prst="rect">
            <a:avLst/>
          </a:prstGeom>
          <a:ln w="0">
            <a:noFill/>
          </a:ln>
        </p:spPr>
      </p:pic>
    </p:spTree>
  </p:cSld>
  <p:transition advTm="1000">
    <p:pull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763640" y="476280"/>
            <a:ext cx="59040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Аппликация. Виды аппликаций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250920" y="2565360"/>
            <a:ext cx="8642160" cy="42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00"/>
                </a:solidFill>
                <a:latin typeface="Arial Black"/>
              </a:rPr>
              <a:t>     </a:t>
            </a:r>
            <a:r>
              <a:rPr b="0" lang="en-US" sz="1600" spc="-1" strike="noStrike">
                <a:solidFill>
                  <a:srgbClr val="ffcc00"/>
                </a:solidFill>
                <a:latin typeface="Arial Black"/>
              </a:rPr>
              <a:t>Аппликация (от лат. «прикладывание») — интересный вид художественной деятельности — это способ работы с цветными кусочками различных материалов: бумаги, ткани, кожи, меха, войлока, цветные бусины, бисер, шерстяные нити, металлические чеканные пластины, всевозможная материя (бархат, атлас, шелк)., высушенных листьев… </a:t>
            </a: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  <a:p>
            <a:pPr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  <a:p>
            <a:pPr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00"/>
                </a:solidFill>
                <a:latin typeface="Arial"/>
              </a:rPr>
              <a:t>1. МОЗАИКА ИЗ КУСОЧКОВ БУМАГИ</a:t>
            </a:r>
            <a:r>
              <a:rPr b="0" lang="en-US" sz="1600" spc="-1" strike="noStrike">
                <a:solidFill>
                  <a:srgbClr val="ffcc00"/>
                </a:solidFill>
                <a:latin typeface="Arial"/>
              </a:rPr>
              <a:t>. Такая мозаика хорошо развивает мелкую моторику. Бумага для фона чаще всего берется плотной, подбирается тон в зависимости от содержания изображения, чтобы подчеркнуть определенную ситуацию. </a:t>
            </a:r>
            <a:br>
              <a:rPr sz="1600"/>
            </a:br>
            <a:r>
              <a:rPr b="1" lang="en-US" sz="1600" spc="-1" strike="noStrike">
                <a:solidFill>
                  <a:srgbClr val="ffcc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ffcc00"/>
                </a:solidFill>
                <a:latin typeface="Arial"/>
              </a:rPr>
              <a:t>. </a:t>
            </a:r>
            <a:r>
              <a:rPr b="1" lang="en-US" sz="1600" spc="-1" strike="noStrike">
                <a:solidFill>
                  <a:srgbClr val="ffcc00"/>
                </a:solidFill>
                <a:latin typeface="Arial Black"/>
              </a:rPr>
              <a:t>АППЛИКАЦИЯ ИЗ КРУП И СЕМЯН. </a:t>
            </a:r>
            <a:r>
              <a:rPr b="0" lang="en-US" sz="1600" spc="-1" strike="noStrike">
                <a:solidFill>
                  <a:srgbClr val="ffcc00"/>
                </a:solidFill>
                <a:latin typeface="Arial Black"/>
              </a:rPr>
              <a:t>Для аппликаций из семян и круп необходимы следующие материалы: картон, разнообразные семена, разные крупы, краски, фломастеры, засушенные листики и клей ПВА.</a:t>
            </a:r>
            <a:br>
              <a:rPr sz="1600"/>
            </a:br>
            <a:r>
              <a:rPr b="1" lang="en-US" sz="1600" spc="-1" strike="noStrike">
                <a:solidFill>
                  <a:srgbClr val="ffcc00"/>
                </a:solidFill>
                <a:latin typeface="Arial Black"/>
              </a:rPr>
              <a:t>  </a:t>
            </a: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  <a:p>
            <a:pPr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00"/>
                </a:solidFill>
                <a:latin typeface="Arial Black"/>
              </a:rPr>
              <a:t>3. АППЛИКАЦИЯ  ИЗ САЛФЕТОК</a:t>
            </a:r>
            <a:r>
              <a:rPr b="0" lang="en-US" sz="1600" spc="-1" strike="noStrike">
                <a:solidFill>
                  <a:srgbClr val="ffcc00"/>
                </a:solidFill>
                <a:latin typeface="Arial Black"/>
              </a:rPr>
              <a:t>- Изготавливается из кусочков салфеток.</a:t>
            </a: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  <a:p>
            <a:pPr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00"/>
                </a:solidFill>
                <a:latin typeface="Arial Black"/>
              </a:rPr>
              <a:t>4. ОБЪЁМНАЯ АППЛИКАЦИЯ. </a:t>
            </a:r>
            <a:r>
              <a:rPr b="0" lang="en-US" sz="1600" spc="-1" strike="noStrike">
                <a:solidFill>
                  <a:srgbClr val="ffcc00"/>
                </a:solidFill>
                <a:latin typeface="Arial Black"/>
              </a:rPr>
              <a:t>Для изготовления объемных аппликаций бумагу сперва лучше помять в руках, затем разгладить и вырезать нужную форму. Далее эту форму нужно приклеить и можно дополнительно дорисовать</a:t>
            </a: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 недостающие детали фломастерами</a:t>
            </a:r>
            <a:r>
              <a:rPr b="0" lang="en-US" sz="1600" spc="-1" strike="noStrike">
                <a:solidFill>
                  <a:srgbClr val="ffcc00"/>
                </a:solidFill>
                <a:latin typeface="Arial Black"/>
              </a:rPr>
              <a:t> или карандашами </a:t>
            </a: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  <a:p>
            <a:pPr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  <a:p>
            <a:pPr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Картинки по запросу картинки к художественно - эстетическому развитию"/>
          <p:cNvPicPr/>
          <p:nvPr/>
        </p:nvPicPr>
        <p:blipFill>
          <a:blip r:embed="rId1"/>
          <a:stretch/>
        </p:blipFill>
        <p:spPr>
          <a:xfrm>
            <a:off x="539640" y="0"/>
            <a:ext cx="2556000" cy="2349360"/>
          </a:xfrm>
          <a:prstGeom prst="rect">
            <a:avLst/>
          </a:prstGeom>
          <a:ln w="0">
            <a:noFill/>
          </a:ln>
        </p:spPr>
      </p:pic>
    </p:spTree>
  </p:cSld>
  <p:transition advTm="1000">
    <p:pull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" descr=""/>
          <p:cNvPicPr/>
          <p:nvPr/>
        </p:nvPicPr>
        <p:blipFill>
          <a:blip r:embed="rId1"/>
          <a:stretch/>
        </p:blipFill>
        <p:spPr>
          <a:xfrm>
            <a:off x="684360" y="0"/>
            <a:ext cx="3311280" cy="306864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2"/>
          <a:stretch/>
        </p:blipFill>
        <p:spPr>
          <a:xfrm>
            <a:off x="5219640" y="0"/>
            <a:ext cx="3167280" cy="3789360"/>
          </a:xfrm>
          <a:prstGeom prst="rect">
            <a:avLst/>
          </a:prstGeom>
          <a:ln w="0">
            <a:noFill/>
          </a:ln>
        </p:spPr>
      </p:pic>
      <p:pic>
        <p:nvPicPr>
          <p:cNvPr id="363" name="" descr=""/>
          <p:cNvPicPr/>
          <p:nvPr/>
        </p:nvPicPr>
        <p:blipFill>
          <a:blip r:embed="rId3"/>
          <a:stretch/>
        </p:blipFill>
        <p:spPr>
          <a:xfrm>
            <a:off x="611280" y="3384720"/>
            <a:ext cx="3887640" cy="3473280"/>
          </a:xfrm>
          <a:prstGeom prst="rect">
            <a:avLst/>
          </a:prstGeom>
          <a:ln w="0">
            <a:noFill/>
          </a:ln>
        </p:spPr>
      </p:pic>
      <p:pic>
        <p:nvPicPr>
          <p:cNvPr id="364" name="" descr=""/>
          <p:cNvPicPr/>
          <p:nvPr/>
        </p:nvPicPr>
        <p:blipFill>
          <a:blip r:embed="rId4"/>
          <a:stretch/>
        </p:blipFill>
        <p:spPr>
          <a:xfrm>
            <a:off x="4656240" y="3357720"/>
            <a:ext cx="4163760" cy="3500280"/>
          </a:xfrm>
          <a:prstGeom prst="rect">
            <a:avLst/>
          </a:prstGeom>
          <a:ln w="0">
            <a:noFill/>
          </a:ln>
        </p:spPr>
      </p:pic>
    </p:spTree>
  </p:cSld>
  <p:transition advTm="1000">
    <p:pull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" dur="500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" dur="500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" dur="500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" dur="500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" dur="500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301680"/>
            <a:ext cx="7772400" cy="8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Конструирование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2555640" y="1267920"/>
            <a:ext cx="5902200" cy="468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В зависимости от того, из какого материала дети создают свои постройки и конструкции, различают:</a:t>
            </a:r>
            <a:br>
              <a:rPr sz="1800"/>
            </a:b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конструирование из строительных материалов;</a:t>
            </a:r>
            <a:br>
              <a:rPr sz="1800"/>
            </a:b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конструирование из бумаги, картона, коробок, катушек и других материалов;</a:t>
            </a:r>
            <a:br>
              <a:rPr sz="1800"/>
            </a:b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конструирование из природного материала.</a:t>
            </a:r>
            <a:br>
              <a:rPr sz="1800"/>
            </a:b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Конструирование из игровых строительных материалов является наиболее доступным и легким видом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ffcc00"/>
                </a:solidFill>
                <a:latin typeface="Arial Black"/>
              </a:rPr>
              <a:t>конструирования для дошкольников.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7" name="" descr="Картинки по запросу картинки к художественно - эстетическому развитию"/>
          <p:cNvPicPr/>
          <p:nvPr/>
        </p:nvPicPr>
        <p:blipFill>
          <a:blip r:embed="rId1"/>
          <a:stretch/>
        </p:blipFill>
        <p:spPr>
          <a:xfrm>
            <a:off x="155520" y="3860640"/>
            <a:ext cx="2903760" cy="2592720"/>
          </a:xfrm>
          <a:prstGeom prst="rect">
            <a:avLst/>
          </a:prstGeom>
          <a:ln w="0">
            <a:noFill/>
          </a:ln>
        </p:spPr>
      </p:pic>
    </p:spTree>
  </p:cSld>
  <p:transition advTm="1000">
    <p:pull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1557000"/>
            <a:ext cx="777240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Verdana"/>
              </a:rPr>
              <a:t>Спасибо всем за внимание!!!</a:t>
            </a:r>
            <a:endParaRPr b="0" lang="en-US" sz="5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transition advTm="1000">
    <p:pull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28T09:24:54Z</dcterms:created>
  <dc:creator>я</dc:creator>
  <dc:description/>
  <dc:language>en-US</dc:language>
  <cp:lastModifiedBy>я</cp:lastModifiedBy>
  <dcterms:modified xsi:type="dcterms:W3CDTF">2015-10-18T12:11:55Z</dcterms:modified>
  <cp:revision>6</cp:revision>
  <dc:subject/>
  <dc:title>Художественное – эстетическое развитие в средней группе</dc:title>
</cp:coreProperties>
</file>