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F8B6-C875-4822-9E64-666F7ACA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8CD1-6B4B-4F2C-8358-0304D81E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4F85-A586-4737-A369-09283FDE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450C-9B95-4BA3-98F0-4A1A3A58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716F-871F-4D57-A0B2-EBDC91FC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AEF0-489D-4A5A-82B5-2AFFD1F3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682C-A265-4208-BC15-4EF3AAD1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E820-EC58-4CA6-B5BA-018C7DA6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A441-0F4B-4B0B-B4E9-DF13EB3B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108B-3B4A-4A86-BADC-2C984648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251A-6C69-47BD-964C-C547E3F4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F46A-5FD3-47EB-B912-55794434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FCAD-CC80-4081-8A1E-D1113F10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E7D6-D994-45B0-89A8-2A2923C4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49C8-63D7-4F61-854D-EB4EB226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6479-4C37-471A-9D59-8751A3CC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E11A-20CB-469C-ACEC-9BA5228E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431D-C197-4365-B1CC-D3051499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A5C-C20D-4BE2-82CD-911581D3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4F9-97E1-4EE4-8701-9666A371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8A03-BD8A-411E-9A6B-9AA3CAAE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734E-85D8-4DCE-86A3-31012199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66BA-5D02-490E-9AA4-E85D75A7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D360-5FD2-4733-BE1F-3E124C5A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DDD3-8088-43B6-95EF-6E15701839C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4080-0AE5-44B7-A98D-3241A23505D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341360"/>
            <a:ext cx="727092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Wingdings 2"/>
                <a:ea typeface="Wingdings 2"/>
              </a:rPr>
              <a:t>Художественно</a:t>
            </a:r>
            <a:r>
              <a:rPr b="0" i="1" lang="en-US" sz="4400" spc="-1" strike="noStrike">
                <a:solidFill>
                  <a:srgbClr val="ffffff"/>
                </a:solidFill>
                <a:latin typeface="Wingdings 2"/>
                <a:ea typeface="Wingdings 2"/>
              </a:rPr>
              <a:t></a:t>
            </a:r>
            <a:r>
              <a:rPr b="0" i="1" lang="ru-RU" sz="4400" spc="-1" strike="noStrike">
                <a:solidFill>
                  <a:srgbClr val="ffffff"/>
                </a:solidFill>
                <a:latin typeface="Wingdings 2"/>
                <a:ea typeface="Wingdings 2"/>
              </a:rPr>
              <a:t>–эстетическоеразвитиевсреднейгрупп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40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В процессе рисования, лепки, аппликации ребенок испытывает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разнообразные чувства: радуется красивому изображению, которое он создал и, наоборот, огорчается, если что-то не получается. Но самое главное, создавая изображение, ребенок приобретает различные знания, уточняются и углубляются его представления об окружающем мире, в процессе работы над изображением образа ребенок начинает осмысливать качества предметов, запоминать их характерные особенности, признаки и детали, овладевать изобразительными навыками и умениями, учится осознанно их использовать.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1" name="" descr="Художественно-эстетическое развитие"/>
          <p:cNvPicPr/>
          <p:nvPr/>
        </p:nvPicPr>
        <p:blipFill>
          <a:blip r:embed="rId1"/>
          <a:stretch/>
        </p:blipFill>
        <p:spPr>
          <a:xfrm>
            <a:off x="5614920" y="3784680"/>
            <a:ext cx="3529080" cy="3073320"/>
          </a:xfrm>
          <a:prstGeom prst="rect">
            <a:avLst/>
          </a:prstGeom>
          <a:ln w="0">
            <a:noFill/>
          </a:ln>
        </p:spPr>
      </p:pic>
    </p:spTree>
  </p:cSld>
  <p:transition advTm="1000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51280" y="1412640"/>
            <a:ext cx="4897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egoe Script"/>
              </a:rPr>
              <a:t>Виды традиционного и нетрадиционного рисования </a:t>
            </a:r>
            <a:br>
              <a:rPr sz="2800"/>
            </a:br>
            <a:r>
              <a:rPr b="0" lang="ru-RU" sz="1800" spc="-1" strike="noStrike">
                <a:solidFill>
                  <a:srgbClr val="ffffff"/>
                </a:solidFill>
                <a:latin typeface="Segoe Script"/>
              </a:rPr>
              <a:t>К первому виду относится рисование предметное и сюжетное красками и цветными карандашами; нетрадиционные виды рисования отличаются необычными приемами работы и сочетанием разных художественных  материалов: рисование нитками, трубочками, руками и пальцами, кляксография обычная. 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В своей работе мы использовали различные методы, приемы и техники рисования: рисование пальчиками, с помощью ватных палочек, ватных дисков, использовали трубочки для коктейля, зубные щетки, жесткие кисточки для клея.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728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Картинки по запросу картинки к художественно - эстетическому развитию"/>
          <p:cNvPicPr/>
          <p:nvPr/>
        </p:nvPicPr>
        <p:blipFill>
          <a:blip r:embed="rId1"/>
          <a:stretch/>
        </p:blipFill>
        <p:spPr>
          <a:xfrm>
            <a:off x="324000" y="333360"/>
            <a:ext cx="3095640" cy="3600360"/>
          </a:xfrm>
          <a:prstGeom prst="rect">
            <a:avLst/>
          </a:prstGeom>
          <a:ln w="0">
            <a:noFill/>
          </a:ln>
        </p:spPr>
      </p:pic>
    </p:spTree>
  </p:cSld>
  <p:transition advTm="1000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4865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Лепка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Лепка – процесс создания скульптурного произведения, связанный с работой над мягким пластическим материалом. Основными приемами являются выкатывание, сплющивание, вытягивание, прищипывание, примазывание. Можно лепить из глины и пластилина, но интересно освоить что-то новое. Солёное тесто – это самый экономичный и безопасный способ попробовать свои силы в развитии фантазии. 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В нашей работе с детьми мы ведем кружок </a:t>
            </a:r>
            <a:r>
              <a:rPr b="1" i="1" lang="ru-RU" sz="1800" spc="-1" strike="noStrike">
                <a:solidFill>
                  <a:srgbClr val="ffcc00"/>
                </a:solidFill>
                <a:latin typeface="Arial Black"/>
              </a:rPr>
              <a:t>«Мукасолька».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Тестопластика является одним из видов народно-прикладного искусства. Лепка – полезное занятие для пальчиков, так как развитие мелкой моторики рук у детей напрямую связано с развитием речи и мышления.       Тесто – доступный всем, дешёвый и лёгкий в применении материал, его можно заготовить заранее (впрок). Тесто можно окрасить и лепить уже цветное изделие, а можно расписать готовую работу после окончательного высыхания. Красота и изящество «солёных поделок» дадут пищу для творческого размышления. Работы отличаются легкостью, прочностью. 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Картинки по запросу картинки к художественно - эстетическому развитию"/>
          <p:cNvPicPr/>
          <p:nvPr/>
        </p:nvPicPr>
        <p:blipFill>
          <a:blip r:embed="rId1"/>
          <a:stretch/>
        </p:blipFill>
        <p:spPr>
          <a:xfrm>
            <a:off x="250920" y="220680"/>
            <a:ext cx="4174920" cy="2128680"/>
          </a:xfrm>
          <a:prstGeom prst="rect">
            <a:avLst/>
          </a:prstGeom>
          <a:ln w="0">
            <a:noFill/>
          </a:ln>
        </p:spPr>
      </p:pic>
    </p:spTree>
  </p:cSld>
  <p:transition advTm="1000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63640" y="476280"/>
            <a:ext cx="590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Аппликация. Виды аппликаций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50920" y="2565360"/>
            <a:ext cx="864216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Аппликация (от лат. «прикладывание») — интересный вид художественной деятельности — это способ работы с цветными кусочками различных материалов: бумаги, ткани, кожи, меха, войлока, цветные бусины, бисер, шерстяные нити, металлические чеканные пластины, всевозможная материя (бархат, атлас, шелк)., высушенных листьев…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. МОЗАИКА ИЗ КУСОЧКОВ БУМАГИ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. Такая мозаика хорошо развивает мелкую моторику. Бумага для фона чаще всего берется плотной, подбирается тон в зависимости от содержания изображения, чтобы подчеркнуть определенную ситуацию. </a:t>
            </a:r>
            <a:br>
              <a:rPr sz="1600"/>
            </a:b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АППЛИКАЦИЯ ИЗ КРУП И СЕМЯН. 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Для аппликаций из семян и круп необходимы следующие материалы: картон, разнообразные семена, разные крупы, краски, фломастеры, засушенные листики и клей ПВА.</a:t>
            </a:r>
            <a:br>
              <a:rPr sz="1600"/>
            </a:b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3. АППЛИКАЦИЯ  ИЗ САЛФЕТОК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- Изготавливается из кусочков салфеток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4. ОБЪЁМНАЯ АППЛИКАЦИЯ. 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Для изготовления объемных аппликаций бумагу сперва лучше помять в руках, затем разгладить и вырезать нужную форму. Далее эту форму нужно приклеить и можно дополнительно дорисовать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недостающие детали фломастерами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или карандашами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Картинки по запросу картинки к художественно - эстетическому развитию"/>
          <p:cNvPicPr/>
          <p:nvPr/>
        </p:nvPicPr>
        <p:blipFill>
          <a:blip r:embed="rId1"/>
          <a:stretch/>
        </p:blipFill>
        <p:spPr>
          <a:xfrm>
            <a:off x="539640" y="0"/>
            <a:ext cx="2556000" cy="2349360"/>
          </a:xfrm>
          <a:prstGeom prst="rect">
            <a:avLst/>
          </a:prstGeom>
          <a:ln w="0">
            <a:noFill/>
          </a:ln>
        </p:spPr>
      </p:pic>
    </p:spTree>
  </p:cSld>
  <p:transition advTm="1000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3311280" cy="30686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5219640" y="0"/>
            <a:ext cx="3167280" cy="37893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611280" y="3384720"/>
            <a:ext cx="3887640" cy="34732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4656240" y="3357720"/>
            <a:ext cx="4163760" cy="3500280"/>
          </a:xfrm>
          <a:prstGeom prst="rect">
            <a:avLst/>
          </a:prstGeom>
          <a:ln w="0">
            <a:noFill/>
          </a:ln>
        </p:spPr>
      </p:pic>
    </p:spTree>
  </p:cSld>
  <p:transition advTm="1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Конструирование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555640" y="1267920"/>
            <a:ext cx="59022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В зависимости от того, из какого материала дети создают свои постройки и конструкции, различают: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конструирование из строительных материалов;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конструирование из бумаги, картона, коробок, катушек и других материалов;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конструирование из природного материала.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Конструирование из игровых строительных материалов является наиболее доступным и легким видом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конструирования для дошкольников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" descr="Картинки по запросу картинки к художественно - эстетическому развитию"/>
          <p:cNvPicPr/>
          <p:nvPr/>
        </p:nvPicPr>
        <p:blipFill>
          <a:blip r:embed="rId1"/>
          <a:stretch/>
        </p:blipFill>
        <p:spPr>
          <a:xfrm>
            <a:off x="155520" y="3860640"/>
            <a:ext cx="2903760" cy="2592720"/>
          </a:xfrm>
          <a:prstGeom prst="rect">
            <a:avLst/>
          </a:prstGeom>
          <a:ln w="0">
            <a:noFill/>
          </a:ln>
        </p:spPr>
      </p:pic>
    </p:spTree>
  </p:cSld>
  <p:transition advTm="1000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Спасибо всем за внимание!!!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advTm="1000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09:24:54Z</dcterms:created>
  <dc:creator>я</dc:creator>
  <dc:description/>
  <dc:language>en-US</dc:language>
  <cp:lastModifiedBy>я</cp:lastModifiedBy>
  <dcterms:modified xsi:type="dcterms:W3CDTF">2015-10-18T12:11:55Z</dcterms:modified>
  <cp:revision>6</cp:revision>
  <dc:subject/>
  <dc:title>Художественное – эстетическое развитие в средней группе</dc:title>
</cp:coreProperties>
</file>