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1813-5729-46CE-9E62-E465385A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F195-692D-42AF-8731-DBD9A303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9F55-6C09-4005-91D5-BDBB5A8D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5C35-D0E1-4B7B-A973-AB10F84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C0F9-9BE3-43B8-A344-90B43C3F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CF29-6E6F-4310-B331-428B140E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B48-2E9C-40A3-873C-175E90B3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1C45-9FD8-41DD-ACE2-9BB61FE4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1C6B-EE58-4E2A-AD14-2D9E09B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EF52-2F99-4C11-8DCF-E7B06FB5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5B5F-5EE0-4515-A5AA-1504AC55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EC48-9326-41AF-A140-4BC5D9F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3FD-D62F-46D1-ACF5-4EB4264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9A3-5121-4B50-A8CD-3053580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3BB-8008-41F5-8855-D5910F8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8FF-9246-44B5-858D-BDB5192D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772-CEF2-44FB-9AB9-BBAB425C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D03E-E1ED-45A5-AA61-7E44F6D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AAE5-8226-49E9-A6FA-F0D2D7B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5354-0E40-4CB4-B28F-B2FAAEE4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2BB5-4191-4958-A54F-0F50CE4D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1E85-E379-4D58-AC47-3ACF961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B480-2EC4-4699-B643-EED7CD3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52E8-4BCB-424B-980A-2F7D4E3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74D5-6EF4-43D6-A1FA-79BD34F23F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E9BE-C820-4D25-802D-0521547F91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Использование метода проектов для формирования творческой личности учащих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514960" y="500040"/>
            <a:ext cx="40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Роль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80040" y="1285920"/>
            <a:ext cx="842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бить объём работ на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пределить сроки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содействовать ребёнку в передви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 библиот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дсказать правила оформле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мочь в создании костю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Участвовать в подготовке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Результаты выполненных проектов должны быть осязаемы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о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м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газ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пектак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танц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:\DCIM\103_FUJI\DSCF3663.JPG"/>
          <p:cNvPicPr/>
          <p:nvPr/>
        </p:nvPicPr>
        <p:blipFill>
          <a:blip r:embed="rId1"/>
          <a:stretch/>
        </p:blipFill>
        <p:spPr>
          <a:xfrm>
            <a:off x="2987640" y="1628640"/>
            <a:ext cx="5832360" cy="4824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751320" y="50004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5 стадий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642960" y="1214280"/>
            <a:ext cx="8058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ектирование(планир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од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>
            <a:off x="4716000" y="1773000"/>
            <a:ext cx="1080" cy="43236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4716000" y="2708280"/>
            <a:ext cx="1080" cy="50544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>
            <a:off x="4716000" y="3789000"/>
            <a:ext cx="1080" cy="43236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34" name="Прямая со стрелкой 18"/>
          <p:cNvCxnSpPr/>
          <p:nvPr/>
        </p:nvCxnSpPr>
        <p:spPr>
          <a:xfrm flipH="1">
            <a:off x="4715640" y="4723920"/>
            <a:ext cx="1080" cy="505800"/>
          </a:xfrm>
          <a:prstGeom prst="straightConnector1">
            <a:avLst/>
          </a:prstGeom>
          <a:ln w="38160">
            <a:solidFill>
              <a:srgbClr val="00007d"/>
            </a:solidFill>
            <a:miter/>
            <a:tailEnd len="med" type="arrow" w="med"/>
          </a:ln>
        </p:spPr>
      </p:cxn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Этапы выполнен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бор темы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движение первоначальных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выбор лучшей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ланирование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оценка и 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:\5 группа\CIMG2075.JPG"/>
          <p:cNvPicPr/>
          <p:nvPr/>
        </p:nvPicPr>
        <p:blipFill>
          <a:blip r:embed="rId1"/>
          <a:stretch/>
        </p:blipFill>
        <p:spPr>
          <a:xfrm>
            <a:off x="5076720" y="3716280"/>
            <a:ext cx="3888000" cy="302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роектная деятельность учащихся прописана в стандарте образования.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Следовательно, каждый ученик должен быть обучен этой деятельности. Программы всех школьных предметов ориентированы на данный вид деятельности.  Таким образом, проектная деятельность учащихся становится все более актуальной в современной педагогике. И это не случайно. Ведь именно в процессе правильной самостоятельной работы над созданием проекта ребенок учится работать как самостоятельно, так и в коллективе, при этом лучше всего формируется культура умственного труда учеников а также развиваются их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:\5 группа\CIMG2083.JPG"/>
          <p:cNvPicPr/>
          <p:nvPr/>
        </p:nvPicPr>
        <p:blipFill>
          <a:blip r:embed="rId1"/>
          <a:stretch/>
        </p:blipFill>
        <p:spPr>
          <a:xfrm>
            <a:off x="250920" y="549360"/>
            <a:ext cx="388944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:\5 группа\CIMG2084.JPG"/>
          <p:cNvPicPr/>
          <p:nvPr/>
        </p:nvPicPr>
        <p:blipFill>
          <a:blip r:embed="rId2"/>
          <a:stretch/>
        </p:blipFill>
        <p:spPr>
          <a:xfrm>
            <a:off x="4356000" y="2276640"/>
            <a:ext cx="4608720" cy="39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57200"/>
            <a:ext cx="77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5e"/>
                </a:solidFill>
                <a:latin typeface="Arial"/>
              </a:rPr>
              <a:t>Проект на тему: «Устное народ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))))\Desktop\школьные фото\DSCF4105.JPG"/>
          <p:cNvPicPr/>
          <p:nvPr/>
        </p:nvPicPr>
        <p:blipFill>
          <a:blip r:embed="rId1"/>
          <a:stretch/>
        </p:blipFill>
        <p:spPr>
          <a:xfrm>
            <a:off x="971640" y="1700280"/>
            <a:ext cx="7488000" cy="5041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«Человек рождён для мысли и действия», - говорили древние мудре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роектная деятельность учащихся – сфера, где необходим союз между знаниями и умениями, теорией и практикой. Образно говоря, окружающая жизнь – это творческая лаборатория, в которой происходит процесс познания. Вот почему важно уже в младшем школьном возрасте вовлечь детей в активную позна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5684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В проектной деятельности ребёнок наиболее ярко проявляет свои способности, раскрывает своё мироощущение, открывает для себя что-то новое. Кроме того, метод проектов, безусловно, является исследовательским методом, способным сформировать у учащегося опыт творческой деятельности. Работа над проектом вырабатывает устойчивые интересы, постоянную потребность в творческих по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Users\))))\Desktop\школьные фото\DSCF4103.JPG"/>
          <p:cNvPicPr/>
          <p:nvPr/>
        </p:nvPicPr>
        <p:blipFill>
          <a:blip r:embed="rId1"/>
          <a:stretch/>
        </p:blipFill>
        <p:spPr>
          <a:xfrm>
            <a:off x="284328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это специально организованный учите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и самостоятельно выполняемый учащимися комплекс действий, завершающийся созданием творческого продукта (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14240" y="4287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Цел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642960" y="1125360"/>
            <a:ext cx="831996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витие лич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азвитие общеучебных ум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соци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коммуникати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мысл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- исследователь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))))\Desktop\Ольга\фото класса\DSCF2560.JPG"/>
          <p:cNvPicPr/>
          <p:nvPr/>
        </p:nvPicPr>
        <p:blipFill>
          <a:blip r:embed="rId1"/>
          <a:stretch/>
        </p:blipFill>
        <p:spPr>
          <a:xfrm>
            <a:off x="4727520" y="321300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Социаль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умение работать в группе; умение выполнять роли лидера, исполнителя, оппонента; умение пойти на компромисс.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ммуникатив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слушать и слышать, принимать другое мнение, высказывать свое мнение, презентовать результат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Мыслительны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анализ, синтез, сравнение, обобщение, классификация, выявление закономер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сследовательские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навыки: наблюдение,  проведение эксперимента, анкетирование, обработка статистически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14200" y="1557360"/>
            <a:ext cx="892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пределять цель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лан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ыполнять действия и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оотносить результат деятельности с ц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Контролировать сво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Проводить 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тавить экспери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Строить простые модел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68360" y="62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Формирование  УУД  у младших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Доминирующая в проекте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557360"/>
            <a:ext cx="518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Исследова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оис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ол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актико-ориентиров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:\Users\))))\Desktop\школьные фото\DSCF4101.JPG"/>
          <p:cNvPicPr/>
          <p:nvPr/>
        </p:nvPicPr>
        <p:blipFill>
          <a:blip r:embed="rId1"/>
          <a:stretch/>
        </p:blipFill>
        <p:spPr>
          <a:xfrm>
            <a:off x="5905440" y="1484280"/>
            <a:ext cx="29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))))\Desktop\школьные фото\DSCF4106.JPG"/>
          <p:cNvPicPr/>
          <p:nvPr/>
        </p:nvPicPr>
        <p:blipFill>
          <a:blip r:embed="rId2"/>
          <a:stretch/>
        </p:blipFill>
        <p:spPr>
          <a:xfrm>
            <a:off x="4284720" y="4149720"/>
            <a:ext cx="3166920" cy="2371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661120" y="57168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89320" y="2000160"/>
            <a:ext cx="43725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Направля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Корректиру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Стимулиру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:\5 группа\CIMG2065.JPG"/>
          <p:cNvPicPr/>
          <p:nvPr/>
        </p:nvPicPr>
        <p:blipFill>
          <a:blip r:embed="rId1"/>
          <a:stretch/>
        </p:blipFill>
        <p:spPr>
          <a:xfrm>
            <a:off x="4932360" y="2565360"/>
            <a:ext cx="4103640" cy="36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23:10:43Z</dcterms:created>
  <dc:creator>Зимина О.П.</dc:creator>
  <dc:description/>
  <dc:language>en-US</dc:language>
  <cp:lastModifiedBy>))))</cp:lastModifiedBy>
  <dcterms:modified xsi:type="dcterms:W3CDTF">2015-10-18T19:51:08Z</dcterms:modified>
  <cp:revision>118</cp:revision>
  <dc:subject/>
  <dc:title>Слайд 1</dc:title>
</cp:coreProperties>
</file>