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D148D-0960-4EA9-A758-5EA0AD35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958C1-01CA-4F88-8232-AD4C7463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8AFE2-6C4E-4198-A099-4C158758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80CE0-F2D6-41A9-B78A-9050F456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F062-D8DE-4053-8FC4-6E5B09BD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1C77-BFA8-4DFB-BCFF-E6D455E2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5331-8DF8-4911-99A9-7B864879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2EF0-59DA-49B5-BE0B-1A4558B9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8D2B-23E4-4848-9DBD-B0810460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66E8-61BB-4043-9731-93091A04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9FC4-614E-4549-8960-78C87FFD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B7621-25B8-4176-9E67-BC1ACDCC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B1B7-89EF-408B-805C-EB310A07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89C9-F76E-4650-ADBC-8520FAF9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04A1-82BF-491B-A009-C3FD6643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A114-F224-472E-9932-291FC23A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A78C-38C0-421A-97FC-29E421F9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70F22-586E-4F5D-9E1E-6140BE6D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7BEA8-DFF4-4E5D-8C90-D84893CC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8B708-F43D-4D91-82FB-C1471088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9BCE6-D6C3-499D-AACE-867B9114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7F6A9-D474-4568-8E6C-A0F633B1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67B92-BB05-4C38-AC98-E06EF93A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87F16-AA0F-4FF2-9475-8D034E86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39E8-1A91-4698-B14F-50253EF083F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13F6-007F-4333-BE58-D0D8AE10D2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«Использование метода проектов для формирования творческой личности учащих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2514960" y="500040"/>
            <a:ext cx="40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Arial"/>
              </a:rPr>
              <a:t>Роль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680040" y="1285920"/>
            <a:ext cx="8427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Разбить объём работ на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Определить сроки вы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Посодействовать ребёнку в передвиж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в библиоте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Подсказать правила оформления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Помочь в создании костю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Участвовать в подготовке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Результаты выполненных проектов должны быть осязаемым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поде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рису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мак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газ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виктор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спектак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танц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:\DCIM\103_FUJI\DSCF3663.JPG"/>
          <p:cNvPicPr/>
          <p:nvPr/>
        </p:nvPicPr>
        <p:blipFill>
          <a:blip r:embed="rId1"/>
          <a:stretch/>
        </p:blipFill>
        <p:spPr>
          <a:xfrm>
            <a:off x="2987640" y="1628640"/>
            <a:ext cx="5832360" cy="4824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751320" y="500040"/>
            <a:ext cx="774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Arial"/>
              </a:rPr>
              <a:t>5 стадий работы над проек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642960" y="1214280"/>
            <a:ext cx="8058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Пробл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Проектирование(планиров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Поиск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Проду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През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Прямая со стрелкой 6"/>
          <p:cNvCxnSpPr/>
          <p:nvPr/>
        </p:nvCxnSpPr>
        <p:spPr>
          <a:xfrm>
            <a:off x="4716000" y="1773000"/>
            <a:ext cx="1080" cy="432360"/>
          </a:xfrm>
          <a:prstGeom prst="straightConnector1">
            <a:avLst/>
          </a:prstGeom>
          <a:ln w="38160">
            <a:solidFill>
              <a:srgbClr val="00007d"/>
            </a:solidFill>
            <a:miter/>
            <a:tailEnd len="med" type="arrow" w="med"/>
          </a:ln>
        </p:spPr>
      </p:cxnSp>
      <p:cxnSp>
        <p:nvCxnSpPr>
          <p:cNvPr id="132" name="Прямая со стрелкой 10"/>
          <p:cNvCxnSpPr/>
          <p:nvPr/>
        </p:nvCxnSpPr>
        <p:spPr>
          <a:xfrm>
            <a:off x="4716000" y="2708280"/>
            <a:ext cx="1080" cy="505440"/>
          </a:xfrm>
          <a:prstGeom prst="straightConnector1">
            <a:avLst/>
          </a:prstGeom>
          <a:ln w="38160">
            <a:solidFill>
              <a:srgbClr val="00007d"/>
            </a:solidFill>
            <a:miter/>
            <a:tailEnd len="med" type="arrow" w="med"/>
          </a:ln>
        </p:spPr>
      </p:cxnSp>
      <p:cxnSp>
        <p:nvCxnSpPr>
          <p:cNvPr id="133" name="Прямая со стрелкой 14"/>
          <p:cNvCxnSpPr/>
          <p:nvPr/>
        </p:nvCxnSpPr>
        <p:spPr>
          <a:xfrm>
            <a:off x="4716000" y="3789000"/>
            <a:ext cx="1080" cy="432360"/>
          </a:xfrm>
          <a:prstGeom prst="straightConnector1">
            <a:avLst/>
          </a:prstGeom>
          <a:ln w="38160">
            <a:solidFill>
              <a:srgbClr val="00007d"/>
            </a:solidFill>
            <a:miter/>
            <a:tailEnd len="med" type="arrow" w="med"/>
          </a:ln>
        </p:spPr>
      </p:cxnSp>
      <p:cxnSp>
        <p:nvCxnSpPr>
          <p:cNvPr id="134" name="Прямая со стрелкой 18"/>
          <p:cNvCxnSpPr/>
          <p:nvPr/>
        </p:nvCxnSpPr>
        <p:spPr>
          <a:xfrm flipH="1">
            <a:off x="4715640" y="4723920"/>
            <a:ext cx="1080" cy="505800"/>
          </a:xfrm>
          <a:prstGeom prst="straightConnector1">
            <a:avLst/>
          </a:prstGeom>
          <a:ln w="38160">
            <a:solidFill>
              <a:srgbClr val="00007d"/>
            </a:solidFill>
            <a:miter/>
            <a:tailEnd len="med" type="arrow" w="med"/>
          </a:ln>
        </p:spPr>
      </p:cxn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Arial"/>
              </a:rPr>
              <a:t>Этапы выполнения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выбор темы и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выдвижение первоначальных и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выбор лучшей ид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планирование проект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реализация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оценка и самооц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през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J:\5 группа\CIMG2075.JPG"/>
          <p:cNvPicPr/>
          <p:nvPr/>
        </p:nvPicPr>
        <p:blipFill>
          <a:blip r:embed="rId1"/>
          <a:stretch/>
        </p:blipFill>
        <p:spPr>
          <a:xfrm>
            <a:off x="5076720" y="3716280"/>
            <a:ext cx="3888000" cy="3025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Проектная деятельность учащихся прописана в стандарте образования. 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Следовательно, каждый ученик должен быть обучен этой деятельности. Программы всех школьных предметов ориентированы на данный вид деятельности.  Таким образом, проектная деятельность учащихся становится все более актуальной в современной педагогике. И это не случайно. Ведь именно в процессе правильной самостоятельной работы над созданием проекта ребенок учится работать как самостоятельно, так и в коллективе, при этом лучше всего формируется культура умственного труда учеников а также развиваются их творческие способ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J:\5 группа\CIMG2083.JPG"/>
          <p:cNvPicPr/>
          <p:nvPr/>
        </p:nvPicPr>
        <p:blipFill>
          <a:blip r:embed="rId1"/>
          <a:stretch/>
        </p:blipFill>
        <p:spPr>
          <a:xfrm>
            <a:off x="250920" y="549360"/>
            <a:ext cx="3889440" cy="3240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J:\5 группа\CIMG2084.JPG"/>
          <p:cNvPicPr/>
          <p:nvPr/>
        </p:nvPicPr>
        <p:blipFill>
          <a:blip r:embed="rId2"/>
          <a:stretch/>
        </p:blipFill>
        <p:spPr>
          <a:xfrm>
            <a:off x="4356000" y="2276640"/>
            <a:ext cx="4608720" cy="3960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0000" y="457200"/>
            <a:ext cx="77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5e"/>
                </a:solidFill>
                <a:latin typeface="Arial"/>
              </a:rPr>
              <a:t>Проект на тему: «Устное народное творчест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C:\Users\))))\Desktop\школьные фото\DSCF4105.JPG"/>
          <p:cNvPicPr/>
          <p:nvPr/>
        </p:nvPicPr>
        <p:blipFill>
          <a:blip r:embed="rId1"/>
          <a:stretch/>
        </p:blipFill>
        <p:spPr>
          <a:xfrm>
            <a:off x="971640" y="1700280"/>
            <a:ext cx="7488000" cy="5041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«Человек рождён для мысли и действия», - говорили древние мудре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Проектная деятельность учащихся – сфера, где необходим союз между знаниями и умениями, теорией и практикой. Образно говоря, окружающая жизнь – это творческая лаборатория, в которой происходит процесс познания. Вот почему важно уже в младшем школьном возрасте вовлечь детей в активную познавательную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456840"/>
            <a:ext cx="822960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В проектной деятельности ребёнок наиболее ярко проявляет свои способности, раскрывает своё мироощущение, открывает для себя что-то новое. Кроме того, метод проектов, безусловно, является исследовательским методом, способным сформировать у учащегося опыт творческой деятельности. Работа над проектом вырабатывает устойчивые интересы, постоянную потребность в творческих поис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:\Users\))))\Desktop\школьные фото\DSCF4103.JPG"/>
          <p:cNvPicPr/>
          <p:nvPr/>
        </p:nvPicPr>
        <p:blipFill>
          <a:blip r:embed="rId1"/>
          <a:stretch/>
        </p:blipFill>
        <p:spPr>
          <a:xfrm>
            <a:off x="2843280" y="4076640"/>
            <a:ext cx="3600360" cy="25210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Arial"/>
              </a:rPr>
              <a:t>Проек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– 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это специально организованный учител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и самостоятельно выполняемый учащимися комплекс действий, завершающийся созданием творческого продукта (рабо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714240" y="42876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Arial"/>
              </a:rPr>
              <a:t>Цели проектн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642960" y="1125360"/>
            <a:ext cx="831996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Развитие личности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Развитие общеучебных ум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- социа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- коммуникатив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- мыслите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- исследовательс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C:\Users\))))\Desktop\Ольга\фото класса\DSCF2560.JPG"/>
          <p:cNvPicPr/>
          <p:nvPr/>
        </p:nvPicPr>
        <p:blipFill>
          <a:blip r:embed="rId1"/>
          <a:stretch/>
        </p:blipFill>
        <p:spPr>
          <a:xfrm>
            <a:off x="4727520" y="3213000"/>
            <a:ext cx="4129200" cy="3095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Социальные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 навыки: умение работать в группе; умение выполнять роли лидера, исполнителя, оппонента; умение пойти на компромисс.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Коммуникативные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 навыки: слушать и слышать, принимать другое мнение, высказывать свое мнение, презентовать результат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Мыслительные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 навыки: анализ, синтез, сравнение, обобщение, классификация, выявление закономер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Исследовательские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 навыки: наблюдение,  проведение эксперимента, анкетирование, обработка статистических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2"/>
          <p:cNvSpPr/>
          <p:nvPr/>
        </p:nvSpPr>
        <p:spPr>
          <a:xfrm>
            <a:off x="214200" y="1557360"/>
            <a:ext cx="8929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Определять цель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Планир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Выполнять действия и оп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Соотносить результат деятельности с цел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Контролировать свои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Проводить наблю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Ставить экспериме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Строить простые модели объ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468360" y="6206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Формирование  УУД  у младших 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09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Arial"/>
              </a:rPr>
              <a:t>Доминирующая в проекте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557360"/>
            <a:ext cx="51847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Исследователь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Поиск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Твор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Роле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Практико-ориентирова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C:\Users\))))\Desktop\школьные фото\DSCF4101.JPG"/>
          <p:cNvPicPr/>
          <p:nvPr/>
        </p:nvPicPr>
        <p:blipFill>
          <a:blip r:embed="rId1"/>
          <a:stretch/>
        </p:blipFill>
        <p:spPr>
          <a:xfrm>
            <a:off x="5905440" y="1484280"/>
            <a:ext cx="2987640" cy="2376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C:\Users\))))\Desktop\школьные фото\DSCF4106.JPG"/>
          <p:cNvPicPr/>
          <p:nvPr/>
        </p:nvPicPr>
        <p:blipFill>
          <a:blip r:embed="rId2"/>
          <a:stretch/>
        </p:blipFill>
        <p:spPr>
          <a:xfrm>
            <a:off x="4284720" y="4149720"/>
            <a:ext cx="3166920" cy="2371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2661120" y="571680"/>
            <a:ext cx="382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Роль уч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589320" y="2000160"/>
            <a:ext cx="43725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7d"/>
                </a:solidFill>
                <a:latin typeface="Arial"/>
              </a:rPr>
              <a:t>Направляющ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7d"/>
                </a:solidFill>
                <a:latin typeface="Arial"/>
              </a:rPr>
              <a:t>Корректирующ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7d"/>
                </a:solidFill>
                <a:latin typeface="Arial"/>
              </a:rPr>
              <a:t>Стимулирующ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J:\5 группа\CIMG2065.JPG"/>
          <p:cNvPicPr/>
          <p:nvPr/>
        </p:nvPicPr>
        <p:blipFill>
          <a:blip r:embed="rId1"/>
          <a:stretch/>
        </p:blipFill>
        <p:spPr>
          <a:xfrm>
            <a:off x="4932360" y="2565360"/>
            <a:ext cx="4103640" cy="3672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5T23:10:43Z</dcterms:created>
  <dc:creator>Зимина О.П.</dc:creator>
  <dc:description/>
  <dc:language>en-US</dc:language>
  <cp:lastModifiedBy>))))</cp:lastModifiedBy>
  <dcterms:modified xsi:type="dcterms:W3CDTF">2015-10-18T19:51:08Z</dcterms:modified>
  <cp:revision>118</cp:revision>
  <dc:subject/>
  <dc:title>Слайд 1</dc:title>
</cp:coreProperties>
</file>