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C8D-7F7B-41C0-B626-ED02C1AE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3C2-75A7-4715-959C-58EC128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4A5-654E-4755-A8E7-D21DB37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A7F-653B-4B6F-B597-6B189732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7FD59-A0E8-4929-BAEF-6833E8FA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E4629-0F7F-4245-9828-38955BF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9D7E-9029-45E7-88D5-C7303B9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86B8-B786-4015-A44B-12E5F05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BB313-DD23-4818-A082-FB040AE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B551-A79B-45B7-8236-F67ABF7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4069A-0CD8-49FA-8DAF-86A667C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A02-FFC1-4DEE-B697-E7513B49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DB40-6204-480A-BF49-8ACAC86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5FA88-0A39-4394-8DE2-AFD7C20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D1A63-2469-4263-8849-AC09042A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30824-69D2-4608-8B97-0AC57BFD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62A18-4DC7-48A0-93EC-5E2FB52B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B05-51D4-4C86-B2B7-872DDDC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6C8-B3BF-4039-B20A-2FC1AAC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25A-9476-4B44-878B-752D535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125-7A51-41A3-87E8-8D5EC9DD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576-E1FA-4711-8800-BD3AA9E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04F-546B-416B-B699-0AF7CAC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B9F-29DF-4812-BBAE-0E1A88B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229-9A34-4AE6-85AB-F2D3C3FE1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CD8-6470-4C9E-A4EB-422A65D8E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ление старших до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en-US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User</cp:lastModifiedBy>
  <dcterms:modified xsi:type="dcterms:W3CDTF">2011-09-28T17:10:50Z</dcterms:modified>
  <cp:revision>9</cp:revision>
  <dc:subject/>
  <dc:title>Слайд 1</dc:title>
</cp:coreProperties>
</file>