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3.jpeg" ContentType="image/jpeg"/>
  <Override PartName="/ppt/media/image27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DDA-949B-45CD-B5BE-3862BDCD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DB7-57A1-42CA-B3B4-2443C17D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3C4D-A6C9-4613-83A2-738E5AFB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0F1-9C30-43B6-A817-AE862CB3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02C23-F69F-4BA6-A6F9-4D4C2BEC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FA135-F874-4D00-AD77-29A05D1E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C1DA9-1474-407D-9E58-32426E36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FC678-E4BB-4607-9FFF-0D0FEF5D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057CF-493F-43EC-8AAF-BFF9B617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902D5-8327-48FF-88B6-EFD8D0BC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24BCE-E2B6-4D90-A3E7-B4C6604D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D9F-66DA-47E8-84E5-E44D1C8C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527A6-5BF1-4371-A83F-7D77E907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60E48-D09F-458F-B803-38C89116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D0DE3-2656-4183-95D3-EB07B684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95646-C260-447C-A801-87381638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01438-53A2-44AA-B415-731F8BC1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CB2-7B0F-4E12-859E-C7FF502F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8042-2701-4725-BFDB-3F18FF9E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EA8-BAC3-4F7F-B5D7-A954606E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610-A5C0-46E9-ABFC-4273C90D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884-DC59-4C9B-B1D4-4DE2079C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6B1-775B-4513-B3A3-03954991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8B4-DD05-4DD5-BEE0-E27EA6CF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B03B-DE82-4353-88B0-E165B23D2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857D-6098-4C6E-814A-DC31D2A342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959280" cy="633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5327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История</a:t>
            </a:r>
            <a:br>
              <a:rPr sz="4400"/>
            </a:b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87640" y="2276280"/>
            <a:ext cx="38876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Цель: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ознакомление старших дошкольников с первоначальными сведениями об истории олимпийского движения древности и современности как достижения общечеловеческой культу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вушка поднимает факел над головой и замирает. Её подруги опускают правые руки к земле, принося торжественную клят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332000" y="1125360"/>
            <a:ext cx="633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 девушке подходит атлет. Юноша принимает факел и в сопровождении группы бегунов отправляется в пу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763640" y="1125360"/>
            <a:ext cx="5329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наслаждение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 всем дорогам Греции люди спешили на празднества в Олимпию. Некоторые ехали верхом или на повозках, но большинство народа шло просто пешком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19280" y="1214280"/>
            <a:ext cx="568944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 спорт! Ты – зодчий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507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отя в празднествах принимали участие и присутствовали только мужчины, все равно число гостей измерялось многими тысячами. Олимпийский стадион, где происходил бег и другие гимнастические упражнения, вмещал 40 тысяч человек и был всегда переполнен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908000" y="1268280"/>
            <a:ext cx="5328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ahoma"/>
              </a:rPr>
              <a:t>О спорт! Ты – справедливость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утник, попавший в Олимпию после долгих дней пути, оглушен шумом многотысячной толпы, наполняющей священную рощу и достопримечательные места: храмы, жертвенники, стадион, ипподромы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538280" y="1143000"/>
            <a:ext cx="60674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вызов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ступает первый ден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гр. Он открыв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стязаниями в бег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 восходе солнц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даемся звук трубы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дьи и руководител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стязаний в пурпуров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деяниях переходя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рез все поле на глазах у тысяч зрителей и занимают специально отведенные для них места возле старта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8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благородство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ле бега начин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рьб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ществовал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сколько видо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рьбы: самый просто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них заключался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м, что противник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ходили друг проти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руга с голыми рук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4319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радость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торой день состязани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чинается с пятиборья.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го входят, кроме бега 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рьбы, метание диска, копь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прыжк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195720" cy="521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724360" y="2997360"/>
            <a:ext cx="316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ahoma"/>
              </a:rPr>
              <a:t>О спорт! Ты – плодотворность</a:t>
            </a:r>
            <a:r>
              <a:rPr b="1" i="1" lang="en-US" sz="28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ледний день игр посвящается состязаниям на ипподроме. Самым старинным и излюбленным видом этих состязании были бега колесниц, запряженных четверкой лошадей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5689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прогресс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перь состязания окончены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днако празднество этим н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вершается, наступает оди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самых торжествен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ментов — раздача наград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лашатаи снова торжествен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ъявляют имен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бедителей в отдель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ревнован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дача наград происходит у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рама Зевса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80988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История Олимпиа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Создать у детей представления об олимпийских играх как мирного соревнования в целях физического совершенствования людей, в котором участвуют народы всего ми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Ознакомить дошкольников с доступными для детей этого возраста сведения из истории олимпийского дви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Способствовать формированию у детей интереса к занятиям физическими упражнениями через нравственный и эстетический опыт олимп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 спорт! Ты – мир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чин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ржественное шествие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переди идут судьи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тем новы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оники в ярки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ных одеждах, 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нками на головах,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уках они держа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альмовые ветв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бедитель олимпийских игр всю жизнь оставался почитаемым человеком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4535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пятнадцать столетий Олимпия вообще как бы исчезла с лица зем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же само её название было забыт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всё же Олимпийские игры яркой звездой горели в памяти человечества. Свет этой звезды прошел сквозь века и вспыхнул с новой сил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6350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ужен был человек, которы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ыл бы предан иде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такой человек нашел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го звали Пьер де Куберт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 был совсем молоды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ловеком, когда высказ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нение о возрождени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шли столетия, и Олимпийские игры теперь благодаря ему – самый яркий праздник челове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35989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ремена меняются, и мы меняемся вместе с ними, как говорили древние римляне… Каков же он, современный олимпийский симво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 ведь его знает всякий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пять переплетенных коле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337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16000" y="1773360"/>
            <a:ext cx="674388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планете, в нашем мире,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ять жилых материков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лют спортивные отряд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призыв Олимпиады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 травы, зелены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Австралии 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47512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востоке рано-р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лнце окна золот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тому-то желтый 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то Азии прив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797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ают все, что черны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ойной Афр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4680000" cy="52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Америке него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ыть без собствен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м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расный цвет – ва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шлет 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8927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Европы дружбы троп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 нам спешат – препятстви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 какой же цвет Европ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лубой Европы ц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08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26792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истории возникновени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ревности немал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ясностей, а поро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егенд и мифов. 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есспорно, что родино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является Древня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реция, а именно почитаемое греками святилище Олимпия. Здесь у подножия горы Кронос, в дали реки Алфей, до сих пор зажигается олимпийской огонь современных Иг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сюда начинается факельная эстафет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395280" y="1268280"/>
            <a:ext cx="4608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300720" cy="31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ять колец, пять кругов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ак пяти матер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ак, который означа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, что спорт, как общий друг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е народы приглаша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свой всемирный, мирный кр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егенды разные, но во всех случая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ворится о том, что Герак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считал шестьсот стоп – расстояни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один стад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сюда и пошло название стадио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ам Геракл принял участие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стязаниях по бегу на одну стадию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в память о своей победе посади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берегу реки Алфей куст оливы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тками которой награждалис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том Олимпийские чемпио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2808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е игры проводились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«священном» для древних греко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круге Альтис, который называл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акже Олимп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рдостью всей Олимпии был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атуя Зевса, находящаяся в храм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евса Олимпийс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вестно, что маленьки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сударства Пелопоннеса постоян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евали друг с другом. Разорялис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рода, гибли плоды человеческог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ру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ремление людей к миру было заложено в идее олимпиа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7352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 востока от Альтис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мыкал стадион, южне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положен ипподром. 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паду от Альтиса начиналис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тройки, предназначенны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ля атлетов – жилища, 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акже купальни и б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е эти здания подолгу стоял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устыми. Ничто не нарушал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шины священного округ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о каждый пятый год, по мере приближения праздника Зевса, повседневная жизнь Олимпии резко менялась. Все готовились к любимейшему празднику – Олимпийским игр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 всем греческим города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ъезжали специальные послы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и сообщали о дне предстоящег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ликого празднества — знаменит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ах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возглашали условия священног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ира, который объявлялся на врем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азднест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якие военные действия, где бы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и ни происходили, немедлен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кращалис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664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центрально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адионе город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столицы Олимпиады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жиг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й ого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является групп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вушек в белоснеж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нтичных туниках. Одн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молодых гречано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ржит в руке факел. В сопровождении подруг она подходит к зеркальной линз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324000" y="1268280"/>
            <a:ext cx="4679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йманные линзой солнечные лучи направляются на фак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инута и показывается лёгкий дым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щё мгновение – и вспыхивает плам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258920" y="1125360"/>
            <a:ext cx="6265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09:57:47Z</dcterms:created>
  <dc:creator>User</dc:creator>
  <dc:description/>
  <dc:language>en-US</dc:language>
  <cp:lastModifiedBy>User</cp:lastModifiedBy>
  <dcterms:modified xsi:type="dcterms:W3CDTF">2011-09-28T17:10:50Z</dcterms:modified>
  <cp:revision>9</cp:revision>
  <dc:subject/>
  <dc:title>Слайд 1</dc:title>
</cp:coreProperties>
</file>