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2428-4A41-44C2-B641-DD25713E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B54-E68A-47E6-9606-EF381043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F9AB-BE93-4058-8D58-2BFD803E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96C4-5EA8-439B-BD54-C06A9EED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9BC7-922E-4604-8418-A3D157A5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14F3-39DC-4B58-B59B-BC778629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2106-D848-434A-82AE-BA4C516A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8F92-E298-4BDD-B940-9183C561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C649-524B-4966-8369-5143295E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2E3B-E9CE-4D7D-ADE0-9B902011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B8D7-7D2F-4FF7-9D1E-A15800E1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15EA-9352-4787-8768-7A57799A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53C4-C545-468E-9CD5-70B7CA2F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6216-4727-4B26-97B1-346F373E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7C95-DF44-4C8E-B93D-4CC3C99D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B84D-93EE-41B2-85B5-D737BE01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0E79-371A-4858-8B37-65899F89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74AB5-0F71-4844-8785-771ACD75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2FC4D-F8C9-43BD-B3C7-F5F02F2D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A37AA-94CB-4FC9-ADFB-974FBD77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45FE3-6F10-4CFF-93BF-729B8431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2793A-3DCB-4263-84AD-38D257EA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03CC-54F2-4F7C-9722-8522BF66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694CD-EF26-4F59-BA0D-25B8F758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C6730-667C-4235-93F4-880C0FD9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BEF0F-62F6-4681-A7A0-1618BAFA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DDD41-3DB9-4686-913D-9378134C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1DC69-0258-4202-8049-EFE5AAA4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B879F-9E98-4B5F-8282-6955C51A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66086-6B69-4971-B01F-3DAA169F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54EFC-43D3-4C50-A18A-F2EB4D8A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EAEA8-736E-44AF-A7F0-A8AB9B08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C63E8-4DA5-4665-9F4D-C4B709D3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9D2-0DE7-44F5-9A89-78D6C724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E1A8F-B3D4-428D-9A07-755344C7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514E0-E325-432E-BE6C-0156DBAA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81874-EB1C-44AF-A7AE-40487516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5B22C-9C7B-43F0-87F4-1E7A156C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3CED6-A0E3-4C77-815D-A650A96F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C2EB6-4780-4FFE-985A-B97BD1B5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3CBF6-1AF4-4E25-94E1-2E7F2C79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FD5FA-99D8-4071-AE60-1873D561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A3AF3-CE8E-4744-B226-99ECCFF6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72B9-3BB7-43C7-ABAB-5901F5E8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B335-C47F-463D-A651-69FD5A2E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EC0-B1C2-4CD5-9393-74FC3897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4D28-203E-4069-A9F5-19113A2D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001C-0A9C-4FE8-83BC-173971BB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928D-A883-4F67-ABC4-B1F447C6478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4988-1B8C-410A-ADD9-C7A80BB71F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3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7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5400-641E-4247-B325-D2EA32E411C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4CFF-A74D-4422-9589-AF63183F2C63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зменчив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5" descr="голуби"/>
          <p:cNvPicPr/>
          <p:nvPr/>
        </p:nvPicPr>
        <p:blipFill>
          <a:blip r:embed="rId1"/>
          <a:stretch/>
        </p:blipFill>
        <p:spPr>
          <a:xfrm>
            <a:off x="1619280" y="1916280"/>
            <a:ext cx="5010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обезьяна альбинос"/>
          <p:cNvPicPr/>
          <p:nvPr/>
        </p:nvPicPr>
        <p:blipFill>
          <a:blip r:embed="rId1"/>
          <a:stretch/>
        </p:blipFill>
        <p:spPr>
          <a:xfrm>
            <a:off x="2309760" y="571680"/>
            <a:ext cx="4524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о уровню возникновения различаю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генные мутации – замена одного или нескольких нуклеотидов в пределах одного ге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хромосомные мутации – утрата части хромос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6"/>
          <p:cNvSpPr/>
          <p:nvPr/>
        </p:nvSpPr>
        <p:spPr>
          <a:xfrm>
            <a:off x="684360" y="333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) изменение кариотипа в цело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6" name="Picture 7" descr="Дауны"/>
          <p:cNvPicPr/>
          <p:nvPr/>
        </p:nvPicPr>
        <p:blipFill>
          <a:blip r:embed="rId1"/>
          <a:stretch/>
        </p:blipFill>
        <p:spPr>
          <a:xfrm>
            <a:off x="4572000" y="2637000"/>
            <a:ext cx="3978360" cy="2879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кариотип Дауна"/>
          <p:cNvPicPr/>
          <p:nvPr/>
        </p:nvPicPr>
        <p:blipFill>
          <a:blip r:embed="rId2"/>
          <a:stretch/>
        </p:blipFill>
        <p:spPr>
          <a:xfrm>
            <a:off x="250920" y="907920"/>
            <a:ext cx="62769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Рисунок 1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3965400" cy="248292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2" descr=""/>
          <p:cNvPicPr/>
          <p:nvPr/>
        </p:nvPicPr>
        <p:blipFill>
          <a:blip r:embed="rId2"/>
          <a:stretch/>
        </p:blipFill>
        <p:spPr>
          <a:xfrm>
            <a:off x="4649760" y="3032280"/>
            <a:ext cx="3456000" cy="2700360"/>
          </a:xfrm>
          <a:prstGeom prst="rect">
            <a:avLst/>
          </a:prstGeom>
          <a:ln w="0">
            <a:noFill/>
          </a:ln>
        </p:spPr>
      </p:pic>
      <p:sp>
        <p:nvSpPr>
          <p:cNvPr id="270" name="TextBox 3"/>
          <p:cNvSpPr/>
          <p:nvPr/>
        </p:nvSpPr>
        <p:spPr>
          <a:xfrm>
            <a:off x="1116000" y="3032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индром Шерешевского - Тернер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4932360" y="5732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индром Клайнфельтер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энотера"/>
          <p:cNvPicPr/>
          <p:nvPr/>
        </p:nvPicPr>
        <p:blipFill>
          <a:blip r:embed="rId1"/>
          <a:stretch/>
        </p:blipFill>
        <p:spPr>
          <a:xfrm>
            <a:off x="2340000" y="404640"/>
            <a:ext cx="4444920" cy="35434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"/>
          <p:cNvSpPr/>
          <p:nvPr/>
        </p:nvSpPr>
        <p:spPr>
          <a:xfrm>
            <a:off x="755640" y="40766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иплоидия – кратное увеличение гаплоидного набора хромосо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зменчивость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пособность организма приобретать новые признаки и свойст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следственная изменчив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менения признаков организма, вызванные изменением генотип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едаются по наследств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деляют два вида наследственной изменчив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комбинативна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мутационна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мбинативная изменчив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условлена различным сочетанием генов и хромос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овые комбинации генов возникают на разных уровня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611280" y="549360"/>
            <a:ext cx="7056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комбинация генов вследствие кроссингове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зависимое расхождение гомологичных и дочерних хромосом во время мейоз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ияние половых клеток, принадлежащих разным организма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44100"/>
          <p:cNvPicPr/>
          <p:nvPr/>
        </p:nvPicPr>
        <p:blipFill>
          <a:blip r:embed="rId1"/>
          <a:stretch/>
        </p:blipFill>
        <p:spPr>
          <a:xfrm>
            <a:off x="1047600" y="1103400"/>
            <a:ext cx="704700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 следующему уроку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ратите внимание на следующие признаки у себя и своих родител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) правша или левш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) цвет глаз и волос, тип воло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) наличие веснуше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) прирощенность мочки ух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) зрение (норма, близорукость и т.д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Мутационная изменчивост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вислоухий"/>
          <p:cNvPicPr/>
          <p:nvPr/>
        </p:nvPicPr>
        <p:blipFill>
          <a:blip r:embed="rId1"/>
          <a:stretch/>
        </p:blipFill>
        <p:spPr>
          <a:xfrm>
            <a:off x="1695600" y="1905120"/>
            <a:ext cx="3085920" cy="41148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голые котята"/>
          <p:cNvPicPr/>
          <p:nvPr/>
        </p:nvPicPr>
        <p:blipFill>
          <a:blip r:embed="rId2"/>
          <a:stretch/>
        </p:blipFill>
        <p:spPr>
          <a:xfrm>
            <a:off x="5219640" y="549360"/>
            <a:ext cx="3297240" cy="2595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брахидактилия"/>
          <p:cNvPicPr/>
          <p:nvPr/>
        </p:nvPicPr>
        <p:blipFill>
          <a:blip r:embed="rId3"/>
          <a:stretch/>
        </p:blipFill>
        <p:spPr>
          <a:xfrm>
            <a:off x="5508720" y="4221000"/>
            <a:ext cx="278136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негр альбинос"/>
          <p:cNvPicPr/>
          <p:nvPr/>
        </p:nvPicPr>
        <p:blipFill>
          <a:blip r:embed="rId1"/>
          <a:stretch/>
        </p:blipFill>
        <p:spPr>
          <a:xfrm>
            <a:off x="1571760" y="1324080"/>
            <a:ext cx="600048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9-18T05:08:15Z</dcterms:modified>
  <cp:revision>6</cp:revision>
  <dc:subject/>
  <dc:title>PowerPoint Presentation</dc:title>
</cp:coreProperties>
</file>