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F38-D21A-473A-938F-E4F8ECCF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04C-C66A-4C66-BD95-6876004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4DB-70F0-4321-BE6B-CE6A5654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A3D-7F88-4F5E-BD1C-2638E27F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F97-F03C-4A52-9758-DF7DB75A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901E-D98B-4989-8CB1-6CF023F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679-D32B-46FC-AD31-756D67C4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AC6-FF0F-465E-84F6-B1A983A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162-422A-4265-BD1C-36EB569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9E2-5177-4C46-B428-5915184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3B1-71F0-4E89-BFD6-D9D56D2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EA6-7361-4D2D-847A-F4E0246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AB1E-639A-4934-B022-4EF17BE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8EF6-58A1-4EBF-A8D1-CA1E141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072D-0BBE-4225-BE2E-73B23DB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04DC-4E25-4413-91F1-51AAC3D7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1F0-FFB2-47CC-ABB3-7E02238A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3799-44A5-4294-A50D-8750F52A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33D5-124A-4387-9F16-9176D78F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4BFC-BAE3-43E5-8D11-84D94D4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5651-F874-4A00-B439-AD124B9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3E6A-44D8-42C2-9B9B-0ED46612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ACE-9B1A-4AB7-BE87-4E6EDFD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2583-A356-4CAB-B501-4DC602C6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6582-0B0E-434E-AE41-38FB139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A578-1DB8-468F-BBE0-0372BE6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8E8B-6F2C-43B3-A9DC-58246F8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04CA-65EF-4E2F-AED3-C761ABD8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DED0-1FBA-4AC5-B8EB-177C18D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0F0F-879A-4DB0-8842-FC113F78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FAEE-6CA7-4874-A004-A2856E2F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566E2-6DBF-4266-A1FB-A6DEFFD3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1C87-B169-4320-AA04-DA7EC8C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CDB-8DC4-4DCC-940E-2790EE8F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55F2-26CB-4120-AAB2-054C4486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A90C-E77B-49EE-900E-502DB19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EF7C-72F7-42F9-96EA-EDE7E52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5F4C-03FA-451A-AB9B-DAF1A73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BAD8-CBD6-40FE-B958-9400EE2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CEF4-D512-4BE2-BA9F-3882E26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915F-E460-402D-BE52-C23199A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3F22-0847-4AB6-9AD6-36A3CEA8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0942-746D-4951-A470-03319921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889-0AA5-47F5-8E27-C9FEEF0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A7E-1DA9-426A-B536-C8BA03C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F7-A934-45F9-9C7C-18250BB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12D-F33D-4AB3-B277-793BC7F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6E1-5FDE-49D8-92F6-FEB8523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CAB-A714-427C-8334-FF902D803C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1EC4-6EB1-466F-86DE-68AFA5925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ABF-FB89-4713-971C-7DF3C0F76D1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80C-0EE2-44CD-AF65-D67CEA0A0ABD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5" descr="голуби"/>
          <p:cNvPicPr/>
          <p:nvPr/>
        </p:nvPicPr>
        <p:blipFill>
          <a:blip r:embed="rId1"/>
          <a:stretch/>
        </p:blipFill>
        <p:spPr>
          <a:xfrm>
            <a:off x="1619280" y="1916280"/>
            <a:ext cx="501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обезьяна альбинос"/>
          <p:cNvPicPr/>
          <p:nvPr/>
        </p:nvPicPr>
        <p:blipFill>
          <a:blip r:embed="rId1"/>
          <a:stretch/>
        </p:blipFill>
        <p:spPr>
          <a:xfrm>
            <a:off x="2309760" y="571680"/>
            <a:ext cx="452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уровню возникновения различаю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генные мутации – замена одного или нескольких нуклеотидов в пределах одного г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хромосомные мутации – утрата части хромос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6"/>
          <p:cNvSpPr/>
          <p:nvPr/>
        </p:nvSpPr>
        <p:spPr>
          <a:xfrm>
            <a:off x="684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изменение кариотипа в це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Дауны"/>
          <p:cNvPicPr/>
          <p:nvPr/>
        </p:nvPicPr>
        <p:blipFill>
          <a:blip r:embed="rId1"/>
          <a:stretch/>
        </p:blipFill>
        <p:spPr>
          <a:xfrm>
            <a:off x="4572000" y="2637000"/>
            <a:ext cx="3978360" cy="2879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кариотип Дауна"/>
          <p:cNvPicPr/>
          <p:nvPr/>
        </p:nvPicPr>
        <p:blipFill>
          <a:blip r:embed="rId2"/>
          <a:stretch/>
        </p:blipFill>
        <p:spPr>
          <a:xfrm>
            <a:off x="250920" y="907920"/>
            <a:ext cx="6276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965400" cy="24829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" descr=""/>
          <p:cNvPicPr/>
          <p:nvPr/>
        </p:nvPicPr>
        <p:blipFill>
          <a:blip r:embed="rId2"/>
          <a:stretch/>
        </p:blipFill>
        <p:spPr>
          <a:xfrm>
            <a:off x="4649760" y="3032280"/>
            <a:ext cx="3456000" cy="2700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3"/>
          <p:cNvSpPr/>
          <p:nvPr/>
        </p:nvSpPr>
        <p:spPr>
          <a:xfrm>
            <a:off x="1116000" y="3032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ндром Шерешевского - Терн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932360" y="573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ндром Клайнфельт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энотера"/>
          <p:cNvPicPr/>
          <p:nvPr/>
        </p:nvPicPr>
        <p:blipFill>
          <a:blip r:embed="rId1"/>
          <a:stretch/>
        </p:blipFill>
        <p:spPr>
          <a:xfrm>
            <a:off x="2340000" y="404640"/>
            <a:ext cx="4444920" cy="3543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755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иплоидия – кратное увеличение гаплоидного набора хромос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менчивость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особность организма приобретать новые признаки и свой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следственная 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я признаков организма, вызванные изменением генотип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даются по наследст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деляют два вида наследственной изменч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комбинатив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утацион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мбинативная 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условлена различным сочетанием генов и хромос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вые комбинации генов возникают на разных уровня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11280" y="549360"/>
            <a:ext cx="705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комбинация генов вследствие кроссингов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зависимое расхождение гомологичных и дочерних хромосом во время мейо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ияние половых клеток, принадлежащих разным организм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44100"/>
          <p:cNvPicPr/>
          <p:nvPr/>
        </p:nvPicPr>
        <p:blipFill>
          <a:blip r:embed="rId1"/>
          <a:stretch/>
        </p:blipFill>
        <p:spPr>
          <a:xfrm>
            <a:off x="1047600" y="1103400"/>
            <a:ext cx="70470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 следующему урок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тите внимание на следующие признаки у себя и своих родител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правша или лев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цвет глаз и волос, тип вол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наличие веснуш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прирощенность мочки ух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зрение (норма, близорукость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Мутационная изменчиво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вислоухий"/>
          <p:cNvPicPr/>
          <p:nvPr/>
        </p:nvPicPr>
        <p:blipFill>
          <a:blip r:embed="rId1"/>
          <a:stretch/>
        </p:blipFill>
        <p:spPr>
          <a:xfrm>
            <a:off x="1695600" y="19051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голые котята"/>
          <p:cNvPicPr/>
          <p:nvPr/>
        </p:nvPicPr>
        <p:blipFill>
          <a:blip r:embed="rId2"/>
          <a:stretch/>
        </p:blipFill>
        <p:spPr>
          <a:xfrm>
            <a:off x="5219640" y="549360"/>
            <a:ext cx="3297240" cy="2595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брахидактилия"/>
          <p:cNvPicPr/>
          <p:nvPr/>
        </p:nvPicPr>
        <p:blipFill>
          <a:blip r:embed="rId3"/>
          <a:stretch/>
        </p:blipFill>
        <p:spPr>
          <a:xfrm>
            <a:off x="5508720" y="4221000"/>
            <a:ext cx="278136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негр альбинос"/>
          <p:cNvPicPr/>
          <p:nvPr/>
        </p:nvPicPr>
        <p:blipFill>
          <a:blip r:embed="rId1"/>
          <a:stretch/>
        </p:blipFill>
        <p:spPr>
          <a:xfrm>
            <a:off x="1571760" y="1324080"/>
            <a:ext cx="6000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18T05:08:15Z</dcterms:modified>
  <cp:revision>6</cp:revision>
  <dc:subject/>
  <dc:title>PowerPoint Presentation</dc:title>
</cp:coreProperties>
</file>