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  <p:sldId id="281" r:id="rId47"/>
    <p:sldId id="282" r:id="rId48"/>
    <p:sldId id="283" r:id="rId49"/>
    <p:sldId id="284" r:id="rId50"/>
    <p:sldId id="285" r:id="rId51"/>
    <p:sldId id="286" r:id="rId52"/>
    <p:sldId id="287" r:id="rId53"/>
    <p:sldId id="288" r:id="rId54"/>
    <p:sldId id="289" r:id="rId55"/>
    <p:sldId id="290" r:id="rId56"/>
    <p:sldId id="291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slide" Target="slides/slide26.xml"/><Relationship Id="rId48" Type="http://schemas.openxmlformats.org/officeDocument/2006/relationships/slide" Target="slides/slide27.xml"/><Relationship Id="rId49" Type="http://schemas.openxmlformats.org/officeDocument/2006/relationships/slide" Target="slides/slide28.xml"/><Relationship Id="rId50" Type="http://schemas.openxmlformats.org/officeDocument/2006/relationships/slide" Target="slides/slide29.xml"/><Relationship Id="rId51" Type="http://schemas.openxmlformats.org/officeDocument/2006/relationships/slide" Target="slides/slide30.xml"/><Relationship Id="rId52" Type="http://schemas.openxmlformats.org/officeDocument/2006/relationships/slide" Target="slides/slide31.xml"/><Relationship Id="rId53" Type="http://schemas.openxmlformats.org/officeDocument/2006/relationships/slide" Target="slides/slide32.xml"/><Relationship Id="rId54" Type="http://schemas.openxmlformats.org/officeDocument/2006/relationships/slide" Target="slides/slide33.xml"/><Relationship Id="rId55" Type="http://schemas.openxmlformats.org/officeDocument/2006/relationships/slide" Target="slides/slide34.xml"/><Relationship Id="rId56" Type="http://schemas.openxmlformats.org/officeDocument/2006/relationships/slide" Target="slides/slide35.xml"/><Relationship Id="rId57" Type="http://schemas.openxmlformats.org/officeDocument/2006/relationships/slide" Target="slides/slide36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70EB-B00C-41A0-8D75-FBB8DE82E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1876-D342-4144-BC0B-679EF8AD9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D395B2-2F0F-4DDF-8F5E-C063BBE92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055C69-E3AD-4E7C-BF46-6EB423E2D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342554-13C2-4678-BAD2-AD32B1337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AE8D49-E18A-4950-B34A-8CF41E96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413418-6AFA-460F-BDEC-8639BD65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26B5DE-85A2-41BD-8A41-732A5D5D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B24357-39DE-4BFF-A93D-01C70BBB2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0D0084-5F6D-4CB6-92F3-B27400488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57ABAC-FBD7-45A3-8A69-3EB43651A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0E81DA-1BD6-40D5-8EFD-D9AB1E83C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0CB7-55A7-4525-A9DC-74140B68B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29A8F7-7E95-4AF7-8344-70CC51E7F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5D250E-6E88-4B29-BDB8-199FE1537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F9709D-B6A5-4A7B-B598-DFADCC304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BC03A4-40A1-4CB9-AA00-1813AA8B5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24105F-05B9-4C81-BBAD-198EE5FB6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8FF16D-23A7-41CC-A6AC-86B3B057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5BC0E4-CA25-4BDB-AB83-067405DB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DA1186-8708-4E73-8BB9-3C9BBFF2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3FD4AF-408B-43AC-8896-0589021E0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4CD1C6-9110-4520-B047-399A1EBE0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F33E-4527-4B84-86C7-CA9A69EAB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18F59F-F9A7-464F-8DEC-B0BA8EAA2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0EF156-8054-49D9-A7C6-4F5272247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D28960-1274-4295-83FB-78FBA4D80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5D7E30-A8CC-4382-BBBA-830D978BE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DABBCB-2BE6-469D-8B89-393FC1AF0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2AB19E-7460-4AB3-9754-01C3A43DE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4E2754-C506-400A-9AAA-525F70CF0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7AFF63-018D-4859-97E5-28540CF2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A700A2-E368-408A-B94D-D6052DFA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03F953-D8F6-4493-B926-99E5E07A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F9F69-F3B9-429B-B15D-BA7FC5977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2E1BA9-CC73-4C21-BE30-8BEA7DA2C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3F7121-5EB0-4BB1-ADF7-40BE6026F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695730-3BF1-400D-92FB-E6E3FDA0C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5C6AE8-391B-409C-BE1D-4807C4B1A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13BC62-C787-4014-BE97-2C1D53AE4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1F84D5-ABB3-4678-A644-7E0B9BAFA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1E304C-05DB-4E7D-BC12-38E6AA1F0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1830F4-8FFD-4C3F-A87A-BB2DF85C8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599CAF-3371-48FB-B5EC-CF8B491F2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7D3CC8-0434-4436-BC3D-36448B8C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4F3A7-65B8-4DC6-BE02-F5A807DEB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4A9F82-8960-48C1-98EA-9256F415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336330-5A54-4325-9356-69CA21606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556DB9-9453-4B29-9463-0015C4C12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20DA26-A3DE-4F99-9C6E-B8E96FFCE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7CE2A0-2ACA-4F64-8015-04B7C535B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F5EEBC8-FB32-4CD6-B5AE-9FDC315FB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5CE76F4-93AE-4F07-ABDA-5D870D977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4CE1794-6123-42CE-81D5-11835713D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7E23910-C8D6-4B7D-91E2-04E6A4732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121735E-C98F-4946-BF41-4A565D14D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EDE64-4172-4425-B133-05704C6B8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9791A3B-611B-4711-B970-DE8719A9E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EFE2D76-07AB-4ACC-9FE5-4EB1DB70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A9AFDC1-950B-418C-BC25-B512D7B8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527826E-382A-46D8-BB27-3C21F04E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46EE539-BA8C-4D5B-95EC-430365526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4A9B8FE-ED09-4CB4-80D7-455C4D6CE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1059B44-1B53-419D-A589-F75E22D8F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38FA7D-EE7C-4D44-A97A-5266D74EE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2E5822-C0B3-436F-94AF-3940C22AA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735B76-785C-4A77-ADAB-110448779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4175B-929F-4C88-92C9-47D788EFA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B30E1E-8390-49D5-B564-BAE7B13EB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9A9571-64EC-4C6E-80D9-9C8F23C82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411154-498B-4C25-868B-8F0230E8E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07AD5A-1444-429A-856C-8D174C6E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FEFB80-6C1C-4331-8E01-A78FC936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321671-1896-459D-9362-F2370770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726E47-DA6F-4833-A79C-2D5FC9D2D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95DEE1-44FE-4A25-96E7-3704F622E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F18362-00C0-4EF1-986F-F832AE3CE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908339-6DAC-4845-82A7-DBD541E74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2BA8F-227C-4D64-9C36-1508B215B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5B4692-CC36-4F02-A518-8385AB190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10C1BF-3F14-4DCD-81ED-86FD25F20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FCA450-D79A-42FD-BFE5-E5F608C26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B2F8A7-37E8-4F31-BD55-3C4E3566E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3A597C-CC63-48E1-A1DF-CF7AA8B4D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619662-AAC7-4654-991A-8222C5F1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A65FBC-6E6B-4C6B-A88D-AC3BDB27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C671C0-A85B-484C-B339-D4512683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350999-D157-4672-A55A-D357702F5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239FA3-1666-43B4-BB56-CE95D4EB1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F2DB9-1725-45AA-BAB5-4B6550D4D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8699E7-6F23-4031-9028-6E07CA8AF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54F6AC-C528-4318-AD45-EB77FFC0D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39325C-6A82-4674-BD5A-6D0DC4A17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91EB2B-24B8-4831-839E-8AEEB2DE9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2C6C71-263B-42E1-B647-1747A25A1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F40D6F-C5B2-4E0A-8107-54EB18EA8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773A68-C65D-4636-BD53-634544222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0CF172-6039-42A8-A68F-2AC5B8A0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4DE0D4-75EF-4B6B-B98F-8ABC0AAE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69E4B8-EE0B-4DBD-8518-B8BB8EF3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91C35-75E8-440E-B80D-BFDB0F85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0AE7E2-3D20-48A9-B3C9-0910D2BC4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AE62C3-C8B4-4B86-B19B-9ECC9AE09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560DB2-8651-45F1-BAFB-1913D6B2C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0C70BC-CC76-4687-A795-0F4761EA5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A555FE-A164-46EE-95AF-CA2BE55A2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6A7306-E9CF-4F84-8051-B585D9BFE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8FCD8C-BD86-4AB9-8A52-E199FACFC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5F638E-37CE-4D22-9621-C1AB9B59A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1962BC-5C09-4145-BC03-E761B13B1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911619-D2C9-4CAE-B93C-E720814A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F512-898F-4905-B1C3-3C5946B57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F5571-24A1-4257-B4D6-66BA63A9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0230A1-E1C9-49C1-903D-B221F29E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3172CF-F32A-41F7-B374-29F991D3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37EF74-2AAA-4D64-9D96-70B1C9B86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6093BE-FB64-403B-8DD2-CB58E221B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71F5AF-D250-44B6-A1E6-5B9157CB3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E6C857-BC23-4894-ABE0-D4C031936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B29911-E7D5-4BB9-A9E7-50A253788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FF82F4-DC7C-4DFE-ADD0-28AD95BB2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87A7E8-2F10-4524-A44B-5279EC0BA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DC1D4F-7B53-43D2-85CD-25C06C7B1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305F4-9DEB-42A1-99DD-DBC90ED0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9153AA-DE67-4480-9312-AB49604EE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E7BEFE-07FB-4DDE-901F-9B8272F4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119301-A4F3-4CEC-9F15-4AE600CC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3EA79F-B002-4B8D-A6F2-01B43A6E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FDCD18-EC41-4009-BACB-08C973F59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3D3CBC-0436-487A-B693-E27B6FC25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DE123E-D091-425E-8DD0-5E20F6B90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A32DCC-355E-4DC0-9B88-CE71EC44C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26D106-F7FB-4A2A-B212-BB03B8BF2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B59891-8ADB-425E-A359-E75C0BC19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630FA-39C0-4CDD-9E7E-114AD503A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DEBB87-D7DE-4B2B-8F66-AE2781DCD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F0AC9E-2587-4ACB-8A7F-18946CF9B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B26E2F-AB94-4ECA-9A86-391AE1AEC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7952C3-B7C6-406B-85CA-F793DBC3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038CD5-51FA-465E-A8D1-05F04643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D23124-7E60-456A-8596-5D3A2EFE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F69DA0-9262-4FCE-A1AB-BCDBB0FFA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CA4B39-46D5-48B8-A8A4-DC09229F5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9BFD82-CFA7-458F-8431-120F6ECD9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9A0B79-A4E9-4D17-9E5E-8C30B66DD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33007-791D-4D6A-A458-8C38E67EB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387016-0CA6-4736-97CD-5CFA53551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691E23-7324-4F77-B50A-C7C8DB2A3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D6A1E4-B9A6-4CF1-B2A1-56FBF7FB0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65B3BC-4E7B-4F68-AC5F-27EEFC124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095A20-D7C5-4691-AF0F-83D60D578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AEB3EE-8356-4E4C-943E-FA3305EB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AA9FC2-E9D0-4BC5-9492-2C56BEA8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B3AAC6-118A-44D4-87AC-7D06AB9B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E173A1-7728-437E-8A83-7B4584784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7B8256-8467-402F-B238-FB1CE544F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BF289-3A2E-4ECA-8A7C-3EA775B5E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AA4929-CD1B-49A3-BCD8-37C3F9A19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39CFF-D0E0-4A91-BF28-51FD393B5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B6DEC-E657-4680-9614-D6BF17F0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0425C-D4DD-486C-A9F4-BAA807D61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0BA05-04C0-474C-96C9-AF4B3E46D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C4F3F-1F78-4FAD-9BEB-E4BE6F87F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0B69-4DB4-40FC-A8D2-CBF4CDB6A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63142-D762-443D-A3E3-7ABFB9B30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C27E8-A354-4045-B178-C14ED87A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99B49-BF6E-4E30-8A35-1E11F0A8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0F7A2-8A0C-43E7-BFBD-776DAFF2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3C39F-A6E3-4FD3-8735-7BD6EE4FE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196AA-A4BB-4141-A227-36F32250E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9B200-FB25-46FB-8898-0B49C63C4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F1EFE-984A-4F88-868B-FE5C8AFE3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EB931-51D7-46BB-B998-B75CC034E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A2AC9-C597-4975-A3DA-6FD6F99A2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D546-FCF7-46E6-BA4F-6F6B7F005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A8D9F-4B3B-4CDF-8EA6-16326C955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DF76C-C584-4E83-B05C-CA0B58E84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3BB19-FEF5-4F2B-9677-2A468775E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0C73A-64B7-4C7F-981F-1299F6F8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8DD31-FF29-47AA-B663-85720DA5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4FD97-B401-43FD-A20E-464A68F6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4999B-4A00-47D0-86B4-36724E983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5352D-3A1B-4E13-B5E4-D412230B2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0B902-8929-4F25-81FD-50512480A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ED6DBE-B7FF-4D78-A9A1-DCAB74257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7B85-3FEE-4BC6-A185-83E80C44C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7D9F1C-4757-47BF-AE24-5B3EE0CF5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8E1F0F-B879-4775-8387-A0CF20BD1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B08321-CA4C-4704-85C9-4B032D30D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E7BE09-6F63-4AE4-A938-37963EBB7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E03E99-015C-4691-B863-FCC297566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84442E-3E79-425B-B55D-BA95680C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0B2CB5-2804-46A5-8A8F-A5096AB9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1CFAEA-B2EF-40EB-876B-9876C669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ECDF73-959E-4963-A328-52C7C0232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A6BC50-A210-409D-9BA7-F1080642A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1403-12BE-4FF1-AF0B-9A58EFD0D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82C747-2CB1-494D-9995-3F2B627F6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C9B97-181B-4CA2-8EF8-55D3B90E9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5D011-5CF0-494A-8D47-A35BDFC87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1C44E-2EB1-4C1F-8C7C-080D02F85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0C4FF-2FD6-496E-A40E-12220C237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F98D1-0836-4B20-B1A6-F54280B84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7856EE-882D-45DB-B9D3-5CD547FB8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E15AC-5484-412A-9042-7CDE1E4A7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AB960-219B-4DD6-B91C-6AA2F998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DA9CB0-A3DC-405A-A655-4A56DAB7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102A-2EDB-4532-A61F-F30757D9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E1D64-CB89-4AA1-A4D0-7AAA29A8E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06B1B-5EEA-493A-A19E-D34D62A67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53F0F-4A36-4E31-826D-3BAAC9887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866AA-4B10-42FD-8016-98409623C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CF35E6-7C28-4EEA-8B0E-9EA27A65F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7D20F-9317-40DB-8FE0-168D48824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61E27-F9F4-41D4-AD80-8947470BC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B8264-F431-4D21-A040-17C2C1C64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8A086B-F029-4E8B-ACF9-3A3D9AD45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55D402-D39C-49E3-BEE3-BF997669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59BA-7645-4B87-A46C-37FB57BF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979875-1E21-4193-A57D-AE9DA240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874A4-A4F8-459B-8DF9-81E99090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D76CF-C8F3-4B63-89B6-962A96A2C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36D09D-2BEA-4C9F-8E32-CF6686FF6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615DDC-D8EC-4814-AC8E-4C1E6A4E9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7296EF-6C0A-41C8-88E7-41467F475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E343B1-B04A-47A4-9B9F-DDBAB6ECD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A13DF0-465B-411F-8568-649022A14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BDC501-2389-441C-9B16-E58D0D6D4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BA239A-C542-4B32-8959-2DC044430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AA14-7968-4C64-8313-A609C6FA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CC3C64-50DA-4C23-80B3-759788ED7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5F9341-C5A7-465B-8323-FE7ED6E7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0A4E0F-5E63-426D-AC32-87E1185F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173A0-691C-49C6-BD07-451E4DC4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34C7B1-9D20-4ED2-8212-A641D1292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C1657A-BC48-4D35-AE2E-5A427472B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CE5F41-3CE7-4324-A189-2E13BA410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D5FC27-DCA8-4470-94A6-97B3DF2A0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BBDD0E-AE0C-4986-8C0D-D6DD6C9B1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6194D9-7EDC-4FDE-BEDF-F9F2ECEBF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35586-4E77-4703-99BE-D18808BC05E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D7543-8898-452D-B9D9-4DC88549A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83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840" name="PlaceHolder 1"/>
          <p:cNvSpPr>
            <a:spLocks noGrp="1"/>
          </p:cNvSpPr>
          <p:nvPr>
            <p:ph type="dt" idx="3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ftr" idx="3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sldNum" idx="3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CC15E-406C-4D1B-A2CA-16C6E7BAE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88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dt" idx="3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ftr" idx="3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E0301-53EA-481E-8B98-FAECC8314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92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 type="ftr" idx="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 type="sldNum" idx="3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76B37-FCB1-41DA-883A-E074F738CFB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 type="dt" idx="3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99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B41C4-4551-4418-8C98-983048BA718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3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54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2DECE-E168-4810-A82E-88E5C6BDEDA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1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DB687-771E-48EF-B905-6000C62BF6C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6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167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168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169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 type="dt" idx="49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 type="ftr" idx="50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5"/>
          <p:cNvSpPr>
            <a:spLocks noGrp="1"/>
          </p:cNvSpPr>
          <p:nvPr>
            <p:ph type="sldNum" idx="5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B3B5E-99DB-45F5-B7AA-C2E1D86AD42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3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214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215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216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219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220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 type="dt" idx="52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 type="ftr" idx="53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 type="sldNum" idx="5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5D22D-CDC3-42FA-B7DB-FF427C5DD3A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4A8C3-FBE3-4857-9D9F-971E04B9154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DB889-8255-4240-8F20-E72F41FE7BA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5E9FC-8A9A-4C43-A6A2-08B69D3B484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1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1312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34447-1CEF-492E-8562-65F8C0E4943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75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85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9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92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01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02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05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06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207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08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6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27633-ADC1-424A-95E8-7F1CC2C91B2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59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63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  <p:grpSp>
        <p:nvGrpSpPr>
          <p:cNvPr id="268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69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73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  <p:sp>
        <p:nvSpPr>
          <p:cNvPr id="278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6152B-72FB-49B6-B969-44E7E8BD88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19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328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68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370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71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  <p:sp>
        <p:nvSpPr>
          <p:cNvPr id="381" name="PlaceHolder 1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B5ABF-AAE3-4F7B-A3A1-D3E6E8F007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422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423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grpSp>
              <p:nvGrpSpPr>
                <p:cNvPr id="425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426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29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31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432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6699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433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434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5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6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7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8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9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0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1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2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3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4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5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6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7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8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9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0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1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2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3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4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5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6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7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8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9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0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1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2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3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4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5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6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7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8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9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70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471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2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3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4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5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6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7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8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9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0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1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2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83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4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5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6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7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8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9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0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1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2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3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4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5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6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7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8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9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0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1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2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3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4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5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6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7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8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9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0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1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2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3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4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5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6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7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8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519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520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grpSp>
              <p:nvGrpSpPr>
                <p:cNvPr id="522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523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32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533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539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540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45" name="PlaceHolder 1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FC330-1A53-403F-918D-ADDE61B101A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6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587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588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589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grpSp>
              <p:nvGrpSpPr>
                <p:cNvPr id="590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591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94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595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96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597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6699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598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599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0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1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2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3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4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5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6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7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8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9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0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1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2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3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4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5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6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7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8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9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0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1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2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3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4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5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6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7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8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9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0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1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2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3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4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635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636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37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38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39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40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41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42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43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44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45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46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47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48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9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0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1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2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3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4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5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6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7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8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9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0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1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2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3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4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5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6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7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8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9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0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1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2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3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4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5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6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7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8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9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0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1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2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3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684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685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grpSp>
              <p:nvGrpSpPr>
                <p:cNvPr id="687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688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97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698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704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705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6043A-99CE-4303-9D17-677149E0E23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0F563-EF48-4203-AE6F-7843F200E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4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6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6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9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9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9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9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2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2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2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21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21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21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21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21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2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1" name="" descr=""/>
          <p:cNvPicPr/>
          <p:nvPr/>
        </p:nvPicPr>
        <p:blipFill>
          <a:blip r:embed="rId1"/>
          <a:stretch/>
        </p:blipFill>
        <p:spPr>
          <a:xfrm>
            <a:off x="2556000" y="189000"/>
            <a:ext cx="4268520" cy="64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3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6078600" cy="2897280"/>
          </a:xfrm>
          <a:prstGeom prst="rect">
            <a:avLst/>
          </a:prstGeom>
          <a:ln w="0">
            <a:noFill/>
          </a:ln>
        </p:spPr>
      </p:pic>
      <p:sp>
        <p:nvSpPr>
          <p:cNvPr id="1394" name=""/>
          <p:cNvSpPr/>
          <p:nvPr/>
        </p:nvSpPr>
        <p:spPr>
          <a:xfrm>
            <a:off x="3132000" y="450864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шиншилл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тряд Зайцеобразны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96" name="" descr=""/>
          <p:cNvPicPr/>
          <p:nvPr/>
        </p:nvPicPr>
        <p:blipFill>
          <a:blip r:embed="rId1"/>
          <a:stretch/>
        </p:blipFill>
        <p:spPr>
          <a:xfrm>
            <a:off x="1258920" y="2349360"/>
            <a:ext cx="2781360" cy="3915000"/>
          </a:xfrm>
          <a:prstGeom prst="rect">
            <a:avLst/>
          </a:prstGeom>
          <a:ln w="0">
            <a:noFill/>
          </a:ln>
        </p:spPr>
      </p:pic>
      <p:sp>
        <p:nvSpPr>
          <p:cNvPr id="1397" name=""/>
          <p:cNvSpPr/>
          <p:nvPr/>
        </p:nvSpPr>
        <p:spPr>
          <a:xfrm>
            <a:off x="755640" y="162864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Включает 60 видов. Питаются растительной пищей. Сверху – две пары резцов (наружные и внутренние)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1692360" y="630864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заяц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399" name="" descr=""/>
          <p:cNvPicPr/>
          <p:nvPr/>
        </p:nvPicPr>
        <p:blipFill>
          <a:blip r:embed="rId2"/>
          <a:stretch/>
        </p:blipFill>
        <p:spPr>
          <a:xfrm>
            <a:off x="5580000" y="2492280"/>
            <a:ext cx="2757600" cy="3544920"/>
          </a:xfrm>
          <a:prstGeom prst="rect">
            <a:avLst/>
          </a:prstGeom>
          <a:ln w="0">
            <a:noFill/>
          </a:ln>
        </p:spPr>
      </p:pic>
      <p:sp>
        <p:nvSpPr>
          <p:cNvPr id="1400" name=""/>
          <p:cNvSpPr/>
          <p:nvPr/>
        </p:nvSpPr>
        <p:spPr>
          <a:xfrm>
            <a:off x="6227640" y="616572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кролик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Отряд Хищны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02" name="" descr=""/>
          <p:cNvPicPr/>
          <p:nvPr/>
        </p:nvPicPr>
        <p:blipFill>
          <a:blip r:embed="rId1"/>
          <a:stretch/>
        </p:blipFill>
        <p:spPr>
          <a:xfrm>
            <a:off x="395280" y="3213000"/>
            <a:ext cx="3809880" cy="2590920"/>
          </a:xfrm>
          <a:prstGeom prst="rect">
            <a:avLst/>
          </a:prstGeom>
          <a:ln w="0">
            <a:noFill/>
          </a:ln>
        </p:spPr>
      </p:pic>
      <p:sp>
        <p:nvSpPr>
          <p:cNvPr id="1403" name=""/>
          <p:cNvSpPr/>
          <p:nvPr/>
        </p:nvSpPr>
        <p:spPr>
          <a:xfrm>
            <a:off x="684360" y="126828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Включает 200 видов. Питаются животной пищей, активные хищники. Клыки! Шерсть длинная и густая. Полушария переднего мозга имеют извилины – сложное поведение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2556000" y="263700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Семейство Куньи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1116000" y="5877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куниц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406" name="" descr=""/>
          <p:cNvPicPr/>
          <p:nvPr/>
        </p:nvPicPr>
        <p:blipFill>
          <a:blip r:embed="rId2"/>
          <a:stretch/>
        </p:blipFill>
        <p:spPr>
          <a:xfrm>
            <a:off x="5003640" y="3284640"/>
            <a:ext cx="3598920" cy="2427120"/>
          </a:xfrm>
          <a:prstGeom prst="rect">
            <a:avLst/>
          </a:prstGeom>
          <a:ln w="0">
            <a:noFill/>
          </a:ln>
        </p:spPr>
      </p:pic>
      <p:sp>
        <p:nvSpPr>
          <p:cNvPr id="1407" name=""/>
          <p:cNvSpPr/>
          <p:nvPr/>
        </p:nvSpPr>
        <p:spPr>
          <a:xfrm>
            <a:off x="6300720" y="5805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соболь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"/>
          <p:cNvSpPr/>
          <p:nvPr/>
        </p:nvSpPr>
        <p:spPr>
          <a:xfrm>
            <a:off x="1835280" y="18900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Семейство Медведи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409" name="" descr=""/>
          <p:cNvPicPr/>
          <p:nvPr/>
        </p:nvPicPr>
        <p:blipFill>
          <a:blip r:embed="rId1"/>
          <a:stretch/>
        </p:blipFill>
        <p:spPr>
          <a:xfrm>
            <a:off x="971640" y="836640"/>
            <a:ext cx="3076560" cy="4572000"/>
          </a:xfrm>
          <a:prstGeom prst="rect">
            <a:avLst/>
          </a:prstGeom>
          <a:ln w="0">
            <a:noFill/>
          </a:ln>
        </p:spPr>
      </p:pic>
      <p:sp>
        <p:nvSpPr>
          <p:cNvPr id="1410" name=""/>
          <p:cNvSpPr/>
          <p:nvPr/>
        </p:nvSpPr>
        <p:spPr>
          <a:xfrm>
            <a:off x="1332000" y="551664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панд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411" name="" descr=""/>
          <p:cNvPicPr/>
          <p:nvPr/>
        </p:nvPicPr>
        <p:blipFill>
          <a:blip r:embed="rId2"/>
          <a:stretch/>
        </p:blipFill>
        <p:spPr>
          <a:xfrm>
            <a:off x="5435640" y="981000"/>
            <a:ext cx="3333600" cy="3943440"/>
          </a:xfrm>
          <a:prstGeom prst="rect">
            <a:avLst/>
          </a:prstGeom>
          <a:ln w="0">
            <a:noFill/>
          </a:ln>
        </p:spPr>
      </p:pic>
      <p:sp>
        <p:nvSpPr>
          <p:cNvPr id="1412" name=""/>
          <p:cNvSpPr/>
          <p:nvPr/>
        </p:nvSpPr>
        <p:spPr>
          <a:xfrm>
            <a:off x="4788000" y="2565360"/>
            <a:ext cx="143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6372360" y="5013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Белый медведь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"/>
          <p:cNvSpPr/>
          <p:nvPr/>
        </p:nvSpPr>
        <p:spPr>
          <a:xfrm>
            <a:off x="2627280" y="18900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Семейство Волчьи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415" name="" descr=""/>
          <p:cNvPicPr/>
          <p:nvPr/>
        </p:nvPicPr>
        <p:blipFill>
          <a:blip r:embed="rId1"/>
          <a:stretch/>
        </p:blipFill>
        <p:spPr>
          <a:xfrm>
            <a:off x="1403280" y="1125360"/>
            <a:ext cx="6096240" cy="4048200"/>
          </a:xfrm>
          <a:prstGeom prst="rect">
            <a:avLst/>
          </a:prstGeom>
          <a:ln w="0">
            <a:noFill/>
          </a:ln>
        </p:spPr>
      </p:pic>
      <p:sp>
        <p:nvSpPr>
          <p:cNvPr id="1416" name=""/>
          <p:cNvSpPr/>
          <p:nvPr/>
        </p:nvSpPr>
        <p:spPr>
          <a:xfrm>
            <a:off x="3419640" y="53737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песец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7" name="" descr=""/>
          <p:cNvPicPr/>
          <p:nvPr/>
        </p:nvPicPr>
        <p:blipFill>
          <a:blip r:embed="rId1"/>
          <a:stretch/>
        </p:blipFill>
        <p:spPr>
          <a:xfrm>
            <a:off x="2987640" y="765000"/>
            <a:ext cx="3595680" cy="5326200"/>
          </a:xfrm>
          <a:prstGeom prst="rect">
            <a:avLst/>
          </a:prstGeom>
          <a:ln w="0">
            <a:noFill/>
          </a:ln>
        </p:spPr>
      </p:pic>
      <p:sp>
        <p:nvSpPr>
          <p:cNvPr id="1418" name=""/>
          <p:cNvSpPr/>
          <p:nvPr/>
        </p:nvSpPr>
        <p:spPr>
          <a:xfrm>
            <a:off x="4067280" y="6326280"/>
            <a:ext cx="15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волк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9" name="" descr=""/>
          <p:cNvPicPr/>
          <p:nvPr/>
        </p:nvPicPr>
        <p:blipFill>
          <a:blip r:embed="rId1"/>
          <a:stretch/>
        </p:blipFill>
        <p:spPr>
          <a:xfrm>
            <a:off x="1523880" y="1424160"/>
            <a:ext cx="6096240" cy="4009680"/>
          </a:xfrm>
          <a:prstGeom prst="rect">
            <a:avLst/>
          </a:prstGeom>
          <a:ln w="0">
            <a:noFill/>
          </a:ln>
        </p:spPr>
      </p:pic>
      <p:sp>
        <p:nvSpPr>
          <p:cNvPr id="1420" name=""/>
          <p:cNvSpPr/>
          <p:nvPr/>
        </p:nvSpPr>
        <p:spPr>
          <a:xfrm>
            <a:off x="3924360" y="5516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лис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"/>
          <p:cNvSpPr/>
          <p:nvPr/>
        </p:nvSpPr>
        <p:spPr>
          <a:xfrm>
            <a:off x="2268360" y="189000"/>
            <a:ext cx="47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Семейство Кошачьи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422" name="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2990880" cy="4572000"/>
          </a:xfrm>
          <a:prstGeom prst="rect">
            <a:avLst/>
          </a:prstGeom>
          <a:ln w="0">
            <a:noFill/>
          </a:ln>
        </p:spPr>
      </p:pic>
      <p:pic>
        <p:nvPicPr>
          <p:cNvPr id="1423" name="" descr=""/>
          <p:cNvPicPr/>
          <p:nvPr/>
        </p:nvPicPr>
        <p:blipFill>
          <a:blip r:embed="rId2"/>
          <a:stretch/>
        </p:blipFill>
        <p:spPr>
          <a:xfrm>
            <a:off x="4427640" y="1628640"/>
            <a:ext cx="3809880" cy="2133720"/>
          </a:xfrm>
          <a:prstGeom prst="rect">
            <a:avLst/>
          </a:prstGeom>
          <a:ln w="0">
            <a:noFill/>
          </a:ln>
        </p:spPr>
      </p:pic>
      <p:sp>
        <p:nvSpPr>
          <p:cNvPr id="1424" name=""/>
          <p:cNvSpPr/>
          <p:nvPr/>
        </p:nvSpPr>
        <p:spPr>
          <a:xfrm>
            <a:off x="1476360" y="5516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лев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5796000" y="393372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леопард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124440" cy="4572000"/>
          </a:xfrm>
          <a:prstGeom prst="rect">
            <a:avLst/>
          </a:prstGeom>
          <a:ln w="0">
            <a:noFill/>
          </a:ln>
        </p:spPr>
      </p:pic>
      <p:pic>
        <p:nvPicPr>
          <p:cNvPr id="1427" name="" descr=""/>
          <p:cNvPicPr/>
          <p:nvPr/>
        </p:nvPicPr>
        <p:blipFill>
          <a:blip r:embed="rId2"/>
          <a:stretch/>
        </p:blipFill>
        <p:spPr>
          <a:xfrm>
            <a:off x="3362400" y="1052640"/>
            <a:ext cx="5781600" cy="4572000"/>
          </a:xfrm>
          <a:prstGeom prst="rect">
            <a:avLst/>
          </a:prstGeom>
          <a:ln w="0">
            <a:noFill/>
          </a:ln>
        </p:spPr>
      </p:pic>
      <p:sp>
        <p:nvSpPr>
          <p:cNvPr id="1428" name=""/>
          <p:cNvSpPr/>
          <p:nvPr/>
        </p:nvSpPr>
        <p:spPr>
          <a:xfrm>
            <a:off x="826920" y="501336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манул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5580000" y="57340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Кошка домашняя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Отряд Ластоноги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755640" y="1268280"/>
            <a:ext cx="756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Включает 30 видов. Крупные хищники. Живут в воде, но не потеряли связи с сушей. Задние конечности превращены в ласты. Жировой слой, толстая кож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432" name="" descr=""/>
          <p:cNvPicPr/>
          <p:nvPr/>
        </p:nvPicPr>
        <p:blipFill>
          <a:blip r:embed="rId1"/>
          <a:stretch/>
        </p:blipFill>
        <p:spPr>
          <a:xfrm>
            <a:off x="1763640" y="2781360"/>
            <a:ext cx="6042240" cy="36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Класс Млекопитающ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ключает более 4 тысяч видов. Это – самая молодая и высокоразвитая группа позвоночных. Произошла она от примитивных пресмыкающихся около 150 млн лет назад, но расцвет начался лишь 80 млн лет назад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3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2981160" cy="4572000"/>
          </a:xfrm>
          <a:prstGeom prst="rect">
            <a:avLst/>
          </a:prstGeom>
          <a:ln w="0">
            <a:noFill/>
          </a:ln>
        </p:spPr>
      </p:pic>
      <p:pic>
        <p:nvPicPr>
          <p:cNvPr id="1434" name="" descr=""/>
          <p:cNvPicPr/>
          <p:nvPr/>
        </p:nvPicPr>
        <p:blipFill>
          <a:blip r:embed="rId2"/>
          <a:stretch/>
        </p:blipFill>
        <p:spPr>
          <a:xfrm>
            <a:off x="4427640" y="1484280"/>
            <a:ext cx="3809880" cy="2552760"/>
          </a:xfrm>
          <a:prstGeom prst="rect">
            <a:avLst/>
          </a:prstGeom>
          <a:ln w="0">
            <a:noFill/>
          </a:ln>
        </p:spPr>
      </p:pic>
      <p:sp>
        <p:nvSpPr>
          <p:cNvPr id="1435" name=""/>
          <p:cNvSpPr/>
          <p:nvPr/>
        </p:nvSpPr>
        <p:spPr>
          <a:xfrm>
            <a:off x="1187280" y="501336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Морской котик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5435640" y="422100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5580000" y="42926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тюлень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Отряд Китообразные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Утратили связь с сушей. На теле нет желез и волосяного покрова. Конечности превращены в ласты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40" name="" descr=""/>
          <p:cNvPicPr/>
          <p:nvPr/>
        </p:nvPicPr>
        <p:blipFill>
          <a:blip r:embed="rId1"/>
          <a:stretch/>
        </p:blipFill>
        <p:spPr>
          <a:xfrm>
            <a:off x="4648320" y="2557440"/>
            <a:ext cx="4038480" cy="2614680"/>
          </a:xfrm>
          <a:prstGeom prst="rect">
            <a:avLst/>
          </a:prstGeom>
          <a:ln w="0">
            <a:noFill/>
          </a:ln>
        </p:spPr>
      </p:pic>
      <p:sp>
        <p:nvSpPr>
          <p:cNvPr id="1441" name=""/>
          <p:cNvSpPr/>
          <p:nvPr/>
        </p:nvSpPr>
        <p:spPr>
          <a:xfrm>
            <a:off x="3995640" y="537372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Зубатые Китообразные. Дельфины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2" name="" descr=""/>
          <p:cNvPicPr/>
          <p:nvPr/>
        </p:nvPicPr>
        <p:blipFill>
          <a:blip r:embed="rId1"/>
          <a:stretch/>
        </p:blipFill>
        <p:spPr>
          <a:xfrm>
            <a:off x="755640" y="836640"/>
            <a:ext cx="2857680" cy="2143080"/>
          </a:xfrm>
          <a:prstGeom prst="rect">
            <a:avLst/>
          </a:prstGeom>
          <a:ln w="0">
            <a:noFill/>
          </a:ln>
        </p:spPr>
      </p:pic>
      <p:sp>
        <p:nvSpPr>
          <p:cNvPr id="1443" name=""/>
          <p:cNvSpPr/>
          <p:nvPr/>
        </p:nvSpPr>
        <p:spPr>
          <a:xfrm>
            <a:off x="395280" y="314172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Зубатые Китообразные: Кашалот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444" name="" descr=""/>
          <p:cNvPicPr/>
          <p:nvPr/>
        </p:nvPicPr>
        <p:blipFill>
          <a:blip r:embed="rId2"/>
          <a:stretch/>
        </p:blipFill>
        <p:spPr>
          <a:xfrm>
            <a:off x="4064040" y="2421000"/>
            <a:ext cx="5079960" cy="2882880"/>
          </a:xfrm>
          <a:prstGeom prst="rect">
            <a:avLst/>
          </a:prstGeom>
          <a:ln w="0">
            <a:noFill/>
          </a:ln>
        </p:spPr>
      </p:pic>
      <p:sp>
        <p:nvSpPr>
          <p:cNvPr id="1445" name=""/>
          <p:cNvSpPr/>
          <p:nvPr/>
        </p:nvSpPr>
        <p:spPr>
          <a:xfrm>
            <a:off x="4788000" y="5445000"/>
            <a:ext cx="36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Усатые Китообразные. Синий кит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Отряд Хоботны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еживали пору расцвета в третичном периоде. Сейчас представлен 2 видами: индийским и африканским слоном. Верхняя губа и нос превращены в хоб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8" name="" descr=""/>
          <p:cNvPicPr/>
          <p:nvPr/>
        </p:nvPicPr>
        <p:blipFill>
          <a:blip r:embed="rId1"/>
          <a:stretch/>
        </p:blipFill>
        <p:spPr>
          <a:xfrm>
            <a:off x="4876920" y="2513160"/>
            <a:ext cx="38098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Отряд Непарнокопытные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50" name="" descr=""/>
          <p:cNvPicPr/>
          <p:nvPr/>
        </p:nvPicPr>
        <p:blipFill>
          <a:blip r:embed="rId1"/>
          <a:stretch/>
        </p:blipFill>
        <p:spPr>
          <a:xfrm>
            <a:off x="2843280" y="1628640"/>
            <a:ext cx="323208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1" name="" descr=""/>
          <p:cNvPicPr/>
          <p:nvPr/>
        </p:nvPicPr>
        <p:blipFill>
          <a:blip r:embed="rId1"/>
          <a:stretch/>
        </p:blipFill>
        <p:spPr>
          <a:xfrm>
            <a:off x="1116000" y="549360"/>
            <a:ext cx="3809880" cy="2923920"/>
          </a:xfrm>
          <a:prstGeom prst="rect">
            <a:avLst/>
          </a:prstGeom>
          <a:ln w="0">
            <a:noFill/>
          </a:ln>
        </p:spPr>
      </p:pic>
      <p:sp>
        <p:nvSpPr>
          <p:cNvPr id="1452" name=""/>
          <p:cNvSpPr/>
          <p:nvPr/>
        </p:nvSpPr>
        <p:spPr>
          <a:xfrm>
            <a:off x="1547640" y="364500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носорог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453" name="" descr=""/>
          <p:cNvPicPr/>
          <p:nvPr/>
        </p:nvPicPr>
        <p:blipFill>
          <a:blip r:embed="rId2"/>
          <a:stretch/>
        </p:blipFill>
        <p:spPr>
          <a:xfrm>
            <a:off x="4716360" y="3573360"/>
            <a:ext cx="3810240" cy="2260800"/>
          </a:xfrm>
          <a:prstGeom prst="rect">
            <a:avLst/>
          </a:prstGeom>
          <a:ln w="0">
            <a:noFill/>
          </a:ln>
        </p:spPr>
      </p:pic>
      <p:sp>
        <p:nvSpPr>
          <p:cNvPr id="1454" name=""/>
          <p:cNvSpPr/>
          <p:nvPr/>
        </p:nvSpPr>
        <p:spPr>
          <a:xfrm>
            <a:off x="5796000" y="59500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тапир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5" name="" descr=""/>
          <p:cNvPicPr/>
          <p:nvPr/>
        </p:nvPicPr>
        <p:blipFill>
          <a:blip r:embed="rId1"/>
          <a:stretch/>
        </p:blipFill>
        <p:spPr>
          <a:xfrm>
            <a:off x="1476360" y="836640"/>
            <a:ext cx="3809880" cy="2743200"/>
          </a:xfrm>
          <a:prstGeom prst="rect">
            <a:avLst/>
          </a:prstGeom>
          <a:ln w="0">
            <a:noFill/>
          </a:ln>
        </p:spPr>
      </p:pic>
      <p:sp>
        <p:nvSpPr>
          <p:cNvPr id="1456" name=""/>
          <p:cNvSpPr/>
          <p:nvPr/>
        </p:nvSpPr>
        <p:spPr>
          <a:xfrm>
            <a:off x="1835280" y="3860640"/>
            <a:ext cx="32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зебр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Отряд Парнокопытные.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Включает два подотряда: жвачные и нежвачные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жвач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9" name="" descr=""/>
          <p:cNvPicPr/>
          <p:nvPr/>
        </p:nvPicPr>
        <p:blipFill>
          <a:blip r:embed="rId1"/>
          <a:stretch/>
        </p:blipFill>
        <p:spPr>
          <a:xfrm>
            <a:off x="5364000" y="3357720"/>
            <a:ext cx="3394080" cy="2233440"/>
          </a:xfrm>
          <a:prstGeom prst="rect">
            <a:avLst/>
          </a:prstGeom>
          <a:ln w="0">
            <a:noFill/>
          </a:ln>
        </p:spPr>
      </p:pic>
      <p:sp>
        <p:nvSpPr>
          <p:cNvPr id="1460" name=""/>
          <p:cNvSpPr/>
          <p:nvPr/>
        </p:nvSpPr>
        <p:spPr>
          <a:xfrm>
            <a:off x="5940360" y="5661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бегемот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461" name="" descr=""/>
          <p:cNvPicPr/>
          <p:nvPr/>
        </p:nvPicPr>
        <p:blipFill>
          <a:blip r:embed="rId2"/>
          <a:stretch/>
        </p:blipFill>
        <p:spPr>
          <a:xfrm>
            <a:off x="395280" y="2852640"/>
            <a:ext cx="3720960" cy="2667240"/>
          </a:xfrm>
          <a:prstGeom prst="rect">
            <a:avLst/>
          </a:prstGeom>
          <a:ln w="0">
            <a:noFill/>
          </a:ln>
        </p:spPr>
      </p:pic>
      <p:sp>
        <p:nvSpPr>
          <p:cNvPr id="1462" name=""/>
          <p:cNvSpPr/>
          <p:nvPr/>
        </p:nvSpPr>
        <p:spPr>
          <a:xfrm>
            <a:off x="179280" y="558972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кабан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"/>
          <p:cNvSpPr/>
          <p:nvPr/>
        </p:nvSpPr>
        <p:spPr>
          <a:xfrm>
            <a:off x="755640" y="33336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Жвачные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464" name="" descr=""/>
          <p:cNvPicPr/>
          <p:nvPr/>
        </p:nvPicPr>
        <p:blipFill>
          <a:blip r:embed="rId1"/>
          <a:stretch/>
        </p:blipFill>
        <p:spPr>
          <a:xfrm>
            <a:off x="1238400" y="1157400"/>
            <a:ext cx="6667200" cy="4543200"/>
          </a:xfrm>
          <a:prstGeom prst="rect">
            <a:avLst/>
          </a:prstGeom>
          <a:ln w="0">
            <a:noFill/>
          </a:ln>
        </p:spPr>
      </p:pic>
      <p:sp>
        <p:nvSpPr>
          <p:cNvPr id="1465" name=""/>
          <p:cNvSpPr/>
          <p:nvPr/>
        </p:nvSpPr>
        <p:spPr>
          <a:xfrm>
            <a:off x="3995640" y="587700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жираф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6" name="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4260600" cy="2712960"/>
          </a:xfrm>
          <a:prstGeom prst="rect">
            <a:avLst/>
          </a:prstGeom>
          <a:ln w="0">
            <a:noFill/>
          </a:ln>
        </p:spPr>
      </p:pic>
      <p:sp>
        <p:nvSpPr>
          <p:cNvPr id="1467" name=""/>
          <p:cNvSpPr/>
          <p:nvPr/>
        </p:nvSpPr>
        <p:spPr>
          <a:xfrm>
            <a:off x="1979640" y="3789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зубр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468" name="" descr=""/>
          <p:cNvPicPr/>
          <p:nvPr/>
        </p:nvPicPr>
        <p:blipFill>
          <a:blip r:embed="rId2"/>
          <a:stretch/>
        </p:blipFill>
        <p:spPr>
          <a:xfrm>
            <a:off x="4643280" y="3716280"/>
            <a:ext cx="3810240" cy="2533680"/>
          </a:xfrm>
          <a:prstGeom prst="rect">
            <a:avLst/>
          </a:prstGeom>
          <a:ln w="0">
            <a:noFill/>
          </a:ln>
        </p:spPr>
      </p:pic>
      <p:sp>
        <p:nvSpPr>
          <p:cNvPr id="1469" name=""/>
          <p:cNvSpPr/>
          <p:nvPr/>
        </p:nvSpPr>
        <p:spPr>
          <a:xfrm>
            <a:off x="6156360" y="6453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лось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"/>
          <p:cNvSpPr/>
          <p:nvPr/>
        </p:nvSpPr>
        <p:spPr>
          <a:xfrm>
            <a:off x="2627280" y="404640"/>
            <a:ext cx="42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Класс Млекопитающие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 flipH="1">
            <a:off x="2916360" y="836640"/>
            <a:ext cx="1079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5435640" y="836640"/>
            <a:ext cx="1008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1619280" y="1268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Подкласс Однопроходные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5651640" y="126828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Подкласс Живородящие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 flipH="1">
            <a:off x="4356000" y="1557360"/>
            <a:ext cx="144000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7093080" y="1989000"/>
            <a:ext cx="43164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3419640" y="2349360"/>
            <a:ext cx="23745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Надотряд Низшие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(Сумчатые)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6516720" y="2924280"/>
            <a:ext cx="172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6659640" y="2924280"/>
            <a:ext cx="2160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Надотряд Высшие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(Плацентарные)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6659640" y="400536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17 отрядов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365" name="" descr=""/>
          <p:cNvPicPr/>
          <p:nvPr/>
        </p:nvPicPr>
        <p:blipFill>
          <a:blip r:embed="rId1"/>
          <a:stretch/>
        </p:blipFill>
        <p:spPr>
          <a:xfrm>
            <a:off x="3419640" y="3141720"/>
            <a:ext cx="260964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0" name="" descr=""/>
          <p:cNvPicPr/>
          <p:nvPr/>
        </p:nvPicPr>
        <p:blipFill>
          <a:blip r:embed="rId1"/>
          <a:stretch/>
        </p:blipFill>
        <p:spPr>
          <a:xfrm>
            <a:off x="1835280" y="260280"/>
            <a:ext cx="3333600" cy="4400640"/>
          </a:xfrm>
          <a:prstGeom prst="rect">
            <a:avLst/>
          </a:prstGeom>
          <a:ln w="0">
            <a:noFill/>
          </a:ln>
        </p:spPr>
      </p:pic>
      <p:sp>
        <p:nvSpPr>
          <p:cNvPr id="1471" name=""/>
          <p:cNvSpPr/>
          <p:nvPr/>
        </p:nvSpPr>
        <p:spPr>
          <a:xfrm>
            <a:off x="2484360" y="494172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олень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Отряд Примат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73" name=""/>
          <p:cNvSpPr/>
          <p:nvPr/>
        </p:nvSpPr>
        <p:spPr>
          <a:xfrm>
            <a:off x="1692360" y="6237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лемур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5292720" y="1773360"/>
            <a:ext cx="30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Подотряд Полуобезьян – по своему развитию являются промежуточным звеном между насекомоядными и обезьянами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475" name="" descr=""/>
          <p:cNvPicPr/>
          <p:nvPr/>
        </p:nvPicPr>
        <p:blipFill>
          <a:blip r:embed="rId1"/>
          <a:stretch/>
        </p:blipFill>
        <p:spPr>
          <a:xfrm>
            <a:off x="1403280" y="1557360"/>
            <a:ext cx="30895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6" name="" descr=""/>
          <p:cNvPicPr/>
          <p:nvPr/>
        </p:nvPicPr>
        <p:blipFill>
          <a:blip r:embed="rId1"/>
          <a:stretch/>
        </p:blipFill>
        <p:spPr>
          <a:xfrm>
            <a:off x="1258920" y="620640"/>
            <a:ext cx="3809880" cy="4927680"/>
          </a:xfrm>
          <a:prstGeom prst="rect">
            <a:avLst/>
          </a:prstGeom>
          <a:ln w="0">
            <a:noFill/>
          </a:ln>
        </p:spPr>
      </p:pic>
      <p:sp>
        <p:nvSpPr>
          <p:cNvPr id="1477" name=""/>
          <p:cNvSpPr/>
          <p:nvPr/>
        </p:nvSpPr>
        <p:spPr>
          <a:xfrm>
            <a:off x="1979640" y="57340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горилл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6372360" y="1052640"/>
            <a:ext cx="64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5580000" y="836640"/>
            <a:ext cx="3240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В группу высших приматов включаются три семейства: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Мартышкообразные,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Человекообразные,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Люди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0" name="" descr=""/>
          <p:cNvPicPr/>
          <p:nvPr/>
        </p:nvPicPr>
        <p:blipFill>
          <a:blip r:embed="rId1"/>
          <a:stretch/>
        </p:blipFill>
        <p:spPr>
          <a:xfrm>
            <a:off x="2268360" y="189000"/>
            <a:ext cx="4019760" cy="5715000"/>
          </a:xfrm>
          <a:prstGeom prst="rect">
            <a:avLst/>
          </a:prstGeom>
          <a:ln w="0">
            <a:noFill/>
          </a:ln>
        </p:spPr>
      </p:pic>
      <p:sp>
        <p:nvSpPr>
          <p:cNvPr id="1481" name=""/>
          <p:cNvSpPr/>
          <p:nvPr/>
        </p:nvSpPr>
        <p:spPr>
          <a:xfrm>
            <a:off x="3059280" y="59500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гиббон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" descr=""/>
          <p:cNvPicPr/>
          <p:nvPr/>
        </p:nvPicPr>
        <p:blipFill>
          <a:blip r:embed="rId1"/>
          <a:stretch/>
        </p:blipFill>
        <p:spPr>
          <a:xfrm>
            <a:off x="971640" y="115920"/>
            <a:ext cx="4762440" cy="6553080"/>
          </a:xfrm>
          <a:prstGeom prst="rect">
            <a:avLst/>
          </a:prstGeom>
          <a:ln w="0">
            <a:noFill/>
          </a:ln>
        </p:spPr>
      </p:pic>
      <p:sp>
        <p:nvSpPr>
          <p:cNvPr id="1483" name=""/>
          <p:cNvSpPr/>
          <p:nvPr/>
        </p:nvSpPr>
        <p:spPr>
          <a:xfrm>
            <a:off x="6012000" y="306864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Оливковый бабуин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4" name="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7367760" cy="4066920"/>
          </a:xfrm>
          <a:prstGeom prst="rect">
            <a:avLst/>
          </a:prstGeom>
          <a:ln w="0">
            <a:noFill/>
          </a:ln>
        </p:spPr>
      </p:pic>
      <p:sp>
        <p:nvSpPr>
          <p:cNvPr id="1485" name=""/>
          <p:cNvSpPr/>
          <p:nvPr/>
        </p:nvSpPr>
        <p:spPr>
          <a:xfrm>
            <a:off x="3059280" y="5805360"/>
            <a:ext cx="30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шимпанзе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6" name="" descr=""/>
          <p:cNvPicPr/>
          <p:nvPr/>
        </p:nvPicPr>
        <p:blipFill>
          <a:blip r:embed="rId1"/>
          <a:stretch/>
        </p:blipFill>
        <p:spPr>
          <a:xfrm>
            <a:off x="2987640" y="1125360"/>
            <a:ext cx="3675240" cy="48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лацентарные звер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7" name=""/>
          <p:cNvGraphicFramePr/>
          <p:nvPr/>
        </p:nvGraphicFramePr>
        <p:xfrm>
          <a:off x="0" y="1989000"/>
          <a:ext cx="9001080" cy="3167280"/>
        </p:xfrm>
        <a:graphic>
          <a:graphicData uri="http://schemas.openxmlformats.org/drawingml/2006/table">
            <a:tbl>
              <a:tblPr/>
              <a:tblGrid>
                <a:gridCol w="1835280"/>
                <a:gridCol w="1463400"/>
                <a:gridCol w="3686400"/>
                <a:gridCol w="201600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отряда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енность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ные черты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тели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4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Отряд Насекомоядные</a:t>
            </a:r>
            <a:br>
              <a:rPr sz="4000"/>
            </a:b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1369" name="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3057480" cy="2019240"/>
          </a:xfrm>
          <a:prstGeom prst="rect">
            <a:avLst/>
          </a:prstGeom>
          <a:ln w="0">
            <a:noFill/>
          </a:ln>
        </p:spPr>
      </p:pic>
      <p:pic>
        <p:nvPicPr>
          <p:cNvPr id="1370" name="" descr=""/>
          <p:cNvPicPr/>
          <p:nvPr/>
        </p:nvPicPr>
        <p:blipFill>
          <a:blip r:embed="rId2"/>
          <a:stretch/>
        </p:blipFill>
        <p:spPr>
          <a:xfrm>
            <a:off x="4762440" y="1679400"/>
            <a:ext cx="3810240" cy="2028960"/>
          </a:xfrm>
          <a:prstGeom prst="rect">
            <a:avLst/>
          </a:prstGeom>
          <a:ln w="0">
            <a:noFill/>
          </a:ln>
        </p:spPr>
      </p:pic>
      <p:sp>
        <p:nvSpPr>
          <p:cNvPr id="1371" name=""/>
          <p:cNvSpPr/>
          <p:nvPr/>
        </p:nvSpPr>
        <p:spPr>
          <a:xfrm>
            <a:off x="324000" y="90792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Включает 370 видов. Зубы не дифференцированы. Головной мозг небольшой, полушария без извилин (это и ежу понятно)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372" name="" descr=""/>
          <p:cNvPicPr/>
          <p:nvPr/>
        </p:nvPicPr>
        <p:blipFill>
          <a:blip r:embed="rId3"/>
          <a:stretch/>
        </p:blipFill>
        <p:spPr>
          <a:xfrm>
            <a:off x="3276720" y="4149720"/>
            <a:ext cx="2873160" cy="2189160"/>
          </a:xfrm>
          <a:prstGeom prst="rect">
            <a:avLst/>
          </a:prstGeom>
          <a:ln w="0">
            <a:noFill/>
          </a:ln>
        </p:spPr>
      </p:pic>
      <p:sp>
        <p:nvSpPr>
          <p:cNvPr id="1373" name=""/>
          <p:cNvSpPr/>
          <p:nvPr/>
        </p:nvSpPr>
        <p:spPr>
          <a:xfrm>
            <a:off x="1187280" y="4149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еж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6804000" y="386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землеройк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3995640" y="638172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крот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Отряд Рукокрылы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77" name="" descr=""/>
          <p:cNvPicPr/>
          <p:nvPr/>
        </p:nvPicPr>
        <p:blipFill>
          <a:blip r:embed="rId2"/>
          <a:stretch/>
        </p:blipFill>
        <p:spPr>
          <a:xfrm>
            <a:off x="1176480" y="2076480"/>
            <a:ext cx="2600280" cy="3924360"/>
          </a:xfrm>
          <a:prstGeom prst="rect">
            <a:avLst/>
          </a:prstGeom>
          <a:ln w="0">
            <a:noFill/>
          </a:ln>
        </p:spPr>
      </p:pic>
      <p:sp>
        <p:nvSpPr>
          <p:cNvPr id="1378" name=""/>
          <p:cNvSpPr/>
          <p:nvPr/>
        </p:nvSpPr>
        <p:spPr>
          <a:xfrm>
            <a:off x="179280" y="1844640"/>
            <a:ext cx="89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468360" y="1413000"/>
            <a:ext cx="820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Включает 850 видов. Способны к полету. Между передними конечностями, туловищем и задними конечностями – кожистая перепонка. Киль. Эхолокация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900000" y="63817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калонг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381" name="" descr=""/>
          <p:cNvPicPr/>
          <p:nvPr/>
        </p:nvPicPr>
        <p:blipFill>
          <a:blip r:embed="rId3"/>
          <a:stretch/>
        </p:blipFill>
        <p:spPr>
          <a:xfrm>
            <a:off x="4762440" y="2540160"/>
            <a:ext cx="3810240" cy="2997000"/>
          </a:xfrm>
          <a:prstGeom prst="rect">
            <a:avLst/>
          </a:prstGeom>
          <a:ln w="0">
            <a:noFill/>
          </a:ln>
        </p:spPr>
      </p:pic>
      <p:sp>
        <p:nvSpPr>
          <p:cNvPr id="1382" name=""/>
          <p:cNvSpPr/>
          <p:nvPr/>
        </p:nvSpPr>
        <p:spPr>
          <a:xfrm>
            <a:off x="5651640" y="5661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молотоголов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3" name="" descr=""/>
          <p:cNvPicPr/>
          <p:nvPr/>
        </p:nvPicPr>
        <p:blipFill>
          <a:blip r:embed="rId2"/>
          <a:stretch/>
        </p:blipFill>
        <p:spPr>
          <a:xfrm>
            <a:off x="1258920" y="692280"/>
            <a:ext cx="5880240" cy="4116240"/>
          </a:xfrm>
          <a:prstGeom prst="rect">
            <a:avLst/>
          </a:prstGeom>
          <a:ln w="0">
            <a:noFill/>
          </a:ln>
        </p:spPr>
      </p:pic>
      <p:sp>
        <p:nvSpPr>
          <p:cNvPr id="1384" name=""/>
          <p:cNvSpPr/>
          <p:nvPr/>
        </p:nvSpPr>
        <p:spPr>
          <a:xfrm>
            <a:off x="1908000" y="5013360"/>
            <a:ext cx="44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Летучая мышь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тряд Грызун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86" name="" descr=""/>
          <p:cNvPicPr/>
          <p:nvPr/>
        </p:nvPicPr>
        <p:blipFill>
          <a:blip r:embed="rId1"/>
          <a:stretch/>
        </p:blipFill>
        <p:spPr>
          <a:xfrm>
            <a:off x="1214280" y="2260440"/>
            <a:ext cx="3175200" cy="3480120"/>
          </a:xfrm>
          <a:prstGeom prst="rect">
            <a:avLst/>
          </a:prstGeom>
          <a:ln w="0">
            <a:noFill/>
          </a:ln>
        </p:spPr>
      </p:pic>
      <p:sp>
        <p:nvSpPr>
          <p:cNvPr id="1387" name=""/>
          <p:cNvSpPr/>
          <p:nvPr/>
        </p:nvSpPr>
        <p:spPr>
          <a:xfrm>
            <a:off x="611280" y="141300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Включает 1500 видов. Питаются растительной пищей. Крупные резцы, которые растут всю жизнь. Клыков нет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388" name="" descr=""/>
          <p:cNvPicPr/>
          <p:nvPr/>
        </p:nvPicPr>
        <p:blipFill>
          <a:blip r:embed="rId2"/>
          <a:stretch/>
        </p:blipFill>
        <p:spPr>
          <a:xfrm>
            <a:off x="4976640" y="2730600"/>
            <a:ext cx="3810240" cy="2539800"/>
          </a:xfrm>
          <a:prstGeom prst="rect">
            <a:avLst/>
          </a:prstGeom>
          <a:ln w="0">
            <a:noFill/>
          </a:ln>
        </p:spPr>
      </p:pic>
      <p:sp>
        <p:nvSpPr>
          <p:cNvPr id="1389" name=""/>
          <p:cNvSpPr/>
          <p:nvPr/>
        </p:nvSpPr>
        <p:spPr>
          <a:xfrm>
            <a:off x="1547640" y="58053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белк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6077160" y="5676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бобр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1" name="" descr=""/>
          <p:cNvPicPr/>
          <p:nvPr/>
        </p:nvPicPr>
        <p:blipFill>
          <a:blip r:embed="rId1"/>
          <a:stretch/>
        </p:blipFill>
        <p:spPr>
          <a:xfrm>
            <a:off x="762120" y="888840"/>
            <a:ext cx="7619760" cy="5080320"/>
          </a:xfrm>
          <a:prstGeom prst="rect">
            <a:avLst/>
          </a:prstGeom>
          <a:ln w="0">
            <a:noFill/>
          </a:ln>
        </p:spPr>
      </p:pic>
      <p:sp>
        <p:nvSpPr>
          <p:cNvPr id="1392" name=""/>
          <p:cNvSpPr/>
          <p:nvPr/>
        </p:nvSpPr>
        <p:spPr>
          <a:xfrm>
            <a:off x="2916360" y="609300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капибар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5T09:52:30Z</dcterms:created>
  <dc:creator>leh</dc:creator>
  <dc:description/>
  <dc:language>en-US</dc:language>
  <cp:lastModifiedBy>leh</cp:lastModifiedBy>
  <dcterms:modified xsi:type="dcterms:W3CDTF">2007-05-22T16:07:58Z</dcterms:modified>
  <cp:revision>6</cp:revision>
  <dc:subject/>
  <dc:title>Слайд 1</dc:title>
</cp:coreProperties>
</file>