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650-FD17-44E6-93F2-0EB24089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BFE-4280-46CE-9535-0E2CE409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A1420-CA12-4EDC-819B-0C099DAF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AC994-8DA4-4AF2-B8E2-9A023741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71B0B-07E8-4B61-BE17-41F9FB71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6E4CA-DE31-409E-A348-B4160A70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1E77B-D900-47CE-957B-0D2D81D6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94151-7C43-42B1-A83E-F153D97C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C5F49-BDDD-437F-A871-38556EAA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2BBF1-4B42-4804-87A2-67AD47AD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250CF-2804-486B-A94B-02564062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0161C-61A2-4C95-95BA-07D2789A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170-F2FC-4E13-B60A-52F0ED68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50E7B-0AFF-486D-8F80-1619CF3D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A961A-80EE-4CA1-BC28-80E08D4D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23D9E-761F-4ADD-ABC1-316B032C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2E0AF-9CB8-4765-873A-148C1322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BDB2F-5E20-42C6-93CF-71AE99B0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8E6A6-7953-4392-A034-6B85F130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20E91-8EF7-4D75-B6EC-736E73AF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A5947-D1AF-4EAB-9B3D-3002304D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66E6B-6A44-4E12-9823-C28E1FEB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3BF35-ACD6-403F-957F-E0C17DAD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BE1-B61F-4E00-A47C-62A3FCA1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6CD4E-CEAF-4DA0-AE00-7DA76128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795A7-EDAF-4CD7-8340-21920D02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24C26-F7B9-4FA1-9DFE-03A73E8F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224CE-D376-4598-9221-1E3FF372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44FB2-DEDE-4C2C-B38D-D330FB09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38AEA-9879-4C7B-9309-BF36B962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AEF70-9386-43F1-95A6-A2DCBEBE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EB6C8-ECD5-4876-94B0-72C6E4BA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A2962-C5A5-48F6-AAE6-C61A74C3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EBAB5-D8B6-4934-9C16-1FFE165E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C163-4CE0-4C9E-8D37-08C2BACC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BBE54-B6C1-470A-96F9-6E677C24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10785-6AB2-42A8-8672-D646B813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B8BCE-0EFD-4F91-B37E-825EE551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65FA1-F295-4256-92D2-EC22BB34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935C3-ED4C-4EF7-A525-9558F885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EF9A9-3F93-4C6D-AAEF-D97C07FB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C0F2C-982E-400A-8917-9635E5D8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60F43-8B95-4D50-BCC8-32F397AD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C5B34-C507-453E-99EB-34E58545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AA293-3EC3-4E1E-AE7E-4996A5B7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444D-D0D0-4DB6-87EB-0ED2D248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165E0-879D-405D-B27D-FACDDD32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7DDF2-DA27-42CD-A833-8B4B0E8E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F7BDD-C7E9-460C-860A-2D6C4346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176FD-5EAC-4A6C-80E8-226D72EE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4870D-3A7A-4159-8996-006610B9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D4ABA4-E35D-4F28-AA8E-A7C1E348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7FDCB9-0F3C-426E-B0E4-EBFBAC88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2D8295-AB70-4223-BB38-47F1D8AA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78E1EA-A6D9-481A-9CD6-013DBDF8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A0901C-D826-4660-B41E-FD2B964D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BA78-DD28-4FE8-B37F-29A327E9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371608-BFB9-4066-889A-FE17E941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924914-0125-41A8-92B9-5E636D07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31A8CD-14A7-4DC3-AA71-D41E235B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72D890-B9EC-47CD-8686-F8EC0F5E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F2D03F-86ED-4F19-9FD7-5013DF86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9E448E-D9E5-4EBF-9078-02721602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1D143B-4313-4327-9F32-437603A6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E6A1B-86C6-40C9-AC90-7A33DA2C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CFD2D-6AE2-4C59-8EE6-0D102DE9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7F94A-BB3B-449C-A5C8-6D69DC8B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8C4D-FC06-4076-B8AD-58B7132C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F5B75-F52B-478C-8366-BD323F92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5A1C6-9298-449B-8668-6DD93EF8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FF5F6A-F8B7-4610-951A-AB480AC9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2CCDC-51AD-438F-AA41-38FA644E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EAEBF-E202-41B7-9C86-A3A00AF4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4A46F-C1BB-4159-92B0-985F1F48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67CEE-C681-4CE9-BEA0-8962788B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F216C-C08F-4343-B226-BD861D6F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EDBA8-E86A-4809-9D30-24AA6419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6CD00-192D-46ED-8861-A1092E95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2329-E0E3-44FB-86BE-C561DA6E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E0776-C97C-4F5D-AE4F-E8291711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EF02A-350E-4AF2-8003-FFCC99F6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1E1C6-0A8F-46C0-8C2C-DBA0EAF5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1D84C-1969-4115-AC6A-DCA2F293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D00578-4261-468A-A60E-D8F35382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C82EF-844B-438C-8075-287D4351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61A61-B9ED-4D01-A353-45B33356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6D4FE-A0AB-4F92-AA69-92DB4E9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4A1E6-0416-412B-9073-61B445B9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442CF-7309-4108-8B51-193BB369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71AF-E794-44C0-95DF-BE70B10E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F5DA9-7855-46CC-8278-5EA204E3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9D6B3-593A-47E6-8B3C-E18F325C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500C7E-D65E-407F-B131-9BA8809E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247BB-4241-4540-8C95-FDF85EAB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265BA-17F8-41ED-B7B8-81421BC5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C403D2-255E-452D-B2D5-166B72F2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35039-8E44-4738-9A1C-97D804EF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C315B-2CB9-4751-A875-FA300465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725CD-A347-4510-9DC1-B5FCA224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B90BD-397B-4604-BBD6-8792FD8B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32FC-82B5-41B7-928E-120C4A30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FD674-A61C-4D7E-99AB-B3890AA0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37580-5E1C-4EC8-81C6-550B0F15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3629DB-6461-45A0-8583-C8A44A95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40DA9-A669-46CA-9E98-B87835AD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4F9E9-08B3-4181-91CA-EAAACF36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57BDA-93C9-41EB-A899-5D523A9B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8613A-C2FC-474F-B750-6203EDCF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2BE40B-CA22-41F7-9974-AB9C5850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34A5C-CAE2-47DC-9401-39A1A9B1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C97729-DD43-437C-93DD-3187F076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84C-21C6-4A14-9EE3-81B3DE37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80C9-4D22-466E-9063-B4A0F6C6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A14D5-7CB2-43F1-BB39-E4F83E90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52B95-57DF-407C-B2EE-9004176B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3EA68C-F74A-40CC-B5D1-E0D0CEBA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5C8450-355A-434C-B232-7AFEB29E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DF83A-AF0B-4954-B6DE-8408B013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52CF9-5C75-4AC5-AA72-6D274BBA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74E3FD-BC8F-40D1-AFD0-FA8C33D6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FA7342-A2D5-49BF-8A24-30A8CE07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83A53A-0414-4642-80EB-7F974613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BAAB8E-69D9-4C14-BD8F-99B910BF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EC72-1FEA-4E99-8516-BD348E0F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3487D-E894-4ACB-8ACF-D565809C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27A10D-B297-4117-8F0B-463CDF82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317EE-06FF-4F2F-8A0C-BE78A808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5096D1-F513-49F1-83D7-318ED5F7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A4306E-380D-4EF2-A05E-71B382E5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0E5252-BC17-47EF-9B7F-7A93059C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54E2B-D75D-4D45-A6E7-85794AAF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8C96E-FE76-4E75-ABBA-E4F03070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89668-D1A5-4197-950F-20161980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5731AE-6580-4E6A-96CA-9996CDDC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58C4-87F0-4D2A-9A36-BA05E39A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A186A-D555-44A2-9E07-92B8ECF1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68E0F3-D76D-44EF-A011-EF55559E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B03D40-F189-469F-8768-622011C7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06B07-EC66-4E8B-A95F-CEFB8CE4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35880B-156C-497C-846C-58B55D6B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9AF0F-81A7-4ACA-BE24-6E2BB4B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7A834-7DBE-47EC-A5EA-5AC00B25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2D85FF-371E-4929-9678-E6A05640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81F0B0-A41B-4F73-AF7B-9FFBAECF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1E2B97-7326-44DF-933C-962426BF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86D3-133E-4F80-B739-60FF53D7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00E8E4-C5C6-4571-BC0B-51DCE0DC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3BD20D-AA52-4344-A0C1-9173BE56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55D59D-4C7A-4DF4-AA41-3CFD80A3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953453-5E73-4BF9-B541-10F1C41D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E123A-4788-452D-A6E7-18982C45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9DB948-E54A-40C3-BBC4-431F43F2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139F16-B8FE-4CB9-82EF-922275B7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59A3A-3D1C-41B7-BD6A-2B654C6E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EFB6E6-779E-4818-8064-8FF49569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E4DA40-5CD9-47DB-9B97-067C565F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D339-30F9-4E4A-9644-FAD8C7FC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81994-0582-4CF2-95F0-8CE223E8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4112-2092-45A7-AF5A-6FF04830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F70A-CAC2-4137-A4A2-FF388022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57D0B-43D4-4C1F-98C6-276DF6BF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8A4C-AF52-4D4E-8CCB-E79509BA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761F-0B74-49AB-BC55-E0E4F57F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20B-1BCA-4058-92F2-120653A3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E4842-9EB2-4B81-82CC-9CE8FBD2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A1F3-BBE3-4D6F-8ADE-A70F6341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D32B-2457-49FB-A4AC-36F3C9F0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54F2-0D35-416A-9089-CDBCFA00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53EE5-7538-4279-8F37-12FDC6A0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DC18F-0F5C-442E-A379-5FA667C8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74611-C16C-49F4-B2C1-BDDFC393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1B37D-8C5A-4B53-899B-4BEA3A1E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0D494-2ACA-42C9-BED1-06004194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B2B50-E8C1-4233-AEAF-3E19D39E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417-833E-4910-B663-FE199850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5531-311E-4C50-A3F6-74117B37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EF6F-E957-45F0-8050-34968E5B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BECB-E3D3-47E0-B67C-74288506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D002E-A4B8-490D-BE8A-F6893FA0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7317E-02B3-4713-A89E-F2EEEA94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44D47-8356-46D5-9E08-0FA23869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39529-17B0-401C-B069-F89480A4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80920-17B4-4247-B04B-A81ADD9B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2A074-ED74-4751-98AE-E6F92866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3E207-97C9-45E2-81B5-E56D352D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99C-85A6-4178-B00C-90DFFF48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F3690-7FA9-4C51-92E3-5D56F0C5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D1CFC-E6F9-4BFE-B3EE-595E9C93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B2612-33C5-4B95-8F43-93EAB324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D50C7A-760A-4E52-BCF9-DCFC153D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9CF77-439C-407A-9950-CACD8118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2D1A5-CE14-488E-AFD7-74576B5A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544AC-5557-44E4-B429-901D69A5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96F9E-1DAF-4053-AA84-6C108263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61662-784C-4BFF-94A4-5D673E3A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F0D99D-3584-4757-BCAB-A9AE8B75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3DC-CDB0-4B9B-8F60-7CBC047D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41FAB-8CD2-42DA-9529-281B314A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F1AF7-54FA-4269-B144-5E4B261C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5ECA9-BF3E-405E-B74B-17F2A1DF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9201B-6183-406C-B38F-B7BE526F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0591B-02E4-45F9-99F6-112EB10B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EF7BA-FAF0-4B9F-81F0-A57C7521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F300E-7367-4211-82DE-AB79E3F4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308A6-194C-4B74-9B61-5DD7E659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64722-D707-40B6-BE20-9762FA5F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84C8E-966D-4039-B8C6-C7E77764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B92-819C-4B13-94EC-7EEF7DCC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CF04F-7E0B-4ADD-92FC-C34724DC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D6609-64F3-4A96-8FCF-6ACBE86B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3175F-A1B9-4ED3-87DE-0568DE42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08063-3568-49AC-8A68-FED34AE2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AFB9D-6593-442E-B9FA-4B9EAFFF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1E72B-2CAE-4790-BC4D-E92E8ADC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0D36A-D262-4512-8814-F4BC9FC5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275E9-04F7-4A23-932E-C9C85398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3FD76-8771-46FE-8F2B-4EFA1F0A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46439-0C55-4E67-A661-70911236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6B9-EE12-4736-81CE-D6DCB3DE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4A2B6-2647-4450-9745-5A0F9ED7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1C59C-7167-437A-A011-60F733C1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72808-FBD6-4421-AAB2-0ACDB74A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EEA90-81C3-49A7-BBA0-AEF49F8A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53233-1646-45B0-A062-A16418FD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38171-9E49-43B1-BE9B-49D96578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B2A62-886D-48EF-A7E9-ACD905EC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FB1A6-C070-46DA-A849-20A4CB12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D136B-1EA3-4D67-88E8-58F16768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BCAB2-B7E8-4B95-A8BF-BAB77C62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2C6-29D7-4EB3-A9C4-F7FC07E9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7A17B-0970-44C7-9F75-9F27030B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0BBD0-4B7E-4EBF-B50C-C11FFC67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5C390-4279-4DC5-BBA8-0F0B5231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39D92-AECA-4CF6-90E9-7C2A78F5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A430F-D3AF-46AA-8A50-597E5489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324E2-BEDC-45C8-80FC-FBE2013F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CCEE1-B82D-4FE6-B726-F41E7D7E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EB19B-2C69-4751-A32D-D3686DF8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93CA8-9C44-4E7B-8305-8176F752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335DC-7598-4BC1-B573-1FC4ABB2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8747-AC16-4EB0-9121-7760D9D82E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314B-32F1-4CF5-BF14-445412E4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DD74-CC05-4AA6-94CB-CA67D6DC3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8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CC61-50F5-4697-8F62-60AE56009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2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13BD-10C5-41EF-BD32-CC7ECBFAA5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9163-889A-459D-810E-34AE0CF73E0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5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0AC4-D4C2-46D8-A9A0-B75287A72A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1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10E4-40C9-4CA6-90F2-1EDA6D262E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67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69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4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5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0AEA-99A6-4CF1-A320-7F05E82751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214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216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220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dt" idx="5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ftr" idx="5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7B0C-744E-4802-9BE2-29A8263C6E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C45C-B539-48ED-9BD8-D42A14B01D8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DB03-978F-4240-B799-CFE350536D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B013-05DB-4E36-A39C-2F61C23902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312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4B39-E7EE-484E-955D-1D4E63F473B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6C7E-39EE-41F9-9C7B-03C7BCE814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6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0B36-A51C-4689-8E65-38C258187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2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7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1C63-7E46-46A4-8052-CB147E995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2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1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33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434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5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6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2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6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7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2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1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2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3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9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70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471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5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6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0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1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2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3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4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5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6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7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8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9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0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520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2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533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540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5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8940-E953-4127-BB5F-405D457D5B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58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59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9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3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63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8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68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68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9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70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DE66-70EE-41BA-A597-315BB8FF29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2DFE-CC5E-41B3-9FE1-64CEBA0C8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2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2685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6078600" cy="2897280"/>
          </a:xfrm>
          <a:prstGeom prst="rect">
            <a:avLst/>
          </a:prstGeom>
          <a:ln w="0">
            <a:noFill/>
          </a:ln>
        </p:spPr>
      </p:pic>
      <p:sp>
        <p:nvSpPr>
          <p:cNvPr id="1394" name=""/>
          <p:cNvSpPr/>
          <p:nvPr/>
        </p:nvSpPr>
        <p:spPr>
          <a:xfrm>
            <a:off x="3132000" y="45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шиншилл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ряд Зайцеобраз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2781360" cy="391500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755640" y="1628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60 видов. Питаются растительной пищей. Сверху – две пары резцов (наружные и внутренние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692360" y="6308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99" name="" descr=""/>
          <p:cNvPicPr/>
          <p:nvPr/>
        </p:nvPicPr>
        <p:blipFill>
          <a:blip r:embed="rId2"/>
          <a:stretch/>
        </p:blipFill>
        <p:spPr>
          <a:xfrm>
            <a:off x="5580000" y="2492280"/>
            <a:ext cx="2757600" cy="354492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6227640" y="6165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роли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тряд Хищны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84360" y="1268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200 видов. Питаются животной пищей, активные хищники. Клыки! Шерсть длинная и густая. Полушария переднего мозга имеют извилины – сложное поведен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556000" y="263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мейство Кунь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116000" y="587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униц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06" name="" descr=""/>
          <p:cNvPicPr/>
          <p:nvPr/>
        </p:nvPicPr>
        <p:blipFill>
          <a:blip r:embed="rId2"/>
          <a:stretch/>
        </p:blipFill>
        <p:spPr>
          <a:xfrm>
            <a:off x="5003640" y="3284640"/>
            <a:ext cx="3598920" cy="2427120"/>
          </a:xfrm>
          <a:prstGeom prst="rect">
            <a:avLst/>
          </a:prstGeom>
          <a:ln w="0">
            <a:noFill/>
          </a:ln>
        </p:spPr>
      </p:pic>
      <p:sp>
        <p:nvSpPr>
          <p:cNvPr id="1407" name=""/>
          <p:cNvSpPr/>
          <p:nvPr/>
        </p:nvSpPr>
        <p:spPr>
          <a:xfrm>
            <a:off x="6300720" y="58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обол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1835280" y="1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мейство Медвед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3076560" cy="4572000"/>
          </a:xfrm>
          <a:prstGeom prst="rect">
            <a:avLst/>
          </a:prstGeom>
          <a:ln w="0">
            <a:noFill/>
          </a:ln>
        </p:spPr>
      </p:pic>
      <p:sp>
        <p:nvSpPr>
          <p:cNvPr id="1410" name=""/>
          <p:cNvSpPr/>
          <p:nvPr/>
        </p:nvSpPr>
        <p:spPr>
          <a:xfrm>
            <a:off x="1332000" y="5516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анд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11" name="" descr=""/>
          <p:cNvPicPr/>
          <p:nvPr/>
        </p:nvPicPr>
        <p:blipFill>
          <a:blip r:embed="rId2"/>
          <a:stretch/>
        </p:blipFill>
        <p:spPr>
          <a:xfrm>
            <a:off x="5435640" y="981000"/>
            <a:ext cx="3333600" cy="3943440"/>
          </a:xfrm>
          <a:prstGeom prst="rect">
            <a:avLst/>
          </a:prstGeom>
          <a:ln w="0">
            <a:noFill/>
          </a:ln>
        </p:spPr>
      </p:pic>
      <p:sp>
        <p:nvSpPr>
          <p:cNvPr id="1412" name=""/>
          <p:cNvSpPr/>
          <p:nvPr/>
        </p:nvSpPr>
        <p:spPr>
          <a:xfrm>
            <a:off x="4788000" y="2565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372360" y="501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елый медвед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2627280" y="1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мейство Волчь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096240" cy="404820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/>
          <p:nvPr/>
        </p:nvSpPr>
        <p:spPr>
          <a:xfrm>
            <a:off x="3419640" y="537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есец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7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3595680" cy="532620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4067280" y="632628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ол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1523880" y="1424160"/>
            <a:ext cx="6096240" cy="40096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392436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ис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/>
          <p:nvPr/>
        </p:nvSpPr>
        <p:spPr>
          <a:xfrm>
            <a:off x="2268360" y="18900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мейство Кошачь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22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2990880" cy="45720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3809880" cy="213372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147636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ев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79600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еопард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24440" cy="457200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2"/>
          <a:stretch/>
        </p:blipFill>
        <p:spPr>
          <a:xfrm>
            <a:off x="3362400" y="1052640"/>
            <a:ext cx="5781600" cy="457200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/>
          <p:nvPr/>
        </p:nvSpPr>
        <p:spPr>
          <a:xfrm>
            <a:off x="826920" y="5013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ману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580000" y="5734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ошка домашня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тряд Ластоног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55640" y="1268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30 видов. Крупные хищники. Живут в воде, но не потеряли связи с сушей. Задние конечности превращены в ласты. Жировой слой, толстая кож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32" name="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60422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асс Млекопитающ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ключает более 4 тысяч видов. Это – самая молодая и высокоразвитая группа позвоночных. Произошла она от примитивных пресмыкающихся около 150 млн лет назад, но расцвет начался лишь 80 млн лет наза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2981160" cy="457200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809880" cy="255276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187280" y="5013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Морской коти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435640" y="422100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580000" y="429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юлен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тряд Китообразны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тратили связь с сушей. На теле нет желез и волосяного покрова. Конечности превращены в ласт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1"/>
          <a:stretch/>
        </p:blipFill>
        <p:spPr>
          <a:xfrm>
            <a:off x="4648320" y="2557440"/>
            <a:ext cx="4038480" cy="261468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3995640" y="537372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убатые Китообразные. Дельфин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/>
          <p:nvPr/>
        </p:nvSpPr>
        <p:spPr>
          <a:xfrm>
            <a:off x="395280" y="3141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убатые Китообразные: Кашало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2"/>
          <a:stretch/>
        </p:blipFill>
        <p:spPr>
          <a:xfrm>
            <a:off x="4064040" y="2421000"/>
            <a:ext cx="5079960" cy="2882880"/>
          </a:xfrm>
          <a:prstGeom prst="rect">
            <a:avLst/>
          </a:prstGeom>
          <a:ln w="0">
            <a:noFill/>
          </a:ln>
        </p:spPr>
      </p:pic>
      <p:sp>
        <p:nvSpPr>
          <p:cNvPr id="1445" name=""/>
          <p:cNvSpPr/>
          <p:nvPr/>
        </p:nvSpPr>
        <p:spPr>
          <a:xfrm>
            <a:off x="4788000" y="544500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Усатые Китообразные. Синий кит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тряд Хоботны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живали пору расцвета в третичном периоде. Сейчас представлен 2 видами: индийским и африканским слоном. Верхняя губа и нос превращены в хо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1"/>
          <a:stretch/>
        </p:blipFill>
        <p:spPr>
          <a:xfrm>
            <a:off x="4876920" y="251316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тряд Непарнокопытны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0" name="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3232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3809880" cy="292392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1547640" y="3645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осорог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53" name="" descr=""/>
          <p:cNvPicPr/>
          <p:nvPr/>
        </p:nvPicPr>
        <p:blipFill>
          <a:blip r:embed="rId2"/>
          <a:stretch/>
        </p:blipFill>
        <p:spPr>
          <a:xfrm>
            <a:off x="4716360" y="3573360"/>
            <a:ext cx="3810240" cy="2260800"/>
          </a:xfrm>
          <a:prstGeom prst="rect">
            <a:avLst/>
          </a:prstGeom>
          <a:ln w="0">
            <a:noFill/>
          </a:ln>
        </p:spPr>
      </p:pic>
      <p:sp>
        <p:nvSpPr>
          <p:cNvPr id="1454" name=""/>
          <p:cNvSpPr/>
          <p:nvPr/>
        </p:nvSpPr>
        <p:spPr>
          <a:xfrm>
            <a:off x="5796000" y="595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апи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1456" name=""/>
          <p:cNvSpPr/>
          <p:nvPr/>
        </p:nvSpPr>
        <p:spPr>
          <a:xfrm>
            <a:off x="1835280" y="386064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ебр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тряд Парнокопытные.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ключает два подотряда: жвачные и нежвачны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жва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3394080" cy="2233440"/>
          </a:xfrm>
          <a:prstGeom prst="rect">
            <a:avLst/>
          </a:prstGeom>
          <a:ln w="0">
            <a:noFill/>
          </a:ln>
        </p:spPr>
      </p:pic>
      <p:sp>
        <p:nvSpPr>
          <p:cNvPr id="1460" name=""/>
          <p:cNvSpPr/>
          <p:nvPr/>
        </p:nvSpPr>
        <p:spPr>
          <a:xfrm>
            <a:off x="5940360" y="566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егемо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720960" cy="266724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17928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абан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755640" y="333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Жвачны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4" name="" descr=""/>
          <p:cNvPicPr/>
          <p:nvPr/>
        </p:nvPicPr>
        <p:blipFill>
          <a:blip r:embed="rId1"/>
          <a:stretch/>
        </p:blipFill>
        <p:spPr>
          <a:xfrm>
            <a:off x="1238400" y="1157400"/>
            <a:ext cx="6667200" cy="454320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3995640" y="5877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жираф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4260600" cy="271296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>
            <a:off x="1979640" y="378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уб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1469" name=""/>
          <p:cNvSpPr/>
          <p:nvPr/>
        </p:nvSpPr>
        <p:spPr>
          <a:xfrm>
            <a:off x="6156360" y="645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ос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2627280" y="40464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ласс Млекопитающ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2916360" y="836640"/>
            <a:ext cx="107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435640" y="83664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619280" y="1268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класс Однопроходны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651640" y="1268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класс Живородящ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356000" y="1557360"/>
            <a:ext cx="1440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093080" y="1989000"/>
            <a:ext cx="43164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419640" y="2349360"/>
            <a:ext cx="2374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дотряд Низш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(Сумчатые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516720" y="292428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659640" y="2924280"/>
            <a:ext cx="216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дотряд Высш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(Плацентарные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659640" y="400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7 отрядов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65" name="" descr=""/>
          <p:cNvPicPr/>
          <p:nvPr/>
        </p:nvPicPr>
        <p:blipFill>
          <a:blip r:embed="rId1"/>
          <a:stretch/>
        </p:blipFill>
        <p:spPr>
          <a:xfrm>
            <a:off x="3419640" y="3141720"/>
            <a:ext cx="26096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3333600" cy="4400640"/>
          </a:xfrm>
          <a:prstGeom prst="rect">
            <a:avLst/>
          </a:prstGeom>
          <a:ln w="0">
            <a:noFill/>
          </a:ln>
        </p:spPr>
      </p:pic>
      <p:sp>
        <p:nvSpPr>
          <p:cNvPr id="1471" name=""/>
          <p:cNvSpPr/>
          <p:nvPr/>
        </p:nvSpPr>
        <p:spPr>
          <a:xfrm>
            <a:off x="2484360" y="49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лен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Отряд Прима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3" name=""/>
          <p:cNvSpPr/>
          <p:nvPr/>
        </p:nvSpPr>
        <p:spPr>
          <a:xfrm>
            <a:off x="1692360" y="6237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ему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292720" y="1773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отряд Полуобезьян – по своему развитию являются промежуточным звеном между насекомоядными и обезьянам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3089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3809880" cy="4927680"/>
          </a:xfrm>
          <a:prstGeom prst="rect">
            <a:avLst/>
          </a:prstGeom>
          <a:ln w="0">
            <a:noFill/>
          </a:ln>
        </p:spPr>
      </p:pic>
      <p:sp>
        <p:nvSpPr>
          <p:cNvPr id="1477" name=""/>
          <p:cNvSpPr/>
          <p:nvPr/>
        </p:nvSpPr>
        <p:spPr>
          <a:xfrm>
            <a:off x="197964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горилл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372360" y="105264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580000" y="836640"/>
            <a:ext cx="324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 группу высших приматов включаются три семейства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ртышкообразные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Человекообразные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Люд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019760" cy="5715000"/>
          </a:xfrm>
          <a:prstGeom prst="rect">
            <a:avLst/>
          </a:prstGeom>
          <a:ln w="0">
            <a:noFill/>
          </a:ln>
        </p:spPr>
      </p:pic>
      <p:sp>
        <p:nvSpPr>
          <p:cNvPr id="1481" name=""/>
          <p:cNvSpPr/>
          <p:nvPr/>
        </p:nvSpPr>
        <p:spPr>
          <a:xfrm>
            <a:off x="305928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гиббон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4762440" cy="6553080"/>
          </a:xfrm>
          <a:prstGeom prst="rect">
            <a:avLst/>
          </a:prstGeom>
          <a:ln w="0">
            <a:noFill/>
          </a:ln>
        </p:spPr>
      </p:pic>
      <p:sp>
        <p:nvSpPr>
          <p:cNvPr id="1483" name=""/>
          <p:cNvSpPr/>
          <p:nvPr/>
        </p:nvSpPr>
        <p:spPr>
          <a:xfrm>
            <a:off x="6012000" y="306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ливковый бабуин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7367760" cy="4066920"/>
          </a:xfrm>
          <a:prstGeom prst="rect">
            <a:avLst/>
          </a:prstGeom>
          <a:ln w="0">
            <a:noFill/>
          </a:ln>
        </p:spPr>
      </p:pic>
      <p:sp>
        <p:nvSpPr>
          <p:cNvPr id="1485" name=""/>
          <p:cNvSpPr/>
          <p:nvPr/>
        </p:nvSpPr>
        <p:spPr>
          <a:xfrm>
            <a:off x="3059280" y="5805360"/>
            <a:ext cx="30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шимпанз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36752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центарные зв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7" name=""/>
          <p:cNvGraphicFramePr/>
          <p:nvPr/>
        </p:nvGraphicFramePr>
        <p:xfrm>
          <a:off x="0" y="1989000"/>
          <a:ext cx="9001080" cy="3167280"/>
        </p:xfrm>
        <a:graphic>
          <a:graphicData uri="http://schemas.openxmlformats.org/drawingml/2006/table">
            <a:tbl>
              <a:tblPr/>
              <a:tblGrid>
                <a:gridCol w="1835280"/>
                <a:gridCol w="1463400"/>
                <a:gridCol w="3686400"/>
                <a:gridCol w="20160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отряд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черт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ел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Отряд Насекомоядные</a:t>
            </a:r>
            <a:br>
              <a:rPr sz="4000"/>
            </a:b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057480" cy="201924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/>
          <p:cNvPicPr/>
          <p:nvPr/>
        </p:nvPicPr>
        <p:blipFill>
          <a:blip r:embed="rId2"/>
          <a:stretch/>
        </p:blipFill>
        <p:spPr>
          <a:xfrm>
            <a:off x="4762440" y="1679400"/>
            <a:ext cx="3810240" cy="202896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324000" y="9079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370 видов. Зубы не дифференцированы. Головной мозг небольшой, полушария без извилин (это и ежу понятно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72" name="" descr=""/>
          <p:cNvPicPr/>
          <p:nvPr/>
        </p:nvPicPr>
        <p:blipFill>
          <a:blip r:embed="rId3"/>
          <a:stretch/>
        </p:blipFill>
        <p:spPr>
          <a:xfrm>
            <a:off x="3276720" y="4149720"/>
            <a:ext cx="2873160" cy="2189160"/>
          </a:xfrm>
          <a:prstGeom prst="rect">
            <a:avLst/>
          </a:prstGeom>
          <a:ln w="0">
            <a:noFill/>
          </a:ln>
        </p:spPr>
      </p:pic>
      <p:sp>
        <p:nvSpPr>
          <p:cNvPr id="1373" name=""/>
          <p:cNvSpPr/>
          <p:nvPr/>
        </p:nvSpPr>
        <p:spPr>
          <a:xfrm>
            <a:off x="1187280" y="4149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еж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80400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емлерой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995640" y="6381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ро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ряд Рукокрылы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2"/>
          <a:stretch/>
        </p:blipFill>
        <p:spPr>
          <a:xfrm>
            <a:off x="1176480" y="2076480"/>
            <a:ext cx="2600280" cy="392436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/>
          <p:nvPr/>
        </p:nvSpPr>
        <p:spPr>
          <a:xfrm>
            <a:off x="179280" y="184464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68360" y="141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ключает 850 видов. Способны к полету. Между передними конечностями, туловищем и задними конечностями – кожистая перепонка. Киль. Эхолокаци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00000" y="63817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алонг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81" name="" descr=""/>
          <p:cNvPicPr/>
          <p:nvPr/>
        </p:nvPicPr>
        <p:blipFill>
          <a:blip r:embed="rId3"/>
          <a:stretch/>
        </p:blipFill>
        <p:spPr>
          <a:xfrm>
            <a:off x="4762440" y="2540160"/>
            <a:ext cx="3810240" cy="2997000"/>
          </a:xfrm>
          <a:prstGeom prst="rect">
            <a:avLst/>
          </a:prstGeom>
          <a:ln w="0">
            <a:noFill/>
          </a:ln>
        </p:spPr>
      </p:pic>
      <p:sp>
        <p:nvSpPr>
          <p:cNvPr id="1382" name=""/>
          <p:cNvSpPr/>
          <p:nvPr/>
        </p:nvSpPr>
        <p:spPr>
          <a:xfrm>
            <a:off x="5651640" y="566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олотоголов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3" name="" descr=""/>
          <p:cNvPicPr/>
          <p:nvPr/>
        </p:nvPicPr>
        <p:blipFill>
          <a:blip r:embed="rId2"/>
          <a:stretch/>
        </p:blipFill>
        <p:spPr>
          <a:xfrm>
            <a:off x="1258920" y="692280"/>
            <a:ext cx="5880240" cy="4116240"/>
          </a:xfrm>
          <a:prstGeom prst="rect">
            <a:avLst/>
          </a:prstGeom>
          <a:ln w="0">
            <a:noFill/>
          </a:ln>
        </p:spPr>
      </p:pic>
      <p:sp>
        <p:nvSpPr>
          <p:cNvPr id="1384" name=""/>
          <p:cNvSpPr/>
          <p:nvPr/>
        </p:nvSpPr>
        <p:spPr>
          <a:xfrm>
            <a:off x="1908000" y="501336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етучая мыш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ряд Грызу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1"/>
          <a:stretch/>
        </p:blipFill>
        <p:spPr>
          <a:xfrm>
            <a:off x="1214280" y="2260440"/>
            <a:ext cx="3175200" cy="3480120"/>
          </a:xfrm>
          <a:prstGeom prst="rect">
            <a:avLst/>
          </a:prstGeom>
          <a:ln w="0">
            <a:noFill/>
          </a:ln>
        </p:spPr>
      </p:pic>
      <p:sp>
        <p:nvSpPr>
          <p:cNvPr id="1387" name=""/>
          <p:cNvSpPr/>
          <p:nvPr/>
        </p:nvSpPr>
        <p:spPr>
          <a:xfrm>
            <a:off x="61128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1500 видов. Питаются растительной пищей. Крупные резцы, которые растут всю жизнь. Клыков не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2"/>
          <a:stretch/>
        </p:blipFill>
        <p:spPr>
          <a:xfrm>
            <a:off x="4976640" y="2730600"/>
            <a:ext cx="3810240" cy="2539800"/>
          </a:xfrm>
          <a:prstGeom prst="rect">
            <a:avLst/>
          </a:prstGeom>
          <a:ln w="0">
            <a:noFill/>
          </a:ln>
        </p:spPr>
      </p:pic>
      <p:sp>
        <p:nvSpPr>
          <p:cNvPr id="1389" name=""/>
          <p:cNvSpPr/>
          <p:nvPr/>
        </p:nvSpPr>
        <p:spPr>
          <a:xfrm>
            <a:off x="1547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ел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077160" y="5676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/>
          <p:nvPr/>
        </p:nvSpPr>
        <p:spPr>
          <a:xfrm>
            <a:off x="2916360" y="609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апибар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9:52:30Z</dcterms:created>
  <dc:creator>leh</dc:creator>
  <dc:description/>
  <dc:language>en-US</dc:language>
  <cp:lastModifiedBy>leh</cp:lastModifiedBy>
  <dcterms:modified xsi:type="dcterms:W3CDTF">2007-05-22T16:07:58Z</dcterms:modified>
  <cp:revision>6</cp:revision>
  <dc:subject/>
  <dc:title>Слайд 1</dc:title>
</cp:coreProperties>
</file>