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8.jpeg" ContentType="image/jpeg"/>
  <Override PartName="/ppt/media/image10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6.jpeg" ContentType="image/jpeg"/>
  <Override PartName="/ppt/media/image5.jpeg" ContentType="image/jpe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9.jpeg" ContentType="image/jpeg"/>
  <Override PartName="/ppt/media/image4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CB3C-48C3-4713-9790-BAEC2D31D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5E91-FC17-4AD1-90C7-C653C07B3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A27B-4D8B-469C-BFDD-F9425C098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2A78-9465-49FC-BED2-3C3FEB8C6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A88E-D913-46ED-8425-33ED2FB06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9D19-B32D-47DB-B707-A3EA2A5B7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6D6C-8BAA-4DD9-98FB-485454827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A3B6-B8E5-4441-A936-B83EAA6A1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2814-0CB8-4C1F-AE6A-9A18A8283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C87D-8DE7-4003-A34E-9D7370A77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46C2-77B0-4AD1-ACD3-8991A2358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DDB6-ED17-49C9-BFCD-C8D7A5082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8253A-DE23-45DE-9FF1-1E834310F4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Архитектурное наследие г.Балаково - Портал г Балаково - погода в Балаково, новости, сайт Балаково. &quot; Портал г Балаково - погода"/>
          <p:cNvPicPr/>
          <p:nvPr/>
        </p:nvPicPr>
        <p:blipFill>
          <a:blip r:embed="rId1"/>
          <a:stretch/>
        </p:blipFill>
        <p:spPr>
          <a:xfrm>
            <a:off x="144360" y="173160"/>
            <a:ext cx="8798040" cy="658656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1" descr=""/>
          <p:cNvPicPr/>
          <p:nvPr/>
        </p:nvPicPr>
        <p:blipFill>
          <a:blip r:embed="rId2"/>
          <a:stretch/>
        </p:blipFill>
        <p:spPr>
          <a:xfrm>
            <a:off x="158760" y="652320"/>
            <a:ext cx="8766000" cy="2340000"/>
          </a:xfrm>
          <a:prstGeom prst="rect">
            <a:avLst/>
          </a:prstGeom>
          <a:ln w="0">
            <a:noFill/>
          </a:ln>
        </p:spPr>
      </p:pic>
      <p:sp>
        <p:nvSpPr>
          <p:cNvPr id="43" name="TextBox 2"/>
          <p:cNvSpPr/>
          <p:nvPr/>
        </p:nvSpPr>
        <p:spPr>
          <a:xfrm>
            <a:off x="4756680" y="5300640"/>
            <a:ext cx="390996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ыполнил: ученик ООШ № 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ожанов Леони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читель: Ячник Алла Константино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2129760" y="173160"/>
            <a:ext cx="482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ция «Летопись родного края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Прямоугольник 1" descr=""/>
          <p:cNvPicPr/>
          <p:nvPr/>
        </p:nvPicPr>
        <p:blipFill>
          <a:blip r:embed="rId1"/>
          <a:stretch/>
        </p:blipFill>
        <p:spPr>
          <a:xfrm>
            <a:off x="573120" y="115920"/>
            <a:ext cx="8089920" cy="585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Балаково - Саратовская область - The Land of Twilight"/>
          <p:cNvPicPr/>
          <p:nvPr/>
        </p:nvPicPr>
        <p:blipFill>
          <a:blip r:embed="rId2"/>
          <a:stretch/>
        </p:blipFill>
        <p:spPr>
          <a:xfrm>
            <a:off x="252360" y="728640"/>
            <a:ext cx="3419640" cy="2541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Слава Балаково, &quot;Химволокно&quot; 21 ноября 1958 года Совет Минис…"/>
          <p:cNvPicPr/>
          <p:nvPr/>
        </p:nvPicPr>
        <p:blipFill>
          <a:blip r:embed="rId3"/>
          <a:stretch/>
        </p:blipFill>
        <p:spPr>
          <a:xfrm>
            <a:off x="4978440" y="620640"/>
            <a:ext cx="3875040" cy="2408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Предприятие создало &quot;дочку&quot;"/>
          <p:cNvPicPr/>
          <p:nvPr/>
        </p:nvPicPr>
        <p:blipFill>
          <a:blip r:embed="rId4"/>
          <a:stretch/>
        </p:blipFill>
        <p:spPr>
          <a:xfrm>
            <a:off x="5356080" y="3141720"/>
            <a:ext cx="3700440" cy="2566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Журнал для тех, кто любит подумать. - Город Балаково Саратов…"/>
          <p:cNvPicPr/>
          <p:nvPr/>
        </p:nvPicPr>
        <p:blipFill>
          <a:blip r:embed="rId5"/>
          <a:stretch/>
        </p:blipFill>
        <p:spPr>
          <a:xfrm>
            <a:off x="252360" y="3359160"/>
            <a:ext cx="3419640" cy="2581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" descr="Фотография picture16533.jpg - Балаковская АЭС"/>
          <p:cNvPicPr/>
          <p:nvPr/>
        </p:nvPicPr>
        <p:blipFill>
          <a:blip r:embed="rId6"/>
          <a:stretch/>
        </p:blipFill>
        <p:spPr>
          <a:xfrm>
            <a:off x="2567160" y="2349360"/>
            <a:ext cx="3528720" cy="230688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2"/>
          <p:cNvSpPr/>
          <p:nvPr/>
        </p:nvSpPr>
        <p:spPr>
          <a:xfrm>
            <a:off x="252360" y="6135840"/>
            <a:ext cx="840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ель исследования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рассмотреть взаимосвязь истории вуза и город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230040" y="2924280"/>
            <a:ext cx="8425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дачи исследован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рассмотреть историю вуз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сопоставить этапы развития вуза с развитием город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сделать вывод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Abandoned HVDC Powerline near Saratov - real. - SkyscraperCity"/>
          <p:cNvPicPr/>
          <p:nvPr/>
        </p:nvPicPr>
        <p:blipFill>
          <a:blip r:embed="rId1"/>
          <a:stretch/>
        </p:blipFill>
        <p:spPr>
          <a:xfrm>
            <a:off x="263520" y="620640"/>
            <a:ext cx="3240000" cy="1793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Филиалы Саратовский государственный технический университет"/>
          <p:cNvPicPr/>
          <p:nvPr/>
        </p:nvPicPr>
        <p:blipFill>
          <a:blip r:embed="rId2"/>
          <a:stretch/>
        </p:blipFill>
        <p:spPr>
          <a:xfrm>
            <a:off x="5508720" y="620640"/>
            <a:ext cx="2879640" cy="1793880"/>
          </a:xfrm>
          <a:prstGeom prst="rect">
            <a:avLst/>
          </a:prstGeom>
          <a:ln w="0">
            <a:noFill/>
          </a:ln>
        </p:spPr>
      </p:pic>
      <p:sp>
        <p:nvSpPr>
          <p:cNvPr id="55" name="Стрелка вправо 2"/>
          <p:cNvSpPr/>
          <p:nvPr/>
        </p:nvSpPr>
        <p:spPr>
          <a:xfrm>
            <a:off x="3851280" y="1413000"/>
            <a:ext cx="1368360" cy="503280"/>
          </a:xfrm>
          <a:prstGeom prst="rightArrow">
            <a:avLst>
              <a:gd name="adj1" fmla="val 50000"/>
              <a:gd name="adj2" fmla="val 5008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Стрелка влево 3"/>
          <p:cNvSpPr/>
          <p:nvPr/>
        </p:nvSpPr>
        <p:spPr>
          <a:xfrm>
            <a:off x="3851280" y="1916280"/>
            <a:ext cx="1225440" cy="498240"/>
          </a:xfrm>
          <a:prstGeom prst="leftArrow">
            <a:avLst>
              <a:gd name="adj1" fmla="val 50000"/>
              <a:gd name="adj2" fmla="val 4997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ятно 1 4"/>
          <p:cNvSpPr/>
          <p:nvPr/>
        </p:nvSpPr>
        <p:spPr>
          <a:xfrm>
            <a:off x="3727440" y="0"/>
            <a:ext cx="1428840" cy="1374840"/>
          </a:xfrm>
          <a:prstGeom prst="irregularSeal1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??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1190880" y="2452680"/>
            <a:ext cx="109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Балаков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6593760" y="2462040"/>
            <a:ext cx="79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БИТТ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395280" y="189000"/>
          <a:ext cx="8353440" cy="3456000"/>
        </p:xfrm>
        <a:graphic>
          <a:graphicData uri="http://schemas.openxmlformats.org/drawingml/2006/table">
            <a:tbl>
              <a:tblPr/>
              <a:tblGrid>
                <a:gridCol w="4176720"/>
                <a:gridCol w="4176720"/>
              </a:tblGrid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Город Балако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БИТТ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08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956-1971  гг.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– строительство  в Балаково строилась Саратовская ГЭС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Создан балаковский индустриальный комплекс, насчитывающий более двух десятков предприятий химии, машиностроения, энергетики, строительной индустрии, пищевой промышленност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985 г.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введен в эксплуатацию первый энергоблок Балаковской АЭС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957г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– Открылся вечерний филиал Саратовского политехнического институ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961 г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- институт получил новое здание (ныне корпус механического факультета)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970 г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-  вступил в строй учебно-лабораторный корпус (в настоящее время инженерно-строительный факультет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61" name="Штриховая стрелка вправо 2"/>
          <p:cNvSpPr/>
          <p:nvPr/>
        </p:nvSpPr>
        <p:spPr>
          <a:xfrm rot="5400000">
            <a:off x="4366080" y="2672280"/>
            <a:ext cx="684360" cy="2556000"/>
          </a:xfrm>
          <a:custGeom>
            <a:avLst/>
            <a:gdLst/>
            <a:ahLst/>
            <a:rect l="l" t="t" r="r" b="b"/>
            <a:pathLst>
              <a:path w="684076" h="2556284">
                <a:moveTo>
                  <a:pt x="0" y="639071"/>
                </a:moveTo>
                <a:lnTo>
                  <a:pt x="21377" y="639071"/>
                </a:lnTo>
                <a:lnTo>
                  <a:pt x="21377" y="1917213"/>
                </a:lnTo>
                <a:lnTo>
                  <a:pt x="0" y="1917213"/>
                </a:lnTo>
                <a:lnTo>
                  <a:pt x="0" y="639071"/>
                </a:lnTo>
                <a:close/>
                <a:moveTo>
                  <a:pt x="42755" y="639071"/>
                </a:moveTo>
                <a:lnTo>
                  <a:pt x="85510" y="639071"/>
                </a:lnTo>
                <a:lnTo>
                  <a:pt x="85510" y="1917213"/>
                </a:lnTo>
                <a:lnTo>
                  <a:pt x="42755" y="1917213"/>
                </a:lnTo>
                <a:lnTo>
                  <a:pt x="42755" y="639071"/>
                </a:lnTo>
                <a:close/>
                <a:moveTo>
                  <a:pt x="106887" y="639071"/>
                </a:moveTo>
                <a:lnTo>
                  <a:pt x="342038" y="639071"/>
                </a:lnTo>
                <a:lnTo>
                  <a:pt x="342038" y="0"/>
                </a:lnTo>
                <a:lnTo>
                  <a:pt x="684076" y="1278142"/>
                </a:lnTo>
                <a:lnTo>
                  <a:pt x="342038" y="2556284"/>
                </a:lnTo>
                <a:lnTo>
                  <a:pt x="342038" y="1917213"/>
                </a:lnTo>
                <a:lnTo>
                  <a:pt x="106887" y="1917213"/>
                </a:lnTo>
                <a:lnTo>
                  <a:pt x="106887" y="63907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угольник 3"/>
          <p:cNvSpPr/>
          <p:nvPr/>
        </p:nvSpPr>
        <p:spPr>
          <a:xfrm>
            <a:off x="539640" y="4292640"/>
            <a:ext cx="82090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им стройкам нашего города требовались инженерно-технические работники, которые смогли бы обучаться без отрыва от производства и получить достойное образование на мест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3" name="Прямая со стрелкой 5"/>
          <p:cNvCxnSpPr/>
          <p:nvPr/>
        </p:nvCxnSpPr>
        <p:spPr>
          <a:xfrm flipH="1">
            <a:off x="1835280" y="5632560"/>
            <a:ext cx="576360" cy="38952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4" name="TextBox 6"/>
          <p:cNvSpPr/>
          <p:nvPr/>
        </p:nvSpPr>
        <p:spPr>
          <a:xfrm>
            <a:off x="1120680" y="6195960"/>
            <a:ext cx="119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Строител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5" name="Прямая со стрелкой 7"/>
          <p:cNvCxnSpPr/>
          <p:nvPr/>
        </p:nvCxnSpPr>
        <p:spPr>
          <a:xfrm>
            <a:off x="5091120" y="5564160"/>
            <a:ext cx="273240" cy="52632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Прямая со стрелкой 8"/>
          <p:cNvCxnSpPr>
            <a:endCxn id="67" idx="0"/>
          </p:cNvCxnSpPr>
          <p:nvPr/>
        </p:nvCxnSpPr>
        <p:spPr>
          <a:xfrm>
            <a:off x="3562200" y="5649480"/>
            <a:ext cx="13680" cy="54648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Прямая со стрелкой 9"/>
          <p:cNvCxnSpPr/>
          <p:nvPr/>
        </p:nvCxnSpPr>
        <p:spPr>
          <a:xfrm>
            <a:off x="6240600" y="5548320"/>
            <a:ext cx="459360" cy="38952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TextBox 11"/>
          <p:cNvSpPr/>
          <p:nvPr/>
        </p:nvSpPr>
        <p:spPr>
          <a:xfrm>
            <a:off x="2981160" y="619596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Технолог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12"/>
          <p:cNvSpPr/>
          <p:nvPr/>
        </p:nvSpPr>
        <p:spPr>
          <a:xfrm>
            <a:off x="4944600" y="6192720"/>
            <a:ext cx="117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Механи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13"/>
          <p:cNvSpPr/>
          <p:nvPr/>
        </p:nvSpPr>
        <p:spPr>
          <a:xfrm>
            <a:off x="6515640" y="6048360"/>
            <a:ext cx="84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Химик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"/>
          <p:cNvPicPr/>
          <p:nvPr/>
        </p:nvPicPr>
        <p:blipFill>
          <a:blip r:embed="rId1"/>
          <a:stretch/>
        </p:blipFill>
        <p:spPr>
          <a:xfrm>
            <a:off x="108000" y="920880"/>
            <a:ext cx="89028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91" descr="http://old.bittu.org.ru/files/downloadimages/History_Of_institut/pic06.png"/>
          <p:cNvPicPr/>
          <p:nvPr/>
        </p:nvPicPr>
        <p:blipFill>
          <a:blip r:embed="rId1"/>
          <a:stretch/>
        </p:blipFill>
        <p:spPr>
          <a:xfrm>
            <a:off x="4392720" y="4187880"/>
            <a:ext cx="4743360" cy="267012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90" descr="http://old.bittu.org.ru/files/downloadimages/History_Of_institut/pic05.png"/>
          <p:cNvPicPr/>
          <p:nvPr/>
        </p:nvPicPr>
        <p:blipFill>
          <a:blip r:embed="rId2"/>
          <a:stretch/>
        </p:blipFill>
        <p:spPr>
          <a:xfrm>
            <a:off x="108000" y="4192560"/>
            <a:ext cx="4233960" cy="2665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" name=""/>
          <p:cNvGraphicFramePr/>
          <p:nvPr/>
        </p:nvGraphicFramePr>
        <p:xfrm>
          <a:off x="250920" y="260280"/>
          <a:ext cx="8281800" cy="3657600"/>
        </p:xfrm>
        <a:graphic>
          <a:graphicData uri="http://schemas.openxmlformats.org/drawingml/2006/table">
            <a:tbl>
              <a:tblPr/>
              <a:tblGrid>
                <a:gridCol w="4141800"/>
                <a:gridCol w="414000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Город Балако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БИТТ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22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городе появилась новые школы, больницы, магазины, детсады. Появилась и стала расти транспортная инфраструктура город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астало новое поколение балаковце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явилось общежитие, студенческая столовая, «Буревестник» и административный корпус. Появились новые специальности, связанные с транспортом и автоматизаци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рыли дневную форму обуч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75" name="Прямоугольник 2"/>
          <p:cNvSpPr/>
          <p:nvPr/>
        </p:nvSpPr>
        <p:spPr>
          <a:xfrm>
            <a:off x="324000" y="4076640"/>
            <a:ext cx="8135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енческие строительные бригад возводились такие объекты как  вышеперечисленные объекты, так и работали на строительстве Саратовской ГЭС, Химволокно, Саратовской оросительной системы, завода РТИ, завода «Минудобрения», завода самоходных землеройных машин, комбината специальных строительных конструкций, Европейской мебельной компании, Балаковской АЭС и многих других объекта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Прямоугольник 1" descr=""/>
          <p:cNvPicPr/>
          <p:nvPr/>
        </p:nvPicPr>
        <p:blipFill>
          <a:blip r:embed="rId1"/>
          <a:stretch/>
        </p:blipFill>
        <p:spPr>
          <a:xfrm>
            <a:off x="1328760" y="-79200"/>
            <a:ext cx="6845400" cy="1457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Ежедневно на стройплощадке ЗАО &quot;Северсталь - Сортовой завод Балаково&quot; работает свыше одной тысячи человек"/>
          <p:cNvPicPr/>
          <p:nvPr/>
        </p:nvPicPr>
        <p:blipFill>
          <a:blip r:embed="rId2"/>
          <a:stretch/>
        </p:blipFill>
        <p:spPr>
          <a:xfrm>
            <a:off x="71280" y="1197000"/>
            <a:ext cx="2305080" cy="172728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446040" y="2997360"/>
            <a:ext cx="127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Северстал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Штриховая стрелка вправо 3"/>
          <p:cNvSpPr/>
          <p:nvPr/>
        </p:nvSpPr>
        <p:spPr>
          <a:xfrm>
            <a:off x="2195640" y="1844640"/>
            <a:ext cx="863640" cy="576360"/>
          </a:xfrm>
          <a:custGeom>
            <a:avLst/>
            <a:gdLst/>
            <a:ahLst/>
            <a:rect l="l" t="t" r="r" b="b"/>
            <a:pathLst>
              <a:path w="864096" h="576064">
                <a:moveTo>
                  <a:pt x="0" y="144016"/>
                </a:moveTo>
                <a:lnTo>
                  <a:pt x="18002" y="144016"/>
                </a:lnTo>
                <a:lnTo>
                  <a:pt x="18002" y="432048"/>
                </a:lnTo>
                <a:lnTo>
                  <a:pt x="0" y="432048"/>
                </a:lnTo>
                <a:lnTo>
                  <a:pt x="0" y="144016"/>
                </a:lnTo>
                <a:close/>
                <a:moveTo>
                  <a:pt x="36004" y="144016"/>
                </a:moveTo>
                <a:lnTo>
                  <a:pt x="72008" y="144016"/>
                </a:lnTo>
                <a:lnTo>
                  <a:pt x="72008" y="432048"/>
                </a:lnTo>
                <a:lnTo>
                  <a:pt x="36004" y="432048"/>
                </a:lnTo>
                <a:lnTo>
                  <a:pt x="36004" y="144016"/>
                </a:lnTo>
                <a:close/>
                <a:moveTo>
                  <a:pt x="90010" y="144016"/>
                </a:moveTo>
                <a:lnTo>
                  <a:pt x="576064" y="144016"/>
                </a:lnTo>
                <a:lnTo>
                  <a:pt x="576064" y="0"/>
                </a:lnTo>
                <a:lnTo>
                  <a:pt x="864096" y="288032"/>
                </a:lnTo>
                <a:lnTo>
                  <a:pt x="576064" y="576064"/>
                </a:lnTo>
                <a:lnTo>
                  <a:pt x="576064" y="432048"/>
                </a:lnTo>
                <a:lnTo>
                  <a:pt x="90010" y="432048"/>
                </a:lnTo>
                <a:lnTo>
                  <a:pt x="90010" y="14401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4"/>
          <p:cNvSpPr/>
          <p:nvPr/>
        </p:nvSpPr>
        <p:spPr>
          <a:xfrm>
            <a:off x="3077280" y="1884240"/>
            <a:ext cx="17366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Специальнос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«Металлургия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Прямоугольник 5"/>
          <p:cNvSpPr/>
          <p:nvPr/>
        </p:nvSpPr>
        <p:spPr>
          <a:xfrm>
            <a:off x="90360" y="3645000"/>
            <a:ext cx="4572000" cy="32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2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тельные курсы ЕГ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2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нгвистический учебный центр ПСП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2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тр дополнительного образования компьютерных технологий "Comtech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Правая фигурная скобка 6"/>
          <p:cNvSpPr/>
          <p:nvPr/>
        </p:nvSpPr>
        <p:spPr>
          <a:xfrm>
            <a:off x="4427640" y="3789360"/>
            <a:ext cx="792000" cy="2735280"/>
          </a:xfrm>
          <a:custGeom>
            <a:avLst/>
            <a:gdLst>
              <a:gd name="textAreaLeft" fmla="*/ 0 w 792000"/>
              <a:gd name="textAreaRight" fmla="*/ 285840 w 792000"/>
              <a:gd name="textAreaTop" fmla="*/ 20520 h 2735280"/>
              <a:gd name="textAreaBottom" fmla="*/ 2714760 h 27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61"/>
                  <a:pt x="10800" y="521"/>
                </a:cubicBezTo>
                <a:lnTo>
                  <a:pt x="10800" y="10279"/>
                </a:lnTo>
                <a:cubicBezTo>
                  <a:pt x="10800" y="10540"/>
                  <a:pt x="16200" y="10800"/>
                  <a:pt x="21600" y="10800"/>
                </a:cubicBezTo>
                <a:cubicBezTo>
                  <a:pt x="16200" y="10800"/>
                  <a:pt x="10800" y="11061"/>
                  <a:pt x="10800" y="11321"/>
                </a:cubicBezTo>
                <a:lnTo>
                  <a:pt x="10800" y="21079"/>
                </a:lnTo>
                <a:cubicBezTo>
                  <a:pt x="10800" y="2134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оугольник 7"/>
          <p:cNvSpPr/>
          <p:nvPr/>
        </p:nvSpPr>
        <p:spPr>
          <a:xfrm>
            <a:off x="5435640" y="4510080"/>
            <a:ext cx="273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воляют вузу идти в ногу со временем, и участвовать в развитии горо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4" descr="Колпино News - Ижорские заводы отгрузили 22 блока для защиты Балаковской АЭС"/>
          <p:cNvPicPr/>
          <p:nvPr/>
        </p:nvPicPr>
        <p:blipFill>
          <a:blip r:embed="rId3"/>
          <a:stretch/>
        </p:blipFill>
        <p:spPr>
          <a:xfrm>
            <a:off x="6804000" y="1168560"/>
            <a:ext cx="1824120" cy="1366560"/>
          </a:xfrm>
          <a:prstGeom prst="rect">
            <a:avLst/>
          </a:prstGeom>
          <a:ln w="0">
            <a:noFill/>
          </a:ln>
        </p:spPr>
      </p:pic>
      <p:sp>
        <p:nvSpPr>
          <p:cNvPr id="85" name="TextBox 8"/>
          <p:cNvSpPr/>
          <p:nvPr/>
        </p:nvSpPr>
        <p:spPr>
          <a:xfrm>
            <a:off x="5588640" y="1168560"/>
            <a:ext cx="101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БИТТ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Стрелка вниз 9"/>
          <p:cNvSpPr/>
          <p:nvPr/>
        </p:nvSpPr>
        <p:spPr>
          <a:xfrm>
            <a:off x="5911920" y="1628640"/>
            <a:ext cx="433440" cy="509760"/>
          </a:xfrm>
          <a:prstGeom prst="downArrow">
            <a:avLst>
              <a:gd name="adj1" fmla="val 50000"/>
              <a:gd name="adj2" fmla="val 49858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12"/>
          <p:cNvSpPr/>
          <p:nvPr/>
        </p:nvSpPr>
        <p:spPr>
          <a:xfrm>
            <a:off x="5709960" y="2232000"/>
            <a:ext cx="8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БИ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7" descr=""/>
          <p:cNvPicPr/>
          <p:nvPr/>
        </p:nvPicPr>
        <p:blipFill>
          <a:blip r:embed="rId1"/>
          <a:stretch/>
        </p:blipFill>
        <p:spPr>
          <a:xfrm>
            <a:off x="2921040" y="1389240"/>
            <a:ext cx="3435480" cy="2465280"/>
          </a:xfrm>
          <a:prstGeom prst="rect">
            <a:avLst/>
          </a:prstGeom>
          <a:ln w="0">
            <a:noFill/>
          </a:ln>
        </p:spPr>
      </p:pic>
      <p:pic>
        <p:nvPicPr>
          <p:cNvPr id="89" name="Прямоугольник 1" descr=""/>
          <p:cNvPicPr/>
          <p:nvPr/>
        </p:nvPicPr>
        <p:blipFill>
          <a:blip r:embed="rId2"/>
          <a:stretch/>
        </p:blipFill>
        <p:spPr>
          <a:xfrm>
            <a:off x="1152360" y="-208080"/>
            <a:ext cx="6973920" cy="15368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"/>
          <p:cNvPicPr/>
          <p:nvPr/>
        </p:nvPicPr>
        <p:blipFill>
          <a:blip r:embed="rId3"/>
          <a:stretch/>
        </p:blipFill>
        <p:spPr>
          <a:xfrm>
            <a:off x="0" y="1700280"/>
            <a:ext cx="2921040" cy="2154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"/>
          <p:cNvPicPr/>
          <p:nvPr/>
        </p:nvPicPr>
        <p:blipFill>
          <a:blip r:embed="rId4"/>
          <a:stretch/>
        </p:blipFill>
        <p:spPr>
          <a:xfrm>
            <a:off x="4708440" y="3808440"/>
            <a:ext cx="4184640" cy="2960640"/>
          </a:xfrm>
          <a:prstGeom prst="rect">
            <a:avLst/>
          </a:prstGeom>
          <a:ln w="0">
            <a:noFill/>
          </a:ln>
        </p:spPr>
      </p:pic>
      <p:sp>
        <p:nvSpPr>
          <p:cNvPr id="92" name="TextBox 2"/>
          <p:cNvSpPr/>
          <p:nvPr/>
        </p:nvSpPr>
        <p:spPr>
          <a:xfrm>
            <a:off x="1201680" y="743040"/>
            <a:ext cx="647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Фестиваль НАУКИ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на базе БИТТУ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Принимают участие все образовательные учреждения горо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Главная цель – привлечь молодежь к науке и исследования!!!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5" descr=""/>
          <p:cNvPicPr/>
          <p:nvPr/>
        </p:nvPicPr>
        <p:blipFill>
          <a:blip r:embed="rId5"/>
          <a:srcRect l="18322" t="13898" r="20699" b="6683"/>
          <a:stretch/>
        </p:blipFill>
        <p:spPr>
          <a:xfrm>
            <a:off x="343080" y="3822840"/>
            <a:ext cx="4098600" cy="3000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"/>
          <p:cNvPicPr/>
          <p:nvPr/>
        </p:nvPicPr>
        <p:blipFill>
          <a:blip r:embed="rId6"/>
          <a:stretch/>
        </p:blipFill>
        <p:spPr>
          <a:xfrm>
            <a:off x="6356520" y="1773360"/>
            <a:ext cx="253656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Прямоугольник 1" descr=""/>
          <p:cNvPicPr/>
          <p:nvPr/>
        </p:nvPicPr>
        <p:blipFill>
          <a:blip r:embed="rId1"/>
          <a:stretch/>
        </p:blipFill>
        <p:spPr>
          <a:xfrm>
            <a:off x="2590920" y="523800"/>
            <a:ext cx="3627360" cy="151308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2"/>
          <p:cNvSpPr/>
          <p:nvPr/>
        </p:nvSpPr>
        <p:spPr>
          <a:xfrm>
            <a:off x="324000" y="1631880"/>
            <a:ext cx="85690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История вуза и города сильно связаны между собой. Рост и развитие города влияет на вуз – открываются новые специальности, а специалисты вуза создают новые объекты, предприятия и проект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4T20:21:01Z</dcterms:created>
  <dc:creator>Jenya</dc:creator>
  <dc:description/>
  <dc:language>en-US</dc:language>
  <cp:lastModifiedBy>Александр</cp:lastModifiedBy>
  <dcterms:modified xsi:type="dcterms:W3CDTF">2015-10-18T14:18:06Z</dcterms:modified>
  <cp:revision>13</cp:revision>
  <dc:subject/>
  <dc:title>Презентация PowerPoint</dc:title>
</cp:coreProperties>
</file>