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FB95-32E2-4590-8A69-91696452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AED7-C037-4B54-A123-FCD3D9F7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688F-93F0-43F1-8724-AEAA9D31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4F7D-5FD1-4921-9271-FCBA8D53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B5B3-76F4-46F3-BA59-B63EFB3B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0539-BB92-4766-944D-CB34332A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ABBC-636F-46CB-96C7-CF95B1CA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D7EB-4F02-4765-8BA4-8892E15B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A495-881B-4397-8C18-A122C2F2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F7DC-6B30-4821-AC47-EBC28E21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3041-26FD-4B7B-8D3F-0D5E8FA6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A045-A8EF-4311-B5DB-B73EC1C8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0964-1BCC-4C0A-B848-1F6FBF2A60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Архитектурное наследие г.Балаково - Портал г Балаково - погода в Балаково, новости, сайт Балаково. &quot; Портал г Балаково - погода"/>
          <p:cNvPicPr/>
          <p:nvPr/>
        </p:nvPicPr>
        <p:blipFill>
          <a:blip r:embed="rId1"/>
          <a:stretch/>
        </p:blipFill>
        <p:spPr>
          <a:xfrm>
            <a:off x="144360" y="173160"/>
            <a:ext cx="8798040" cy="658656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1" descr=""/>
          <p:cNvPicPr/>
          <p:nvPr/>
        </p:nvPicPr>
        <p:blipFill>
          <a:blip r:embed="rId2"/>
          <a:stretch/>
        </p:blipFill>
        <p:spPr>
          <a:xfrm>
            <a:off x="158760" y="652320"/>
            <a:ext cx="8766000" cy="2340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4756680" y="5300640"/>
            <a:ext cx="39099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полнил: ученик ООШ №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жанов Леони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читель: Ячник Алла Константин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2129760" y="173160"/>
            <a:ext cx="48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ция «Летопись родного кра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1" descr=""/>
          <p:cNvPicPr/>
          <p:nvPr/>
        </p:nvPicPr>
        <p:blipFill>
          <a:blip r:embed="rId1"/>
          <a:stretch/>
        </p:blipFill>
        <p:spPr>
          <a:xfrm>
            <a:off x="573120" y="115920"/>
            <a:ext cx="8089920" cy="585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Балаково - Саратовская область - The Land of Twilight"/>
          <p:cNvPicPr/>
          <p:nvPr/>
        </p:nvPicPr>
        <p:blipFill>
          <a:blip r:embed="rId2"/>
          <a:stretch/>
        </p:blipFill>
        <p:spPr>
          <a:xfrm>
            <a:off x="252360" y="728640"/>
            <a:ext cx="3419640" cy="2541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Слава Балаково, &quot;Химволокно&quot; 21 ноября 1958 года Совет Минис…"/>
          <p:cNvPicPr/>
          <p:nvPr/>
        </p:nvPicPr>
        <p:blipFill>
          <a:blip r:embed="rId3"/>
          <a:stretch/>
        </p:blipFill>
        <p:spPr>
          <a:xfrm>
            <a:off x="4978440" y="620640"/>
            <a:ext cx="3875040" cy="2408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Предприятие создало &quot;дочку&quot;"/>
          <p:cNvPicPr/>
          <p:nvPr/>
        </p:nvPicPr>
        <p:blipFill>
          <a:blip r:embed="rId4"/>
          <a:stretch/>
        </p:blipFill>
        <p:spPr>
          <a:xfrm>
            <a:off x="5356080" y="3141720"/>
            <a:ext cx="3700440" cy="2566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Журнал для тех, кто любит подумать. - Город Балаково Саратов…"/>
          <p:cNvPicPr/>
          <p:nvPr/>
        </p:nvPicPr>
        <p:blipFill>
          <a:blip r:embed="rId5"/>
          <a:stretch/>
        </p:blipFill>
        <p:spPr>
          <a:xfrm>
            <a:off x="252360" y="3359160"/>
            <a:ext cx="3419640" cy="2581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Фотография picture16533.jpg - Балаковская АЭС"/>
          <p:cNvPicPr/>
          <p:nvPr/>
        </p:nvPicPr>
        <p:blipFill>
          <a:blip r:embed="rId6"/>
          <a:stretch/>
        </p:blipFill>
        <p:spPr>
          <a:xfrm>
            <a:off x="2567160" y="2349360"/>
            <a:ext cx="3528720" cy="23068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252360" y="6135840"/>
            <a:ext cx="840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 исследовани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ассмотреть взаимосвязь истории вуза и город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230040" y="2924280"/>
            <a:ext cx="842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 исследов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ассмотреть историю вуз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опоставить этапы развития вуза с развитием город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сделать выво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Abandoned HVDC Powerline near Saratov - real. - SkyscraperCity"/>
          <p:cNvPicPr/>
          <p:nvPr/>
        </p:nvPicPr>
        <p:blipFill>
          <a:blip r:embed="rId1"/>
          <a:stretch/>
        </p:blipFill>
        <p:spPr>
          <a:xfrm>
            <a:off x="263520" y="620640"/>
            <a:ext cx="3240000" cy="1793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Филиалы Саратовский государственный технический университет"/>
          <p:cNvPicPr/>
          <p:nvPr/>
        </p:nvPicPr>
        <p:blipFill>
          <a:blip r:embed="rId2"/>
          <a:stretch/>
        </p:blipFill>
        <p:spPr>
          <a:xfrm>
            <a:off x="5508720" y="620640"/>
            <a:ext cx="2879640" cy="1793880"/>
          </a:xfrm>
          <a:prstGeom prst="rect">
            <a:avLst/>
          </a:prstGeom>
          <a:ln w="0">
            <a:noFill/>
          </a:ln>
        </p:spPr>
      </p:pic>
      <p:sp>
        <p:nvSpPr>
          <p:cNvPr id="55" name="Стрелка вправо 2"/>
          <p:cNvSpPr/>
          <p:nvPr/>
        </p:nvSpPr>
        <p:spPr>
          <a:xfrm>
            <a:off x="3851280" y="1413000"/>
            <a:ext cx="1368360" cy="503280"/>
          </a:xfrm>
          <a:prstGeom prst="rightArrow">
            <a:avLst>
              <a:gd name="adj1" fmla="val 50000"/>
              <a:gd name="adj2" fmla="val 5008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Стрелка влево 3"/>
          <p:cNvSpPr/>
          <p:nvPr/>
        </p:nvSpPr>
        <p:spPr>
          <a:xfrm>
            <a:off x="3851280" y="1916280"/>
            <a:ext cx="1225440" cy="498240"/>
          </a:xfrm>
          <a:prstGeom prst="leftArrow">
            <a:avLst>
              <a:gd name="adj1" fmla="val 50000"/>
              <a:gd name="adj2" fmla="val 4997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ятно 1 4"/>
          <p:cNvSpPr/>
          <p:nvPr/>
        </p:nvSpPr>
        <p:spPr>
          <a:xfrm>
            <a:off x="3727440" y="0"/>
            <a:ext cx="1428840" cy="1374840"/>
          </a:xfrm>
          <a:prstGeom prst="irregularSeal1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1190880" y="24526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Балако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6593760" y="2462040"/>
            <a:ext cx="7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БИТ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95280" y="189000"/>
          <a:ext cx="8353440" cy="3456000"/>
        </p:xfrm>
        <a:graphic>
          <a:graphicData uri="http://schemas.openxmlformats.org/drawingml/2006/table">
            <a:tbl>
              <a:tblPr/>
              <a:tblGrid>
                <a:gridCol w="4176720"/>
                <a:gridCol w="417672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Город Балако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БИТ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8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956-1971  гг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– строительство  в Балаково строилась Саратовская ГЭ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Создан балаковский индустриальный комплекс, насчитывающий более двух десятков предприятий химии, машиностроения, энергетики, строительной индустрии, пищевой промышлен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985 г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введен в эксплуатацию первый энергоблок Балаковской АЭ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957г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– Открылся вечерний филиал Саратовского политехнического институ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961 г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- институт получил новое здание (ныне корпус механического факультета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970 г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-  вступил в строй учебно-лабораторный корпус (в настоящее время инженерно-строительный факультет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1" name="Штриховая стрелка вправо 2"/>
          <p:cNvSpPr/>
          <p:nvPr/>
        </p:nvSpPr>
        <p:spPr>
          <a:xfrm rot="5400000">
            <a:off x="4366080" y="2672280"/>
            <a:ext cx="684360" cy="2556000"/>
          </a:xfrm>
          <a:custGeom>
            <a:avLst/>
            <a:gdLst/>
            <a:ahLst/>
            <a:rect l="l" t="t" r="r" b="b"/>
            <a:pathLst>
              <a:path w="684076" h="2556284">
                <a:moveTo>
                  <a:pt x="0" y="639071"/>
                </a:moveTo>
                <a:lnTo>
                  <a:pt x="21377" y="639071"/>
                </a:lnTo>
                <a:lnTo>
                  <a:pt x="21377" y="1917213"/>
                </a:lnTo>
                <a:lnTo>
                  <a:pt x="0" y="1917213"/>
                </a:lnTo>
                <a:lnTo>
                  <a:pt x="0" y="639071"/>
                </a:lnTo>
                <a:close/>
                <a:moveTo>
                  <a:pt x="42755" y="639071"/>
                </a:moveTo>
                <a:lnTo>
                  <a:pt x="85510" y="639071"/>
                </a:lnTo>
                <a:lnTo>
                  <a:pt x="85510" y="1917213"/>
                </a:lnTo>
                <a:lnTo>
                  <a:pt x="42755" y="1917213"/>
                </a:lnTo>
                <a:lnTo>
                  <a:pt x="42755" y="639071"/>
                </a:lnTo>
                <a:close/>
                <a:moveTo>
                  <a:pt x="106887" y="639071"/>
                </a:moveTo>
                <a:lnTo>
                  <a:pt x="342038" y="639071"/>
                </a:lnTo>
                <a:lnTo>
                  <a:pt x="342038" y="0"/>
                </a:lnTo>
                <a:lnTo>
                  <a:pt x="684076" y="1278142"/>
                </a:lnTo>
                <a:lnTo>
                  <a:pt x="342038" y="2556284"/>
                </a:lnTo>
                <a:lnTo>
                  <a:pt x="342038" y="1917213"/>
                </a:lnTo>
                <a:lnTo>
                  <a:pt x="106887" y="1917213"/>
                </a:lnTo>
                <a:lnTo>
                  <a:pt x="106887" y="63907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539640" y="4292640"/>
            <a:ext cx="820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м стройкам нашего города требовались инженерно-технические работники, которые смогли бы обучаться без отрыва от производства и получить достойное образование на мест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Прямая со стрелкой 5"/>
          <p:cNvCxnSpPr/>
          <p:nvPr/>
        </p:nvCxnSpPr>
        <p:spPr>
          <a:xfrm flipH="1">
            <a:off x="1835280" y="5632560"/>
            <a:ext cx="576360" cy="3895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TextBox 6"/>
          <p:cNvSpPr/>
          <p:nvPr/>
        </p:nvSpPr>
        <p:spPr>
          <a:xfrm>
            <a:off x="1120680" y="619596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троите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Прямая со стрелкой 7"/>
          <p:cNvCxnSpPr/>
          <p:nvPr/>
        </p:nvCxnSpPr>
        <p:spPr>
          <a:xfrm>
            <a:off x="5091120" y="5564160"/>
            <a:ext cx="273240" cy="5263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8"/>
          <p:cNvCxnSpPr>
            <a:endCxn id="67" idx="0"/>
          </p:cNvCxnSpPr>
          <p:nvPr/>
        </p:nvCxnSpPr>
        <p:spPr>
          <a:xfrm>
            <a:off x="3562200" y="5649480"/>
            <a:ext cx="13680" cy="546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Прямая со стрелкой 9"/>
          <p:cNvCxnSpPr/>
          <p:nvPr/>
        </p:nvCxnSpPr>
        <p:spPr>
          <a:xfrm>
            <a:off x="6240600" y="5548320"/>
            <a:ext cx="459360" cy="3895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TextBox 11"/>
          <p:cNvSpPr/>
          <p:nvPr/>
        </p:nvSpPr>
        <p:spPr>
          <a:xfrm>
            <a:off x="2981160" y="619596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ехнолог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4944600" y="619272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Механ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3"/>
          <p:cNvSpPr/>
          <p:nvPr/>
        </p:nvSpPr>
        <p:spPr>
          <a:xfrm>
            <a:off x="6515640" y="604836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Хими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108000" y="920880"/>
            <a:ext cx="89028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91" descr="http://old.bittu.org.ru/files/downloadimages/History_Of_institut/pic06.png"/>
          <p:cNvPicPr/>
          <p:nvPr/>
        </p:nvPicPr>
        <p:blipFill>
          <a:blip r:embed="rId1"/>
          <a:stretch/>
        </p:blipFill>
        <p:spPr>
          <a:xfrm>
            <a:off x="4392720" y="4187880"/>
            <a:ext cx="4743360" cy="26701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90" descr="http://old.bittu.org.ru/files/downloadimages/History_Of_institut/pic05.png"/>
          <p:cNvPicPr/>
          <p:nvPr/>
        </p:nvPicPr>
        <p:blipFill>
          <a:blip r:embed="rId2"/>
          <a:stretch/>
        </p:blipFill>
        <p:spPr>
          <a:xfrm>
            <a:off x="108000" y="4192560"/>
            <a:ext cx="4233960" cy="266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250920" y="260280"/>
          <a:ext cx="8281800" cy="3657600"/>
        </p:xfrm>
        <a:graphic>
          <a:graphicData uri="http://schemas.openxmlformats.org/drawingml/2006/table">
            <a:tbl>
              <a:tblPr/>
              <a:tblGrid>
                <a:gridCol w="4141800"/>
                <a:gridCol w="41400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Город Балако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БИТ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ороде появилась новые школы, больницы, магазины, детсады. Появилась и стала расти транспортная инфраструктура горо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стало новое поколение балаковце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явилось общежитие, студенческая столовая, «Буревестник» и административный корпус. Появились новые специальности, связанные с транспортом и автоматизаци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ли дневную форму об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5" name="Прямоугольник 2"/>
          <p:cNvSpPr/>
          <p:nvPr/>
        </p:nvSpPr>
        <p:spPr>
          <a:xfrm>
            <a:off x="324000" y="4076640"/>
            <a:ext cx="813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ческие строительные бригад возводились такие объекты как  вышеперечисленные объекты, так и работали на строительстве Саратовской ГЭС, Химволокно, Саратовской оросительной системы, завода РТИ, завода «Минудобрения», завода самоходных землеройных машин, комбината специальных строительных конструкций, Европейской мебельной компании, Балаковской АЭС и многих других объект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Прямоугольник 1" descr=""/>
          <p:cNvPicPr/>
          <p:nvPr/>
        </p:nvPicPr>
        <p:blipFill>
          <a:blip r:embed="rId1"/>
          <a:stretch/>
        </p:blipFill>
        <p:spPr>
          <a:xfrm>
            <a:off x="1328760" y="-79200"/>
            <a:ext cx="6845400" cy="1457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Ежедневно на стройплощадке ЗАО &quot;Северсталь - Сортовой завод Балаково&quot; работает свыше одной тысячи человек"/>
          <p:cNvPicPr/>
          <p:nvPr/>
        </p:nvPicPr>
        <p:blipFill>
          <a:blip r:embed="rId2"/>
          <a:stretch/>
        </p:blipFill>
        <p:spPr>
          <a:xfrm>
            <a:off x="71280" y="1197000"/>
            <a:ext cx="2305080" cy="17272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446040" y="2997360"/>
            <a:ext cx="12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верста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Штриховая стрелка вправо 3"/>
          <p:cNvSpPr/>
          <p:nvPr/>
        </p:nvSpPr>
        <p:spPr>
          <a:xfrm>
            <a:off x="2195640" y="1844640"/>
            <a:ext cx="863640" cy="576360"/>
          </a:xfrm>
          <a:custGeom>
            <a:avLst/>
            <a:gdLst/>
            <a:ahLst/>
            <a:rect l="l" t="t" r="r" b="b"/>
            <a:pathLst>
              <a:path w="864096" h="576064">
                <a:moveTo>
                  <a:pt x="0" y="144016"/>
                </a:moveTo>
                <a:lnTo>
                  <a:pt x="18002" y="144016"/>
                </a:lnTo>
                <a:lnTo>
                  <a:pt x="18002" y="432048"/>
                </a:lnTo>
                <a:lnTo>
                  <a:pt x="0" y="432048"/>
                </a:lnTo>
                <a:lnTo>
                  <a:pt x="0" y="144016"/>
                </a:lnTo>
                <a:close/>
                <a:moveTo>
                  <a:pt x="36004" y="144016"/>
                </a:moveTo>
                <a:lnTo>
                  <a:pt x="72008" y="144016"/>
                </a:lnTo>
                <a:lnTo>
                  <a:pt x="72008" y="432048"/>
                </a:lnTo>
                <a:lnTo>
                  <a:pt x="36004" y="432048"/>
                </a:lnTo>
                <a:lnTo>
                  <a:pt x="36004" y="144016"/>
                </a:lnTo>
                <a:close/>
                <a:moveTo>
                  <a:pt x="90010" y="144016"/>
                </a:moveTo>
                <a:lnTo>
                  <a:pt x="576064" y="144016"/>
                </a:lnTo>
                <a:lnTo>
                  <a:pt x="576064" y="0"/>
                </a:lnTo>
                <a:lnTo>
                  <a:pt x="864096" y="288032"/>
                </a:lnTo>
                <a:lnTo>
                  <a:pt x="576064" y="576064"/>
                </a:lnTo>
                <a:lnTo>
                  <a:pt x="576064" y="432048"/>
                </a:lnTo>
                <a:lnTo>
                  <a:pt x="90010" y="432048"/>
                </a:lnTo>
                <a:lnTo>
                  <a:pt x="90010" y="14401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3077280" y="1884240"/>
            <a:ext cx="1736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пециаль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«Металлургия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90360" y="3645000"/>
            <a:ext cx="457200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ые курсы ЕГ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гвистический учебный центр ПСП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 дополнительного образования компьютерных технологий "Comtech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авая фигурная скобка 6"/>
          <p:cNvSpPr/>
          <p:nvPr/>
        </p:nvSpPr>
        <p:spPr>
          <a:xfrm>
            <a:off x="4427640" y="3789360"/>
            <a:ext cx="792000" cy="2735280"/>
          </a:xfrm>
          <a:custGeom>
            <a:avLst/>
            <a:gdLst>
              <a:gd name="textAreaLeft" fmla="*/ 0 w 792000"/>
              <a:gd name="textAreaRight" fmla="*/ 285840 w 792000"/>
              <a:gd name="textAreaTop" fmla="*/ 20520 h 2735280"/>
              <a:gd name="textAreaBottom" fmla="*/ 271476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1"/>
                  <a:pt x="10800" y="521"/>
                </a:cubicBezTo>
                <a:lnTo>
                  <a:pt x="10800" y="10279"/>
                </a:lnTo>
                <a:cubicBezTo>
                  <a:pt x="10800" y="10540"/>
                  <a:pt x="16200" y="10800"/>
                  <a:pt x="21600" y="10800"/>
                </a:cubicBezTo>
                <a:cubicBezTo>
                  <a:pt x="16200" y="10800"/>
                  <a:pt x="10800" y="11061"/>
                  <a:pt x="10800" y="11321"/>
                </a:cubicBezTo>
                <a:lnTo>
                  <a:pt x="10800" y="21079"/>
                </a:lnTo>
                <a:cubicBezTo>
                  <a:pt x="10800" y="2134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7"/>
          <p:cNvSpPr/>
          <p:nvPr/>
        </p:nvSpPr>
        <p:spPr>
          <a:xfrm>
            <a:off x="5435640" y="4510080"/>
            <a:ext cx="273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ют вузу идти в ногу со временем, и участвовать в развитии горо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Колпино News - Ижорские заводы отгрузили 22 блока для защиты Балаковской АЭС"/>
          <p:cNvPicPr/>
          <p:nvPr/>
        </p:nvPicPr>
        <p:blipFill>
          <a:blip r:embed="rId3"/>
          <a:stretch/>
        </p:blipFill>
        <p:spPr>
          <a:xfrm>
            <a:off x="6804000" y="1168560"/>
            <a:ext cx="1824120" cy="1366560"/>
          </a:xfrm>
          <a:prstGeom prst="rect">
            <a:avLst/>
          </a:prstGeom>
          <a:ln w="0">
            <a:noFill/>
          </a:ln>
        </p:spPr>
      </p:pic>
      <p:sp>
        <p:nvSpPr>
          <p:cNvPr id="85" name="TextBox 8"/>
          <p:cNvSpPr/>
          <p:nvPr/>
        </p:nvSpPr>
        <p:spPr>
          <a:xfrm>
            <a:off x="5588640" y="116856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БИТ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Стрелка вниз 9"/>
          <p:cNvSpPr/>
          <p:nvPr/>
        </p:nvSpPr>
        <p:spPr>
          <a:xfrm>
            <a:off x="5911920" y="1628640"/>
            <a:ext cx="433440" cy="509760"/>
          </a:xfrm>
          <a:prstGeom prst="downArrow">
            <a:avLst>
              <a:gd name="adj1" fmla="val 50000"/>
              <a:gd name="adj2" fmla="val 4985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5709960" y="223200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БИ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"/>
          <p:cNvPicPr/>
          <p:nvPr/>
        </p:nvPicPr>
        <p:blipFill>
          <a:blip r:embed="rId1"/>
          <a:stretch/>
        </p:blipFill>
        <p:spPr>
          <a:xfrm>
            <a:off x="2921040" y="1389240"/>
            <a:ext cx="3435480" cy="246528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1" descr=""/>
          <p:cNvPicPr/>
          <p:nvPr/>
        </p:nvPicPr>
        <p:blipFill>
          <a:blip r:embed="rId2"/>
          <a:stretch/>
        </p:blipFill>
        <p:spPr>
          <a:xfrm>
            <a:off x="1152360" y="-208080"/>
            <a:ext cx="6973920" cy="1536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3"/>
          <a:stretch/>
        </p:blipFill>
        <p:spPr>
          <a:xfrm>
            <a:off x="0" y="1700280"/>
            <a:ext cx="2921040" cy="2154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4"/>
          <a:stretch/>
        </p:blipFill>
        <p:spPr>
          <a:xfrm>
            <a:off x="4708440" y="3808440"/>
            <a:ext cx="4184640" cy="296064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1201680" y="743040"/>
            <a:ext cx="647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Фестиваль НАУКИ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на базе БИТТУ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инимают участие все образовательные учреждения гор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Главная цель – привлечь молодежь к науке и исследования!!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5"/>
          <a:srcRect l="18322" t="13898" r="20699" b="6683"/>
          <a:stretch/>
        </p:blipFill>
        <p:spPr>
          <a:xfrm>
            <a:off x="343080" y="3822840"/>
            <a:ext cx="4098600" cy="3000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6"/>
          <a:stretch/>
        </p:blipFill>
        <p:spPr>
          <a:xfrm>
            <a:off x="6356520" y="1773360"/>
            <a:ext cx="253656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Прямоугольник 1" descr=""/>
          <p:cNvPicPr/>
          <p:nvPr/>
        </p:nvPicPr>
        <p:blipFill>
          <a:blip r:embed="rId1"/>
          <a:stretch/>
        </p:blipFill>
        <p:spPr>
          <a:xfrm>
            <a:off x="2590920" y="523800"/>
            <a:ext cx="3627360" cy="151308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2"/>
          <p:cNvSpPr/>
          <p:nvPr/>
        </p:nvSpPr>
        <p:spPr>
          <a:xfrm>
            <a:off x="324000" y="1631880"/>
            <a:ext cx="8569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История вуза и города сильно связаны между собой. Рост и развитие города влияет на вуз – открываются новые специальности, а специалисты вуза создают новые объекты, предприятия и проек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4T20:21:01Z</dcterms:created>
  <dc:creator>Jenya</dc:creator>
  <dc:description/>
  <dc:language>en-US</dc:language>
  <cp:lastModifiedBy>Александр</cp:lastModifiedBy>
  <dcterms:modified xsi:type="dcterms:W3CDTF">2015-10-18T14:18:06Z</dcterms:modified>
  <cp:revision>13</cp:revision>
  <dc:subject/>
  <dc:title>Презентация PowerPoint</dc:title>
</cp:coreProperties>
</file>