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4.gif" ContentType="image/gif"/>
  <Override PartName="/ppt/media/image27.png" ContentType="image/png"/>
  <Override PartName="/ppt/media/image28.gif" ContentType="image/gif"/>
  <Override PartName="/ppt/media/image25.png" ContentType="image/png"/>
  <Override PartName="/ppt/media/image22.gif" ContentType="image/gif"/>
  <Override PartName="/ppt/media/image14.png" ContentType="image/png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32C3-AA70-46EB-B4CD-84365267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7C56-6048-44EB-93D5-D0F2CBCD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030F-E1AD-4315-B1A9-6ACD4DE7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CD2B-3B59-4039-8FBC-4047D373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29C7-6D03-474C-8091-7EEC811F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F89E-8DAF-4587-94B8-330EE90E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223F-5E98-4327-A1DD-BA6CFE81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F146-3A03-4938-AB28-C544A13C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B867-B1C5-44C2-8C87-18F1407C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00F4-7AFC-49DF-86FA-A1DCD77D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4C8A-B50F-44E0-9111-1ECB5AAA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0907-7FF1-4EEE-99DB-0D938E32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580A-EE9F-454B-A615-6BBDAE4B9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81080" y="914400"/>
            <a:ext cx="525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Число 7.  Цифра 7</a:t>
            </a:r>
            <a:r>
              <a:rPr b="1" i="1" lang="en-US" sz="3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464840"/>
            <a:ext cx="815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знакомить с образованием и составом числа 7, цифрой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репить представления о составе числа 6, взаимосвязь целого и частей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торить порядковый сч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вать математические представлени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ывать желание узнавать новый матер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атериалы к занят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емонстрацион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числовой отрезок; опорные таблицы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репления состава чисел: «домино», «вагончик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ибы, кубики, картинки: белочка, 6 ореш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Раздаточны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кружочки из цветной бумаги: жёлт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асные - по 7 штук каждого цвета; кубики LEGO двух цве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оски цветной бума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азработал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Газизова Альбина Лена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8991720" cy="5245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143160" y="2595600"/>
            <a:ext cx="285768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690480"/>
            <a:ext cx="761976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35956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666880" y="2362320"/>
            <a:ext cx="3543480" cy="3543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23880" y="990720"/>
            <a:ext cx="601992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cc00"/>
                </a:solidFill>
                <a:latin typeface="Times New Roman"/>
              </a:rPr>
              <a:t>Спасибо за внимание!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cc00"/>
                </a:solidFill>
                <a:latin typeface="Times New Roman"/>
              </a:rPr>
              <a:t>Все большие молодцы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952880" y="3200400"/>
            <a:ext cx="2256120" cy="2819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7200" y="4724280"/>
            <a:ext cx="990720" cy="798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371600" y="4724280"/>
            <a:ext cx="990720" cy="798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4343400" y="5181480"/>
            <a:ext cx="990720" cy="798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3352680" y="4876920"/>
            <a:ext cx="990720" cy="798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2362320" y="4800600"/>
            <a:ext cx="990360" cy="798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7040" y="379080"/>
            <a:ext cx="78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Я нашёл в дупле у белки пять лесных орешков мел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  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от ещё один лежит, мхом заботливо укр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  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у и белка! Вот хозяйка! Все орешки сосчитай-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324320" cy="4121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00200" y="4114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4419720"/>
            <a:ext cx="1638360" cy="12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553080" y="3497400"/>
            <a:ext cx="2362320" cy="2273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99600" y="1370160"/>
            <a:ext cx="652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Два кубика у Маши, четыре - у Ната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    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Вы кубики все эти скорей сосчитайте, д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78400" y="36540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ри больших, три маленьких, маленьких, удаленьких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    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Целая семья опят. Сколько их на пне сидя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770520" y="3276720"/>
            <a:ext cx="2373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2895480" cy="2816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971800" y="4267080"/>
            <a:ext cx="966960" cy="118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962520" y="4267080"/>
            <a:ext cx="966600" cy="1181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876920" y="4267080"/>
            <a:ext cx="966600" cy="1181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791320" y="4267080"/>
            <a:ext cx="966600" cy="1181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3809880" y="5105520"/>
            <a:ext cx="966960" cy="1181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4952880" y="5105520"/>
            <a:ext cx="966960" cy="1181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44320" y="228240"/>
            <a:ext cx="75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Ёж спросил ежа-соседа:                      Собираю их в лес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Ты откуда, непоседа?                   Шесть принёс, одно не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Запасаюсь я к зиме.                             Призадумался сосе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идишь, яблоки на мне?                      Это сколько будет все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38188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28001" t="6782" r="23003" b="8478"/>
          <a:stretch/>
        </p:blipFill>
        <p:spPr>
          <a:xfrm>
            <a:off x="2666880" y="2819520"/>
            <a:ext cx="2874960" cy="3809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3120" y="-136080"/>
            <a:ext cx="7626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что похожа цифра 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семёрка-кочерга,                               Семь - точно острая ко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неё одна нога.                                        Коси, коса, пока, ос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      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. Маршак)                                                      (Г. Виер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похожи,                                           Что сказать о цифре 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ёрки на клюшки                                   Ты ведь знаешь дни нед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хоккеиста                                       Посчитай - ка их жив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ля старушки.                                   Если в счёте не собьёшьс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           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вно семь получишь 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5124600" cy="5753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674080" y="2359080"/>
            <a:ext cx="646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indent="90360">
              <a:lnSpc>
                <a:spcPct val="100000"/>
              </a:lnSpc>
              <a:buClr>
                <a:srgbClr val="99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Times New Roman"/>
              </a:rPr>
              <a:t>Какой седьмой день неде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lnSpc>
                <a:spcPct val="100000"/>
              </a:lnSpc>
              <a:buClr>
                <a:srgbClr val="99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lnSpc>
                <a:spcPct val="100000"/>
              </a:lnSpc>
              <a:buClr>
                <a:srgbClr val="99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Times New Roman"/>
              </a:rPr>
              <a:t>Чем он отличается от всех осталь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lnSpc>
                <a:spcPct val="100000"/>
              </a:lnSpc>
              <a:buClr>
                <a:srgbClr val="99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lnSpc>
                <a:spcPct val="100000"/>
              </a:lnSpc>
              <a:buClr>
                <a:srgbClr val="99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Times New Roman"/>
              </a:rPr>
              <a:t>Кто знает, какой седьмой месяц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lnSpc>
                <a:spcPct val="100000"/>
              </a:lnSpc>
              <a:buClr>
                <a:srgbClr val="99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Times New Roman"/>
              </a:rPr>
              <a:t>- У кого из вас  день рождения в этом месяц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52280" y="3809880"/>
            <a:ext cx="2057400" cy="1641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4191120"/>
            <a:ext cx="1009800" cy="819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343400" y="441972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3733920" y="3657600"/>
            <a:ext cx="866520" cy="838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4800600" y="3352680"/>
            <a:ext cx="914400" cy="847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4038480" y="2971800"/>
            <a:ext cx="952560" cy="771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5181480" y="2971800"/>
            <a:ext cx="31244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ат</cp:lastModifiedBy>
  <dcterms:modified xsi:type="dcterms:W3CDTF">2015-10-18T17:19:1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