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28.gif" ContentType="image/gif"/>
  <Override PartName="/ppt/media/image25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FCA-201B-4E94-A219-EFDB6BFA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515-7A22-4D69-A4BA-EC11BE06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673-5C87-4EA8-95CA-A68C3E31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2BF-FE39-4568-A289-07FFAD19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A15-FB83-49FF-8845-77B69786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6CF-259D-4DB5-9A8C-636791C8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D4E-AF30-4BCC-9AD0-AB3DAE3F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CB1-50CC-46B5-9773-B197E143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E4F-EA65-411D-9EA1-EF325A6E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D0D-52EA-45E9-95C3-A4C421F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ADE-18F0-43E8-BC7A-9EFFADC7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D5A-2A2E-4C86-8480-4C31D62C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83F7-B7B3-4A11-932B-A9EFD522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914400"/>
            <a:ext cx="525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Число 7.  Цифра 7</a:t>
            </a:r>
            <a:r>
              <a:rPr b="1" i="1" lang="en-US" sz="3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46484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накомить с образованием и составом числа 7, цифрой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репить представления о составе числа 6, взаимосвязь целого и частей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торить порядковый сч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математические представле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ывать желание узнавать новый мат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атериалы к занят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емонстрацион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числовой отрезок; опорные таблицы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репления состава чисел: «домино», «вагончик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ибы, кубики, картинки: белочка, 6 ореш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аздаточны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ружочки из цветной бумаги: жёлт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ые - по 7 штук каждого цвета; кубики LEGO двух цве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ски цветной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работал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Газизова Альбина Лен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991720" cy="5245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143160" y="2595600"/>
            <a:ext cx="28576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690480"/>
            <a:ext cx="761976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3595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66880" y="2362320"/>
            <a:ext cx="3543480" cy="354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3880" y="990720"/>
            <a:ext cx="601992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cc00"/>
                </a:solidFill>
                <a:latin typeface="Times New Roman"/>
              </a:rPr>
              <a:t>Спасибо за внимание!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cc00"/>
                </a:solidFill>
                <a:latin typeface="Times New Roman"/>
              </a:rPr>
              <a:t>Все большие молодцы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2256120" cy="281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990720" cy="79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371600" y="4724280"/>
            <a:ext cx="99072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343400" y="5181480"/>
            <a:ext cx="990720" cy="79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352680" y="4876920"/>
            <a:ext cx="990720" cy="79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362320" y="4800600"/>
            <a:ext cx="990360" cy="798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7040" y="379080"/>
            <a:ext cx="78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Я нашёл в дупле у белки пять лесных орешков мел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 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т ещё один лежит, мхом заботливо у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 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у и белка! Вот хозяйка! Все орешки сосчитай-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324320" cy="4121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00200" y="4114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4419720"/>
            <a:ext cx="1638360" cy="12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553080" y="3497400"/>
            <a:ext cx="2362320" cy="227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99600" y="1370160"/>
            <a:ext cx="652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Два кубика у Маши, четыре - у Ната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  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Вы кубики все эти скорей сосчитайте,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78400" y="3654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и больших, три маленьких, маленьких, удаленьких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    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Целая семья опят. Сколько их на пне сид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70520" y="3276720"/>
            <a:ext cx="2373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2895480" cy="281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971800" y="4267080"/>
            <a:ext cx="96696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962520" y="4267080"/>
            <a:ext cx="96660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876920" y="4267080"/>
            <a:ext cx="96660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791320" y="4267080"/>
            <a:ext cx="96660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809880" y="5105520"/>
            <a:ext cx="966960" cy="118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4952880" y="5105520"/>
            <a:ext cx="966960" cy="1181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4320" y="228240"/>
            <a:ext cx="75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Ёж спросил ежа-соседа:                      Собираю их в ле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Ты откуда, непоседа?                   Шесть принёс, одно н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Запасаюсь я к зиме.                             Призадумался сосе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идишь, яблоки на мне?                      Это сколько будет все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38188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28001" t="6782" r="23003" b="8478"/>
          <a:stretch/>
        </p:blipFill>
        <p:spPr>
          <a:xfrm>
            <a:off x="2666880" y="2819520"/>
            <a:ext cx="287496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3120" y="-136080"/>
            <a:ext cx="762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то похожа цифра 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семёрка-кочерга,                               Семь - точно острая ко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её одна нога.                                        Коси, коса, пока, ос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. Маршак)                                                      (Г. Вие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похожи,                                           Что сказать о цифре 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ёрки на клюшки                                   Ты ведь знаешь дни не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хоккеиста                                       Посчитай - ка их жив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ля старушки.                                   Если в счёте не собьёшьс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вно семь получишь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124600" cy="5753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74080" y="2359080"/>
            <a:ext cx="646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Times New Roman"/>
              </a:rPr>
              <a:t>Какой седьмой день нед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Times New Roman"/>
              </a:rPr>
              <a:t>Чем он отличается от всех осталь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Times New Roman"/>
              </a:rPr>
              <a:t>Кто знает, какой седьмой месяц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Times New Roman"/>
              </a:rPr>
              <a:t>- У кого из вас  день рождения в этом меся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2057400" cy="164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4191120"/>
            <a:ext cx="1009800" cy="81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343400" y="441972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733920" y="3657600"/>
            <a:ext cx="866520" cy="838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4800600" y="3352680"/>
            <a:ext cx="914400" cy="847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4038480" y="2971800"/>
            <a:ext cx="952560" cy="77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5181480" y="2971800"/>
            <a:ext cx="3124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ат</cp:lastModifiedBy>
  <dcterms:modified xsi:type="dcterms:W3CDTF">2015-10-18T17:19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