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C27-B844-408D-8F6D-704F729F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F37-3475-4856-B8BA-B5A76BF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01A-98B0-4753-A4FA-362008F3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303-60ED-4A10-BA5F-6DCD6066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97A9-54A6-47FD-AE57-EC0BB690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ED4-3204-4174-B6DD-FC801AA5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B75-1317-40D4-BE5B-494C8D7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A6E-89A2-4048-8E57-2F3D58E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4B3-B708-4D08-9C2D-568F2C50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F40B-006B-4907-8A92-A44D306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FAC-4529-4C42-904D-532D915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44D-EAD4-4426-9DB5-527519E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8D5C-D2DC-4E4B-81C1-BEA9FE6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42C3-4092-4BFE-931D-7232570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2D33-EB08-4BA9-9920-E3B769C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A78F-F7D1-414D-A4FC-0A907DF8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1E94-F601-4E7B-9F77-C149809A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A93-0587-439D-8FF3-D3760EE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A72-48A4-478A-9A18-F167C6D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4EB-9F89-421F-A8C7-A757042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0BB-B9E4-4653-B143-19B50F8A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8C6-7A3D-445A-874E-ED9DD82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B48-A4D9-4AFD-97AF-5F53304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748-2DEA-4C45-A9F4-7530BC6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8E6-AD8C-49DF-95FA-97243ECDD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1A28-6134-4285-AAE8-B615C14F572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49636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дрение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едерального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государственного образовательного стандарта в дошкольного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348000" y="4508280"/>
            <a:ext cx="57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рший воспитатель МКДО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тский сад «Торг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арцхаева В.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вая игра: «Знаем ли ФГОС?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мыслительную деятельность педагогов в знании основных положений, понятий, принципов ФГ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ровень профессиональной подготовленности педагогов к внедрению ФГ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аргументировано отстаивать свою точку зрения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опросы к игр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26920" y="2017440"/>
            <a:ext cx="80661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образовательных областей предусматривает ФГОС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недостающее по ФГОС направление развития и образования детей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циально-коммуникатив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чев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художественно-эстетическ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зическое развит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 не относится  к видам детской деятельности для детей 3-8 лет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анипулирование с предметам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вательно-исследовательска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осприятие художественной литературы и фольклор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берите правильное соотношение обязательной части программы и Части, формируемой участниками процесс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80% и 20%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0% и 40%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0% и 50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560" y="201780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зовите основное направление развития ребенка по ФГОС Д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мет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ичностное развити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метапредметное развит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пределите время реализации ООП Д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т 65% до 80% времени пребывания детей в ДО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олько во время заняти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реализовываться в течение всего времени пребывания детей в организац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42560" y="20178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осстановите правильную структуру документа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требования к структуре образовательной программы ДО и объем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общие полож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требования к результатам освоения основной образовательной программы ДО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требования к условиям реализации основной образовательной программы  дошкольного образования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к в Стандарте ДО определена Программ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грамма обучения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программа психолого-педагогической поддержки позитивной социализации и индивидуализ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программа воспитания и обу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Назовите, что не является основным разделом Программы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целево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установочны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содержательны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организационны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а что нацелен Стандарт ДО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формирование ЗУН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формирование интегративных качеств личност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целевые ориентиры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авильные ответ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44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знавательное развит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нипулирование с предмет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60% и 40%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ичностное развит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жет реализовываться в течение всего времени пребывания детей в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(б,а,г,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грамма психолого-педагогической поддержки позитивной социализации и индивидуал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становоч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Целевые ориентиры до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ГОС дошкольного образования разработан на основ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56536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и ООН о правах реб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Это должен знать каждый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1484280"/>
            <a:ext cx="827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1155 от 17 октября 2013г Министерства образования и науки – «Об утверждении федерального государственного образовательного стандарта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стандарт ДО разработан впервые в Российской истории в соответствии с требованиями федерального закона «Об образовании в РФ» и вступил в силу с 1 января 2014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а велась с 30 января 2013г рабочей группой ведущих экспертов в сфере ДО под руководством дир.ФИРО А.Асмол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9292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1773000"/>
            <a:ext cx="7920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циального статуса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 Российской Федерации относительно уровня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48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храны и укрепления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равных возможностей для полноценного развития каждого ребёнка 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преемственности целей, задач и содержания образования, реализуемых в рамках образовательных программ различных уровней (далее -преемственность основных образовательных программ дошкольного и начального общего образования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создания благоприятных условий развития детей в соответствии с их возрастными   и   индивидуальными   особенностями   и   склонностями,   развития способностей и творческого потенциала каждого ребё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971640" y="765000"/>
            <a:ext cx="7777080" cy="63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-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формирования общей культуры личности детей, в том числе ценностей здорового образа жизни, развития их социальных, нравственных, эстетических, интеллектуальных, физических качеств, инициативности, самостоятельности и ответственности ребёнка, формирования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обеспечения вариативности и разнообразия содержания Программ и организационных форм дошкольного образования, возможности формирования Программ различной направленности с учётом образовательных потребностей, способностей и состояния здоровья дет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формирования социокультурной среды, соответствующей возрастным, индивидуальным, психологическим и физиологическим особенностям дет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обеспечения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ндарт включает в себя требования к: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201780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 Программы и ее объе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м реализации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ам освоения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ребования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99640" y="2133720"/>
            <a:ext cx="7775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Содержимое 7" descr=""/>
          <p:cNvPicPr/>
          <p:nvPr/>
        </p:nvPicPr>
        <p:blipFill>
          <a:blip r:embed="rId1"/>
          <a:stretch/>
        </p:blipFill>
        <p:spPr>
          <a:xfrm>
            <a:off x="768240" y="1352520"/>
            <a:ext cx="7974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обходимость разработки ФГО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240" y="201780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нового закона «Об образовании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дошкольного образования самостоятельным уровнем общего образов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единства и непрерывности  российско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3:28:46Z</dcterms:created>
  <dc:creator>Elena Yudina</dc:creator>
  <dc:description/>
  <dc:language>en-US</dc:language>
  <cp:lastModifiedBy>ВЕРА</cp:lastModifiedBy>
  <dcterms:modified xsi:type="dcterms:W3CDTF">2015-10-18T13:34:06Z</dcterms:modified>
  <cp:revision>56</cp:revision>
  <dc:subject/>
  <dc:title>Стандарт дошкольного образования: принципы и подходы</dc:title>
</cp:coreProperties>
</file>