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0B28-B685-4334-A8AD-780FCD26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A12-19FD-4478-9FE1-700AEFC5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F92-68EE-4669-BBDA-DC434E3A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F08-415E-48E1-84EA-884613D6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CDDC-9600-4D15-B377-22251004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A13D-0F85-48C0-BD34-8ABB9476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FE34-F560-42DB-B7B4-3084EA02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7B80-49E2-4C16-BA6A-0B1386AC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D287-7E8C-4E4E-A7AA-407D37C8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BA09-0C70-44F4-A99C-6392CB0A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170F-3CA7-42B6-8236-EFB5AF4A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5F92-6137-4676-883B-4F0FC401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D2F2-34FC-4335-9EF9-05882C8E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B34E-B8A1-4D80-8BF9-598731AC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1B34-FA0C-4B7F-A876-37B3DE3E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5285-FBE3-4B03-8F45-25D631F1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942F-1BAC-4863-A1AB-74506B47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CC03-9340-4506-81BE-5635C598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19BA-1437-4ADA-940E-A3D9AE71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64D-1292-48FF-93E2-4E2ACA98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0194-E3BC-4448-8367-17947D5E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391-026E-4279-AA83-F186FCC8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90B-011E-48B1-A7A4-D90121B6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EFDF-04F4-4182-9004-73920FD0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6BB0-9285-4193-B652-CE4F1F5D39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CD38-4F18-4FE3-A057-20CAF234A0F7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496360" cy="187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дрение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Федерального</a:t>
            </a: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государственного образовательного стандарта в дошкольного образова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348000" y="4508280"/>
            <a:ext cx="5796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арший воспитатель МКДО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етский сад «Торг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Харцхаева В.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6920" y="549360"/>
            <a:ext cx="7417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еловая игра: «Знаем ли ФГОС?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ировать мыслительную деятельность педагогов в знании основных положений, понятий, принципов ФГО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уровень профессиональной подготовленности педагогов к внедрению ФГО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е аргументировано отстаивать свою точку зрения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Вопросы к игре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26920" y="2017440"/>
            <a:ext cx="806616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колько образовательных областей предусматривает ФГОС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азовите недостающее по ФГОС направление развития и образования детей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оциально-коммуникативное развити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речевое развити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художественно-эстетическое развити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физическое развит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2600" y="170028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Что не относится  к видам детской деятельности для детей 3-8 лет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манипулирование с предметами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знавательно-исследовательска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осприятие художественной литературы и фольклор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Выберите правильное соотношение обязательной части программы и Части, формируемой участниками процесса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80% и 20%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60% и 40%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50% и 50%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26560" y="2017800"/>
            <a:ext cx="770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Назовите основное направление развития ребенка по ФГОС ДО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едметное развити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личностное развити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метапредметное развит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пределите время реализации ООП ДО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т 65% до 80% времени пребывания детей в ДО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олько во время занятий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может реализовываться в течение всего времени пребывания детей в организаци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42560" y="20178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Восстановите правильную структуру документа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требования к структуре образовательной программы ДО и объему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общие положе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требования к результатам освоения основной образовательной программы ДО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требования к условиям реализации основной образовательной программы  дошкольного образования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Как в Стандарте ДО определена Программ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ограмма обучения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программа психолого-педагогической поддержки позитивной социализации и индивидуализа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программа воспитания и обуч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2600" y="2017800"/>
            <a:ext cx="749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Назовите, что не является основным разделом Программы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целевой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установочный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содержательный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организационны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На что нацелен Стандарт ДО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формирование ЗУН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формирование интегративных качеств личности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целевые ориентиры дошкольного образования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авильные ответы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82600" y="2017440"/>
            <a:ext cx="77724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(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знавательное развит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анипулирование с предметам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60% и 40%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Личностное развит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Может реализовываться в течение всего времени пребывания детей в организ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(б,а,г,в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рограмма психолого-педагогической поддержки позитивной социализации и индивидуализ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Установочн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Целевые ориентиры дошкольного образов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ГОС дошкольного образования разработан на основ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56536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и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ства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и ООН о правах ребе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Это должен знать каждый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360" y="1484280"/>
            <a:ext cx="827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№ 1155 от 17 октября 2013г Министерства образования и науки – «Об утверждении федерального государственного образовательного стандарта дошкольного образова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государственный стандарт ДО разработан впервые в Российской истории в соответствии с требованиями федерального закона «Об образовании в РФ» и вступил в силу с 1 января 2014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тандарта велась с 30 января 2013г рабочей группой ведущих экспертов в сфере ДО под руководством дир.ФИРО А.Асмоло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79292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Цел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00000" y="1773000"/>
            <a:ext cx="79200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социального статуса дошкольного образова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государством равенства возможностей для каждого ребёнка в получении качественного дошкольного образова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государственных гарантий уровня и качества дошкольного образования на основе единства обязательных требований к условиям реализации образовательных программ дошкольного образования, их структуре и результатам их освое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единства образовательного пространства Российской Федерации относительно уровня дошкольного образования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9128160"/>
                <a:tab algn="l" pos="10040760"/>
                <a:tab algn="l" pos="1095372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адачи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84872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охраны и укрепления физического и психического здоровья детей, в том числе их эмоционального благополуч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обеспечения равных возможностей для полноценного развития каждого ребёнка в период дошкольного детства независимо от места жительства, пола, нации, языка, социального статуса, психофизиологических и других особенностей (в том числе ограниченных возможностей здоровья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обеспечения преемственности целей, задач и содержания образования, реализуемых в рамках образовательных программ различных уровней (далее -преемственность основных образовательных программ дошкольного и начального общего образования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создания благоприятных условий развития детей в соответствии с их возрастными   и   индивидуальными   особенностями   и   склонностями,   развития способностей и творческого потенциала каждого ребёнка как субъекта отношений с самим собой, другими детьми, взрослыми и миром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>
            <a:off x="971640" y="765000"/>
            <a:ext cx="7777080" cy="63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-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ия обучения и воспитания в целостный образовательный процесс на основе духовно-нравственных и социокультурных ценностей и принятых в обществе правил и норм поведения в интересах человека, семьи, обществ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формирования общей культуры личности детей, в том числе ценностей здорового образа жизни, развития их социальных, нравственных, эстетических, интеллектуальных, физических качеств, инициативности, самостоятельности и ответственности ребёнка, формирования предпосылок учебной деятельност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обеспечения вариативности и разнообразия содержания Программ и организационных форм дошкольного образования, возможности формирования Программ различной направленности с учётом образовательных потребностей, способностей и состояния здоровья детей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формирования социокультурной среды, соответствующей возрастным, индивидуальным, психологическим и физиологическим особенностям детей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обеспечения психолого-педагогической поддержки семьи и повышения компетентности родителей (законных представителей) в вопросах развития и образования, охраны и укрепления здоровья дет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3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3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3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андарт включает в себя требования к:</a:t>
            </a:r>
            <a:br>
              <a:rPr sz="5400"/>
            </a:br>
            <a:br>
              <a:rPr sz="54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6920" y="2017800"/>
            <a:ext cx="777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е Программы и ее объем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м реализации Программ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ам освоения Программ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8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Требования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99640" y="2133720"/>
            <a:ext cx="777564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Содержимое 7" descr=""/>
          <p:cNvPicPr/>
          <p:nvPr/>
        </p:nvPicPr>
        <p:blipFill>
          <a:blip r:embed="rId1"/>
          <a:stretch/>
        </p:blipFill>
        <p:spPr>
          <a:xfrm>
            <a:off x="768240" y="1352520"/>
            <a:ext cx="79740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еобходимость разработки ФГОС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240" y="2017800"/>
            <a:ext cx="767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е нового закона «Об образовании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ние дошкольного образования самостоятельным уровнем общего образова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единства и непрерывности  российского образов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3:28:46Z</dcterms:created>
  <dc:creator>Elena Yudina</dc:creator>
  <dc:description/>
  <dc:language>en-US</dc:language>
  <cp:lastModifiedBy>ВЕРА</cp:lastModifiedBy>
  <dcterms:modified xsi:type="dcterms:W3CDTF">2015-10-18T13:34:06Z</dcterms:modified>
  <cp:revision>56</cp:revision>
  <dc:subject/>
  <dc:title>Стандарт дошкольного образования: принципы и подходы</dc:title>
</cp:coreProperties>
</file>