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BA90-85CD-4AF6-A9CC-BD569E8599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66C6-0659-499F-B053-553F799424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628-5224-457D-B1DB-BCFFA41F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458-71E0-4E87-A000-F39D7038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28D-2024-4CA7-9E18-9A94F376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302-1472-491D-9F9E-0214E57E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D96-2AD3-4D79-9477-832A1AA7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EF3-F09A-42BB-B714-9A2D0A83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9EA-C8ED-46A7-BD43-554F7B2E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9B0-F789-4FDD-BED5-8C306B5D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2AC-D2FA-4810-9DDC-406CD9EA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559-8245-46C5-A8FA-EE0FFAFF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66D-23B5-43D1-9A39-8300EF13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2B7-B2C7-48EC-B4D3-672E930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DA13-F121-46C9-86E6-D8829A332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жрегиональные Мартыновские чт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образовательное учреждение средняя общеобразовательная школа №2 имени Героя Советского Союза Шамаева П.С.  г Петровска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О чем плачет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река Медведица?»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429160" y="450072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у 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 1 «А» класса Кузьмичёва Ангелина и Чернова Варвар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ашникова М.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858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ица снабжает водой промышленные и сельскохозяйственные предприятия, население районов расположенных на её берегах. По берегам расположены турбазы, дома отдыха, детские лагер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C:\Documents and Settings\Админ\Рабочий стол\медведица\1158770189109.jpg"/>
          <p:cNvPicPr/>
          <p:nvPr/>
        </p:nvPicPr>
        <p:blipFill>
          <a:blip r:embed="rId1"/>
          <a:stretch/>
        </p:blipFill>
        <p:spPr>
          <a:xfrm>
            <a:off x="785880" y="3643200"/>
            <a:ext cx="39290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видим следующие причины «старения» ре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иливание русла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аспашка земли вблизи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Большое испарение воды и малое количество осад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еблагоприятное вмешательство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85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Пути решения причин «старения» реки Медвед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вскрыть донные родники, увеличить глубину реки и пру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p61_0"/>
          <p:cNvPicPr/>
          <p:nvPr/>
        </p:nvPicPr>
        <p:blipFill>
          <a:blip r:embed="rId1"/>
          <a:stretch/>
        </p:blipFill>
        <p:spPr>
          <a:xfrm>
            <a:off x="2286000" y="3429000"/>
            <a:ext cx="5934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2920" y="142920"/>
            <a:ext cx="82152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 беспокоит неблагоприятное вмешательство человека в естественные природные процессы экосистем водоёмов. Кто из нас не был свидетелем загрязнения рек бытовыми и сточными водами? Довольно часто можно видеть, как моют возле реки машины, мотоциклы. При этом в воду попадает бензин, что опасно для существования подводного ми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286160" y="3594240"/>
            <a:ext cx="40719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5840" y="2142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астую мы встречаемся с нарушением водоохранной растительной зоны. А вопрос браконьерства? Пора смотреть правде в глаза: идёт настоящая война против рыбы. По берегам многочисленны свалки бытового мусора, навозные и компостные кучи, при разложении которых различные вещества попадают в р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429080" y="4214880"/>
            <a:ext cx="3809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42840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а является одним из самых больших богатств природы. Большинство населённых пунктов, как и Петровск , расположено на различных водоёмах. А как же иначе, ведь вода – это жизнь. Наша река, как и многие другие степные реки края, оказалась в сложной экологической ситуации. В большей степени за это ответственны люди. Мы только начали работу по изучению проблем реки Медведицы и в будущем намерены продолжить её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овь к малой родине надо прививать с детства, со школьной скамь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o4.imgsmail.ru/imgpreview?key=http%3A//slazav.mccme.ru/photo/vorg07/2313.jpg&amp;mb=imgdb_preview_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57120" y="2500200"/>
            <a:ext cx="821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знакомится с историей заселения и географической характеристикой реки Медведиц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учить проблемы современного состояния реки Медведицы.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причины «старения» реки Медведиц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тараться найти выход из сложившейся ситу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исхождение реки Медведиц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900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пишут писатели – краеведы Б. Лащилин и В. Круглов, берега реки Медведицы были покрыты непроходимыми лесами. В здешних глухих местах, зарослях первые поселенцы увидели много медведей, поэтому и назвали реку Медведице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C:\Documents and Settings\Админ\Рабочий стол\медведица\090cd162eeb6bc28b02e66500be32577.jpeg"/>
          <p:cNvPicPr/>
          <p:nvPr/>
        </p:nvPicPr>
        <p:blipFill>
          <a:blip r:embed="rId1"/>
          <a:stretch/>
        </p:blipFill>
        <p:spPr>
          <a:xfrm>
            <a:off x="5929200" y="1714680"/>
            <a:ext cx="27147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исхождение реки Медведи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0040" y="1357200"/>
            <a:ext cx="761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из русских топонимистов А. Ф. Орлов считает, что название Медведица происходит от “Медведа” (из “меда”, “медва”). Кстати Б. Лащилин пишет о таком промысле, как бортничество (сбор мёда) в лесах Медведиц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C:\Documents and Settings\Админ\Рабочий стол\медведица\15.jpg"/>
          <p:cNvPicPr/>
          <p:nvPr/>
        </p:nvPicPr>
        <p:blipFill>
          <a:blip r:embed="rId1"/>
          <a:stretch/>
        </p:blipFill>
        <p:spPr>
          <a:xfrm>
            <a:off x="6286680" y="4357800"/>
            <a:ext cx="24285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еге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840" y="2000160"/>
            <a:ext cx="6186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уществует одна красивая легенда о названии нашей реки. Давным-давно наша местность была покрыта вековыми соснами и другими деревьями. Птицам, зверям, рыбам жилось привольно, еще ни разу не ступала нога человека в этих дивных местах. Но вот появился охотник-человек. Он увидел берлогу медведицы и ее маленьких медвежат. Натянул лук охотник и убил медвежат, а медведица осталась одна в берлоге оплакивать свое материнское горе. Она так любила своих медвежат и так страдала, что не выдержала земля и заплакала вместе с ней. И на том месте, где была берлога медведицы, стали бить ключи. Как бы напоминая людям о том жестоком охотнике, о жестокости вообще. Ключи, бившие из берлоги медведицы, соединились с другими ключами, образовали реку, которую назвали люди Медведицей в честь матери - медведи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ографическое положение реки Медведи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599840"/>
            <a:ext cx="80722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́дица — река в Саратовской и Волгоградской областях России, левый приток Дона, несудоходна. Длина 745 км, площадь бассейна 34,7 тыс. км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дмин\Рабочий стол\медведица\default.png"/>
          <p:cNvPicPr/>
          <p:nvPr/>
        </p:nvPicPr>
        <p:blipFill>
          <a:blip r:embed="rId1"/>
          <a:srcRect l="0" t="0" r="0" b="13260"/>
          <a:stretch/>
        </p:blipFill>
        <p:spPr>
          <a:xfrm>
            <a:off x="1785960" y="3786120"/>
            <a:ext cx="5989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ритоки: справа — Аткара, Белгаза, Баланда, Терса; слева — Сосновка, Большой Колышлей, Идолга, Карамыш, Арч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Админ\Рабочий стол\медведица\002.jpg"/>
          <p:cNvPicPr/>
          <p:nvPr/>
        </p:nvPicPr>
        <p:blipFill>
          <a:blip r:embed="rId1"/>
          <a:stretch/>
        </p:blipFill>
        <p:spPr>
          <a:xfrm>
            <a:off x="428760" y="1285920"/>
            <a:ext cx="7858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360" y="428760"/>
            <a:ext cx="3143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мерзает в начале декабря, вскрывается в конце марта — начале апрел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ериод весеннего половодья проносит больше половины всего годового стока. В летний период Медведица меле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Админ\Рабочий стол\медведица\P2060266.JPG"/>
          <p:cNvPicPr/>
          <p:nvPr/>
        </p:nvPicPr>
        <p:blipFill>
          <a:blip r:embed="rId1"/>
          <a:stretch/>
        </p:blipFill>
        <p:spPr>
          <a:xfrm>
            <a:off x="3214800" y="857160"/>
            <a:ext cx="5500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а может быть рекомендована туристам, путешествующим с детьми и начинающим. Большое удовольствие доставит она любителям певчих птиц, которых по берегам, особенно в мае-июне, великое множество, а так же рыболовам; река главным образом ниже Красного Яра, богата рыб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Documents and Settings\Админ\Рабочий стол\медведица\13.jpg"/>
          <p:cNvPicPr/>
          <p:nvPr/>
        </p:nvPicPr>
        <p:blipFill>
          <a:blip r:embed="rId1"/>
          <a:stretch/>
        </p:blipFill>
        <p:spPr>
          <a:xfrm>
            <a:off x="4071960" y="3643200"/>
            <a:ext cx="39290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лександр</cp:lastModifiedBy>
  <dcterms:modified xsi:type="dcterms:W3CDTF">2013-03-24T10:35:52Z</dcterms:modified>
  <cp:revision>31</cp:revision>
  <dc:subject/>
  <dc:title>Муниципальное образовательное учреждение средняя общеобразовательная школа №2имени героя Советского Союза Шамаева П.С.  г Петровска</dc:title>
</cp:coreProperties>
</file>