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74211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E216F-D176-47E4-8F6E-3812900F1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D8262-1AA0-4D2C-BDB0-953A1263E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B7F1F-E024-4D17-A832-BEF278327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31373-3774-4EE3-97A2-4C123ABE6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45121-801F-4DFF-A8B9-22FB8DE1F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85E18-C442-4223-AD14-3AD9507E0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1118F-D49E-407A-8A02-825F6B50C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E3A14-5410-4F6A-B33C-A2E5F3305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88934-AA02-41AB-A3C5-E6CEF9523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A8A05-1114-40A0-8845-AB4839EAA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AE1A4-375B-48C1-B599-7DF2E375B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13D8A-1814-40BB-9453-73940AB0A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940D5-A7A4-4911-84D9-BF45069F7010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2060280"/>
            <a:ext cx="79200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66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47640" y="3716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Calibri"/>
              </a:rPr>
              <a:t>Коллективный проект, осуществлённый учениками 4-б кл. МБОУ СОШ №6 в апреле-сентябре 2014 г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WordArt 5"/>
          <p:cNvSpPr txBox="1"/>
          <p:nvPr/>
        </p:nvSpPr>
        <p:spPr>
          <a:xfrm>
            <a:off x="1908000" y="2708280"/>
            <a:ext cx="5029200" cy="10191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2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Огородники</a:t>
            </a:r>
            <a:endParaRPr b="0" lang="en-US" sz="7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6600"/>
                </a:solidFill>
                <a:latin typeface="Calibri Light"/>
              </a:rPr>
              <a:t>Адреса поиска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Calibri"/>
              </a:rPr>
              <a:t>В энциклопеди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Calibri"/>
              </a:rPr>
              <a:t>В книжках в библиотек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Calibri"/>
              </a:rPr>
              <a:t>В журналах по садоводству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Calibri"/>
              </a:rPr>
              <a:t>В интернет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Calibri"/>
              </a:rPr>
              <a:t>Спросить у мамы или бабушк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6600"/>
                </a:solidFill>
                <a:latin typeface="Calibri Light"/>
              </a:rPr>
              <a:t>Работа в группах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Calibri"/>
              </a:rPr>
              <a:t>1 группа ищет ответ на вопрос: «Где родина томатов?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Calibri"/>
              </a:rPr>
              <a:t>2 группа ищет ответ на вопрос: «Как томат попал к нам?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Calibri"/>
              </a:rPr>
              <a:t>3 группа ищет ответ на вопрос: «Какие блюда можно приготовить из томатов?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Calibri"/>
              </a:rPr>
              <a:t>4 группа ищет ответ на вопрос: «Чем полезен томат?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9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4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9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4" dur="5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9" dur="5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6600"/>
                </a:solidFill>
                <a:latin typeface="Calibri Light"/>
              </a:rPr>
              <a:t>Прошла неделя…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Calibri"/>
              </a:rPr>
              <a:t>В понедельник 7 апреля девочки заметили в стаканчиках зелёные ростки Все очень обрадовались. Пакеты сняли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Calibri"/>
              </a:rPr>
              <a:t>Дежурным вменили в обязанности  ухаживать за растениями и вовремя их поливать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Рисунок 4" descr="Прореживание рассады помидоров и перцев (3).JPG"/>
          <p:cNvPicPr/>
          <p:nvPr/>
        </p:nvPicPr>
        <p:blipFill>
          <a:blip r:embed="rId1"/>
          <a:stretch/>
        </p:blipFill>
        <p:spPr>
          <a:xfrm>
            <a:off x="785880" y="4000680"/>
            <a:ext cx="2000160" cy="1500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indefinite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indefinite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51" dur="indefinite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55" dur="indefinite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00"/>
                </a:solidFill>
                <a:latin typeface="Calibri Light"/>
              </a:rPr>
              <a:t>Рассада быстро росла. Вот уже и настоящие листочки появились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68" name="Содержимое 3" descr="IMG_0035.jpg"/>
          <p:cNvPicPr/>
          <p:nvPr/>
        </p:nvPicPr>
        <p:blipFill>
          <a:blip r:embed="rId1"/>
          <a:stretch/>
        </p:blipFill>
        <p:spPr>
          <a:xfrm>
            <a:off x="642960" y="1714680"/>
            <a:ext cx="2994120" cy="2246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6600"/>
                </a:solidFill>
                <a:latin typeface="Calibri Light"/>
              </a:rPr>
              <a:t>Настало время пикировки.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Calibri"/>
              </a:rPr>
              <a:t>Словарь 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Calibri"/>
              </a:rPr>
              <a:t>Пикировка-пересадка рассады в отдельные стаканчик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Calibri"/>
              </a:rPr>
              <a:t>Центральный корень-главный корень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Calibri"/>
              </a:rPr>
              <a:t>Боковые корни-корни, растущие от центрального корн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edge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768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2" dur="768" fill="hold"/>
                                        <p:tgtEl>
                                          <p:spTgt spid="6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4" dur="768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6" dur="768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6600"/>
                </a:solidFill>
                <a:latin typeface="Calibri Light"/>
              </a:rPr>
              <a:t>Алгоритм пикировки</a:t>
            </a:r>
            <a:r>
              <a:rPr b="0" i="1" lang="ru-RU" sz="4400" spc="-1" strike="noStrike">
                <a:solidFill>
                  <a:srgbClr val="000000"/>
                </a:solidFill>
                <a:latin typeface="Calibri Light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6600"/>
                </a:solidFill>
                <a:latin typeface="Calibri"/>
              </a:rPr>
              <a:t> </a:t>
            </a:r>
            <a:r>
              <a:rPr b="0" lang="ru-RU" sz="1500" spc="-1" strike="noStrike">
                <a:solidFill>
                  <a:srgbClr val="006600"/>
                </a:solidFill>
                <a:latin typeface="Calibri"/>
              </a:rPr>
              <a:t>1. Полейте растения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6600"/>
                </a:solidFill>
                <a:latin typeface="Calibri"/>
              </a:rPr>
              <a:t>2. Подождите, пока вода впитается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6600"/>
                </a:solidFill>
                <a:latin typeface="Calibri"/>
              </a:rPr>
              <a:t>3. Возьмите пустой стаканчик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6600"/>
                </a:solidFill>
                <a:latin typeface="Calibri"/>
              </a:rPr>
              <a:t>4. Насыпьте в стаканчик грунт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6600"/>
                </a:solidFill>
                <a:latin typeface="Calibri"/>
              </a:rPr>
              <a:t>5. Палочкой сделайте ямку в грунте 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6600"/>
                </a:solidFill>
                <a:latin typeface="Calibri"/>
              </a:rPr>
              <a:t>6. Осторожно воткните палочку возле растения, которое собираетесь пересаживать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6600"/>
                </a:solidFill>
                <a:latin typeface="Calibri"/>
              </a:rPr>
              <a:t>7. Подденьте растение снизу вместе с почвой и слегка приподнимите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6600"/>
                </a:solidFill>
                <a:latin typeface="Calibri"/>
              </a:rPr>
              <a:t>8. Левой рукой осторожно возьмитесь за стебелёк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6600"/>
                </a:solidFill>
                <a:latin typeface="Calibri"/>
              </a:rPr>
              <a:t>9. Выньте растение из почвы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6600"/>
                </a:solidFill>
                <a:latin typeface="Calibri"/>
              </a:rPr>
              <a:t>10. Поместите корни растения в ямку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6600"/>
                </a:solidFill>
                <a:latin typeface="Calibri"/>
              </a:rPr>
              <a:t>11. Осторожно прижмите почву к корням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6600"/>
                </a:solidFill>
                <a:latin typeface="Calibri"/>
              </a:rPr>
              <a:t>12. Полейте пересаженное растение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6600"/>
                </a:solidFill>
                <a:latin typeface="Calibri"/>
              </a:rPr>
              <a:t>13. Подсыпьте почву в тот стаканчик, откуда взяли растение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6600"/>
                </a:solidFill>
                <a:latin typeface="Calibri"/>
              </a:rPr>
              <a:t>14. Поставьте растения на поддон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6600"/>
                </a:solidFill>
                <a:latin typeface="Calibri"/>
              </a:rPr>
              <a:t>15. Вымойте руки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7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7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7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7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7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7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6600"/>
                </a:solidFill>
                <a:latin typeface="Calibri Light"/>
              </a:rPr>
              <a:t>В ожидании лета.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Calibri"/>
              </a:rPr>
              <a:t>Рассада подрастала на подоконнике. Ребята ухаживали за ней и сдавали итоговую аттестацию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Рисунок 3" descr="11.jpg"/>
          <p:cNvPicPr/>
          <p:nvPr/>
        </p:nvPicPr>
        <p:blipFill>
          <a:blip r:embed="rId1"/>
          <a:stretch/>
        </p:blipFill>
        <p:spPr>
          <a:xfrm>
            <a:off x="714240" y="3357720"/>
            <a:ext cx="2938680" cy="20001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0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898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898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6600"/>
                </a:solidFill>
                <a:latin typeface="Calibri Light"/>
              </a:rPr>
              <a:t>А лето уже было не за горами.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Calibri"/>
              </a:rPr>
              <a:t>В последний  день учебного года каждый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Calibri"/>
              </a:rPr>
              <a:t>ученик взял по одному растению томата и  бархотца. Остальные растения раздали всем желающи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0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9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5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94920" y="-360"/>
            <a:ext cx="849636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6600"/>
                </a:solidFill>
                <a:latin typeface="Calibri Light"/>
              </a:rPr>
              <a:t>Сводная таблица наблюдений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611280" y="1125360"/>
          <a:ext cx="8229600" cy="4397400"/>
        </p:xfrm>
        <a:graphic>
          <a:graphicData uri="http://schemas.openxmlformats.org/drawingml/2006/table">
            <a:tbl>
              <a:tblPr/>
              <a:tblGrid>
                <a:gridCol w="1245960"/>
                <a:gridCol w="1428840"/>
                <a:gridCol w="1714680"/>
                <a:gridCol w="1096920"/>
                <a:gridCol w="1371600"/>
                <a:gridCol w="1371600"/>
              </a:tblGrid>
              <a:tr h="102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Ф.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Вид возделыва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Ух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Цветение 1 кис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Созревание первого плод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Общее кол-в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плод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обанова Лиз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крытый грун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ив , рыхл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9.07.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.07.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шт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– зрелы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- зелён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шкалова Наст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крытый грун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ив , рыхление, подкорм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 шт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 - зрелы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копова Маш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крытый грун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ив , рыхление , подкормки , опрыскивание фитоспорино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.06.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2.08.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 шт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 - зрелы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0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428760" y="428760"/>
          <a:ext cx="8229600" cy="2095200"/>
        </p:xfrm>
        <a:graphic>
          <a:graphicData uri="http://schemas.openxmlformats.org/drawingml/2006/table">
            <a:tbl>
              <a:tblPr/>
              <a:tblGrid>
                <a:gridCol w="1245960"/>
                <a:gridCol w="1428840"/>
                <a:gridCol w="1714680"/>
                <a:gridCol w="1096920"/>
                <a:gridCol w="1371600"/>
                <a:gridCol w="1371600"/>
              </a:tblGrid>
              <a:tr h="102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Ф.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Вид возделыва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Ух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Цветение 1 кис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Созревание первого плод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Общее кол-в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плод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гадулаев Расу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плиц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ыхление , полив , подкормки , опрыскива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щи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82" name="Рисунок 6" descr="IMG_0038.jpg"/>
          <p:cNvPicPr/>
          <p:nvPr/>
        </p:nvPicPr>
        <p:blipFill>
          <a:blip r:embed="rId1"/>
          <a:stretch/>
        </p:blipFill>
        <p:spPr>
          <a:xfrm>
            <a:off x="1285920" y="2714760"/>
            <a:ext cx="2574720" cy="3500280"/>
          </a:xfrm>
          <a:prstGeom prst="rect">
            <a:avLst/>
          </a:prstGeom>
          <a:ln w="0">
            <a:noFill/>
          </a:ln>
        </p:spPr>
      </p:pic>
      <p:pic>
        <p:nvPicPr>
          <p:cNvPr id="83" name="Рисунок 8" descr="IMG_0040.jpg"/>
          <p:cNvPicPr/>
          <p:nvPr/>
        </p:nvPicPr>
        <p:blipFill>
          <a:blip r:embed="rId2"/>
          <a:stretch/>
        </p:blipFill>
        <p:spPr>
          <a:xfrm>
            <a:off x="5643720" y="2786040"/>
            <a:ext cx="3071520" cy="2182680"/>
          </a:xfrm>
          <a:prstGeom prst="rect">
            <a:avLst/>
          </a:prstGeom>
          <a:ln w="0">
            <a:noFill/>
          </a:ln>
        </p:spPr>
      </p:pic>
      <p:pic>
        <p:nvPicPr>
          <p:cNvPr id="84" name="Рисунок 7" descr="IMG_0039.jpg"/>
          <p:cNvPicPr/>
          <p:nvPr/>
        </p:nvPicPr>
        <p:blipFill>
          <a:blip r:embed="rId3"/>
          <a:stretch/>
        </p:blipFill>
        <p:spPr>
          <a:xfrm>
            <a:off x="3214800" y="4214880"/>
            <a:ext cx="3128760" cy="22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6600"/>
                </a:solidFill>
                <a:latin typeface="Calibri Light"/>
              </a:rPr>
              <a:t>Цель проекта: научить ухаживать за растениями.</a:t>
            </a:r>
            <a:r>
              <a:rPr b="0" i="1" lang="ru-RU" sz="4000" spc="-1" strike="noStrike">
                <a:solidFill>
                  <a:srgbClr val="000000"/>
                </a:solidFill>
                <a:latin typeface="Calibri Light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Calibri"/>
              </a:rPr>
              <a:t>Задачи проекта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Calibri"/>
              </a:rPr>
              <a:t>-научить ответственности за порученное дело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Calibri"/>
              </a:rPr>
              <a:t>-воспитывать любовь к природе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Calibri"/>
              </a:rPr>
              <a:t>-развивать наблюдательность и умение анализировать и делать вывод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6600"/>
                </a:solidFill>
                <a:latin typeface="Calibri Light"/>
              </a:rPr>
              <a:t>Листы наблюдений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86" name="Таблица 6" descr="IMG_0002.jpg"/>
          <p:cNvPicPr/>
          <p:nvPr/>
        </p:nvPicPr>
        <p:blipFill>
          <a:blip r:embed="rId1"/>
          <a:stretch/>
        </p:blipFill>
        <p:spPr>
          <a:xfrm rot="4534200">
            <a:off x="968400" y="1449720"/>
            <a:ext cx="3257640" cy="4526280"/>
          </a:xfrm>
          <a:prstGeom prst="rect">
            <a:avLst/>
          </a:prstGeom>
          <a:ln w="0">
            <a:noFill/>
          </a:ln>
        </p:spPr>
      </p:pic>
      <p:pic>
        <p:nvPicPr>
          <p:cNvPr id="87" name="Рисунок 4" descr="IMG_0001.jpg"/>
          <p:cNvPicPr/>
          <p:nvPr/>
        </p:nvPicPr>
        <p:blipFill>
          <a:blip r:embed="rId2"/>
          <a:stretch/>
        </p:blipFill>
        <p:spPr>
          <a:xfrm rot="505200">
            <a:off x="4559400" y="3220560"/>
            <a:ext cx="4208400" cy="3071880"/>
          </a:xfrm>
          <a:prstGeom prst="rect">
            <a:avLst/>
          </a:prstGeom>
          <a:ln w="0">
            <a:noFill/>
          </a:ln>
        </p:spPr>
      </p:pic>
      <p:pic>
        <p:nvPicPr>
          <p:cNvPr id="88" name="Таблица 3" descr="IMG_0041.jpg"/>
          <p:cNvPicPr/>
          <p:nvPr/>
        </p:nvPicPr>
        <p:blipFill>
          <a:blip r:embed="rId3"/>
          <a:stretch/>
        </p:blipFill>
        <p:spPr>
          <a:xfrm>
            <a:off x="6072120" y="214200"/>
            <a:ext cx="2806920" cy="20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6600"/>
                </a:solidFill>
                <a:latin typeface="Calibri Light"/>
              </a:rPr>
              <a:t>С чего всё началось.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Calibri"/>
              </a:rPr>
              <a:t>После весенних каникул ребята пришли в школу и на перемене делились впечатлениями о том, как они провели каникулы. Кто-то ездил в гости к родственникам, кто-то в зоопарк. А Егор сказал: «А мы с бабушкой сажали помидоры в ящик!» Дети засмеялись: «Они- преступники? Зачем их сажать?» «Мы посеяли семена, чтобы выросли помидоры»-ответил Егор. «А может и нам посеять?»-предложил кто-то. «И правда, давайте попробуем вырастить рассаду помидоров.»-согласилась с ребятами учительница. Расул тут же вызвался принести семена томатов, а Даша захотела вырастить цвет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" dur="5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6600"/>
                </a:solidFill>
                <a:latin typeface="Calibri Light"/>
              </a:rPr>
              <a:t>Посев семян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Calibri"/>
              </a:rPr>
              <a:t>На следующий динь учительница принесла грунт и поддоны, а ребята по 5 стаканчиков и семена. Разбились на группы, столы застелили клеёнками, чтобы не испачкать их. Каждая группа была обеспечена грунтом, стаканами, семенами и водой. «А сколько насыпать грунта в стаканы?- спросили ребята. «Давайте вместе решим эту проблему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indefinite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27" dur="indefinite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6600"/>
                </a:solidFill>
                <a:latin typeface="Calibri Light"/>
              </a:rPr>
              <a:t>Поиск истины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1773000"/>
            <a:ext cx="835344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Calibri"/>
              </a:rPr>
              <a:t>Каждый насыпал грунта столько, сколько посчитал нужным. У одних было насыпано до середины стакана, у других – немного не доходило до верха стакана. А некоторые насыпали до самого верха и утрамбовал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Calibri"/>
              </a:rPr>
              <a:t>«Давайте сравним ваши стаканчики. Как вы думаете, у кого грунт насыпан правильно?»-спросила учительница. Каждый отстаивал свою точку зрения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Calibri"/>
              </a:rPr>
              <a:t>«Продолжим работу. Теперь нужно полить грунт в стаканчиках. Осторожно налейте немного вод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" dur="250" autoRev="1" fill="hold"/>
                                        <p:tgtEl>
                                          <p:spTgt spid="5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11280" y="981000"/>
            <a:ext cx="8208720" cy="506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00"/>
                </a:solidFill>
                <a:latin typeface="Calibri Light"/>
              </a:rPr>
              <a:t>Неожиданный результат</a:t>
            </a:r>
            <a:br>
              <a:rPr sz="3600"/>
            </a:br>
            <a:r>
              <a:rPr b="0" lang="ru-RU" sz="3600" spc="-1" strike="noStrike">
                <a:solidFill>
                  <a:srgbClr val="006600"/>
                </a:solidFill>
                <a:latin typeface="Calibri Light"/>
              </a:rPr>
              <a:t>У тех ребят, кто насыпал до половины, почва осела на самое дно стаканчика.</a:t>
            </a:r>
            <a:br>
              <a:rPr sz="3600"/>
            </a:br>
            <a:br>
              <a:rPr sz="3600"/>
            </a:br>
            <a:r>
              <a:rPr b="0" lang="ru-RU" sz="3600" spc="-1" strike="noStrike">
                <a:solidFill>
                  <a:srgbClr val="006600"/>
                </a:solidFill>
                <a:latin typeface="Calibri Light"/>
              </a:rPr>
              <a:t>У тех, кто очень полно заполнил ёмкости, вода стекала по наружным стенкам.</a:t>
            </a:r>
            <a:br>
              <a:rPr sz="3600"/>
            </a:br>
            <a:r>
              <a:rPr b="0" lang="ru-RU" sz="3600" spc="-1" strike="noStrike">
                <a:solidFill>
                  <a:srgbClr val="006600"/>
                </a:solidFill>
                <a:latin typeface="Calibri Light"/>
              </a:rPr>
              <a:t>У тех, кто немного не досыпал до края, почва слегка осела, а вода не вытекала из стакана.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6600"/>
                </a:solidFill>
                <a:latin typeface="Calibri Light"/>
              </a:rPr>
              <a:t>Вывод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Calibri"/>
              </a:rPr>
              <a:t>Правильно чуть-чуть не досыпать до краёв стаканчика, тогда и грунта достаточно, и вода не вытекает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Calibri"/>
              </a:rPr>
              <a:t>А теперь у кого не так, исправьте свои ошибк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Рисунок 3" descr="vkusniogorod, рассада без пикировки (2).JPG"/>
          <p:cNvPicPr/>
          <p:nvPr/>
        </p:nvPicPr>
        <p:blipFill>
          <a:blip r:embed="rId1"/>
          <a:stretch/>
        </p:blipFill>
        <p:spPr>
          <a:xfrm>
            <a:off x="857160" y="3714840"/>
            <a:ext cx="2000520" cy="15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40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898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898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6600"/>
                </a:solidFill>
                <a:latin typeface="Calibri Light"/>
              </a:rPr>
              <a:t>Алгоритм посева семян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0066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Calibri"/>
              </a:rPr>
              <a:t>В каждый стаканчик раскладываем по 2 семени на небольшом расстоянии друг от друг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0066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Calibri"/>
              </a:rPr>
              <a:t>Поливаем из шприца, чтобы не размыть почв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0066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Calibri"/>
              </a:rPr>
              <a:t>Слегка присыпаем семена сухим грунтом, примерно на 0,5 с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0066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Calibri"/>
              </a:rPr>
              <a:t>Ставим стаканы на поддо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0066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Calibri"/>
              </a:rPr>
              <a:t>Закрываем стаканы полиэтиленовым пакетом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0066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Calibri"/>
              </a:rPr>
              <a:t>Ставим поддон на подоконник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0066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Calibri"/>
              </a:rPr>
              <a:t>Наводим порядок на столах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0066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Calibri"/>
              </a:rPr>
              <a:t>Моем рук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6600"/>
                </a:solidFill>
                <a:latin typeface="Calibri Light"/>
              </a:rPr>
              <a:t>Ожидание всходов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Calibri"/>
              </a:rPr>
              <a:t>Посеянные томаты сорта «Клюква в сахаре», бархатцев сорта «Красная вишня» 4 апреля дремали на подоконнике, а дети с нетерпением поглядывали на них. «Ребята, а почему томаты выращивают через рассаду? Где родина томатов?»-спросила учительница -«где это можно узнать?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9-25T17:29:01Z</dcterms:created>
  <dc:creator>2</dc:creator>
  <dc:description/>
  <dc:language>en-US</dc:language>
  <cp:lastModifiedBy>Даша</cp:lastModifiedBy>
  <dcterms:modified xsi:type="dcterms:W3CDTF">2015-10-18T18:42:37Z</dcterms:modified>
  <cp:revision>21</cp:revision>
  <dc:subject/>
  <dc:title>Зелёный питомец</dc:title>
</cp:coreProperties>
</file>