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D4A-F9C6-46ED-A03B-4A747BB0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3C8-7AA2-4F1B-B474-73203323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326-344B-412D-AC8F-D00FC0CF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C06-3DFF-4348-B943-BFE46AA1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EC5-FC78-4017-9F66-7AADA9AD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051-6B3F-46A7-8C60-D3C90970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1C3-B313-4CC7-A7E1-61DDB3F0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597-39DB-46BD-88BC-A241363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808-6381-42B1-9076-32B8904D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669-7EF6-4933-B4EC-FB1ED930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ECC-3274-4571-9408-C546F239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3CC-6F47-49C9-B485-DF7FAC74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738-9F78-44CA-B492-9E0CDF91C7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66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Коллективный проект, осуществлённый учениками 4-б кл. МБОУ СОШ №6 в апреле-сентябре 2014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908000" y="2708280"/>
            <a:ext cx="502920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городники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Адреса поис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энциклопед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книжках в библиоте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журналах по садовод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интерн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просить у мамы или бабу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1 группа ищет ответ на вопрос: «Где родина томатов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2 группа ищет ответ на вопрос: «Как томат попал к нам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3 группа ищет ответ на вопрос: «Какие блюда можно приготовить из томатов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4 группа ищет ответ на вопрос: «Чем полезен томат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Прошла неделя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понедельник 7 апреля девочки заметили в стаканчиках зелёные ростки Все очень обрадовались. Пакеты сня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Дежурным вменили в обязанности  ухаживать за растениями и вовремя их поли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Прореживание рассады помидоров и перцев (3).JPG"/>
          <p:cNvPicPr/>
          <p:nvPr/>
        </p:nvPicPr>
        <p:blipFill>
          <a:blip r:embed="rId1"/>
          <a:stretch/>
        </p:blipFill>
        <p:spPr>
          <a:xfrm>
            <a:off x="785880" y="400068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alibri Light"/>
              </a:rPr>
              <a:t>Рассада быстро росла. Вот уже и настоящие листочки появилис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Содержимое 3" descr="IMG_0035.jpg"/>
          <p:cNvPicPr/>
          <p:nvPr/>
        </p:nvPicPr>
        <p:blipFill>
          <a:blip r:embed="rId1"/>
          <a:stretch/>
        </p:blipFill>
        <p:spPr>
          <a:xfrm>
            <a:off x="642960" y="1714680"/>
            <a:ext cx="2994120" cy="22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Настало время пикировки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ловарь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икировка-пересадка рассады в отдельные стаканч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Центральный корень-главный коре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Боковые корни-корни, растущие от центрального кор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Алгоритм пикировки</a:t>
            </a: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. Полейте растен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2. Подождите, пока вода впитаетс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3. Возьмите пустой стаканчи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4. Насыпьте в стаканчик грунт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5. Палочкой сделайте ямку в грунте 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6. Осторожно воткните палочку возле растения, которое собираетесь пересаживать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7. Подденьте растение снизу вместе с почвой и слегка приподнимит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8. Левой рукой осторожно возьмитесь за стебелё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9. Выньте растение из почв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0. Поместите корни растения в ямк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1. Осторожно прижмите почву к корня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2. Полейте пересаженное растени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3. Подсыпьте почву в тот стаканчик, откуда взяли растени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4. Поставьте растения на поддон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5. Вымойте ру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В ожидании лета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Рассада подрастала на подоконнике. Ребята ухаживали за ней и сдавали итоговую аттест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11.jpg"/>
          <p:cNvPicPr/>
          <p:nvPr/>
        </p:nvPicPr>
        <p:blipFill>
          <a:blip r:embed="rId1"/>
          <a:stretch/>
        </p:blipFill>
        <p:spPr>
          <a:xfrm>
            <a:off x="714240" y="3357720"/>
            <a:ext cx="29386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Calibri Light"/>
              </a:rPr>
              <a:t>А лето уже было не за горами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последний  день учебного года кажд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ученик взял по одному растению томата и  бархотца. Остальные растения раздали всем желающ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Сводная таблица наблюден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25360"/>
          <a:ext cx="8229600" cy="4397400"/>
        </p:xfrm>
        <a:graphic>
          <a:graphicData uri="http://schemas.openxmlformats.org/drawingml/2006/table">
            <a:tbl>
              <a:tblPr/>
              <a:tblGrid>
                <a:gridCol w="1245960"/>
                <a:gridCol w="1428840"/>
                <a:gridCol w="1714680"/>
                <a:gridCol w="1096920"/>
                <a:gridCol w="1371600"/>
                <a:gridCol w="13716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Ф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ид возделы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Цветение 1 ки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зревание первого п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бщее 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л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банова Л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гру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в , рых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07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7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зре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шкалова Нас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гру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в , рыхление, подкорм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- зре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копова М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гру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в , рыхление , подкормки , опрыскивание фитоспори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6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8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- зре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28760" y="428760"/>
          <a:ext cx="8229600" cy="2095200"/>
        </p:xfrm>
        <a:graphic>
          <a:graphicData uri="http://schemas.openxmlformats.org/drawingml/2006/table">
            <a:tbl>
              <a:tblPr/>
              <a:tblGrid>
                <a:gridCol w="1245960"/>
                <a:gridCol w="1428840"/>
                <a:gridCol w="1714680"/>
                <a:gridCol w="1096920"/>
                <a:gridCol w="1371600"/>
                <a:gridCol w="13716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Ф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ид возделы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Цветение 1 ки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зревание первого п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бщее 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л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адулаев Расу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хление , полив , подкормки , опрыск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щ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Рисунок 6" descr="IMG_0038.jpg"/>
          <p:cNvPicPr/>
          <p:nvPr/>
        </p:nvPicPr>
        <p:blipFill>
          <a:blip r:embed="rId1"/>
          <a:stretch/>
        </p:blipFill>
        <p:spPr>
          <a:xfrm>
            <a:off x="1285920" y="2714760"/>
            <a:ext cx="2574720" cy="3500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IMG_0040.jpg"/>
          <p:cNvPicPr/>
          <p:nvPr/>
        </p:nvPicPr>
        <p:blipFill>
          <a:blip r:embed="rId2"/>
          <a:stretch/>
        </p:blipFill>
        <p:spPr>
          <a:xfrm>
            <a:off x="5643720" y="2786040"/>
            <a:ext cx="3071520" cy="21826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IMG_0039.jpg"/>
          <p:cNvPicPr/>
          <p:nvPr/>
        </p:nvPicPr>
        <p:blipFill>
          <a:blip r:embed="rId3"/>
          <a:stretch/>
        </p:blipFill>
        <p:spPr>
          <a:xfrm>
            <a:off x="3214800" y="4214880"/>
            <a:ext cx="3128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Calibri Light"/>
              </a:rPr>
              <a:t>Цель проекта: научить ухаживать за растениями.</a:t>
            </a:r>
            <a:r>
              <a:rPr b="0" i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-научить ответственности за порученное дел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-воспитывать любовь к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-развивать наблюдательность и умение анализировать и делать выв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Листы наблюден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Таблица 6" descr="IMG_0002.jpg"/>
          <p:cNvPicPr/>
          <p:nvPr/>
        </p:nvPicPr>
        <p:blipFill>
          <a:blip r:embed="rId1"/>
          <a:stretch/>
        </p:blipFill>
        <p:spPr>
          <a:xfrm rot="4534200">
            <a:off x="968400" y="1449720"/>
            <a:ext cx="3257640" cy="4526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IMG_0001.jpg"/>
          <p:cNvPicPr/>
          <p:nvPr/>
        </p:nvPicPr>
        <p:blipFill>
          <a:blip r:embed="rId2"/>
          <a:stretch/>
        </p:blipFill>
        <p:spPr>
          <a:xfrm rot="505200">
            <a:off x="4559400" y="3220560"/>
            <a:ext cx="4208400" cy="3071880"/>
          </a:xfrm>
          <a:prstGeom prst="rect">
            <a:avLst/>
          </a:prstGeom>
          <a:ln w="0">
            <a:noFill/>
          </a:ln>
        </p:spPr>
      </p:pic>
      <p:pic>
        <p:nvPicPr>
          <p:cNvPr id="88" name="Таблица 3" descr="IMG_0041.jpg"/>
          <p:cNvPicPr/>
          <p:nvPr/>
        </p:nvPicPr>
        <p:blipFill>
          <a:blip r:embed="rId3"/>
          <a:stretch/>
        </p:blipFill>
        <p:spPr>
          <a:xfrm>
            <a:off x="6072120" y="214200"/>
            <a:ext cx="2806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С чего всё началось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сле весенних каникул ребята пришли в школу и на перемене делились впечатлениями о том, как они провели каникулы. Кто-то ездил в гости к родственникам, кто-то в зоопарк. А Егор сказал: «А мы с бабушкой сажали помидоры в ящик!» Дети засмеялись: «Они- преступники? Зачем их сажать?» «Мы посеяли семена, чтобы выросли помидоры»-ответил Егор. «А может и нам посеять?»-предложил кто-то. «И правда, давайте попробуем вырастить рассаду помидоров.»-согласилась с ребятами учительница. Расул тут же вызвался принести семена томатов, а Даша захотела вырастить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Посев семя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На следующий динь учительница принесла грунт и поддоны, а ребята по 5 стаканчиков и семена. Разбились на группы, столы застелили клеёнками, чтобы не испачкать их. Каждая группа была обеспечена грунтом, стаканами, семенами и водой. «А сколько насыпать грунта в стаканы?- спросили ребята. «Давайте вместе решим эту проблем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Поиск истин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353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Каждый насыпал грунта столько, сколько посчитал нужным. У одних было насыпано до середины стакана, у других – немного не доходило до верха стакана. А некоторые насыпали до самого верха и утрамбов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«Давайте сравним ваши стаканчики. Как вы думаете, у кого грунт насыпан правильно?»-спросила учительница. Каждый отстаивал свою точку зр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«Продолжим работу. Теперь нужно полить грунт в стаканчиках. Осторожно налейте немного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08720" cy="50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alibri Light"/>
              </a:rPr>
              <a:t>Неожиданный результат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Calibri Light"/>
              </a:rPr>
              <a:t>У тех ребят, кто насыпал до половины, почва осела на самое дно стаканчик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Calibri Light"/>
              </a:rPr>
              <a:t>У тех, кто очень полно заполнил ёмкости, вода стекала по наружным стенкам.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Calibri Light"/>
              </a:rPr>
              <a:t>У тех, кто немного не досыпал до края, почва слегка осела, а вода не вытекала из стакана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равильно чуть-чуть не досыпать до краёв стаканчика, тогда и грунта достаточно, и вода не вытек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А теперь у кого не так, исправьте свои оши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vkusniogorod, рассада без пикировки (2).JPG"/>
          <p:cNvPicPr/>
          <p:nvPr/>
        </p:nvPicPr>
        <p:blipFill>
          <a:blip r:embed="rId1"/>
          <a:stretch/>
        </p:blipFill>
        <p:spPr>
          <a:xfrm>
            <a:off x="857160" y="3714840"/>
            <a:ext cx="2000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Алгоритм посева семя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В каждый стаканчик раскладываем по 2 семени на небольшом расстоянии друг от д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ливаем из шприца, чтобы не размыть поч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Слегка присыпаем семена сухим грунтом, примерно на 0,5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Ставим стаканы на подд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Закрываем стаканы полиэтиленовым пакетом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Ставим поддон на подокон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Наводим порядок на стол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Моем р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Ожидание всход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осеянные томаты сорта «Клюква в сахаре», бархатцев сорта «Красная вишня» 4 апреля дремали на подоконнике, а дети с нетерпением поглядывали на них. «Ребята, а почему томаты выращивают через рассаду? Где родина томатов?»-спросила учительница -«где это можно узнать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7:29:01Z</dcterms:created>
  <dc:creator>2</dc:creator>
  <dc:description/>
  <dc:language>en-US</dc:language>
  <cp:lastModifiedBy>Даша</cp:lastModifiedBy>
  <dcterms:modified xsi:type="dcterms:W3CDTF">2015-10-18T18:42:37Z</dcterms:modified>
  <cp:revision>21</cp:revision>
  <dc:subject/>
  <dc:title>Зелёный питомец</dc:title>
</cp:coreProperties>
</file>