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3.png" ContentType="image/png"/>
  <Override PartName="/ppt/media/image2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AE8-0E57-4AAA-B480-56315DCC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E38-F057-4B6C-A7C3-6E7D2AB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DCF-2896-4BCA-8F25-B22B2025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166-9DDD-4088-82D7-A23EE7BB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8A49-B1B8-4441-A353-C145FCD8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B77-2EA0-4110-8BE8-B21EA2E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8AF-C6C3-4CA7-A065-088A80C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9006-737D-4DD9-816E-5F346D9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E293-B1A1-49B2-A9D2-42E178B5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BE4-EB7C-4ECA-B5A6-AB042A9F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EB9-DD80-41A1-B559-19F6CC6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A23-9A48-4CE3-8AA3-4BFCB2C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B1F-F147-47EE-A569-0C82AEB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61E6-DA62-4C9C-975D-556790A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F37E-4323-41E1-AA0F-31FF2C1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F13-B941-429F-BE83-DB1E3863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5E1C-4AA1-4AF2-B492-36266160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9486-BCA4-4A04-92CB-F76A6FBE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C5F4-AA1A-4972-944F-F24EAED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1971-F056-4A03-8A99-9630F8E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B9ED-FEAB-4327-BADF-AB81918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A5D3-8EF8-4FC8-AF55-1DA3D22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A24-4C91-441D-9831-723B8B1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7D51-9BC9-4B13-A7DC-B70A453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6001-0518-4A91-8FB8-9F285C9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FA1C-118E-4FE6-8AEA-AC3FA7A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ED8D-25F4-4DA4-ABA5-5327301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C60B-99C8-4143-8926-AF5BC97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73B7-456E-4DF4-BC69-46F7A255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10A0-5637-477F-B379-2F8C2B07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27A3-24A5-4DEA-9852-8CF23D51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4687-6432-4EEB-908E-3A917AA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DB54-5B04-45EC-B77B-0A558B9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BF6-5191-4515-897D-43A1198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880F-6A87-4469-99CD-DBB7876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14D9-A1A6-4229-A65F-54EA574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2451-6D34-4F95-83FD-45E908B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4E23-846B-4964-A367-A5AE885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DF95-03C3-4D7B-958E-024171A4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9C2F-14A6-4154-9D10-BDFFF48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FB153-F6EA-4179-8D1C-EB6B92F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E5B0-D59D-41E6-91E5-7C4652A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25D4-6562-4265-BEBA-CD8FB237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772E-6535-4C44-83FD-DB4FB312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F03-4688-4346-A275-63EDB6B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A3C4-59A7-47B4-8ACB-838BCD7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FBE6-3A09-4524-A37F-44D6E7C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FA6B-4804-4766-94B1-30877C3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775C-84FC-4B70-986A-F94AFBE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C01C-D558-456B-B875-FEB18B5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6867-2C55-4CE4-AEA3-3C4813D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38DC-E952-41B2-8D4D-D27FCED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F5B4-DAE6-4CAA-8C8C-4B78572C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0F16-EF13-4B5B-BD3A-48D2DDD7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9AE9-1E31-4774-8AF2-C2A0B875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F44-EDBE-4240-A385-C047785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7114-0159-4F5A-9B97-E24F4655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943B-BDF0-4C55-A9CB-FB0512A6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DE16-EE54-46AE-96CF-1D0DF121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58EC-6186-49ED-9180-D0333281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6C8F-1148-4E13-B810-7F38AB8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E753-0CDA-496E-8C03-500BDCAF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DD11-37CC-4BAC-906D-958CB51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8B68-167E-4E42-B69F-87E6520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4BA8-3A4B-45A7-A709-93DDF6C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204D7-BB32-4977-A76F-D6DC037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698-9C83-4C7B-A83C-3AAEEE0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E52F-40C7-4F0D-B89C-3DCF5DD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FE63-E4A1-48F7-9297-CF0A8D39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9089-22A2-4B2A-A5C6-72CAA8F4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E6B-24F1-45FF-B5DA-58516A5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162-3B14-4CCE-844F-E01EB73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7E1-F798-44DB-B691-E2E21F710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C61-8EB7-47A9-B8B1-2B647B31FE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31A-221E-4405-91DA-2B2C122F1B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91FF-E827-48CC-AAD5-D2DACD8363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2913-D1E8-460F-ADF8-C4BE8181CC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D75-5E14-4945-844A-D050708EA1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7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talisman.sochi2014.com/finalists/36329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talisman.sochi2014.com/finalists/36326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3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talisman.sochi2014.com/finalists/36331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69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talisman.sochi2014.com/finalists/36330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6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talisman.sochi2014.com/finalists/36335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4/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talisman.sochi2014.com/finalists/36332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8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2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83;&#1077;&#1076;&#1086;&#1074;&#1072;&#1103;_&#1072;&#1088;&#1077;&#1085;&#1072;_(&#1057;&#1086;&#1095;&#1080;)" TargetMode="External"/><Relationship Id="rId2" Type="http://schemas.openxmlformats.org/officeDocument/2006/relationships/hyperlink" Target="http://ru.wikipedia.org/wiki/&#1052;&#1072;&#1083;&#1072;&#1103;_&#1083;&#1077;&#1076;&#1086;&#1074;&#1072;&#1103;_&#1072;&#1088;&#1077;&#1085;&#1072;_(&#1057;&#1086;&#1095;&#1080;)" TargetMode="External"/><Relationship Id="rId3" Type="http://schemas.openxmlformats.org/officeDocument/2006/relationships/hyperlink" Target="http://ru.wikipedia.org/wiki/&#1050;&#1086;&#1085;&#1100;&#1082;&#1086;&#1073;&#1077;&#1078;&#1085;&#1099;&#1081;_&#1094;&#1077;&#1085;&#1090;&#1088;_(&#1057;&#1086;&#1095;&#1080;)" TargetMode="External"/><Relationship Id="rId4" Type="http://schemas.openxmlformats.org/officeDocument/2006/relationships/hyperlink" Target="http://ru.wikipedia.org/wiki/&#1051;&#1077;&#1076;&#1086;&#1074;&#1099;&#1081;_&#1076;&#1074;&#1086;&#1088;&#1077;&#1094;_&#1089;&#1087;&#1086;&#1088;&#1090;&#1072;_(&#1057;&#1086;&#1095;&#1080;)" TargetMode="External"/><Relationship Id="rId5" Type="http://schemas.openxmlformats.org/officeDocument/2006/relationships/hyperlink" Target="http://ru.wikipedia.org/wiki/&#1040;&#1088;&#1077;&#1085;&#1072;_&#1076;&#1083;&#1103;_&#1082;&#1105;&#1088;&#1083;&#1080;&#1085;&#1075;&#1072;_(&#1057;&#1086;&#1095;&#1080;)" TargetMode="External"/><Relationship Id="rId6" Type="http://schemas.openxmlformats.org/officeDocument/2006/relationships/hyperlink" Target="http://ru.wikipedia.org/wiki/&#1054;&#1083;&#1080;&#1084;&#1087;&#1080;&#1081;&#1089;&#1082;&#1080;&#1081;_&#1089;&#1090;&#1072;&#1076;&#1080;&#1086;&#1085;_(&#1057;&#1086;&#1095;&#1080;)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8;&#1090;" TargetMode="External"/><Relationship Id="rId2" Type="http://schemas.openxmlformats.org/officeDocument/2006/relationships/hyperlink" Target="http://ru.wikipedia.org/wiki/&#1057;&#1086;&#1088;&#1077;&#1074;&#1085;&#1086;&#1074;&#1072;&#1085;&#1080;&#1077;" TargetMode="External"/><Relationship Id="rId3" Type="http://schemas.openxmlformats.org/officeDocument/2006/relationships/hyperlink" Target="http://ru.wikipedia.org/wiki/&#1044;&#1088;&#1077;&#1074;&#1085;&#1103;&#1103;_&#1043;&#1088;&#1077;&#1094;&#1080;&#1103;" TargetMode="External"/><Relationship Id="rId4" Type="http://schemas.openxmlformats.org/officeDocument/2006/relationships/hyperlink" Target="http://ru.wikipedia.org/wiki/XIX_&#1074;&#1077;&#1082;" TargetMode="External"/><Relationship Id="rId5" Type="http://schemas.openxmlformats.org/officeDocument/2006/relationships/hyperlink" Target="http://ru.wikipedia.org/wiki/&#1050;&#1091;&#1073;&#1077;&#1088;&#1090;&#1077;&#1085;,_&#1055;&#1100;&#1077;&#1088;_&#1076;&#1077;" TargetMode="External"/><Relationship Id="rId6" Type="http://schemas.openxmlformats.org/officeDocument/2006/relationships/hyperlink" Target="http://ru.wikipedia.org/wiki/&#1060;&#1072;&#1081;&#1083;:Baron_Pierre_de_Coubertin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2_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ssport.ru/upload/iblock/78d/kkc1_850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alliance.ru/userfile/sochi_figure_skating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s74.ru/images/Kerling.0-03-12.gi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e.archplatforma.ru/imgs/newsimgs/2010/07/1006_SOCHI_STAIR_ENTANCE_FINAL1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0;&#1072;&#1090;&#1083;&#1086;&#1085;_&#1085;&#1072;_&#1079;&#1080;&#1084;&#1085;&#1080;&#1093;_&#1054;&#1083;&#1080;&#1084;&#1087;&#1080;&#1081;&#1089;&#1082;&#1080;&#1093;_&#1080;&#1075;&#1088;&#1072;&#1093;_2014&amp;action=edit&amp;redlink=1" TargetMode="External"/><Relationship Id="rId2" Type="http://schemas.openxmlformats.org/officeDocument/2006/relationships/hyperlink" Target="http://ru.wikipedia.org/w/index.php?title=&#1041;&#1086;&#1073;&#1089;&#1083;&#1077;&#1081;_&#1085;&#1072;_&#1079;&#1080;&#1084;&#1085;&#1080;&#1093;_&#1054;&#1083;&#1080;&#1084;&#1087;&#1080;&#1081;&#1089;&#1082;&#1080;&#1093;_&#1080;&#1075;&#1088;&#1072;&#1093;_2014&amp;action=edit&amp;redlink=1" TargetMode="External"/><Relationship Id="rId3" Type="http://schemas.openxmlformats.org/officeDocument/2006/relationships/hyperlink" Target="http://ru.wikipedia.org/w/index.php?title=&#1043;&#1086;&#1088;&#1085;&#1086;&#1083;&#1099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4" Type="http://schemas.openxmlformats.org/officeDocument/2006/relationships/hyperlink" Target="http://ru.wikipedia.org/w/index.php?title=&#1050;&#1105;&#1088;&#1083;&#1080;&#1085;&#1075;_&#1085;&#1072;_&#1079;&#1080;&#1084;&#1085;&#1080;&#1093;_&#1054;&#1083;&#1080;&#1084;&#1087;&#1080;&#1081;&#1089;&#1082;&#1080;&#1093;_&#1080;&#1075;&#1088;&#1072;&#1093;_2014&amp;action=edit&amp;redlink=1" TargetMode="External"/><Relationship Id="rId5" Type="http://schemas.openxmlformats.org/officeDocument/2006/relationships/hyperlink" Target="http://ru.wikipedia.org/w/index.php?title=&#1050;&#1086;&#1085;&#1100;&#1082;&#1086;&#1073;&#1077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6" Type="http://schemas.openxmlformats.org/officeDocument/2006/relationships/hyperlink" Target="http://ru.wikipedia.org/w/index.php?title=&#1051;&#1099;&#1078;&#1085;&#1086;&#1077;_&#1076;&#1074;&#1086;&#1077;&#1073;&#1086;&#1088;&#1100;&#1077;_&#1085;&#1072;_&#1079;&#1080;&#1084;&#1085;&#1080;&#1093;_&#1054;&#1083;&#1080;&#1084;&#1087;&#1080;&#1081;&#1089;&#1082;&#1080;&#1093;_&#1080;&#1075;&#1088;&#1072;&#1093;_2014&amp;action=edit&amp;redlink=1" TargetMode="External"/><Relationship Id="rId7" Type="http://schemas.openxmlformats.org/officeDocument/2006/relationships/hyperlink" Target="http://ru.wikipedia.org/w/index.php?title=&#1051;&#1099;&#1078;&#1085;&#1099;&#1077;_&#1075;&#1086;&#1085;&#1082;&#1080;_&#1085;&#1072;_&#1079;&#1080;&#1084;&#1085;&#1080;&#1093;_&#1054;&#1083;&#1080;&#1084;&#1087;&#1080;&#1081;&#1089;&#1082;&#1080;&#1093;_&#1080;&#1075;&#1088;&#1072;&#1093;_2014&amp;action=edit&amp;redlink=1" TargetMode="External"/><Relationship Id="rId8" Type="http://schemas.openxmlformats.org/officeDocument/2006/relationships/hyperlink" Target="http://ru.wikipedia.org/w/index.php?title=&#1055;&#1088;&#1099;&#1078;&#1082;&#1080;_&#1089;_&#1090;&#1088;&#1072;&#1084;&#1087;&#1083;&#1080;&#1085;&#1072;_&#1085;&#1072;_&#1079;&#1080;&#1084;&#1085;&#1080;&#1093;_&#1054;&#1083;&#1080;&#1084;&#1087;&#1080;&#1081;&#1089;&#1082;&#1080;&#1093;_&#1080;&#1075;&#1088;&#1072;&#1093;_2014&amp;action=edit&amp;redlink=1" TargetMode="External"/><Relationship Id="rId9" Type="http://schemas.openxmlformats.org/officeDocument/2006/relationships/hyperlink" Target="http://ru.wikipedia.org/w/index.php?title=&#1057;&#1072;&#1085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74;&#1086;&#1083;" TargetMode="External"/><Relationship Id="rId2" Type="http://schemas.openxmlformats.org/officeDocument/2006/relationships/hyperlink" Target="http://ru.wikipedia.org/wiki/&#1060;&#1072;&#1081;&#1083;:Olympic_flag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920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7_&#1092;&#1077;&#1074;&#1088;&#1072;&#1083;&#1103;" TargetMode="External"/><Relationship Id="rId3" Type="http://schemas.openxmlformats.org/officeDocument/2006/relationships/hyperlink" Target="http://ru.wikipedia.org/wiki/23_&#1092;&#1077;&#1074;&#1088;&#1072;&#1083;&#1103;" TargetMode="External"/><Relationship Id="rId4" Type="http://schemas.openxmlformats.org/officeDocument/2006/relationships/hyperlink" Target="http://ru.wikipedia.org/wiki/2014_&#1075;&#1086;&#1076;" TargetMode="External"/><Relationship Id="rId5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3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881360" y="5357880"/>
            <a:ext cx="593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Олимпийский 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311400" y="0"/>
            <a:ext cx="84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гры 201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стоящее и будущее Со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 вы думаете, какой талисман Зимних Олимпийских игр в Соч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берет народ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539640" y="321300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вно за три года до открытия зимней Олимпиады в Сочи, 7 февраля 2011 года, в эфире Первого канала прошла телевизионная презентация талисманов грядущих Иг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едущий Иван Ургант подвел итоги первого тура конкурса, в ходе которого экспертное жюри рассмотрело более 24 тысяч работ и определилось с шорт-листом самых удачных идей, на каждую из которых отсняты 30-секундные анимированные видеооткры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алисман Сочи-2014 выберут 26 февраля в прямом эфире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Талисман будущей зимней Олимпиады в Сочи будут выбирать всем миром. На 26 февраля 2011 года запланировано народное голосование за лучший символ Сочи-2014 по телефону и посредством sms, результаты которого будут объявлены в прямом эфире Первого канал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Десять изображений, которые претендуют на звание талисмана Олимпийских игр 2014 года, были представлены в понедельник, 7 февраля 2011 год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имволом предстоящих игр в Сочи могут стать белый или бурый медведи, "Зайка", леопард со сноубордом, снегирь, дельфин на лыжах, "Солнышко", "Огненный мальчик", "Снежинка", Дед Мороз или "Матрешки", больше похожие на снеговиков.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 изображениями всех финалистов можно ознакомиться на официальном сайте талисмана Сочи-2014.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Бурый или Белый медведь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Picture 3" descr="Бурый медве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44680"/>
            <a:ext cx="3743280" cy="5133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Белый медве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6040" y="1700280"/>
            <a:ext cx="3948120" cy="4753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Дед Мороз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360" y="-7994520"/>
            <a:ext cx="895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Снегирь или Солнышко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3" name="Picture 10" descr="Снегир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44640"/>
            <a:ext cx="4240080" cy="338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Солнышко">
            <a:hlinkClick r:id="rId3"/>
          </p:cNvPr>
          <p:cNvPicPr/>
          <p:nvPr/>
        </p:nvPicPr>
        <p:blipFill>
          <a:blip r:embed="rId4"/>
          <a:srcRect l="0" t="0" r="0" b="16086"/>
          <a:stretch/>
        </p:blipFill>
        <p:spPr>
          <a:xfrm>
            <a:off x="4197240" y="3068640"/>
            <a:ext cx="494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йка или Снежин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6" name="Picture 9" descr="Снежи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484280"/>
            <a:ext cx="3833640" cy="5162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Зайка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557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Дед Мороз или Дельфин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9" name="Picture 14" descr="Дед Мороз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2360" cy="4633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Дельф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7160" y="1700280"/>
            <a:ext cx="46054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Матрешки или Огненный мальчик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2" name="Picture 11" descr="Матре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203720" cy="4752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Огненный мальч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380960"/>
            <a:ext cx="3743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Леопард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5" name="Picture 4" descr="Леопар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743120"/>
            <a:ext cx="43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С </a:t>
            </a:r>
            <a:r>
              <a:rPr b="0" lang="ru-RU" sz="6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1932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 город-организатор строит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олимпийскую деревню»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 — комплекс жилых помещений для участников игр.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лимпийский парк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чи будет расположен на побережье Чёрного моря в Имеретинской низменности. Ни одно из спортивных сооружений ещё до конца не построено. Все проектные работы по олимпийским объектам планируется завершить в начале сентября 2007 года, чтобы уже в конце года начать их строительство. Строительство предполагается завершить в 2013 году.</a:t>
            </a:r>
            <a:br>
              <a:rPr sz="24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ольш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Мал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Конькобежный центр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Ледовый дворец спорт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рена для кёрлинг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Олимпийский стадион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лимпи́йские и́гры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 — крупнейшие международные комплексны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портивные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соревнования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которые проводятся каждые четыре года. Традиция, существовавшая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Древней Греции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была возрождена в конц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XIX века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французским общественным деятеле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Пьером де Кубертеном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4" name="Рисунок 4" descr="http://upload.wikimedia.org/wikipedia/commons/thumb/e/ef/Baron_Pierre_de_Coubertin.jpg/200px-Baron_Pierre_de_Coubert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2952720" cy="4753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684360" y="5589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рон Пьер де Куб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Картинка 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55680"/>
            <a:ext cx="8642160" cy="5268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ольшая ледовая арена в Сочи построена для игры в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хоккей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, рассчитана на 12000 зрител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Картинка 6 из 1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49480"/>
            <a:ext cx="8642160" cy="5527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алая ледовая арена — хоккей, 7000 зрителей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нькобежный центр — конькобежный спорт, 8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3" name="Picture 2" descr="Картинка 10 из 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8874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Картинка 1 из 10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62121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Ледовый дворец спорта — фигурное катание, шорт-трек, 12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Картинка 4 из 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2560" y="260280"/>
            <a:ext cx="7291440" cy="58327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6764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ена для кёрлинга — кёрлинг, 3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79280" y="117360"/>
            <a:ext cx="165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ёрлин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англ.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urling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от англо-шотл. curr) 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лимпийский стадион, 40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Picture 2" descr="Картинка 18 из 1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87868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755640" y="189000"/>
          <a:ext cx="7667640" cy="79056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от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лификация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налы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казательные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за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79280" y="981000"/>
          <a:ext cx="8712360" cy="5870520"/>
        </p:xfrm>
        <a:graphic>
          <a:graphicData uri="http://schemas.openxmlformats.org/drawingml/2006/table">
            <a:tbl>
              <a:tblPr/>
              <a:tblGrid>
                <a:gridCol w="1079640"/>
                <a:gridCol w="34776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760"/>
                <a:gridCol w="403200"/>
                <a:gridCol w="401400"/>
                <a:gridCol w="851040"/>
              </a:tblGrid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Биат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Бобс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Горнолы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Кёрл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Конькобе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Лыжное двоебор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Лыжные го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Прыжки с трам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Сан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келе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ноуборд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игурное ка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ристай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Хокк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Шорт-тр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Рисунок 33" descr="Olympic rings.svg"/>
          <p:cNvPicPr/>
          <p:nvPr/>
        </p:nvPicPr>
        <p:blipFill>
          <a:blip r:embed="rId10"/>
          <a:stretch/>
        </p:blipFill>
        <p:spPr>
          <a:xfrm>
            <a:off x="0" y="0"/>
            <a:ext cx="200160" cy="954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4" descr="Biathlon pictogram.svg"/>
          <p:cNvPicPr/>
          <p:nvPr/>
        </p:nvPicPr>
        <p:blipFill>
          <a:blip r:embed="rId1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5" descr="Bobsleigh pictogram.svg"/>
          <p:cNvPicPr/>
          <p:nvPr/>
        </p:nvPicPr>
        <p:blipFill>
          <a:blip r:embed="rId1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6" descr="Alpine skiing pictogram.svg"/>
          <p:cNvPicPr/>
          <p:nvPr/>
        </p:nvPicPr>
        <p:blipFill>
          <a:blip r:embed="rId1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7" descr="Curling pictogram.svg"/>
          <p:cNvPicPr/>
          <p:nvPr/>
        </p:nvPicPr>
        <p:blipFill>
          <a:blip r:embed="rId1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8" descr="Speed skating pictogram.svg"/>
          <p:cNvPicPr/>
          <p:nvPr/>
        </p:nvPicPr>
        <p:blipFill>
          <a:blip r:embed="rId1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39" descr="Nordic combined pictogram.svg"/>
          <p:cNvPicPr/>
          <p:nvPr/>
        </p:nvPicPr>
        <p:blipFill>
          <a:blip r:embed="rId16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0" descr="Cross country skiing pictogram.svg"/>
          <p:cNvPicPr/>
          <p:nvPr/>
        </p:nvPicPr>
        <p:blipFill>
          <a:blip r:embed="rId17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1" descr="Ski jumping pictogram.svg"/>
          <p:cNvPicPr/>
          <p:nvPr/>
        </p:nvPicPr>
        <p:blipFill>
          <a:blip r:embed="rId18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2" descr="Luge pictogram.svg"/>
          <p:cNvPicPr/>
          <p:nvPr/>
        </p:nvPicPr>
        <p:blipFill>
          <a:blip r:embed="rId19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3" descr="Skeleton pictogram.svg"/>
          <p:cNvPicPr/>
          <p:nvPr/>
        </p:nvPicPr>
        <p:blipFill>
          <a:blip r:embed="rId20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4" descr="Snowboarding pictogram.svg"/>
          <p:cNvPicPr/>
          <p:nvPr/>
        </p:nvPicPr>
        <p:blipFill>
          <a:blip r:embed="rId2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5" descr="Figure skating pictogram.svg"/>
          <p:cNvPicPr/>
          <p:nvPr/>
        </p:nvPicPr>
        <p:blipFill>
          <a:blip r:embed="rId2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6" descr="Freestyle skiing pictogram.svg"/>
          <p:cNvPicPr/>
          <p:nvPr/>
        </p:nvPicPr>
        <p:blipFill>
          <a:blip r:embed="rId2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7" descr="Ice hockey pictogram.svg"/>
          <p:cNvPicPr/>
          <p:nvPr/>
        </p:nvPicPr>
        <p:blipFill>
          <a:blip r:embed="rId2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8" descr="Short track speed skating pictogram.svg"/>
          <p:cNvPicPr/>
          <p:nvPr/>
        </p:nvPicPr>
        <p:blipFill>
          <a:blip r:embed="rId2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4481640" y="2887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3" name="Рисунок 2" descr="http://upload.wikimedia.org/wikipedia/commons/thumb/a/a7/Olympic_flag.svg/250px-Olympic_flag.svg.png"/>
          <p:cNvPicPr/>
          <p:nvPr/>
        </p:nvPicPr>
        <p:blipFill>
          <a:blip r:embed="rId1"/>
          <a:stretch/>
        </p:blipFill>
        <p:spPr>
          <a:xfrm>
            <a:off x="5364000" y="189000"/>
            <a:ext cx="34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имвол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лимпийских игр — пять скреплённых колец, символизирующих объединение пяти частей света в олимпийском движен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Рисунок 2" descr="http://upload.wikimedia.org/wikipedia/commons/thumb/a/a7/Olympic_flag.svg/250px-Olympic_flag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2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rcRect l="12744" t="22856" r="13726" b="25730"/>
          <a:stretch/>
        </p:blipFill>
        <p:spPr>
          <a:xfrm>
            <a:off x="179280" y="189000"/>
            <a:ext cx="8569440" cy="4032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4221000"/>
            <a:ext cx="8459640" cy="229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вет колец в верхнем ряду — голубо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Европы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чёр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Аф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крас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ме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в нижнем ряду — жёлт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Аз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зелё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Австрал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2507040" y="2928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95240" y="12859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Евро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3660120" y="114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6516360" y="11430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4865760" y="27860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Эмблема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олимпийские кольца.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Девиз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</a:t>
            </a:r>
            <a:r>
              <a:rPr b="1" i="1" lang="ru-RU" sz="4800" spc="-1" strike="noStrike">
                <a:solidFill>
                  <a:srgbClr val="696464"/>
                </a:solidFill>
                <a:latin typeface="Calibri"/>
              </a:rPr>
              <a:t>Citius, Altius, Fortius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лат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. «быстрее, выше, сильнее»).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Флаг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белое полотнище с олимпийскими кольцами, с 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1920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поднимается на всех Играх.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"/>
          <p:cNvSpPr/>
          <p:nvPr/>
        </p:nvSpPr>
        <p:spPr>
          <a:xfrm>
            <a:off x="-1986480" y="857160"/>
            <a:ext cx="129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имни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Олимпийские иг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31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имние Олимпийские игры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2014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— международное спортивное мероприятие, которое пройдёт с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7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по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23 февраля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2014 года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олица Олимпиады, Сочи (Россия), была выбрана в городе Гватемала, столице Гватемалы 4 июля 2007 года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России Олимпийские Игры пройдут во второй раз (до этого в Москве проходили XXII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Летние Олимпийские игры 1980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), и впервые — зимние игры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227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оготип города-кандидата Сочи на проведение Зимних Олимпийских игр 2014 год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700280"/>
          <a:ext cx="2592360" cy="4824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8243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df0024"/>
                      </a:solidFill>
                    </a:lnL>
                    <a:lnR w="5760">
                      <a:solidFill>
                        <a:srgbClr val="df0024"/>
                      </a:solidFill>
                    </a:lnR>
                    <a:lnT w="5760">
                      <a:solidFill>
                        <a:srgbClr val="df0024"/>
                      </a:solidFill>
                    </a:lnT>
                    <a:lnB w="5760">
                      <a:solidFill>
                        <a:srgbClr val="df002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0" name="Рисунок 144" descr="http://olimpigr.narod.ru/2014_Sochi/image/logo_1.jpg"/>
          <p:cNvPicPr/>
          <p:nvPr/>
        </p:nvPicPr>
        <p:blipFill>
          <a:blip r:embed="rId1"/>
          <a:stretch/>
        </p:blipFill>
        <p:spPr>
          <a:xfrm>
            <a:off x="971640" y="1844640"/>
            <a:ext cx="1514520" cy="45147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3348000" y="1266480"/>
            <a:ext cx="57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8 октября 2005 года Международный олимпийский комитет (МОК) официально одобрил использование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Звезды 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символа заявочной кампани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014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качестве логотипа Сочи как города-претендента на право проведения зимних Олимпийских игр 201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Олимпийская эмблема Сочи — звезда из белых и голубых линий на фоне синего неба и горных вершин. Весь логотип выдержан в цветах российского флага. Синий — цвет моря и неба, белый — снег, красный — цвет победы. Олимпийские кольца пяти цветов также символичны для Сочи: синее небо, большую часть года светит желтое солнце, рядом — Черное море, город находится в зеленой от растительности местности и соседствует с Красной Пол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мблема Зимних Олимпийских игр 2014 года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2" descr="http://olimpigr.narod.ru/2014_Sochi/image/sochi_2014_002.jpg"/>
          <p:cNvPicPr/>
          <p:nvPr/>
        </p:nvPicPr>
        <p:blipFill>
          <a:blip r:embed="rId1"/>
          <a:stretch/>
        </p:blipFill>
        <p:spPr>
          <a:xfrm>
            <a:off x="539640" y="4005360"/>
            <a:ext cx="4743720" cy="2095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3419640" y="141300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декабря 2009 года в Москве представлена эмбл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х в истории России зимних Олимпийских игр "Сочи-2014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mbria"/>
              </a:rPr>
              <a:t>Девиз сочинских Игр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- Gateway to the Future (Ворота в буду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48:48Z</dcterms:created>
  <dc:creator>Владелец</dc:creator>
  <dc:description/>
  <dc:language>en-US</dc:language>
  <cp:lastModifiedBy>Owner</cp:lastModifiedBy>
  <dcterms:modified xsi:type="dcterms:W3CDTF">2012-05-31T21:33:16Z</dcterms:modified>
  <cp:revision>19</cp:revision>
  <dc:subject/>
  <dc:title>Слайд 1</dc:title>
</cp:coreProperties>
</file>