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3.png" ContentType="image/png"/>
  <Override PartName="/ppt/media/image2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E2B-B893-4FD1-A08C-A741283E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6FB-051E-4CDB-974B-B945FF3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8F0-B972-46B1-8164-D3E484D9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273-01F8-4C95-B5D0-4BF960AB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A991-2544-4AE5-8181-4D92C5F5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E4B6-9E3E-4890-8397-FD30114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A91-4384-47FF-A8EB-237DA7A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0A0-09D2-4499-9E16-6F72ADD6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15EC-5E43-4788-B5D9-B984A08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3E05-EAA0-413F-BEF0-7565CB9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7102-9595-42AE-BDED-A4A6E2C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FFB-1026-4BF7-80AA-F83A26B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27C-7D89-4A59-A22E-10B043C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122A-5CD1-48E2-B341-5914C2D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83B-7633-4F68-8900-03A2F94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736C-3F22-4303-976E-0CCEFBBC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CC28-D2BD-4CDC-9649-147003E6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9442-6850-4D20-8DAE-4A40CB9B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E1CF-64F9-4ED9-A19C-374C180A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5128-94E8-42A1-B7CF-4DEF9979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8F98-241F-4C05-A5BB-90104BAB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B8DC-620A-4BC6-8E42-0329D91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14F-D469-469E-AA19-5BFA65F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47B8-0F42-474F-B6E9-830FC096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C1AB-D5FD-4AB6-83AD-A63513D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31E9-E41E-45A8-93AB-2A94432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7A14-62C4-421E-BF7E-90C4A59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7646-67EE-48E8-9216-58646B8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3835-7F16-43D7-B2FE-3CD0A290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7A63-FA85-4E46-9A92-3B25E026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7400-622D-4EF3-9E68-13C0B7D3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C72A-31A8-4D51-ACFF-4528599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CE21-AC8B-4894-AF64-91C56047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C91-C774-416D-851E-B228661B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F87C-AC6B-423A-B3FA-4ED5A67C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BAA7-E7A7-4920-B75F-2B01AC2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91EF-369C-469E-88D7-D51CD2F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3166-AA7C-45B5-8ECD-AF44CCA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0F2D-3D7D-44F7-AFB6-FD09C66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652A-F728-4362-9C88-CB6A641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18CC-D2E6-4ED6-90D8-4F8CAA5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A87C-0F37-4FA5-9E5F-153C9F04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4E97-5671-4149-BF69-4B9F1198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D5AE-726B-4F46-9677-F60D086F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C69-AB26-45FD-9744-4ADC7087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F8AA-6C85-493A-8CAE-E31D9A46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25B1-4447-421D-997E-17F63880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5DE7-8D3C-474B-854F-11F7879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C4E0-362A-46FF-AD8B-25101698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D294-5CFA-44D3-AA3D-99356AC1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23A5-28CD-4B60-92E7-B4A13E1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BC0A-2795-4A7F-B99A-42007BD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0C43-6777-4F58-BFD9-E9C8DC8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BA21-895F-4479-B8C5-54D68BD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9B0A-31C3-495F-BC46-6B640E0F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0B4-24A7-4308-9634-825A4A1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A0EC-E2E6-4E3A-9C5D-B5B6D23C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D6FF-1319-4A08-82FB-0090E09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B385-57F6-4D2B-B9CF-D584A977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BE47-D7F2-44AE-B25A-DC21622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1AB9-1BAE-4287-86CE-2D46AE4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AF40-F456-4211-A1A9-5AE311CE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A145-7C4B-4E74-82D3-62D76220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A2E1-85F6-4E74-A575-ED6BB85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6FC0-A295-4FFC-B896-049F0DB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7669-269C-4EF4-BDEB-2EE0EF1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74B-DEEE-4C74-88A3-8EB073D5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B697-9C68-4022-985D-0F80518E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37C95-8BD4-4C35-AE62-AEC0F9E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9BC80-C340-4E07-A5CF-D30877A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EAE-D9B0-42B8-8DD7-0ABBC85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14F-497F-4383-B8C6-4397DCA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A30-CFBE-4CBB-AA51-01DB09004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8DA-7BFE-44E8-B6A2-41DC4F9D9F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CAC-AF41-4F31-9D8F-6768BE1FCE6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78F-644A-41D7-A2E0-AE556F27D1E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062-E72A-40F8-A267-A465EEDAE3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EB77-0A4C-4C7A-B1B4-9623538594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7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talisman.sochi2014.com/finalists/36329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talisman.sochi2014.com/finalists/36326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3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talisman.sochi2014.com/finalists/36331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69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talisman.sochi2014.com/finalists/36330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6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talisman.sochi2014.com/finalists/36335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4/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talisman.sochi2014.com/finalists/36332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8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2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83;&#1077;&#1076;&#1086;&#1074;&#1072;&#1103;_&#1072;&#1088;&#1077;&#1085;&#1072;_(&#1057;&#1086;&#1095;&#1080;)" TargetMode="External"/><Relationship Id="rId2" Type="http://schemas.openxmlformats.org/officeDocument/2006/relationships/hyperlink" Target="http://ru.wikipedia.org/wiki/&#1052;&#1072;&#1083;&#1072;&#1103;_&#1083;&#1077;&#1076;&#1086;&#1074;&#1072;&#1103;_&#1072;&#1088;&#1077;&#1085;&#1072;_(&#1057;&#1086;&#1095;&#1080;)" TargetMode="External"/><Relationship Id="rId3" Type="http://schemas.openxmlformats.org/officeDocument/2006/relationships/hyperlink" Target="http://ru.wikipedia.org/wiki/&#1050;&#1086;&#1085;&#1100;&#1082;&#1086;&#1073;&#1077;&#1078;&#1085;&#1099;&#1081;_&#1094;&#1077;&#1085;&#1090;&#1088;_(&#1057;&#1086;&#1095;&#1080;)" TargetMode="External"/><Relationship Id="rId4" Type="http://schemas.openxmlformats.org/officeDocument/2006/relationships/hyperlink" Target="http://ru.wikipedia.org/wiki/&#1051;&#1077;&#1076;&#1086;&#1074;&#1099;&#1081;_&#1076;&#1074;&#1086;&#1088;&#1077;&#1094;_&#1089;&#1087;&#1086;&#1088;&#1090;&#1072;_(&#1057;&#1086;&#1095;&#1080;)" TargetMode="External"/><Relationship Id="rId5" Type="http://schemas.openxmlformats.org/officeDocument/2006/relationships/hyperlink" Target="http://ru.wikipedia.org/wiki/&#1040;&#1088;&#1077;&#1085;&#1072;_&#1076;&#1083;&#1103;_&#1082;&#1105;&#1088;&#1083;&#1080;&#1085;&#1075;&#1072;_(&#1057;&#1086;&#1095;&#1080;)" TargetMode="External"/><Relationship Id="rId6" Type="http://schemas.openxmlformats.org/officeDocument/2006/relationships/hyperlink" Target="http://ru.wikipedia.org/wiki/&#1054;&#1083;&#1080;&#1084;&#1087;&#1080;&#1081;&#1089;&#1082;&#1080;&#1081;_&#1089;&#1090;&#1072;&#1076;&#1080;&#1086;&#1085;_(&#1057;&#1086;&#1095;&#1080;)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8;&#1090;" TargetMode="External"/><Relationship Id="rId2" Type="http://schemas.openxmlformats.org/officeDocument/2006/relationships/hyperlink" Target="http://ru.wikipedia.org/wiki/&#1057;&#1086;&#1088;&#1077;&#1074;&#1085;&#1086;&#1074;&#1072;&#1085;&#1080;&#1077;" TargetMode="External"/><Relationship Id="rId3" Type="http://schemas.openxmlformats.org/officeDocument/2006/relationships/hyperlink" Target="http://ru.wikipedia.org/wiki/&#1044;&#1088;&#1077;&#1074;&#1085;&#1103;&#1103;_&#1043;&#1088;&#1077;&#1094;&#1080;&#1103;" TargetMode="External"/><Relationship Id="rId4" Type="http://schemas.openxmlformats.org/officeDocument/2006/relationships/hyperlink" Target="http://ru.wikipedia.org/wiki/XIX_&#1074;&#1077;&#1082;" TargetMode="External"/><Relationship Id="rId5" Type="http://schemas.openxmlformats.org/officeDocument/2006/relationships/hyperlink" Target="http://ru.wikipedia.org/wiki/&#1050;&#1091;&#1073;&#1077;&#1088;&#1090;&#1077;&#1085;,_&#1055;&#1100;&#1077;&#1088;_&#1076;&#1077;" TargetMode="External"/><Relationship Id="rId6" Type="http://schemas.openxmlformats.org/officeDocument/2006/relationships/hyperlink" Target="http://ru.wikipedia.org/wiki/&#1060;&#1072;&#1081;&#1083;:Baron_Pierre_de_Coubertin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2_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ssport.ru/upload/iblock/78d/kkc1_850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alliance.ru/userfile/sochi_figure_skating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s74.ru/images/Kerling.0-03-12.gi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e.archplatforma.ru/imgs/newsimgs/2010/07/1006_SOCHI_STAIR_ENTANCE_FINAL1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0;&#1072;&#1090;&#1083;&#1086;&#1085;_&#1085;&#1072;_&#1079;&#1080;&#1084;&#1085;&#1080;&#1093;_&#1054;&#1083;&#1080;&#1084;&#1087;&#1080;&#1081;&#1089;&#1082;&#1080;&#1093;_&#1080;&#1075;&#1088;&#1072;&#1093;_2014&amp;action=edit&amp;redlink=1" TargetMode="External"/><Relationship Id="rId2" Type="http://schemas.openxmlformats.org/officeDocument/2006/relationships/hyperlink" Target="http://ru.wikipedia.org/w/index.php?title=&#1041;&#1086;&#1073;&#1089;&#1083;&#1077;&#1081;_&#1085;&#1072;_&#1079;&#1080;&#1084;&#1085;&#1080;&#1093;_&#1054;&#1083;&#1080;&#1084;&#1087;&#1080;&#1081;&#1089;&#1082;&#1080;&#1093;_&#1080;&#1075;&#1088;&#1072;&#1093;_2014&amp;action=edit&amp;redlink=1" TargetMode="External"/><Relationship Id="rId3" Type="http://schemas.openxmlformats.org/officeDocument/2006/relationships/hyperlink" Target="http://ru.wikipedia.org/w/index.php?title=&#1043;&#1086;&#1088;&#1085;&#1086;&#1083;&#1099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4" Type="http://schemas.openxmlformats.org/officeDocument/2006/relationships/hyperlink" Target="http://ru.wikipedia.org/w/index.php?title=&#1050;&#1105;&#1088;&#1083;&#1080;&#1085;&#1075;_&#1085;&#1072;_&#1079;&#1080;&#1084;&#1085;&#1080;&#1093;_&#1054;&#1083;&#1080;&#1084;&#1087;&#1080;&#1081;&#1089;&#1082;&#1080;&#1093;_&#1080;&#1075;&#1088;&#1072;&#1093;_2014&amp;action=edit&amp;redlink=1" TargetMode="External"/><Relationship Id="rId5" Type="http://schemas.openxmlformats.org/officeDocument/2006/relationships/hyperlink" Target="http://ru.wikipedia.org/w/index.php?title=&#1050;&#1086;&#1085;&#1100;&#1082;&#1086;&#1073;&#1077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6" Type="http://schemas.openxmlformats.org/officeDocument/2006/relationships/hyperlink" Target="http://ru.wikipedia.org/w/index.php?title=&#1051;&#1099;&#1078;&#1085;&#1086;&#1077;_&#1076;&#1074;&#1086;&#1077;&#1073;&#1086;&#1088;&#1100;&#1077;_&#1085;&#1072;_&#1079;&#1080;&#1084;&#1085;&#1080;&#1093;_&#1054;&#1083;&#1080;&#1084;&#1087;&#1080;&#1081;&#1089;&#1082;&#1080;&#1093;_&#1080;&#1075;&#1088;&#1072;&#1093;_2014&amp;action=edit&amp;redlink=1" TargetMode="External"/><Relationship Id="rId7" Type="http://schemas.openxmlformats.org/officeDocument/2006/relationships/hyperlink" Target="http://ru.wikipedia.org/w/index.php?title=&#1051;&#1099;&#1078;&#1085;&#1099;&#1077;_&#1075;&#1086;&#1085;&#1082;&#1080;_&#1085;&#1072;_&#1079;&#1080;&#1084;&#1085;&#1080;&#1093;_&#1054;&#1083;&#1080;&#1084;&#1087;&#1080;&#1081;&#1089;&#1082;&#1080;&#1093;_&#1080;&#1075;&#1088;&#1072;&#1093;_2014&amp;action=edit&amp;redlink=1" TargetMode="External"/><Relationship Id="rId8" Type="http://schemas.openxmlformats.org/officeDocument/2006/relationships/hyperlink" Target="http://ru.wikipedia.org/w/index.php?title=&#1055;&#1088;&#1099;&#1078;&#1082;&#1080;_&#1089;_&#1090;&#1088;&#1072;&#1084;&#1087;&#1083;&#1080;&#1085;&#1072;_&#1085;&#1072;_&#1079;&#1080;&#1084;&#1085;&#1080;&#1093;_&#1054;&#1083;&#1080;&#1084;&#1087;&#1080;&#1081;&#1089;&#1082;&#1080;&#1093;_&#1080;&#1075;&#1088;&#1072;&#1093;_2014&amp;action=edit&amp;redlink=1" TargetMode="External"/><Relationship Id="rId9" Type="http://schemas.openxmlformats.org/officeDocument/2006/relationships/hyperlink" Target="http://ru.wikipedia.org/w/index.php?title=&#1057;&#1072;&#1085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74;&#1086;&#1083;" TargetMode="External"/><Relationship Id="rId2" Type="http://schemas.openxmlformats.org/officeDocument/2006/relationships/hyperlink" Target="http://ru.wikipedia.org/wiki/&#1060;&#1072;&#1081;&#1083;:Olympic_flag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920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7_&#1092;&#1077;&#1074;&#1088;&#1072;&#1083;&#1103;" TargetMode="External"/><Relationship Id="rId3" Type="http://schemas.openxmlformats.org/officeDocument/2006/relationships/hyperlink" Target="http://ru.wikipedia.org/wiki/23_&#1092;&#1077;&#1074;&#1088;&#1072;&#1083;&#1103;" TargetMode="External"/><Relationship Id="rId4" Type="http://schemas.openxmlformats.org/officeDocument/2006/relationships/hyperlink" Target="http://ru.wikipedia.org/wiki/2014_&#1075;&#1086;&#1076;" TargetMode="External"/><Relationship Id="rId5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3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881360" y="5357880"/>
            <a:ext cx="593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Олимпийский 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311400" y="0"/>
            <a:ext cx="84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гры 201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стоящее и будущее Со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 вы думаете, какой талисман Зимних Олимпийских игр в Соч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берет народ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539640" y="321300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вно за три года до открытия зимней Олимпиады в Сочи, 7 февраля 2011 года, в эфире Первого канала прошла телевизионная презентация талисманов грядущих Иг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едущий Иван Ургант подвел итоги первого тура конкурса, в ходе которого экспертное жюри рассмотрело более 24 тысяч работ и определилось с шорт-листом самых удачных идей, на каждую из которых отсняты 30-секундные анимированные видеооткры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алисман Сочи-2014 выберут 26 февраля в прямом эфире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Талисман будущей зимней Олимпиады в Сочи будут выбирать всем миром. На 26 февраля 2011 года запланировано народное голосование за лучший символ Сочи-2014 по телефону и посредством sms, результаты которого будут объявлены в прямом эфире Первого канал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Десять изображений, которые претендуют на звание талисмана Олимпийских игр 2014 года, были представлены в понедельник, 7 февраля 2011 год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имволом предстоящих игр в Сочи могут стать белый или бурый медведи, "Зайка", леопард со сноубордом, снегирь, дельфин на лыжах, "Солнышко", "Огненный мальчик", "Снежинка", Дед Мороз или "Матрешки", больше похожие на снеговиков.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 изображениями всех финалистов можно ознакомиться на официальном сайте талисмана Сочи-2014.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Бурый или Белый медведь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Picture 3" descr="Бурый медве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44680"/>
            <a:ext cx="3743280" cy="5133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Белый медве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6040" y="1700280"/>
            <a:ext cx="3948120" cy="4753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Дед Мороз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360" y="-7994520"/>
            <a:ext cx="895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Снегирь или Солнышко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3" name="Picture 10" descr="Снегир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44640"/>
            <a:ext cx="4240080" cy="338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Солнышко">
            <a:hlinkClick r:id="rId3"/>
          </p:cNvPr>
          <p:cNvPicPr/>
          <p:nvPr/>
        </p:nvPicPr>
        <p:blipFill>
          <a:blip r:embed="rId4"/>
          <a:srcRect l="0" t="0" r="0" b="16086"/>
          <a:stretch/>
        </p:blipFill>
        <p:spPr>
          <a:xfrm>
            <a:off x="4197240" y="3068640"/>
            <a:ext cx="494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йка или Снежин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6" name="Picture 9" descr="Снежи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484280"/>
            <a:ext cx="3833640" cy="5162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Зайка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557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Дед Мороз или Дельфин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9" name="Picture 14" descr="Дед Мороз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2360" cy="4633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Дельф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7160" y="1700280"/>
            <a:ext cx="46054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Матрешки или Огненный мальчик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2" name="Picture 11" descr="Матре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203720" cy="4752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Огненный мальч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380960"/>
            <a:ext cx="3743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Леопард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5" name="Picture 4" descr="Леопар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743120"/>
            <a:ext cx="43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С </a:t>
            </a:r>
            <a:r>
              <a:rPr b="0" lang="ru-RU" sz="6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1932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 город-организатор строит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олимпийскую деревню»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 — комплекс жилых помещений для участников игр.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лимпийский парк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чи будет расположен на побережье Чёрного моря в Имеретинской низменности. Ни одно из спортивных сооружений ещё до конца не построено. Все проектные работы по олимпийским объектам планируется завершить в начале сентября 2007 года, чтобы уже в конце года начать их строительство. Строительство предполагается завершить в 2013 году.</a:t>
            </a:r>
            <a:br>
              <a:rPr sz="24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ольш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Мал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Конькобежный центр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Ледовый дворец спорт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рена для кёрлинг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Олимпийский стадион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лимпи́йские и́гры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 — крупнейшие международные комплексны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портивные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соревнования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которые проводятся каждые четыре года. Традиция, существовавшая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Древней Греции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была возрождена в конц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XIX века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французским общественным деятеле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Пьером де Кубертеном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4" name="Рисунок 4" descr="http://upload.wikimedia.org/wikipedia/commons/thumb/e/ef/Baron_Pierre_de_Coubertin.jpg/200px-Baron_Pierre_de_Coubert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2952720" cy="4753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684360" y="5589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рон Пьер де Куб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Картинка 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55680"/>
            <a:ext cx="8642160" cy="5268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ольшая ледовая арена в Сочи построена для игры в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хоккей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, рассчитана на 12000 зрител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Картинка 6 из 1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49480"/>
            <a:ext cx="8642160" cy="5527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алая ледовая арена — хоккей, 7000 зрителей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нькобежный центр — конькобежный спорт, 8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3" name="Picture 2" descr="Картинка 10 из 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8874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Картинка 1 из 10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62121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Ледовый дворец спорта — фигурное катание, шорт-трек, 12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Картинка 4 из 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2560" y="260280"/>
            <a:ext cx="7291440" cy="58327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6764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ена для кёрлинга — кёрлинг, 3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79280" y="117360"/>
            <a:ext cx="165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ёрлин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англ.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urling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от англо-шотл. curr) 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лимпийский стадион, 40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Picture 2" descr="Картинка 18 из 1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87868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755640" y="189000"/>
          <a:ext cx="7667640" cy="79056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от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лификация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налы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казательные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за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79280" y="981000"/>
          <a:ext cx="8712360" cy="5870520"/>
        </p:xfrm>
        <a:graphic>
          <a:graphicData uri="http://schemas.openxmlformats.org/drawingml/2006/table">
            <a:tbl>
              <a:tblPr/>
              <a:tblGrid>
                <a:gridCol w="1079640"/>
                <a:gridCol w="34776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760"/>
                <a:gridCol w="403200"/>
                <a:gridCol w="401400"/>
                <a:gridCol w="851040"/>
              </a:tblGrid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Биат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Бобс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Горнолы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Кёрл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Конькобе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Лыжное двоебор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Лыжные го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Прыжки с трам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Сан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келе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ноуборд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игурное ка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ристай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Хокк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Шорт-тр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Рисунок 33" descr="Olympic rings.svg"/>
          <p:cNvPicPr/>
          <p:nvPr/>
        </p:nvPicPr>
        <p:blipFill>
          <a:blip r:embed="rId10"/>
          <a:stretch/>
        </p:blipFill>
        <p:spPr>
          <a:xfrm>
            <a:off x="0" y="0"/>
            <a:ext cx="200160" cy="954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4" descr="Biathlon pictogram.svg"/>
          <p:cNvPicPr/>
          <p:nvPr/>
        </p:nvPicPr>
        <p:blipFill>
          <a:blip r:embed="rId1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5" descr="Bobsleigh pictogram.svg"/>
          <p:cNvPicPr/>
          <p:nvPr/>
        </p:nvPicPr>
        <p:blipFill>
          <a:blip r:embed="rId1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6" descr="Alpine skiing pictogram.svg"/>
          <p:cNvPicPr/>
          <p:nvPr/>
        </p:nvPicPr>
        <p:blipFill>
          <a:blip r:embed="rId1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7" descr="Curling pictogram.svg"/>
          <p:cNvPicPr/>
          <p:nvPr/>
        </p:nvPicPr>
        <p:blipFill>
          <a:blip r:embed="rId1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8" descr="Speed skating pictogram.svg"/>
          <p:cNvPicPr/>
          <p:nvPr/>
        </p:nvPicPr>
        <p:blipFill>
          <a:blip r:embed="rId1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39" descr="Nordic combined pictogram.svg"/>
          <p:cNvPicPr/>
          <p:nvPr/>
        </p:nvPicPr>
        <p:blipFill>
          <a:blip r:embed="rId16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0" descr="Cross country skiing pictogram.svg"/>
          <p:cNvPicPr/>
          <p:nvPr/>
        </p:nvPicPr>
        <p:blipFill>
          <a:blip r:embed="rId17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1" descr="Ski jumping pictogram.svg"/>
          <p:cNvPicPr/>
          <p:nvPr/>
        </p:nvPicPr>
        <p:blipFill>
          <a:blip r:embed="rId18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2" descr="Luge pictogram.svg"/>
          <p:cNvPicPr/>
          <p:nvPr/>
        </p:nvPicPr>
        <p:blipFill>
          <a:blip r:embed="rId19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3" descr="Skeleton pictogram.svg"/>
          <p:cNvPicPr/>
          <p:nvPr/>
        </p:nvPicPr>
        <p:blipFill>
          <a:blip r:embed="rId20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4" descr="Snowboarding pictogram.svg"/>
          <p:cNvPicPr/>
          <p:nvPr/>
        </p:nvPicPr>
        <p:blipFill>
          <a:blip r:embed="rId2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5" descr="Figure skating pictogram.svg"/>
          <p:cNvPicPr/>
          <p:nvPr/>
        </p:nvPicPr>
        <p:blipFill>
          <a:blip r:embed="rId2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6" descr="Freestyle skiing pictogram.svg"/>
          <p:cNvPicPr/>
          <p:nvPr/>
        </p:nvPicPr>
        <p:blipFill>
          <a:blip r:embed="rId2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7" descr="Ice hockey pictogram.svg"/>
          <p:cNvPicPr/>
          <p:nvPr/>
        </p:nvPicPr>
        <p:blipFill>
          <a:blip r:embed="rId2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8" descr="Short track speed skating pictogram.svg"/>
          <p:cNvPicPr/>
          <p:nvPr/>
        </p:nvPicPr>
        <p:blipFill>
          <a:blip r:embed="rId2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4481640" y="2887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3" name="Рисунок 2" descr="http://upload.wikimedia.org/wikipedia/commons/thumb/a/a7/Olympic_flag.svg/250px-Olympic_flag.svg.png"/>
          <p:cNvPicPr/>
          <p:nvPr/>
        </p:nvPicPr>
        <p:blipFill>
          <a:blip r:embed="rId1"/>
          <a:stretch/>
        </p:blipFill>
        <p:spPr>
          <a:xfrm>
            <a:off x="5364000" y="189000"/>
            <a:ext cx="34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имвол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лимпийских игр — пять скреплённых колец, символизирующих объединение пяти частей света в олимпийском движен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Рисунок 2" descr="http://upload.wikimedia.org/wikipedia/commons/thumb/a/a7/Olympic_flag.svg/250px-Olympic_flag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2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rcRect l="12744" t="22856" r="13726" b="25730"/>
          <a:stretch/>
        </p:blipFill>
        <p:spPr>
          <a:xfrm>
            <a:off x="179280" y="189000"/>
            <a:ext cx="8569440" cy="4032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4221000"/>
            <a:ext cx="8459640" cy="229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вет колец в верхнем ряду — голубо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Европы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чёр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Аф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крас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ме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в нижнем ряду — жёлт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Аз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зелё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Австрал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2507040" y="2928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95240" y="12859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Евро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3660120" y="114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6516360" y="11430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4865760" y="27860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Эмблема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олимпийские кольца.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Девиз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</a:t>
            </a:r>
            <a:r>
              <a:rPr b="1" i="1" lang="ru-RU" sz="4800" spc="-1" strike="noStrike">
                <a:solidFill>
                  <a:srgbClr val="696464"/>
                </a:solidFill>
                <a:latin typeface="Calibri"/>
              </a:rPr>
              <a:t>Citius, Altius, Fortius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лат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. «быстрее, выше, сильнее»).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Флаг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белое полотнище с олимпийскими кольцами, с 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1920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поднимается на всех Играх.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"/>
          <p:cNvSpPr/>
          <p:nvPr/>
        </p:nvSpPr>
        <p:spPr>
          <a:xfrm>
            <a:off x="-1986480" y="857160"/>
            <a:ext cx="129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имни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Олимпийские иг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31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имние Олимпийские игры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2014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— международное спортивное мероприятие, которое пройдёт с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7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по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23 февраля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2014 года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олица Олимпиады, Сочи (Россия), была выбрана в городе Гватемала, столице Гватемалы 4 июля 2007 года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России Олимпийские Игры пройдут во второй раз (до этого в Москве проходили XXII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Летние Олимпийские игры 1980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), и впервые — зимние игры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227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оготип города-кандидата Сочи на проведение Зимних Олимпийских игр 2014 год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700280"/>
          <a:ext cx="2592360" cy="4824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8243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df0024"/>
                      </a:solidFill>
                    </a:lnL>
                    <a:lnR w="5760">
                      <a:solidFill>
                        <a:srgbClr val="df0024"/>
                      </a:solidFill>
                    </a:lnR>
                    <a:lnT w="5760">
                      <a:solidFill>
                        <a:srgbClr val="df0024"/>
                      </a:solidFill>
                    </a:lnT>
                    <a:lnB w="5760">
                      <a:solidFill>
                        <a:srgbClr val="df002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0" name="Рисунок 144" descr="http://olimpigr.narod.ru/2014_Sochi/image/logo_1.jpg"/>
          <p:cNvPicPr/>
          <p:nvPr/>
        </p:nvPicPr>
        <p:blipFill>
          <a:blip r:embed="rId1"/>
          <a:stretch/>
        </p:blipFill>
        <p:spPr>
          <a:xfrm>
            <a:off x="971640" y="1844640"/>
            <a:ext cx="1514520" cy="45147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3348000" y="1266480"/>
            <a:ext cx="57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8 октября 2005 года Международный олимпийский комитет (МОК) официально одобрил использование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Звезды 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символа заявочной кампани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014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качестве логотипа Сочи как города-претендента на право проведения зимних Олимпийских игр 201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Олимпийская эмблема Сочи — звезда из белых и голубых линий на фоне синего неба и горных вершин. Весь логотип выдержан в цветах российского флага. Синий — цвет моря и неба, белый — снег, красный — цвет победы. Олимпийские кольца пяти цветов также символичны для Сочи: синее небо, большую часть года светит желтое солнце, рядом — Черное море, город находится в зеленой от растительности местности и соседствует с Красной Пол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мблема Зимних Олимпийских игр 2014 года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2" descr="http://olimpigr.narod.ru/2014_Sochi/image/sochi_2014_002.jpg"/>
          <p:cNvPicPr/>
          <p:nvPr/>
        </p:nvPicPr>
        <p:blipFill>
          <a:blip r:embed="rId1"/>
          <a:stretch/>
        </p:blipFill>
        <p:spPr>
          <a:xfrm>
            <a:off x="539640" y="4005360"/>
            <a:ext cx="4743720" cy="2095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3419640" y="141300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декабря 2009 года в Москве представлена эмбл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х в истории России зимних Олимпийских игр "Сочи-2014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mbria"/>
              </a:rPr>
              <a:t>Девиз сочинских Игр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- Gateway to the Future (Ворота в буду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48:48Z</dcterms:created>
  <dc:creator>Владелец</dc:creator>
  <dc:description/>
  <dc:language>en-US</dc:language>
  <cp:lastModifiedBy>Owner</cp:lastModifiedBy>
  <dcterms:modified xsi:type="dcterms:W3CDTF">2012-05-31T21:33:16Z</dcterms:modified>
  <cp:revision>19</cp:revision>
  <dc:subject/>
  <dc:title>Слайд 1</dc:title>
</cp:coreProperties>
</file>