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0E81-E0B3-41C1-9F53-A95413BF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CF6D-BEDF-4AE3-9586-5B6BAEE7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5391-350B-43B7-80B2-B6B13CAD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1F41-BEE4-4F7E-8778-2FEA1A91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E8C9-0BE5-491E-977F-19A10D1A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3AF3-3A31-46BF-8006-5ADC8252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0355-F2BC-4F25-99AF-9A09E8D1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822E-AFCB-4FA2-AF8D-0D2660B5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C784-3774-4C0E-B8A1-EF342079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B94F-6EC1-461A-AD1A-F118F5ED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FC2B-40AB-4BF3-9F08-6AB08610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F77F-6B8D-41E1-AF58-292216AC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ED13-54AD-4A54-A6FA-347EA5C2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13CA-BE35-43B1-AEF3-461DEC3D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F9F8-CB40-41BC-AF11-4873C5DB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A180-4815-4EB5-9679-6DFB92C5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9479-7690-4280-88BF-F44F5B5E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02DE-736B-4599-A94B-871DD243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87F2-6114-4DF0-8FA0-4507CDE2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CFF-F420-4244-A3CB-C0EAA461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3007-7C44-4104-8CBE-6F34A123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212F-80F2-400E-BC5A-B406C877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9F9B-CFBC-4EE4-B310-3CF8B5C3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9CFC-9CA0-4098-9126-45A6A612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E3D5-32D9-4606-81B2-A0A1B38021F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DC3E-C8F0-4065-9E4E-09F8DCB2CC5A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887640" cy="2987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7561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71280" y="-964080"/>
            <a:ext cx="7699320" cy="396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икторина по сказам уральского писателя П.П.Бажова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              (Презентация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2201760" cy="3240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2"/>
          <a:stretch/>
        </p:blipFill>
        <p:spPr>
          <a:xfrm>
            <a:off x="3132000" y="765000"/>
            <a:ext cx="2286000" cy="1847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"/>
          <p:cNvPicPr/>
          <p:nvPr/>
        </p:nvPicPr>
        <p:blipFill>
          <a:blip r:embed="rId3"/>
          <a:stretch/>
        </p:blipFill>
        <p:spPr>
          <a:xfrm>
            <a:off x="3995640" y="3284640"/>
            <a:ext cx="2225880" cy="3240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4"/>
          <a:stretch/>
        </p:blipFill>
        <p:spPr>
          <a:xfrm>
            <a:off x="6443640" y="3789360"/>
            <a:ext cx="2540160" cy="2540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5"/>
          <a:stretch/>
        </p:blipFill>
        <p:spPr>
          <a:xfrm>
            <a:off x="395280" y="4005360"/>
            <a:ext cx="3111480" cy="2504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6"/>
          <a:stretch/>
        </p:blipFill>
        <p:spPr>
          <a:xfrm>
            <a:off x="5724360" y="476280"/>
            <a:ext cx="328788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aeaea"/>
                </a:solidFill>
                <a:latin typeface="Arial"/>
              </a:rPr>
              <a:t>Спасибо за внимание.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авел Петрович Баж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771480" y="1600200"/>
            <a:ext cx="3409920" cy="45306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уральский сказочник, прославивший свой край, его людей, его легенды и предания на весь мир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Мемориальный дом-музей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. П. Бажов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16000" y="198900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ом № 11 по улице Чапаева в городе Екатеринбург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Здесь была создана книга сказов "Малахитовая шкатулка»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40402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843360" cy="2757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3940200" cy="273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3"/>
          <a:stretch/>
        </p:blipFill>
        <p:spPr>
          <a:xfrm>
            <a:off x="395280" y="3645000"/>
            <a:ext cx="4032360" cy="2698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43280" y="3716280"/>
            <a:ext cx="400392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музе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30 вещей, принадлежавших Бажову, более 800 книг, свыше 50 рукописе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Бажов написал 56 сказов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борник сказов Бажова  "Малахитовая шкатулка» переведена на английский язык и вышла в Лондоне и Нью-Йорке, потом в Праге, в Париже. Книга переведена на немецкий, венгерский, румынский, китайский, японский языки. Всего - на 100 языков мира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1146240" y="1600200"/>
            <a:ext cx="26589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о сказам Бажова поставлены оперные, драматические, музыкальные и кукольные спектакли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>
            <a:off x="932040" y="1600200"/>
            <a:ext cx="3090600" cy="2184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"/>
          <p:cNvPicPr/>
          <p:nvPr/>
        </p:nvPicPr>
        <p:blipFill>
          <a:blip r:embed="rId2"/>
          <a:stretch/>
        </p:blipFill>
        <p:spPr>
          <a:xfrm>
            <a:off x="900000" y="3976560"/>
            <a:ext cx="3148200" cy="2203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3"/>
          <a:stretch/>
        </p:blipFill>
        <p:spPr>
          <a:xfrm>
            <a:off x="5027760" y="1600200"/>
            <a:ext cx="3278160" cy="2184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"/>
          <p:cNvPicPr/>
          <p:nvPr/>
        </p:nvPicPr>
        <p:blipFill>
          <a:blip r:embed="rId4"/>
          <a:stretch/>
        </p:blipFill>
        <p:spPr>
          <a:xfrm>
            <a:off x="5076720" y="3938760"/>
            <a:ext cx="3027600" cy="21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няты художественные фильмы, мультфильмы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1909440" cy="2546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"/>
          <p:cNvPicPr/>
          <p:nvPr/>
        </p:nvPicPr>
        <p:blipFill>
          <a:blip r:embed="rId2"/>
          <a:stretch/>
        </p:blipFill>
        <p:spPr>
          <a:xfrm>
            <a:off x="2916360" y="907920"/>
            <a:ext cx="1954080" cy="2808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"/>
          <p:cNvPicPr/>
          <p:nvPr/>
        </p:nvPicPr>
        <p:blipFill>
          <a:blip r:embed="rId3"/>
          <a:stretch/>
        </p:blipFill>
        <p:spPr>
          <a:xfrm>
            <a:off x="6227640" y="3933720"/>
            <a:ext cx="2745000" cy="2181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"/>
          <p:cNvPicPr/>
          <p:nvPr/>
        </p:nvPicPr>
        <p:blipFill>
          <a:blip r:embed="rId4"/>
          <a:stretch/>
        </p:blipFill>
        <p:spPr>
          <a:xfrm>
            <a:off x="3276720" y="4006800"/>
            <a:ext cx="2692440" cy="2025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"/>
          <p:cNvPicPr/>
          <p:nvPr/>
        </p:nvPicPr>
        <p:blipFill>
          <a:blip r:embed="rId5"/>
          <a:stretch/>
        </p:blipFill>
        <p:spPr>
          <a:xfrm>
            <a:off x="5435640" y="907920"/>
            <a:ext cx="3479760" cy="261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7" descr=""/>
          <p:cNvPicPr/>
          <p:nvPr/>
        </p:nvPicPr>
        <p:blipFill>
          <a:blip r:embed="rId6"/>
          <a:stretch/>
        </p:blipFill>
        <p:spPr>
          <a:xfrm>
            <a:off x="324000" y="4005360"/>
            <a:ext cx="273672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оставлены балеты, выпущены аудиокниг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3743280" cy="2494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"/>
          <p:cNvPicPr/>
          <p:nvPr/>
        </p:nvPicPr>
        <p:blipFill>
          <a:blip r:embed="rId2"/>
          <a:stretch/>
        </p:blipFill>
        <p:spPr>
          <a:xfrm>
            <a:off x="4643280" y="765000"/>
            <a:ext cx="3816360" cy="2441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"/>
          <p:cNvPicPr/>
          <p:nvPr/>
        </p:nvPicPr>
        <p:blipFill>
          <a:blip r:embed="rId3"/>
          <a:stretch/>
        </p:blipFill>
        <p:spPr>
          <a:xfrm>
            <a:off x="2773440" y="3502080"/>
            <a:ext cx="2735280" cy="2566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"/>
          <p:cNvPicPr/>
          <p:nvPr/>
        </p:nvPicPr>
        <p:blipFill>
          <a:blip r:embed="rId4"/>
          <a:stretch/>
        </p:blipFill>
        <p:spPr>
          <a:xfrm>
            <a:off x="539640" y="3287880"/>
            <a:ext cx="1839960" cy="2770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5724360" y="3465360"/>
            <a:ext cx="31244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447040" cy="490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оздано множество скульптурных произведений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2160360" cy="2881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2592360" cy="2428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3"/>
          <a:stretch/>
        </p:blipFill>
        <p:spPr>
          <a:xfrm>
            <a:off x="3132000" y="907920"/>
            <a:ext cx="2951280" cy="2881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"/>
          <p:cNvPicPr/>
          <p:nvPr/>
        </p:nvPicPr>
        <p:blipFill>
          <a:blip r:embed="rId4"/>
          <a:stretch/>
        </p:blipFill>
        <p:spPr>
          <a:xfrm>
            <a:off x="611280" y="4149720"/>
            <a:ext cx="2838240" cy="2187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5"/>
          <a:stretch/>
        </p:blipFill>
        <p:spPr>
          <a:xfrm>
            <a:off x="4067280" y="3933720"/>
            <a:ext cx="1368360" cy="2486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8" descr=""/>
          <p:cNvPicPr/>
          <p:nvPr/>
        </p:nvPicPr>
        <p:blipFill>
          <a:blip r:embed="rId6"/>
          <a:stretch/>
        </p:blipFill>
        <p:spPr>
          <a:xfrm>
            <a:off x="6588000" y="907920"/>
            <a:ext cx="20005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12:58:36Z</dcterms:created>
  <dc:creator>ZZZ</dc:creator>
  <dc:description/>
  <dc:language>en-US</dc:language>
  <cp:lastModifiedBy>Светлана</cp:lastModifiedBy>
  <dcterms:modified xsi:type="dcterms:W3CDTF">2015-10-18T12:29:29Z</dcterms:modified>
  <cp:revision>58</cp:revision>
  <dc:subject/>
  <dc:title>Павел Петрович Бажов</dc:title>
</cp:coreProperties>
</file>