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38B-EE1C-420A-8472-00998AA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42A-8FC9-4F1B-9755-E7DEE13E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22A-0B59-4609-A105-D5A8BB5A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DB6-D05E-4D61-BB6F-1E18A76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FF2-B1EB-4755-A931-A2BEA2EF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136B-70BE-4DC0-9C93-FD17B90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4112-CAC8-4DEF-835B-072083E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D29-2875-4166-A7C8-33D9D57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1EE-D7F5-40F1-96BA-8872AEF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5B1-074F-4869-8927-AC1D386F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8B2B-E905-4799-88A1-99BA474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99D-A218-47CB-A8AF-9126459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19C7-0534-4258-B185-F8EEBF0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9F8-C3B6-4766-8648-E50F635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18D-C486-4F85-A358-B657B682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15DF-C00B-4B4A-83E0-05EDC235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912-02FF-45BD-B346-60E89693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9FC-6249-4E42-A98A-729A115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245-76AF-4603-9CF8-897B625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0FD-FD82-43C8-BA8A-7D882384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1A6-7B74-4380-AE60-D30DEF9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800-F736-4060-94AB-5C1F6E7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DDD-6931-4ECA-864F-5BAEB03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C66-445C-49F8-B071-61178740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E54-72CF-4BA8-9C6A-E2A7544293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B1E-FCD8-4621-A5E0-9A5CE615820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887640" cy="29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7561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71280" y="-964080"/>
            <a:ext cx="7699320" cy="39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кторина по сказам уральского писателя П.П.Бажова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          (Презентация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20176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222588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443640" y="378936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5"/>
          <a:stretch/>
        </p:blipFill>
        <p:spPr>
          <a:xfrm>
            <a:off x="395280" y="4005360"/>
            <a:ext cx="3111480" cy="250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6"/>
          <a:stretch/>
        </p:blipFill>
        <p:spPr>
          <a:xfrm>
            <a:off x="5724360" y="476280"/>
            <a:ext cx="3287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вел Петрович Баж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3409920" cy="453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ральский сказочник, прославивший свой край, его людей, его легенды и предания на весь мир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Мемориальный дом-музей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. П. Бажо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ом № 11 по улице Чапаева в городе Екатеринбург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десь была создана книга сказов "Малахитовая шкатулка»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402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43360" cy="275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940200" cy="273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032360" cy="2698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3280" y="3716280"/>
            <a:ext cx="4003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музе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30 вещей, принадлежавших Бажову, более 800 книг, свыше 50 рукопис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ажов написал 56 сказ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борник сказов Бажова  "Малахитовая шкатулка» переведена на английский язык и вышла в Лондоне и Нью-Йорке, потом в Праге, в Париже. Книга переведена на немецкий, венгерский, румынский, китайский, японский языки. Всего - на 100 языков мира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58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о сказам Бажова поставлены оперные, драматические, музыкальные и кукольные спектакл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932040" y="1600200"/>
            <a:ext cx="3090600" cy="218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900000" y="3976560"/>
            <a:ext cx="3148200" cy="2203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8160" cy="218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5076720" y="3938760"/>
            <a:ext cx="302760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няты художественные фильмы, мультфильмы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909440" cy="254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19540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745000" cy="218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"/>
          <p:cNvPicPr/>
          <p:nvPr/>
        </p:nvPicPr>
        <p:blipFill>
          <a:blip r:embed="rId4"/>
          <a:stretch/>
        </p:blipFill>
        <p:spPr>
          <a:xfrm>
            <a:off x="3276720" y="4006800"/>
            <a:ext cx="2692440" cy="20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оставлены балеты, выпущены аудиокниг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743280" cy="249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816360" cy="24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2773440" y="3502080"/>
            <a:ext cx="2735280" cy="2566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4"/>
          <a:stretch/>
        </p:blipFill>
        <p:spPr>
          <a:xfrm>
            <a:off x="539640" y="3287880"/>
            <a:ext cx="1839960" cy="27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5724360" y="3465360"/>
            <a:ext cx="31244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47040" cy="49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здано множество скульптурных произведен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216036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3"/>
          <a:stretch/>
        </p:blipFill>
        <p:spPr>
          <a:xfrm>
            <a:off x="3132000" y="907920"/>
            <a:ext cx="2951280" cy="288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2838240" cy="218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5"/>
          <a:stretch/>
        </p:blipFill>
        <p:spPr>
          <a:xfrm>
            <a:off x="4067280" y="3933720"/>
            <a:ext cx="1368360" cy="2486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6"/>
          <a:stretch/>
        </p:blipFill>
        <p:spPr>
          <a:xfrm>
            <a:off x="6588000" y="907920"/>
            <a:ext cx="2000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2:58:36Z</dcterms:created>
  <dc:creator>ZZZ</dc:creator>
  <dc:description/>
  <dc:language>en-US</dc:language>
  <cp:lastModifiedBy>Светлана</cp:lastModifiedBy>
  <dcterms:modified xsi:type="dcterms:W3CDTF">2015-10-18T12:29:29Z</dcterms:modified>
  <cp:revision>58</cp:revision>
  <dc:subject/>
  <dc:title>Павел Петрович Бажов</dc:title>
</cp:coreProperties>
</file>