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AA51-A308-4156-8E21-80857B209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BD68-6112-4687-A587-E1F2EE16F3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040F-5B2A-47DC-8032-4B4EE6F494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8949-AD56-46F4-89CF-3D33742903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8323-735E-4FA4-9A1F-FFD5C69774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96C4-CADD-4E71-AFC8-B4FF0AD185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350B-AF51-4FA4-A2A8-48BAFD9D8C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13F9-57D4-48B7-878A-25D1FD2AA0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9B7-4B9F-4D70-A1D8-174F2373CC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C267-BF88-419B-AEB4-BC525796F1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6FFA-3CBF-4314-8E47-3EFA2AB9A6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50CD-7900-44DF-8D3A-1C512A85DB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C65-A268-4618-B374-EEDE7462B7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16E1-C152-4908-9030-9029992650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1AD9-ADBD-44B7-85CD-911B13889B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42ED-374E-4886-885D-C26B2DD5B9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A942-D67C-4740-A5E5-412538BD68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72DD-6584-4E05-9A1F-5C5EA3CE48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8C8C-D65F-4C29-8CC0-6DD167D659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1DB8-537E-4101-8FFD-E0144F8D3E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C4D0-0F30-4870-B8FA-950A71EF0F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F113-3CBA-4940-B643-A43F170C3B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16F5-60D3-4259-A949-6E21BD435D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0EA-CD97-466E-B615-07875760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327-47D3-4668-AF55-15FEF8DD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281-BB2E-4FAC-AC81-74F6A0F8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C7C-DDC6-42FD-9793-48FC039D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C27E-964B-4AE6-880D-FC8F9134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35E6-1769-436E-BDF3-29F712D6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FB8D-7DD1-42C3-B65B-A7629FE9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C59C-6B76-40EC-B172-F6F5CE3E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B10F-E3F3-40BA-B7D4-01D0EB2A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6C22-DD74-4AC1-A21F-069833A0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DBB0-49D2-4451-8214-9BAB9F55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4EE-55E3-4790-9AD8-B2CA2E57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61EF-32BD-4C46-AF25-7FACD7B3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85FB-FE21-41F2-B4E4-19920D5D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826A-82EE-4C5E-B370-05E5E991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3738-8E61-4B1F-BDE2-87260D6F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D3AC-28F8-43A7-A5D7-C87B8C77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C89-A454-44B5-AFEC-C8A0B9A3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0FD-B0DE-47C6-B5BB-F9551004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A30-BFC2-4D59-9622-71C93EF7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C9D-0779-4305-B770-17F4850B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6DD-47BA-4C98-95F2-2F2B0A3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4BA-EDC6-4BC7-B69D-CEC8576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AF3-7A70-4152-932A-6E670D6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042E-C6BF-444A-AEEF-DE5AD85E4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D014-885E-47EB-B1EA-6D2FC38853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84;&#1072;&#1085;&#1089;&#1082;&#1072;&#1103;_&#1080;&#1084;&#1087;&#1077;&#1088;&#1080;&#1103;" TargetMode="External"/><Relationship Id="rId2" Type="http://schemas.openxmlformats.org/officeDocument/2006/relationships/hyperlink" Target="http://ru.wikipedia.org/wiki/&#1040;&#1085;&#1075;&#1083;&#1086;-&#1073;&#1091;&#1088;&#1089;&#1082;&#1072;&#1103;_&#1074;&#1086;&#1081;&#1085;&#1072;_(1899&#8212;1902)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ВАЯ МИРОВАЯ ВОЙНА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914-1918 гг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i-main-pic" descr="Картинка 4 из 7076"/>
          <p:cNvPicPr/>
          <p:nvPr/>
        </p:nvPicPr>
        <p:blipFill>
          <a:blip r:embed="rId1"/>
          <a:stretch/>
        </p:blipFill>
        <p:spPr>
          <a:xfrm>
            <a:off x="324000" y="2276640"/>
            <a:ext cx="4762440" cy="3257280"/>
          </a:xfrm>
          <a:prstGeom prst="rect">
            <a:avLst/>
          </a:prstGeom>
          <a:ln w="0">
            <a:noFill/>
          </a:ln>
        </p:spPr>
      </p:pic>
      <p:pic>
        <p:nvPicPr>
          <p:cNvPr id="220" name="i-main-pic" descr="Картинка 15 из 7076"/>
          <p:cNvPicPr/>
          <p:nvPr/>
        </p:nvPicPr>
        <p:blipFill>
          <a:blip r:embed="rId2"/>
          <a:stretch/>
        </p:blipFill>
        <p:spPr>
          <a:xfrm>
            <a:off x="6300720" y="1773360"/>
            <a:ext cx="2436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3500280"/>
            <a:ext cx="3683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битый английский тан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ранцузский мином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Подбитый английский танк. Первая мировая война"/>
          <p:cNvPicPr/>
          <p:nvPr/>
        </p:nvPicPr>
        <p:blipFill>
          <a:blip r:embed="rId1"/>
          <a:stretch/>
        </p:blipFill>
        <p:spPr>
          <a:xfrm>
            <a:off x="468360" y="324000"/>
            <a:ext cx="4294080" cy="2962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Французский миномёт. Первая мировая война"/>
          <p:cNvPicPr/>
          <p:nvPr/>
        </p:nvPicPr>
        <p:blipFill>
          <a:blip r:embed="rId2"/>
          <a:stretch/>
        </p:blipFill>
        <p:spPr>
          <a:xfrm>
            <a:off x="5076720" y="2852640"/>
            <a:ext cx="3924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3500280"/>
            <a:ext cx="3322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рманская эскадра в Балтийском м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ская трехдюймовая пуш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Германская эскадра в Балтийском море. Первая мировая война"/>
          <p:cNvPicPr/>
          <p:nvPr/>
        </p:nvPicPr>
        <p:blipFill>
          <a:blip r:embed="rId1"/>
          <a:stretch/>
        </p:blipFill>
        <p:spPr>
          <a:xfrm>
            <a:off x="395280" y="620640"/>
            <a:ext cx="5616720" cy="2764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Русская 3-дюймовая пушка. Первая мировая война"/>
          <p:cNvPicPr/>
          <p:nvPr/>
        </p:nvPicPr>
        <p:blipFill>
          <a:blip r:embed="rId2"/>
          <a:stretch/>
        </p:blipFill>
        <p:spPr>
          <a:xfrm>
            <a:off x="3635280" y="3860640"/>
            <a:ext cx="518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6840" y="3357720"/>
            <a:ext cx="375444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ранцузская эскадрил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ранцузское 120-мм оруд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3" descr="Эскадрилья французских самолётов. Первая мировая война"/>
          <p:cNvPicPr/>
          <p:nvPr/>
        </p:nvPicPr>
        <p:blipFill>
          <a:blip r:embed="rId1"/>
          <a:stretch/>
        </p:blipFill>
        <p:spPr>
          <a:xfrm>
            <a:off x="468360" y="311040"/>
            <a:ext cx="4294080" cy="2851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Французское 120-мм орудие. Первая мировая война"/>
          <p:cNvPicPr/>
          <p:nvPr/>
        </p:nvPicPr>
        <p:blipFill>
          <a:blip r:embed="rId2"/>
          <a:stretch/>
        </p:blipFill>
        <p:spPr>
          <a:xfrm>
            <a:off x="4643280" y="3738600"/>
            <a:ext cx="42595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3789360"/>
            <a:ext cx="38275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й в мире многомоторный бомбардировщик «Илья Муромец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така французской пех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Изображение:Ilja Muromez.jpg"/>
          <p:cNvPicPr/>
          <p:nvPr/>
        </p:nvPicPr>
        <p:blipFill>
          <a:blip r:embed="rId1"/>
          <a:stretch/>
        </p:blipFill>
        <p:spPr>
          <a:xfrm>
            <a:off x="324000" y="907920"/>
            <a:ext cx="5545080" cy="2683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Первая мировая война. Атака французской пехоты"/>
          <p:cNvPicPr/>
          <p:nvPr/>
        </p:nvPicPr>
        <p:blipFill>
          <a:blip r:embed="rId2"/>
          <a:stretch/>
        </p:blipFill>
        <p:spPr>
          <a:xfrm>
            <a:off x="4067280" y="4076640"/>
            <a:ext cx="489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ОВОД К ВОЙН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8 июня 1914 г. убийство в Сербии наследника Австро-Венгерского престола Франца-Фердинан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Изображение:WW1 TitlePicture For Wikipedia Article.jpg"/>
          <p:cNvPicPr/>
          <p:nvPr/>
        </p:nvPicPr>
        <p:blipFill>
          <a:blip r:embed="rId1"/>
          <a:stretch/>
        </p:blipFill>
        <p:spPr>
          <a:xfrm>
            <a:off x="679320" y="1268280"/>
            <a:ext cx="39988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ступление России в войн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августа 1914 г. – Россия вступила в вой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-main-pic" descr="Картинка 3 из 7076"/>
          <p:cNvPicPr/>
          <p:nvPr/>
        </p:nvPicPr>
        <p:blipFill>
          <a:blip r:embed="rId1"/>
          <a:stretch/>
        </p:blipFill>
        <p:spPr>
          <a:xfrm>
            <a:off x="3348000" y="1463760"/>
            <a:ext cx="56167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i-main-pic" descr="Картинка 25 из 7076"/>
          <p:cNvPicPr/>
          <p:nvPr/>
        </p:nvPicPr>
        <p:blipFill>
          <a:blip r:embed="rId1"/>
          <a:stretch/>
        </p:blipFill>
        <p:spPr>
          <a:xfrm>
            <a:off x="0" y="0"/>
            <a:ext cx="4427640" cy="2998800"/>
          </a:xfrm>
          <a:prstGeom prst="rect">
            <a:avLst/>
          </a:prstGeom>
          <a:ln w="0">
            <a:noFill/>
          </a:ln>
        </p:spPr>
      </p:pic>
      <p:pic>
        <p:nvPicPr>
          <p:cNvPr id="259" name="i-main-pic" descr="Картинка 31 из 7076"/>
          <p:cNvPicPr/>
          <p:nvPr/>
        </p:nvPicPr>
        <p:blipFill>
          <a:blip r:embed="rId2"/>
          <a:stretch/>
        </p:blipFill>
        <p:spPr>
          <a:xfrm>
            <a:off x="5003640" y="476280"/>
            <a:ext cx="2543400" cy="3809880"/>
          </a:xfrm>
          <a:prstGeom prst="rect">
            <a:avLst/>
          </a:prstGeom>
          <a:ln w="0">
            <a:noFill/>
          </a:ln>
        </p:spPr>
      </p:pic>
      <p:pic>
        <p:nvPicPr>
          <p:cNvPr id="260" name="i-main-pic" descr="Картинка 31 из 7076"/>
          <p:cNvPicPr/>
          <p:nvPr/>
        </p:nvPicPr>
        <p:blipFill>
          <a:blip r:embed="rId3"/>
          <a:stretch/>
        </p:blipFill>
        <p:spPr>
          <a:xfrm>
            <a:off x="971640" y="2852640"/>
            <a:ext cx="4238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Изображение:RussischeHaubizeWeltkrieg1.jpg"/>
          <p:cNvPicPr/>
          <p:nvPr/>
        </p:nvPicPr>
        <p:blipFill>
          <a:blip r:embed="rId1"/>
          <a:stretch/>
        </p:blipFill>
        <p:spPr>
          <a:xfrm>
            <a:off x="539640" y="333360"/>
            <a:ext cx="4392720" cy="307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200px-British_infantry_Morval_25_September_1916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2787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200px-Trencheswwi2"/>
          <p:cNvPicPr/>
          <p:nvPr/>
        </p:nvPicPr>
        <p:blipFill>
          <a:blip r:embed="rId3"/>
          <a:stretch/>
        </p:blipFill>
        <p:spPr>
          <a:xfrm>
            <a:off x="395280" y="364500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Итальянская пехота на позициях. Первая мировая война"/>
          <p:cNvPicPr/>
          <p:nvPr/>
        </p:nvPicPr>
        <p:blipFill>
          <a:blip r:embed="rId1"/>
          <a:stretch/>
        </p:blipFill>
        <p:spPr>
          <a:xfrm>
            <a:off x="611280" y="476280"/>
            <a:ext cx="325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НАЧАЛО ПЕРВОЙ МИРОВОЙ ВОЙН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Picture 4" descr="300px-Europe_1914"/>
          <p:cNvPicPr/>
          <p:nvPr/>
        </p:nvPicPr>
        <p:blipFill>
          <a:blip r:embed="rId1"/>
          <a:stretch/>
        </p:blipFill>
        <p:spPr>
          <a:xfrm>
            <a:off x="826920" y="1422360"/>
            <a:ext cx="79218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вая мировая война стала прологом потрясений ХХ столетия. В событиях 1914-1918 гг. – истоки многих процессов, определивших облик современного мира. Война, по сути, начала новую эпоху в истории человечества и воспринималась людьми как проявление кризиса европейской цивилизации, как великое бедствие, впервые поставившее вопрос о физическом уничтожении человечества. Война стала тяжелой повседневной работой для миллионов. Начатая ради величия империй, она через четыре года разрушила сами эти импе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родолжительность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55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о стран-участниц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став коалиций: Англия. Франция, Россия, США и еще 30 стран ( в том числе Португалия, Сиам, Либерия, 14 Латиноамериканских государств и т.д.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рмания, Австро-Венгрия, Турция, Болгария (Четверной Союз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о нейтральных государств – 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Число государств, на территории которых проходили военные действия – 1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енность населения стран-участниц войны – 50 млн. человек (62% населения планет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енность мобилизованных 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млн.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Численность погибших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лн. человек, больше чем во всех войнах, которые вели люди в предыдущие 1000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Впервые в истории войн было применено оружие массового поражения (газ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Впервые использованы танки и самол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НТАНТА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ТРОЙСТВЕ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 августа 1907 г.                                                 май 188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гл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ранция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Австро-Венг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оссия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ичины Первой мировой войн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Стремление к ослаблению государств – конкурентов в экономической и военной сферах, к разрешению путем войны политических и экономических противоречий силами сложившихся военных союз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тремление к сохранению имеющихся и захвату новых колоний, к господству и нажив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тремление разрешить с помощью войны внутренние пробл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Цели сторон в войн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3789000"/>
            <a:ext cx="8147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ссчитывала положить конец господству Англии на море, ослабить ее конкуренцию на мировых рынках и захватить колонии. В ее планы входила также аннексия северо-востока Франции, отторжение от России Прибалтики и Кавказ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стро-Венгр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меривалась захватить Сербию, отнять у России часть царства Польского, Подолию и Волынь, утвердить свое господство на Балканском полуостро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урц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читывала на захват российского Закавказья и восстановление своего влияния на Балка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i-main-pic" descr="Картинка 31 из 7076"/>
          <p:cNvPicPr/>
          <p:nvPr/>
        </p:nvPicPr>
        <p:blipFill>
          <a:blip r:embed="rId1"/>
          <a:stretch/>
        </p:blipFill>
        <p:spPr>
          <a:xfrm>
            <a:off x="2556000" y="1052640"/>
            <a:ext cx="38876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Цели сторон в войн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гл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емилась удержать свои колонии и господство на море, отнять у Турции Месопотамию и часть Аравийского полуострова, не могла простить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Германи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ддержку буров в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англо-бурскую войн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899—1902 год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тремилась взять реванш за поражение, нанесённое ей Германией в франко-прусской войне 1870—1871 годов, рассчитывала вернуть Эльзас и Лотарингию и присоединить левый берег Рейна и Саарский угольный бассей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сс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емилась сохранить свое влияние на Балканах, контролировать проливы Босфор и Дарданеллы, а также рассчитывала на присоединение Голиции и земель по нижнему течению Нема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Изображение:RussianExpeditionaryForceinFrance.jpg"/>
          <p:cNvPicPr/>
          <p:nvPr/>
        </p:nvPicPr>
        <p:blipFill>
          <a:blip r:embed="rId3"/>
          <a:stretch/>
        </p:blipFill>
        <p:spPr>
          <a:xfrm>
            <a:off x="2340000" y="1052640"/>
            <a:ext cx="38876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ооружение воюющих держа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332" descr="16_107"/>
          <p:cNvPicPr/>
          <p:nvPr/>
        </p:nvPicPr>
        <p:blipFill>
          <a:blip r:embed="rId1"/>
          <a:stretch/>
        </p:blipFill>
        <p:spPr>
          <a:xfrm>
            <a:off x="250920" y="1392120"/>
            <a:ext cx="4176720" cy="3160800"/>
          </a:xfrm>
          <a:prstGeom prst="rect">
            <a:avLst/>
          </a:prstGeom>
          <a:ln w="0">
            <a:noFill/>
          </a:ln>
        </p:spPr>
      </p:pic>
      <p:pic>
        <p:nvPicPr>
          <p:cNvPr id="233" name="i-main-pic" descr="Картинка 14 из 7076"/>
          <p:cNvPicPr/>
          <p:nvPr/>
        </p:nvPicPr>
        <p:blipFill>
          <a:blip r:embed="rId2"/>
          <a:stretch/>
        </p:blipFill>
        <p:spPr>
          <a:xfrm>
            <a:off x="4067280" y="3629160"/>
            <a:ext cx="489744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i-main-pic" descr="Картинка 31 из 7076"/>
          <p:cNvPicPr/>
          <p:nvPr/>
        </p:nvPicPr>
        <p:blipFill>
          <a:blip r:embed="rId1"/>
          <a:stretch/>
        </p:blipFill>
        <p:spPr>
          <a:xfrm>
            <a:off x="179280" y="189000"/>
            <a:ext cx="3500640" cy="3887640"/>
          </a:xfrm>
          <a:prstGeom prst="rect">
            <a:avLst/>
          </a:prstGeom>
          <a:ln w="0">
            <a:noFill/>
          </a:ln>
        </p:spPr>
      </p:pic>
      <p:pic>
        <p:nvPicPr>
          <p:cNvPr id="235" name="i-main-pic" descr="Картинка 31 из 7076"/>
          <p:cNvPicPr/>
          <p:nvPr/>
        </p:nvPicPr>
        <p:blipFill>
          <a:blip r:embed="rId2"/>
          <a:stretch/>
        </p:blipFill>
        <p:spPr>
          <a:xfrm>
            <a:off x="3203640" y="3048120"/>
            <a:ext cx="2881080" cy="3549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Изображение:Australian infantry small box respirators Ypres 1917.jpg"/>
          <p:cNvPicPr/>
          <p:nvPr/>
        </p:nvPicPr>
        <p:blipFill>
          <a:blip r:embed="rId3"/>
          <a:stretch/>
        </p:blipFill>
        <p:spPr>
          <a:xfrm>
            <a:off x="5867280" y="476280"/>
            <a:ext cx="28828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2852640"/>
            <a:ext cx="4043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рманское тяжелое оруд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ский крейсер и подводная лод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Германское тяжёлое орудие. Первая мировая война"/>
          <p:cNvPicPr/>
          <p:nvPr/>
        </p:nvPicPr>
        <p:blipFill>
          <a:blip r:embed="rId1"/>
          <a:stretch/>
        </p:blipFill>
        <p:spPr>
          <a:xfrm>
            <a:off x="324000" y="476280"/>
            <a:ext cx="4762440" cy="2295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Русский крейсер и подводная лодка в Балтийском море. Первая мировая война"/>
          <p:cNvPicPr/>
          <p:nvPr/>
        </p:nvPicPr>
        <p:blipFill>
          <a:blip r:embed="rId2"/>
          <a:stretch/>
        </p:blipFill>
        <p:spPr>
          <a:xfrm>
            <a:off x="4356000" y="3921120"/>
            <a:ext cx="454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16:19Z</dcterms:created>
  <dc:creator>User</dc:creator>
  <dc:description/>
  <dc:language>en-US</dc:language>
  <cp:lastModifiedBy>Admin</cp:lastModifiedBy>
  <dcterms:modified xsi:type="dcterms:W3CDTF">2015-06-11T23:22:38Z</dcterms:modified>
  <cp:revision>7</cp:revision>
  <dc:subject/>
  <dc:title>ПЕРВАЯ МИРОВАЯ ВОЙНА 1914-1918 гг.</dc:title>
</cp:coreProperties>
</file>