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16C8-9132-4D37-97EA-360295159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26E9-B58E-4195-8888-DB60A161FD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8454-FEBF-4A01-8999-527B5A24AA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0F6C-6B2C-4BA1-9841-4440E959BD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AFB1-AF18-41C7-B791-FBA28FECB4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78D5-D341-4441-9F9A-DE60FC0D59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946F-0C60-473F-A944-E0DE6629DC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1885-4234-4CA3-AB2A-070489DD21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5121-8946-40E2-BFD5-AB0F9447DC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87CD-FD7D-455E-87B8-C58EAE7EE8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3EF9-6478-4F42-B031-22A7867E4D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F002-99B3-40B6-B7D4-EF60FC46B6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53DE-DAB3-4B03-8541-7A225AC92E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ECAA-8632-4E50-8388-929826D6E1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0F1A-3B1C-40F2-9395-CE166CA595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285F-1CD3-43A3-9FC1-0B524D077A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5271-A157-435A-AD00-FDFAA2EE88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E9B2-02D1-4673-8B63-97BF84C252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60B8-29B0-45E8-BB74-F0D60913AC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F56B-4E4C-4912-8FC6-47F9B5935B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853A-AD62-439B-A514-5D6BCCE5DA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19AA-32BD-4456-B6B7-0D40135247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8D08-BFFD-4A37-B158-7A0644EFC2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930-6A81-427B-A86E-595120D8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986-986C-49A5-847B-F7E854A2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AA1-CFE6-4793-8EC7-60ADC892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F19-34B4-4383-92A9-D5528B24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B049-23A0-4903-B8DE-2F248D29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0ACB-E9CE-4A4E-8C90-C3F0E6ED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7724-E89B-4F1B-BBDE-E2D1922C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1788-4B9C-45E5-91DE-6A1F6DC1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1436-2D4D-4CFB-9D77-793E4E35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7135-04CD-4E74-8881-05E9A91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DF9C-3A4F-40EC-AE8F-0C187CBD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26E-171E-4E1A-B122-B6B29B32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3E28-587E-4A3B-98A9-13CBE3C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945B-F3D0-478B-99D2-BF7FB27C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6948-41EA-4183-A8A4-31ABD1D4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497A-EC5E-4418-B480-72912821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A7FF-75B9-4652-BC89-116E9637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26C-9220-4019-A9C5-B26B81E4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D5E-DDC5-4310-96AD-88FBB752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A30-2707-480B-99B4-545B6170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69F-C081-4525-ABF9-F763894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58B-B35D-4E65-8A7F-E5099B97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9AF-7A95-4D87-93A3-1881869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7FF-7748-463D-BF65-6A643AB7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E5D3-934D-462F-9D07-40FCA56C2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C9CB-7DF0-423B-8AF9-2235E125AA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84;&#1072;&#1085;&#1089;&#1082;&#1072;&#1103;_&#1080;&#1084;&#1087;&#1077;&#1088;&#1080;&#1103;" TargetMode="External"/><Relationship Id="rId2" Type="http://schemas.openxmlformats.org/officeDocument/2006/relationships/hyperlink" Target="http://ru.wikipedia.org/wiki/&#1040;&#1085;&#1075;&#1083;&#1086;-&#1073;&#1091;&#1088;&#1089;&#1082;&#1072;&#1103;_&#1074;&#1086;&#1081;&#1085;&#1072;_(1899&#8212;1902)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ВАЯ МИРОВАЯ ВОЙНА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914-1918 гг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i-main-pic" descr="Картинка 4 из 7076"/>
          <p:cNvPicPr/>
          <p:nvPr/>
        </p:nvPicPr>
        <p:blipFill>
          <a:blip r:embed="rId1"/>
          <a:stretch/>
        </p:blipFill>
        <p:spPr>
          <a:xfrm>
            <a:off x="324000" y="2276640"/>
            <a:ext cx="4762440" cy="3257280"/>
          </a:xfrm>
          <a:prstGeom prst="rect">
            <a:avLst/>
          </a:prstGeom>
          <a:ln w="0">
            <a:noFill/>
          </a:ln>
        </p:spPr>
      </p:pic>
      <p:pic>
        <p:nvPicPr>
          <p:cNvPr id="220" name="i-main-pic" descr="Картинка 15 из 7076"/>
          <p:cNvPicPr/>
          <p:nvPr/>
        </p:nvPicPr>
        <p:blipFill>
          <a:blip r:embed="rId2"/>
          <a:stretch/>
        </p:blipFill>
        <p:spPr>
          <a:xfrm>
            <a:off x="6300720" y="1773360"/>
            <a:ext cx="2436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3500280"/>
            <a:ext cx="3683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битый английский тан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ранцузский мином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Подбитый английский танк. Первая мировая война"/>
          <p:cNvPicPr/>
          <p:nvPr/>
        </p:nvPicPr>
        <p:blipFill>
          <a:blip r:embed="rId1"/>
          <a:stretch/>
        </p:blipFill>
        <p:spPr>
          <a:xfrm>
            <a:off x="468360" y="324000"/>
            <a:ext cx="4294080" cy="2962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Французский миномёт. Первая мировая война"/>
          <p:cNvPicPr/>
          <p:nvPr/>
        </p:nvPicPr>
        <p:blipFill>
          <a:blip r:embed="rId2"/>
          <a:stretch/>
        </p:blipFill>
        <p:spPr>
          <a:xfrm>
            <a:off x="5076720" y="2852640"/>
            <a:ext cx="3924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3500280"/>
            <a:ext cx="3322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рманская эскадра в Балтийском м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ская трехдюймовая пуш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Германская эскадра в Балтийском море. Первая мировая война"/>
          <p:cNvPicPr/>
          <p:nvPr/>
        </p:nvPicPr>
        <p:blipFill>
          <a:blip r:embed="rId1"/>
          <a:stretch/>
        </p:blipFill>
        <p:spPr>
          <a:xfrm>
            <a:off x="395280" y="620640"/>
            <a:ext cx="5616720" cy="2764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Русская 3-дюймовая пушка. Первая мировая война"/>
          <p:cNvPicPr/>
          <p:nvPr/>
        </p:nvPicPr>
        <p:blipFill>
          <a:blip r:embed="rId2"/>
          <a:stretch/>
        </p:blipFill>
        <p:spPr>
          <a:xfrm>
            <a:off x="3635280" y="3860640"/>
            <a:ext cx="518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6840" y="3357720"/>
            <a:ext cx="375444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ранцузская эскадрил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ранцузское 120-мм оруд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3" descr="Эскадрилья французских самолётов. Первая мировая война"/>
          <p:cNvPicPr/>
          <p:nvPr/>
        </p:nvPicPr>
        <p:blipFill>
          <a:blip r:embed="rId1"/>
          <a:stretch/>
        </p:blipFill>
        <p:spPr>
          <a:xfrm>
            <a:off x="468360" y="311040"/>
            <a:ext cx="4294080" cy="2851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Французское 120-мм орудие. Первая мировая война"/>
          <p:cNvPicPr/>
          <p:nvPr/>
        </p:nvPicPr>
        <p:blipFill>
          <a:blip r:embed="rId2"/>
          <a:stretch/>
        </p:blipFill>
        <p:spPr>
          <a:xfrm>
            <a:off x="4643280" y="3738600"/>
            <a:ext cx="42595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3789360"/>
            <a:ext cx="38275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й в мире многомоторный бомбардировщик «Илья Муромец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така французской пех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Изображение:Ilja Muromez.jpg"/>
          <p:cNvPicPr/>
          <p:nvPr/>
        </p:nvPicPr>
        <p:blipFill>
          <a:blip r:embed="rId1"/>
          <a:stretch/>
        </p:blipFill>
        <p:spPr>
          <a:xfrm>
            <a:off x="324000" y="907920"/>
            <a:ext cx="5545080" cy="2683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Первая мировая война. Атака французской пехоты"/>
          <p:cNvPicPr/>
          <p:nvPr/>
        </p:nvPicPr>
        <p:blipFill>
          <a:blip r:embed="rId2"/>
          <a:stretch/>
        </p:blipFill>
        <p:spPr>
          <a:xfrm>
            <a:off x="4067280" y="4076640"/>
            <a:ext cx="489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ОВОД К ВОЙН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8 июня 1914 г. убийство в Сербии наследника Австро-Венгерского престола Франца-Фердинан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Изображение:WW1 TitlePicture For Wikipedia Article.jpg"/>
          <p:cNvPicPr/>
          <p:nvPr/>
        </p:nvPicPr>
        <p:blipFill>
          <a:blip r:embed="rId1"/>
          <a:stretch/>
        </p:blipFill>
        <p:spPr>
          <a:xfrm>
            <a:off x="679320" y="1268280"/>
            <a:ext cx="39988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ступление России в войн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августа 1914 г. – Россия вступила в вой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-main-pic" descr="Картинка 3 из 7076"/>
          <p:cNvPicPr/>
          <p:nvPr/>
        </p:nvPicPr>
        <p:blipFill>
          <a:blip r:embed="rId1"/>
          <a:stretch/>
        </p:blipFill>
        <p:spPr>
          <a:xfrm>
            <a:off x="3348000" y="1463760"/>
            <a:ext cx="56167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i-main-pic" descr="Картинка 25 из 7076"/>
          <p:cNvPicPr/>
          <p:nvPr/>
        </p:nvPicPr>
        <p:blipFill>
          <a:blip r:embed="rId1"/>
          <a:stretch/>
        </p:blipFill>
        <p:spPr>
          <a:xfrm>
            <a:off x="0" y="0"/>
            <a:ext cx="4427640" cy="2998800"/>
          </a:xfrm>
          <a:prstGeom prst="rect">
            <a:avLst/>
          </a:prstGeom>
          <a:ln w="0">
            <a:noFill/>
          </a:ln>
        </p:spPr>
      </p:pic>
      <p:pic>
        <p:nvPicPr>
          <p:cNvPr id="259" name="i-main-pic" descr="Картинка 31 из 7076"/>
          <p:cNvPicPr/>
          <p:nvPr/>
        </p:nvPicPr>
        <p:blipFill>
          <a:blip r:embed="rId2"/>
          <a:stretch/>
        </p:blipFill>
        <p:spPr>
          <a:xfrm>
            <a:off x="5003640" y="476280"/>
            <a:ext cx="2543400" cy="3809880"/>
          </a:xfrm>
          <a:prstGeom prst="rect">
            <a:avLst/>
          </a:prstGeom>
          <a:ln w="0">
            <a:noFill/>
          </a:ln>
        </p:spPr>
      </p:pic>
      <p:pic>
        <p:nvPicPr>
          <p:cNvPr id="260" name="i-main-pic" descr="Картинка 31 из 7076"/>
          <p:cNvPicPr/>
          <p:nvPr/>
        </p:nvPicPr>
        <p:blipFill>
          <a:blip r:embed="rId3"/>
          <a:stretch/>
        </p:blipFill>
        <p:spPr>
          <a:xfrm>
            <a:off x="971640" y="2852640"/>
            <a:ext cx="4238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Изображение:RussischeHaubizeWeltkrieg1.jpg"/>
          <p:cNvPicPr/>
          <p:nvPr/>
        </p:nvPicPr>
        <p:blipFill>
          <a:blip r:embed="rId1"/>
          <a:stretch/>
        </p:blipFill>
        <p:spPr>
          <a:xfrm>
            <a:off x="539640" y="333360"/>
            <a:ext cx="4392720" cy="307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200px-British_infantry_Morval_25_September_1916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2787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200px-Trencheswwi2"/>
          <p:cNvPicPr/>
          <p:nvPr/>
        </p:nvPicPr>
        <p:blipFill>
          <a:blip r:embed="rId3"/>
          <a:stretch/>
        </p:blipFill>
        <p:spPr>
          <a:xfrm>
            <a:off x="395280" y="364500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Итальянская пехота на позициях. Первая мировая война"/>
          <p:cNvPicPr/>
          <p:nvPr/>
        </p:nvPicPr>
        <p:blipFill>
          <a:blip r:embed="rId1"/>
          <a:stretch/>
        </p:blipFill>
        <p:spPr>
          <a:xfrm>
            <a:off x="611280" y="476280"/>
            <a:ext cx="325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НАЧАЛО ПЕРВОЙ МИРОВОЙ ВОЙН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Picture 4" descr="300px-Europe_1914"/>
          <p:cNvPicPr/>
          <p:nvPr/>
        </p:nvPicPr>
        <p:blipFill>
          <a:blip r:embed="rId1"/>
          <a:stretch/>
        </p:blipFill>
        <p:spPr>
          <a:xfrm>
            <a:off x="826920" y="1422360"/>
            <a:ext cx="79218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вая мировая война стала прологом потрясений ХХ столетия. В событиях 1914-1918 гг. – истоки многих процессов, определивших облик современного мира. Война, по сути, начала новую эпоху в истории человечества и воспринималась людьми как проявление кризиса европейской цивилизации, как великое бедствие, впервые поставившее вопрос о физическом уничтожении человечества. Война стала тяжелой повседневной работой для миллионов. Начатая ради величия империй, она через четыре года разрушила сами эти импе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родолжительность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55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о стран-участниц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став коалиций: Англия. Франция, Россия, США и еще 30 стран ( в том числе Португалия, Сиам, Либерия, 14 Латиноамериканских государств и т.д.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рмания, Австро-Венгрия, Турция, Болгария (Четверной Союз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о нейтральных государств – 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Число государств, на территории которых проходили военные действия – 1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енность населения стран-участниц войны – 50 млн. человек (62% населения планет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енность мобилизованных 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млн.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енность погибших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лн. человек, больше чем во всех войнах, которые вели люди в предыдущие 1000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Впервые в истории войн было применено оружие массового поражения (газ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Впервые использованы танки и самол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НТАНТА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ТРОЙСТВЕ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 августа 1907 г.                                                 май 188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гл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ранция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Австро-Венг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оссия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ичины Первой мировой войн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Стремление к ослаблению государств – конкурентов в экономической и военной сферах, к разрешению путем войны политических и экономических противоречий силами сложившихся военных союз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тремление к сохранению имеющихся и захвату новых колоний, к господству и нажив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тремление разрешить с помощью войны внутренние пробл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Цели сторон в войн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3789000"/>
            <a:ext cx="8147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ссчитывала положить конец господству Англии на море, ослабить ее конкуренцию на мировых рынках и захватить колонии. В ее планы входила также аннексия северо-востока Франции, отторжение от России Прибалтики и Кавказ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стро-Венгр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меривалась захватить Сербию, отнять у России часть царства Польского, Подолию и Волынь, утвердить свое господство на Балканском полуостро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урц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читывала на захват российского Закавказья и восстановление своего влияния на Балка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i-main-pic" descr="Картинка 31 из 7076"/>
          <p:cNvPicPr/>
          <p:nvPr/>
        </p:nvPicPr>
        <p:blipFill>
          <a:blip r:embed="rId1"/>
          <a:stretch/>
        </p:blipFill>
        <p:spPr>
          <a:xfrm>
            <a:off x="2556000" y="1052640"/>
            <a:ext cx="38876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Цели сторон в войн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гл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емилась удержать свои колонии и господство на море, отнять у Турции Месопотамию и часть Аравийского полуострова, не могла простить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Германи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ддержку буров в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англо-бурскую войн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899—1902 год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тремилась взять реванш за поражение, нанесённое ей Германией в франко-прусской войне 1870—1871 годов, рассчитывала вернуть Эльзас и Лотарингию и присоединить левый берег Рейна и Саарский угольный бассей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сс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емилась сохранить свое влияние на Балканах, контролировать проливы Босфор и Дарданеллы, а также рассчитывала на присоединение Голиции и земель по нижнему течению Нема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Изображение:RussianExpeditionaryForceinFrance.jpg"/>
          <p:cNvPicPr/>
          <p:nvPr/>
        </p:nvPicPr>
        <p:blipFill>
          <a:blip r:embed="rId3"/>
          <a:stretch/>
        </p:blipFill>
        <p:spPr>
          <a:xfrm>
            <a:off x="2340000" y="1052640"/>
            <a:ext cx="38876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ооружение воюющих держа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332" descr="16_107"/>
          <p:cNvPicPr/>
          <p:nvPr/>
        </p:nvPicPr>
        <p:blipFill>
          <a:blip r:embed="rId1"/>
          <a:stretch/>
        </p:blipFill>
        <p:spPr>
          <a:xfrm>
            <a:off x="250920" y="1392120"/>
            <a:ext cx="4176720" cy="3160800"/>
          </a:xfrm>
          <a:prstGeom prst="rect">
            <a:avLst/>
          </a:prstGeom>
          <a:ln w="0">
            <a:noFill/>
          </a:ln>
        </p:spPr>
      </p:pic>
      <p:pic>
        <p:nvPicPr>
          <p:cNvPr id="233" name="i-main-pic" descr="Картинка 14 из 7076"/>
          <p:cNvPicPr/>
          <p:nvPr/>
        </p:nvPicPr>
        <p:blipFill>
          <a:blip r:embed="rId2"/>
          <a:stretch/>
        </p:blipFill>
        <p:spPr>
          <a:xfrm>
            <a:off x="4067280" y="3629160"/>
            <a:ext cx="489744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i-main-pic" descr="Картинка 31 из 7076"/>
          <p:cNvPicPr/>
          <p:nvPr/>
        </p:nvPicPr>
        <p:blipFill>
          <a:blip r:embed="rId1"/>
          <a:stretch/>
        </p:blipFill>
        <p:spPr>
          <a:xfrm>
            <a:off x="179280" y="189000"/>
            <a:ext cx="3500640" cy="3887640"/>
          </a:xfrm>
          <a:prstGeom prst="rect">
            <a:avLst/>
          </a:prstGeom>
          <a:ln w="0">
            <a:noFill/>
          </a:ln>
        </p:spPr>
      </p:pic>
      <p:pic>
        <p:nvPicPr>
          <p:cNvPr id="235" name="i-main-pic" descr="Картинка 31 из 7076"/>
          <p:cNvPicPr/>
          <p:nvPr/>
        </p:nvPicPr>
        <p:blipFill>
          <a:blip r:embed="rId2"/>
          <a:stretch/>
        </p:blipFill>
        <p:spPr>
          <a:xfrm>
            <a:off x="3203640" y="3048120"/>
            <a:ext cx="2881080" cy="3549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Изображение:Australian infantry small box respirators Ypres 1917.jpg"/>
          <p:cNvPicPr/>
          <p:nvPr/>
        </p:nvPicPr>
        <p:blipFill>
          <a:blip r:embed="rId3"/>
          <a:stretch/>
        </p:blipFill>
        <p:spPr>
          <a:xfrm>
            <a:off x="5867280" y="476280"/>
            <a:ext cx="28828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2852640"/>
            <a:ext cx="4043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рманское тяжелое оруд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ский крейсер и подводная лод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Германское тяжёлое орудие. Первая мировая война"/>
          <p:cNvPicPr/>
          <p:nvPr/>
        </p:nvPicPr>
        <p:blipFill>
          <a:blip r:embed="rId1"/>
          <a:stretch/>
        </p:blipFill>
        <p:spPr>
          <a:xfrm>
            <a:off x="324000" y="476280"/>
            <a:ext cx="4762440" cy="2295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Русский крейсер и подводная лодка в Балтийском море. Первая мировая война"/>
          <p:cNvPicPr/>
          <p:nvPr/>
        </p:nvPicPr>
        <p:blipFill>
          <a:blip r:embed="rId2"/>
          <a:stretch/>
        </p:blipFill>
        <p:spPr>
          <a:xfrm>
            <a:off x="4356000" y="3921120"/>
            <a:ext cx="454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16:19Z</dcterms:created>
  <dc:creator>User</dc:creator>
  <dc:description/>
  <dc:language>en-US</dc:language>
  <cp:lastModifiedBy>Admin</cp:lastModifiedBy>
  <dcterms:modified xsi:type="dcterms:W3CDTF">2015-06-11T23:22:38Z</dcterms:modified>
  <cp:revision>7</cp:revision>
  <dc:subject/>
  <dc:title>ПЕРВАЯ МИРОВАЯ ВОЙНА 1914-1918 гг.</dc:title>
</cp:coreProperties>
</file>