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6.gif" ContentType="image/gif"/>
  <Override PartName="/ppt/media/image28.gif" ContentType="image/gif"/>
  <Override PartName="/ppt/media/image27.png" ContentType="image/png"/>
  <Override PartName="/ppt/media/image26.png" ContentType="image/png"/>
  <Override PartName="/ppt/media/image24.png" ContentType="image/png"/>
  <Override PartName="/ppt/media/image8.gif" ContentType="image/gif"/>
  <Override PartName="/ppt/media/image5.jpeg" ContentType="image/jpeg"/>
  <Override PartName="/ppt/media/image35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7.jpeg" ContentType="image/jpeg"/>
  <Override PartName="/ppt/media/image6.jpeg" ContentType="image/jpeg"/>
  <Override PartName="/ppt/media/image37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DD8-157A-493D-AAFE-6CE3545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29D-CC8B-48CA-8223-0BBFBD6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BF5-5327-45C0-BB65-1B53A2A3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D3C-C8B7-4132-8C09-5D6F88B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33C-48FF-4CC0-A3C9-7732B78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EC2-CDCF-4A33-BBA0-03414D4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B4E-0853-4721-A88C-2EEECC46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502-9119-413D-A446-A463C775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05E-CC06-457B-9915-4061ADD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3CB-3329-4899-992E-40C5077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EA6-6720-4EB0-96F6-CD8C117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E62-B61D-4075-97BA-59A0B13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A74A-4D29-49F3-B5EF-36D722718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7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gif"/><Relationship Id="rId3" Type="http://schemas.openxmlformats.org/officeDocument/2006/relationships/image" Target="../media/image12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957240"/>
            <a:ext cx="648000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Сатурн.jpg"/>
          <p:cNvPicPr/>
          <p:nvPr/>
        </p:nvPicPr>
        <p:blipFill>
          <a:blip r:embed="rId2"/>
          <a:stretch/>
        </p:blipFill>
        <p:spPr>
          <a:xfrm>
            <a:off x="285840" y="1357200"/>
            <a:ext cx="385740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357800" y="8571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 – вторая по величине планета Солнечной системы, его легко узнать по окружающим его красивым светящимся кольцам, состоящих из миллиардов твёрдых частичек (лёд и камень). Как это ни удивительно, Сатурн вполне мог бы плавать, если бы существовал такой большой океан, в который его можно было бы опустить. Планета Сатурн названа в честь римского бога земле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Уран!.gif"/>
          <p:cNvPicPr/>
          <p:nvPr/>
        </p:nvPicPr>
        <p:blipFill>
          <a:blip r:embed="rId2"/>
          <a:stretch/>
        </p:blipFill>
        <p:spPr>
          <a:xfrm>
            <a:off x="3000240" y="42876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42920" y="4572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 был впервые замечен в 1781 году астрономом – любителем Вильямом Герш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572000" y="4179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олнца он удалён на расстоянии 2 миллиардов 735 миллионов километров, и поэтому там очень холодно. Содержащийся в его атмосфере газ метан придаёт ему зелё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Нептун!.gif"/>
          <p:cNvPicPr/>
          <p:nvPr/>
        </p:nvPicPr>
        <p:blipFill>
          <a:blip r:embed="rId2"/>
          <a:stretch/>
        </p:blipFill>
        <p:spPr>
          <a:xfrm>
            <a:off x="2500200" y="3286080"/>
            <a:ext cx="378648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0" y="285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 очень похож на Уран, только размером поменьше. От Нептуна до Солнца 4 миллиарда 345 миллионов километров, поэтому там стоят лютые мор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4357800" y="428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 поверхности Нептуна минус 200 градусов. Планета Нептун носит имя римского бога м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Плутон!.gif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1071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у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Плутон заметили в 1930 году. Это самая маленькая и самая лёгкая планета Солнечной системы. Её диаметр – всего лишь 2400 километров. Плутон меньше нашей Луны. Планета Плутон названа в честь римского бога – повелителя царства мёртвых. Температура на поверхности Нептуна – минус 23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Сатурн!.gif"/>
          <p:cNvPicPr/>
          <p:nvPr/>
        </p:nvPicPr>
        <p:blipFill>
          <a:blip r:embed="rId2"/>
          <a:stretch/>
        </p:blipFill>
        <p:spPr>
          <a:xfrm>
            <a:off x="2357280" y="3000240"/>
            <a:ext cx="1714680" cy="1500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Юпитер.gif"/>
          <p:cNvPicPr/>
          <p:nvPr/>
        </p:nvPicPr>
        <p:blipFill>
          <a:blip r:embed="rId3"/>
          <a:stretch/>
        </p:blipFill>
        <p:spPr>
          <a:xfrm>
            <a:off x="214200" y="285768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Уран!.gif"/>
          <p:cNvPicPr/>
          <p:nvPr/>
        </p:nvPicPr>
        <p:blipFill>
          <a:blip r:embed="rId4"/>
          <a:stretch/>
        </p:blipFill>
        <p:spPr>
          <a:xfrm>
            <a:off x="4357800" y="32148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Нептун!.gif"/>
          <p:cNvPicPr/>
          <p:nvPr/>
        </p:nvPicPr>
        <p:blipFill>
          <a:blip r:embed="rId5"/>
          <a:stretch/>
        </p:blipFill>
        <p:spPr>
          <a:xfrm>
            <a:off x="5929200" y="3286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Плутон!.gif"/>
          <p:cNvPicPr/>
          <p:nvPr/>
        </p:nvPicPr>
        <p:blipFill>
          <a:blip r:embed="rId6"/>
          <a:stretch/>
        </p:blipFill>
        <p:spPr>
          <a:xfrm>
            <a:off x="7643880" y="33577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7"/>
          <a:stretch/>
        </p:blipFill>
        <p:spPr>
          <a:xfrm>
            <a:off x="2266920" y="701640"/>
            <a:ext cx="5389560" cy="9446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8"/>
          <a:stretch/>
        </p:blipFill>
        <p:spPr>
          <a:xfrm>
            <a:off x="-268200" y="4400640"/>
            <a:ext cx="2060640" cy="6890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8" descr=""/>
          <p:cNvPicPr/>
          <p:nvPr/>
        </p:nvPicPr>
        <p:blipFill>
          <a:blip r:embed="rId9"/>
          <a:stretch/>
        </p:blipFill>
        <p:spPr>
          <a:xfrm>
            <a:off x="2567160" y="4614840"/>
            <a:ext cx="1871640" cy="689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9" descr=""/>
          <p:cNvPicPr/>
          <p:nvPr/>
        </p:nvPicPr>
        <p:blipFill>
          <a:blip r:embed="rId10"/>
          <a:stretch/>
        </p:blipFill>
        <p:spPr>
          <a:xfrm>
            <a:off x="4327560" y="4541760"/>
            <a:ext cx="1457280" cy="6955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11"/>
          <a:stretch/>
        </p:blipFill>
        <p:spPr>
          <a:xfrm>
            <a:off x="5614920" y="4327560"/>
            <a:ext cx="1895400" cy="68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1" descr=""/>
          <p:cNvPicPr/>
          <p:nvPr/>
        </p:nvPicPr>
        <p:blipFill>
          <a:blip r:embed="rId12"/>
          <a:stretch/>
        </p:blipFill>
        <p:spPr>
          <a:xfrm>
            <a:off x="7186680" y="4254480"/>
            <a:ext cx="19144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Земля7!.gif"/>
          <p:cNvPicPr/>
          <p:nvPr/>
        </p:nvPicPr>
        <p:blipFill>
          <a:blip r:embed="rId2"/>
          <a:stretch/>
        </p:blipFill>
        <p:spPr>
          <a:xfrm>
            <a:off x="4929120" y="2857680"/>
            <a:ext cx="4000680" cy="3714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Солнце 1!.gif"/>
          <p:cNvPicPr/>
          <p:nvPr/>
        </p:nvPicPr>
        <p:blipFill>
          <a:blip r:embed="rId3"/>
          <a:stretch/>
        </p:blipFill>
        <p:spPr>
          <a:xfrm>
            <a:off x="64296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304920"/>
            <a:ext cx="8358120" cy="1974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44600"/>
            <a:ext cx="8454960" cy="19746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3"/>
          <a:stretch/>
        </p:blipFill>
        <p:spPr>
          <a:xfrm>
            <a:off x="165240" y="2590920"/>
            <a:ext cx="88200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Вращение Земли вокруг Солнца.gif"/>
          <p:cNvPicPr/>
          <p:nvPr/>
        </p:nvPicPr>
        <p:blipFill>
          <a:blip r:embed="rId2"/>
          <a:stretch/>
        </p:blipFill>
        <p:spPr>
          <a:xfrm>
            <a:off x="1143000" y="2500200"/>
            <a:ext cx="6858000" cy="4357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281160" y="231840"/>
            <a:ext cx="8581680" cy="1974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2"/>
          <a:stretch/>
        </p:blipFill>
        <p:spPr>
          <a:xfrm>
            <a:off x="176040" y="158760"/>
            <a:ext cx="9060120" cy="19749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3"/>
          <a:stretch/>
        </p:blipFill>
        <p:spPr>
          <a:xfrm>
            <a:off x="-262080" y="2766960"/>
            <a:ext cx="98028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2"/>
          <a:stretch/>
        </p:blipFill>
        <p:spPr>
          <a:xfrm>
            <a:off x="633240" y="2109960"/>
            <a:ext cx="772956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олнечная система2.jpg"/>
          <p:cNvPicPr/>
          <p:nvPr/>
        </p:nvPicPr>
        <p:blipFill>
          <a:blip r:embed="rId2"/>
          <a:stretch/>
        </p:blipFill>
        <p:spPr>
          <a:xfrm>
            <a:off x="1714680" y="928800"/>
            <a:ext cx="62863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Меркурий!.JPG"/>
          <p:cNvPicPr/>
          <p:nvPr/>
        </p:nvPicPr>
        <p:blipFill>
          <a:blip r:embed="rId2"/>
          <a:stretch/>
        </p:blipFill>
        <p:spPr>
          <a:xfrm>
            <a:off x="428760" y="857160"/>
            <a:ext cx="4857480" cy="464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5643720" y="428760"/>
            <a:ext cx="3500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 – перв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 планета находится ближе всех к Солнцу, и днём на Меркурии жарче, чем в любой точке Земли примерно в семь раз. Зато ночью там становится очень холодно, ниже нуля – у Меркурия нет атмосферы, и тепло там не сохраняется.  Он вращается вокруг Солнца гораздо быстрее, чем все другие планеты. Недаром его назвали в честь покровителя путешественников и вестника богов в римской мифологии. Поверхность каменистая и пусты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Венера!.JPG"/>
          <p:cNvPicPr/>
          <p:nvPr/>
        </p:nvPicPr>
        <p:blipFill>
          <a:blip r:embed="rId2"/>
          <a:stretch/>
        </p:blipFill>
        <p:spPr>
          <a:xfrm>
            <a:off x="3857760" y="642960"/>
            <a:ext cx="5072040" cy="4857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0" y="28584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нера – втор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воим размерам Венера схожа с Землёй, а её поверхность покрывают горы и пустыни. Атмосфера Венеры почти целиком состоит из ядовитого углекислого газа и отличается большой плотностью, что помогает удерживать тепло, а потому на Венере постоянно высокая температура. Венера самая яркая из девяти планет Солнечной системы и вращается она не так, как все остальные планеты, а наоборот: Солнце на Венере восходит на западе и заходит на востоке. Планета Венера носит имя богини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Марс.gif"/>
          <p:cNvPicPr/>
          <p:nvPr/>
        </p:nvPicPr>
        <p:blipFill>
          <a:blip r:embed="rId2"/>
          <a:stretch/>
        </p:blipFill>
        <p:spPr>
          <a:xfrm>
            <a:off x="142884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0" y="3571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 похож на Землю больше, чем любая другая планета Солнечной системы. Его поверхность представляет собой коричневую пустыню с кратерами и расселинами, напоминающими безводные каналы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572080" y="1928880"/>
            <a:ext cx="357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на Марсе и горы, причём некоторые из них выше, чем наш Эверест. Названа планета Марс в честь римского бога войны – за свой красный цвет, напоминающий цвет крови. Поверхность планеты содержит большое количество железа, которое, окисляясь, даёт красный цвет. У планеты Марс два спутника – Фобос и Деймос ( что в переводе означает Страх и Ужас – так звали сыновей бога вой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Планеты земной группы.jpg"/>
          <p:cNvPicPr/>
          <p:nvPr/>
        </p:nvPicPr>
        <p:blipFill>
          <a:blip r:embed="rId2"/>
          <a:stretch/>
        </p:blipFill>
        <p:spPr>
          <a:xfrm>
            <a:off x="2857680" y="2714760"/>
            <a:ext cx="6000480" cy="3643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3"/>
          <a:stretch/>
        </p:blipFill>
        <p:spPr>
          <a:xfrm>
            <a:off x="1212840" y="706320"/>
            <a:ext cx="6864480" cy="1768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Солнце 1!.gif"/>
          <p:cNvPicPr/>
          <p:nvPr/>
        </p:nvPicPr>
        <p:blipFill>
          <a:blip r:embed="rId4"/>
          <a:stretch/>
        </p:blipFill>
        <p:spPr>
          <a:xfrm>
            <a:off x="0" y="29289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5"/>
          <a:stretch/>
        </p:blipFill>
        <p:spPr>
          <a:xfrm>
            <a:off x="5870520" y="5857920"/>
            <a:ext cx="154152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6"/>
          <a:stretch/>
        </p:blipFill>
        <p:spPr>
          <a:xfrm>
            <a:off x="2425680" y="5145120"/>
            <a:ext cx="15606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7"/>
          <a:stretch/>
        </p:blipFill>
        <p:spPr>
          <a:xfrm>
            <a:off x="4017960" y="5718240"/>
            <a:ext cx="165744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8"/>
          <a:stretch/>
        </p:blipFill>
        <p:spPr>
          <a:xfrm>
            <a:off x="7650000" y="5218200"/>
            <a:ext cx="136548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Юпитер.gif"/>
          <p:cNvPicPr/>
          <p:nvPr/>
        </p:nvPicPr>
        <p:blipFill>
          <a:blip r:embed="rId2"/>
          <a:stretch/>
        </p:blipFill>
        <p:spPr>
          <a:xfrm>
            <a:off x="2428920" y="1500120"/>
            <a:ext cx="385776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192888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гант Юпи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– самая большая планета Солнечной системы. Он так велик, что внутри него могли бы уместиться остальные восемь пла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6072120" y="1071720"/>
            <a:ext cx="28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очень быстро вращается вокруг своей оси, из-за чего его средняя часть как бы выпячивается и планета напоминает приплюснутый шар. Планета названа в честь самого главного римского бога Юпитера. Юпитер имеет цветастую атмосферу и 16 спутников. В атмосфере Юпитера постоянно бушуют ура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46:23Z</dcterms:created>
  <dc:creator>Admin</dc:creator>
  <dc:description/>
  <dc:language>en-US</dc:language>
  <cp:lastModifiedBy>Светлана</cp:lastModifiedBy>
  <dcterms:modified xsi:type="dcterms:W3CDTF">2015-10-18T12:25:26Z</dcterms:modified>
  <cp:revision>54</cp:revision>
  <dc:subject/>
  <dc:title>Слайд 1</dc:title>
</cp:coreProperties>
</file>