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4476-C7D2-467E-8753-271C543A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5D3C-20D1-415F-AB0E-4FDEFE7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7E1C-4308-4DEE-80B4-0B12D6E6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C5A4-8510-4E49-A805-63F3792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85C5-19AB-4172-B90B-CEBA7AEA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206C-C17E-4A58-AB99-E578CAE8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657-643F-4B48-8285-EB9D825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006B-64ED-48BC-8366-00954BDA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2F82-1688-410C-A0B6-9A58A748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278-0DE8-4E0A-991A-03EE1DB7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AF8-3EC4-474B-91CE-21B1E050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703F-81C4-467D-91C7-F181904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436C-6C27-4152-865F-851C225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98EC-456D-4958-9C85-C83116E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415F-1376-4FFE-8C21-2D6786B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730-CAA1-4327-96F1-A8C6D234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A19-3E41-4DE2-A30C-DA8ADC70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BE15-F667-4A98-9ABF-18251C48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0195-5BE6-49A2-A3D1-734758F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429A-01A7-413E-AF28-1E06CCB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4498-7739-49AC-A349-70645096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DC24-A2E0-445A-AA13-4A34F79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7DD9-0680-41B5-A29C-7A2B8AFC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3F82-9DE9-4D18-9A89-0062A24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0EE-DD54-42FD-BF1B-5CF1CE1AC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18AD-1969-496F-BE2C-62A814217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1773360"/>
            <a:ext cx="643572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Экологические здоровьесберегающие технологии (ЭЗТ)</a:t>
            </a:r>
            <a:br>
              <a:rPr sz="4500"/>
            </a:b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(по Н.Смирнову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читель биологии МБОУ СОШ №27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.Чи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белина Л.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ения, очищающие воздух от вредных га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6920" y="5157720"/>
            <a:ext cx="7129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глощают и частично или полностью нейтрализует значительное количество газообразных углеводород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052640"/>
            <a:ext cx="24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лорофит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охл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1052640"/>
            <a:ext cx="29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3640" y="2252520"/>
            <a:ext cx="4105080" cy="264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7892640"/>
            <a:ext cx="4038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а от пыли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58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5950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нбах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2909880" cy="425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чищение воздуха от токси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а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параг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5300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тифилл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6093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премн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04000" y="765000"/>
            <a:ext cx="2133720" cy="2856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2520720" cy="336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04000" y="3978360"/>
            <a:ext cx="1970280" cy="28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24494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влажнение возду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6237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пе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2353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– фитонц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о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г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2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изан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ю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1528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6442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арг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638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во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6491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1663920" cy="1725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59280" y="2440080"/>
            <a:ext cx="1944360" cy="16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219640" y="2492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262640" y="2492280"/>
            <a:ext cx="1455840" cy="172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1835280" cy="172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203640" y="4437000"/>
            <a:ext cx="136836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076720" y="46530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7093080" y="4508640"/>
            <a:ext cx="1882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19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en-US" sz="6900" spc="-1" strike="noStrike">
                <a:solidFill>
                  <a:srgbClr val="ffff00"/>
                </a:solidFill>
                <a:latin typeface="Monotype Corsiva"/>
              </a:rPr>
              <a:t>Благодарю за внимание                 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86600" cy="85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ость этих технологий — создание природосообразных, экологически оптимальных условий жизни и деятельности людей, гармоничных взаимоотношений с природой. В школе это — и обустройство пришкольной территории, и зеленые растения в классах, рекреациях, и живой уголок, и участие в природоохранных мероприят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им из основных условий сохранения здоровья школьников является состояние окружающей среды школьных помещений (кабинетов, коридоров). Весьма важным элементом, связанным с загрязнением воздуха является – микробный фактор. Точно установлена возможность передачи через воздух таких инфекций, как грипп, ангина, корь, скарлатина, оспа и други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натные растения играют немаловажную роль в оздоровлении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Рекомендации по выращиванию           комнатных   растений в школ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5542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, обладающие антимикробной актив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08924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и растения подавляют деятельность микроорганизмов, которые могут стать причиной аллергии, желудочно-кишечного расстройства и респираторных заболеван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1886040" cy="23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3878280"/>
            <a:ext cx="39146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4149720"/>
            <a:ext cx="22888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ансев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40000" y="3425760"/>
            <a:ext cx="259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ларг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052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580000" y="620640"/>
            <a:ext cx="2878200" cy="218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87640" y="2852640"/>
            <a:ext cx="250668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348000" y="19890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Аг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америк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547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бискус кит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ения, фитонциды которых обладают лечебным дейст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560" y="6093000"/>
            <a:ext cx="24498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Мон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8560" y="263412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аготворно вли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юдей с нарушением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рвной сист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раняет головную б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8920" y="2276640"/>
            <a:ext cx="4033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ах листье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дает ощущение бодрости, снижает артериальное д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6360" y="5218200"/>
            <a:ext cx="194328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Лим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70512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5:35:19Z</dcterms:created>
  <dc:creator>Customer</dc:creator>
  <dc:description/>
  <dc:language>en-US</dc:language>
  <cp:lastModifiedBy>Customer</cp:lastModifiedBy>
  <dcterms:modified xsi:type="dcterms:W3CDTF">2015-10-18T15:06:50Z</dcterms:modified>
  <cp:revision>7</cp:revision>
  <dc:subject/>
  <dc:title>Слайд 1</dc:title>
</cp:coreProperties>
</file>