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97C2-D99A-45C2-B592-332154DB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5AD5-83B5-4941-A781-608FA1C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F15D-9554-413F-A6C8-E580C812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1DF8-5C43-485B-AD59-586C5929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E6E-4F45-4D81-9BD7-4CEED186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84B-B512-4FB4-A19C-000A8F8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7D5-5F44-46E1-9639-D12A9DF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0D9E-9090-41AC-878D-0D23A8B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A1F-D34D-46DB-B307-A61532A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5A8-E1E4-4AA9-A79C-D019EC1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FC1A-66D7-4308-AB35-8FAC4C6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562E-E2EC-4ACF-9E50-5CC0703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3E7-6D04-449E-ACEE-3A37410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A56-A05A-4FD4-B30E-E2341FB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FAF-E37E-4A02-9169-F83A9CC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5DD0-1BB0-4420-B188-C7E5124D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30A-0778-4C8D-81A2-4D4C4762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3B9B-9CBC-49C0-9F4E-CB553C32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D91C-D00E-4940-BC51-B12087BA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372F-9F35-4907-A5E1-B8E76CF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3072-4F6F-4BA8-90A5-61605C6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2F5A-B288-4641-BF08-D3A51E4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DAFB-8B59-44BB-8B3B-BFA7E56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B3B3-7E74-426C-9F79-A14C6EB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D27-B810-4882-96E7-E88F63D36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222-7BD8-4C8D-8946-82BDBC912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1773360"/>
            <a:ext cx="643572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Экологические здоровьесберегающие технологии (ЭЗТ)</a:t>
            </a:r>
            <a:br>
              <a:rPr sz="4500"/>
            </a:b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(по Н.Смирнову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читель биологии МБОУ СОШ №27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.Чи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белина Л.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ения, очищающие воздух от вредных га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6920" y="5157720"/>
            <a:ext cx="712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глощают и частично или полностью нейтрализует значительное количество газообразных углеводород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052640"/>
            <a:ext cx="24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лорофит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охл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1052640"/>
            <a:ext cx="29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2252520"/>
            <a:ext cx="4105080" cy="264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7892640"/>
            <a:ext cx="4038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а от пыли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58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5950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нбах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2909880" cy="425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чищение воздуха от токси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а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пара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5300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тифилл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6093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премн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2133720" cy="2856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2520720" cy="336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04000" y="3978360"/>
            <a:ext cx="197028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24494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влажнение возду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6237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п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2353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– фитонц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о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г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2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изан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ю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6442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арг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638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во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6491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1663920" cy="1725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59280" y="2440080"/>
            <a:ext cx="1944360" cy="16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219640" y="2492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262640" y="2492280"/>
            <a:ext cx="145584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1835280" cy="172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136836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076720" y="46530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7093080" y="4508640"/>
            <a:ext cx="1882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19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en-US" sz="6900" spc="-1" strike="noStrike">
                <a:solidFill>
                  <a:srgbClr val="ffff00"/>
                </a:solidFill>
                <a:latin typeface="Monotype Corsiva"/>
              </a:rPr>
              <a:t>Благодарю за внимание                 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86600" cy="85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ость этих технологий — создание природосообразных, экологически оптимальных условий жизни и деятельности людей, гармоничных взаимоотношений с природой. В школе это — и обустройство пришкольной территории, и зеленые растения в классах, рекреациях, и живой уголок, и участие в природоохранных меропри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им из основных условий сохранения здоровья школьников является состояние окружающей среды школьных помещений (кабинетов, коридоров). Весьма важным элементом, связанным с загрязнением воздуха является – микробный фактор. Точно установлена возможность передачи через воздух таких инфекций, как грипп, ангина, корь, скарлатина, оспа и други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натные растения играют немаловажную роль в оздоровлени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Рекомендации по выращиванию           комнатных   растений в школ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5542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, обладающие антимикробной актив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08924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 растения подавляют деятельность микроорганизмов, которые могут стать причиной аллергии, желудочно-кишечного расстройства и респираторных заболеван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1886040" cy="23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3878280"/>
            <a:ext cx="3914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4149720"/>
            <a:ext cx="2288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ансев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40000" y="3425760"/>
            <a:ext cx="259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ларг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052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580000" y="620640"/>
            <a:ext cx="2878200" cy="218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87640" y="2852640"/>
            <a:ext cx="250668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348000" y="19890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Аг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америк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547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бискус кит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ния, фитонциды которых обладают лечебным дейст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560" y="6093000"/>
            <a:ext cx="24498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Мон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263412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отворно вли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юдей с нарушением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вной сист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раняет головную б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8920" y="2276640"/>
            <a:ext cx="4033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ах листье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ает ощущение бодрости, снижает артериальное д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360" y="5218200"/>
            <a:ext cx="194328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Лим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70512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5:35:19Z</dcterms:created>
  <dc:creator>Customer</dc:creator>
  <dc:description/>
  <dc:language>en-US</dc:language>
  <cp:lastModifiedBy>Customer</cp:lastModifiedBy>
  <dcterms:modified xsi:type="dcterms:W3CDTF">2015-10-18T15:06:50Z</dcterms:modified>
  <cp:revision>7</cp:revision>
  <dc:subject/>
  <dc:title>Слайд 1</dc:title>
</cp:coreProperties>
</file>