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5.jpeg" ContentType="image/jpeg"/>
  <Override PartName="/ppt/media/image26.jpeg" ContentType="image/jpeg"/>
  <Override PartName="/ppt/media/image32.jpeg" ContentType="image/jpeg"/>
  <Override PartName="/ppt/media/image27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20.png" ContentType="image/png"/>
  <Override PartName="/ppt/media/image28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30.png" ContentType="image/png"/>
  <Override PartName="/ppt/media/image31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3.jpeg" ContentType="image/jpeg"/>
  <Override PartName="/ppt/media/image2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1554-0864-4162-998D-C501BC480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0BA2-23E9-420B-A3DD-C824FBEB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50ABA-72C6-4023-8710-F68CC726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70B9FC-DCF6-44D1-9DA8-71058215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AB689A-5036-42BA-BA1A-CA32D8F1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6EE649-53FA-44C7-9590-D3AAEA3D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E81F4F-6EC2-4607-A49F-AC6868C6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68142C-3263-4913-807C-AA5DA27D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5CD761-5E7C-4869-B52E-6D783B52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EAD45-9432-40C9-ADF0-FABF54996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B6C23A-B4CE-4FFF-A498-9B24EA63B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2D64-4DA3-406B-BED5-30869FC7A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A81E-E811-42E8-9B12-C816B2FA1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E9BE-85DB-4916-AB50-A24CE648E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9111-7389-4ED7-A39E-4243C137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F3A7-19A0-41F9-8A3E-BD2801BB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0BD1-F172-4944-95DF-35DEBC25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AC304-895D-4533-9BAA-A225C588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C874-1592-4B8D-902C-B4C665D4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E827-0749-4490-A24E-B8B72DBA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7D00-98DF-4FEB-BA0D-8CAE9240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99941-84C5-42FF-ADAA-E7CF946F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C3EB-4A87-4DF2-8DAA-35620E28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41A3-1812-46A9-8C8B-2FE75A14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DB3C-7D84-4623-8304-5100980FC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B100-540C-4D3B-BCF2-B9D1D2269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4E1A0-28E6-4105-AA47-6243F651A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E5C50-B687-41EA-BB81-3AD7C397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32053-81B2-466D-91BF-6181AF88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5E04C-B6D8-4807-BB56-006C492C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0F0DC-0B0B-4F68-9B55-BA770BBB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2DD3-531A-4708-B6DE-E56A171C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EEF66-C160-4A2E-BFD9-C9541A21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2BBA3-49E7-4FE4-9810-B2AFBC45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1319E-332E-4DEA-9022-AEC2E91C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A0115-DA77-45A0-9E55-D8741A81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619BB-9300-4622-86B3-F435E24A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2B0F2-BFF5-4BB2-9B9D-EFC45203B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23DD3-EF07-4A88-8456-5D9EEFD87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C015D-6B78-4B71-8BEE-91899D9A3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0DA6A-8756-4BCD-A5D4-084DD565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B60E8-4128-44F1-9A41-3E0BC5FF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8CE9-A741-4DB2-9ED6-7CC85F17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BE514-823B-4514-AA5A-3E221447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233C4-B210-4246-B984-7770893C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ABBA0-D050-4019-B7E5-7DBCE18A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BB1B5-A228-49F2-B0CC-F3F0FE39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16865-0356-44E4-AE92-FE7653ED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16876-A4F5-438A-9C90-7740198D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82796-11DE-4A81-80C6-E8E16A22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9654B-4539-4696-BAB4-1DDD53B2E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96BE2-859B-4002-AFC7-922FFA5B0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F5D61-98F6-472D-833F-3095D517B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FB27-BC51-45C6-8B7B-BE429972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FEA5A-B9E1-4BA0-9BBC-733EEE20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FE4CC-9924-448B-8A96-DA324EB6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3BE8E-FAF0-4334-A221-E2C5C776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83BF0-78C1-4EFC-AD7D-7BCD958D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A8DDE-169A-4456-A20A-19748BE9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A3EFE-277F-4778-A6E5-0F3BC02D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52594-E951-4FEB-A9AB-760375A6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2CEAC-37DA-4566-BA04-3A78371C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F8EF7-A26F-47CA-B862-7668E72F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358D1-4FEB-452A-9431-3D2ED10D8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2BA3-AEA0-4AE5-AD81-BF2FA468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A3820-261C-47B1-98AB-86EF47BDE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2C808-E28E-4F05-BE5F-0BA95A89B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EE57C-14BC-4D5C-97FB-6651AAD9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DB3A9-21D2-41EE-859F-C051B6F7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978D2-92A7-41BB-9F48-4B46D742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DE575-4339-44EA-AC73-C5E40291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7E2A5-236E-4959-A02B-E47C5052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97420-F8C4-4BD3-BF31-14CCF811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0DC4B-26B1-488A-B357-B8F15D08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AD995-F0E1-46DF-84A6-69139010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4903-3D9A-4884-BD0C-D3D4080E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DAC50-5A30-47E8-BEC4-8363FDEC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C3CF6-1C54-492D-815C-C7A574A2D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62A25-D34B-4D4B-8D89-82850765B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EC176-68B7-4311-8559-0C629766F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0B98D-4EAF-4543-B286-2ADF82DD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905A3-6AB1-4B23-9A8F-528B5383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27728-DA64-4CB2-86F8-AE72D7E6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F227B-605A-4F45-9EAF-76EDDE81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2E60F-FF9B-421D-86EE-D48A5274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6E886-0D51-41A5-BF3C-EE2A0C60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CE46-C6B4-4D99-8E4F-67F19864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1B81B-A0C0-4629-A59C-52656C56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E5EFF-8572-4F3B-9711-E80A061B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1A74D-5AED-46A9-9469-C4E94AE6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A3629-E4E3-42A4-AE89-965194A44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C4810-5A8D-4215-AFC2-59A5E132C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82039-4D4C-4016-A857-2755F543C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78073-A274-49FE-A3FE-07AC481B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CC4C2-8CE3-4982-9B10-131720C0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55BD0-3854-49AE-AF43-EC3ED5F4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1CF91-D56A-4211-9482-ECEDDC3B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20AF-F286-42F2-9E1F-A67A7FD1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8BF0B-AD61-46F8-840A-538CA0E2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B12E5-3258-4909-9DCF-7426BD7D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20A67-C3D7-4F1A-8EE9-5E9CCBED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A460F-BFF5-4F23-906F-2183527E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981D7-80A8-4CC9-BF60-80E950E4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40713-A3DB-4E3F-95D6-0789A3E83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419EF-1BE1-4F88-BEA6-FF34EAFF8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D77EC0-B94E-471C-B253-E59E3DFB4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FD5722-3D90-4E10-B2FA-0469DF2F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C4D93-9263-4E81-A9CF-D2F58954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F95D-8DB9-4D80-8BF0-0FD01BF49BA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CBD2-3838-4324-8BF7-303EA9E32E3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CA43-B3F8-404B-A007-C5887B43AA8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FE35-F9F4-4E11-B75B-28FBB79BE1E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0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4107-6488-4C77-887F-036AAE84F17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E3FA-EA35-409B-B343-E27C2D21560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198C-D880-4349-A848-C4ED4AA44DC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9B57-B382-4A4D-8912-FBDEE509BBC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FDBC-F487-4F92-8635-17620209365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15.jpeg"/><Relationship Id="rId5" Type="http://schemas.openxmlformats.org/officeDocument/2006/relationships/image" Target="../media/image5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755640" y="2781360"/>
            <a:ext cx="7632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Franklin Gothic Book"/>
              </a:rPr>
              <a:t>Индивидуальная работа с детьми с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ЗПР</a:t>
            </a:r>
            <a:r>
              <a:rPr b="0" i="1" lang="en-US" sz="3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Franklin Gothic Book"/>
              </a:rPr>
              <a:t>по теме  </a:t>
            </a:r>
            <a:br>
              <a:rPr sz="3000"/>
            </a:br>
            <a:r>
              <a:rPr b="1" i="1" lang="en-US" sz="3000" spc="-1" strike="noStrike">
                <a:solidFill>
                  <a:srgbClr val="000000"/>
                </a:solidFill>
                <a:latin typeface="Franklin Gothic Book"/>
              </a:rPr>
              <a:t>«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i="1" lang="en-US" sz="3000" spc="-1" strike="noStrike">
                <a:solidFill>
                  <a:srgbClr val="000000"/>
                </a:solidFill>
                <a:latin typeface="Franklin Gothic Book"/>
              </a:rPr>
              <a:t>икие животные»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TextBox 3"/>
          <p:cNvSpPr/>
          <p:nvPr/>
        </p:nvSpPr>
        <p:spPr>
          <a:xfrm>
            <a:off x="4603680" y="468792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Учитель-дефектолог Т.А.Титов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ГБДОУ №67 Фрунзенского район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1" name="TextBox 4"/>
          <p:cNvSpPr/>
          <p:nvPr/>
        </p:nvSpPr>
        <p:spPr>
          <a:xfrm>
            <a:off x="2771640" y="595008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Санкт-Петербург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Franklin Gothic Medium"/>
              </a:rPr>
              <a:t>Назови одним словом:</a:t>
            </a:r>
            <a:endParaRPr b="0" lang="en-US" sz="30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3" name="Picture 2" descr="C:\Users\Александр\Desktop\загруженное.jpg"/>
          <p:cNvPicPr/>
          <p:nvPr/>
        </p:nvPicPr>
        <p:blipFill>
          <a:blip r:embed="rId2"/>
          <a:stretch/>
        </p:blipFill>
        <p:spPr>
          <a:xfrm>
            <a:off x="826920" y="1924200"/>
            <a:ext cx="2827440" cy="19825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C:\Users\Александр\Desktop\загруженное (1).jpg"/>
          <p:cNvPicPr/>
          <p:nvPr/>
        </p:nvPicPr>
        <p:blipFill>
          <a:blip r:embed="rId3"/>
          <a:stretch/>
        </p:blipFill>
        <p:spPr>
          <a:xfrm>
            <a:off x="5670720" y="1924200"/>
            <a:ext cx="2520720" cy="19825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" descr="C:\Users\Александр\Desktop\загруженное (2).jpg"/>
          <p:cNvPicPr/>
          <p:nvPr/>
        </p:nvPicPr>
        <p:blipFill>
          <a:blip r:embed="rId4"/>
          <a:stretch/>
        </p:blipFill>
        <p:spPr>
          <a:xfrm>
            <a:off x="3276720" y="4292640"/>
            <a:ext cx="282708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Box 3"/>
          <p:cNvSpPr/>
          <p:nvPr/>
        </p:nvSpPr>
        <p:spPr>
          <a:xfrm>
            <a:off x="528480" y="476280"/>
            <a:ext cx="8280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Franklin Gothic Medium"/>
              </a:rPr>
              <a:t>У зверей в лесу густом, есть у каждого свой дом</a:t>
            </a:r>
            <a:endParaRPr b="0" lang="en-US" sz="25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TextBox 4"/>
          <p:cNvSpPr/>
          <p:nvPr/>
        </p:nvSpPr>
        <p:spPr>
          <a:xfrm>
            <a:off x="528480" y="1197000"/>
            <a:ext cx="8147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08" name="Picture 3" descr="C:\Users\Александр\Desktop\1247.jpg"/>
          <p:cNvPicPr/>
          <p:nvPr/>
        </p:nvPicPr>
        <p:blipFill>
          <a:blip r:embed="rId2"/>
          <a:stretch/>
        </p:blipFill>
        <p:spPr>
          <a:xfrm>
            <a:off x="971640" y="3933720"/>
            <a:ext cx="3657600" cy="27543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" descr="C:\Users\Александр\Desktop\загруженное (14).jpg"/>
          <p:cNvPicPr/>
          <p:nvPr/>
        </p:nvPicPr>
        <p:blipFill>
          <a:blip r:embed="rId3"/>
          <a:stretch/>
        </p:blipFill>
        <p:spPr>
          <a:xfrm>
            <a:off x="5810400" y="4011480"/>
            <a:ext cx="3462120" cy="27543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5" descr="C:\Users\Александр\Desktop\загруженное (13).jpg"/>
          <p:cNvPicPr/>
          <p:nvPr/>
        </p:nvPicPr>
        <p:blipFill>
          <a:blip r:embed="rId4"/>
          <a:stretch/>
        </p:blipFill>
        <p:spPr>
          <a:xfrm>
            <a:off x="3059280" y="1413000"/>
            <a:ext cx="3176280" cy="24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919440" y="390600"/>
            <a:ext cx="3611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Franklin Gothic Medium"/>
              </a:rPr>
              <a:t>Кто спрятался в лесу?</a:t>
            </a:r>
            <a:endParaRPr b="0" lang="en-US" sz="25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2" name="Picture 3" descr="C:\Users\Александр\Desktop\p6_5.jpg"/>
          <p:cNvPicPr/>
          <p:nvPr/>
        </p:nvPicPr>
        <p:blipFill>
          <a:blip r:embed="rId2"/>
          <a:stretch/>
        </p:blipFill>
        <p:spPr>
          <a:xfrm>
            <a:off x="1908000" y="1700280"/>
            <a:ext cx="53280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Box 3"/>
          <p:cNvSpPr/>
          <p:nvPr/>
        </p:nvSpPr>
        <p:spPr>
          <a:xfrm>
            <a:off x="684360" y="620640"/>
            <a:ext cx="7775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Franklin Gothic Medium"/>
              </a:rPr>
              <a:t>Помоги мамам найти своих малышей</a:t>
            </a:r>
            <a:endParaRPr b="0" lang="en-US" sz="25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4" name="Объект 2"/>
          <p:cNvSpPr/>
          <p:nvPr/>
        </p:nvSpPr>
        <p:spPr>
          <a:xfrm>
            <a:off x="1042920" y="1628640"/>
            <a:ext cx="7124760" cy="40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У белки маленький….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У зайца серенький……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У ежика смешной…….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А у медведя ………………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5" name="Picture 2" descr="C:\Users\Александр\Desktop\загруженное (10).jpg"/>
          <p:cNvPicPr/>
          <p:nvPr/>
        </p:nvPicPr>
        <p:blipFill>
          <a:blip r:embed="rId2"/>
          <a:stretch/>
        </p:blipFill>
        <p:spPr>
          <a:xfrm>
            <a:off x="2484360" y="4584600"/>
            <a:ext cx="1762200" cy="13813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" descr="C:\Users\Александр\Desktop\images (8).jpg"/>
          <p:cNvPicPr/>
          <p:nvPr/>
        </p:nvPicPr>
        <p:blipFill>
          <a:blip r:embed="rId3"/>
          <a:stretch/>
        </p:blipFill>
        <p:spPr>
          <a:xfrm>
            <a:off x="179280" y="4581360"/>
            <a:ext cx="1825560" cy="13924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5" descr="C:\Users\Александр\Desktop\images (7).jpg"/>
          <p:cNvPicPr/>
          <p:nvPr/>
        </p:nvPicPr>
        <p:blipFill>
          <a:blip r:embed="rId4"/>
          <a:stretch/>
        </p:blipFill>
        <p:spPr>
          <a:xfrm>
            <a:off x="4716360" y="1413000"/>
            <a:ext cx="1755720" cy="13158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6" descr="C:\Users\Александр\Desktop\загруженное (9).jpg"/>
          <p:cNvPicPr/>
          <p:nvPr/>
        </p:nvPicPr>
        <p:blipFill>
          <a:blip r:embed="rId5"/>
          <a:stretch/>
        </p:blipFill>
        <p:spPr>
          <a:xfrm>
            <a:off x="4716360" y="4584600"/>
            <a:ext cx="1755720" cy="13813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7" descr="C:\Users\Александр\Desktop\загруженное (8).jpg"/>
          <p:cNvPicPr/>
          <p:nvPr/>
        </p:nvPicPr>
        <p:blipFill>
          <a:blip r:embed="rId6"/>
          <a:stretch/>
        </p:blipFill>
        <p:spPr>
          <a:xfrm>
            <a:off x="2484360" y="1413000"/>
            <a:ext cx="1762200" cy="1319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8" descr="C:\Users\Александр\Desktop\images (6).jpg"/>
          <p:cNvPicPr/>
          <p:nvPr/>
        </p:nvPicPr>
        <p:blipFill>
          <a:blip r:embed="rId7"/>
          <a:stretch/>
        </p:blipFill>
        <p:spPr>
          <a:xfrm>
            <a:off x="6948360" y="4581360"/>
            <a:ext cx="1738440" cy="13924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9" descr="C:\Users\Александр\Desktop\загруженное (7).jpg"/>
          <p:cNvPicPr/>
          <p:nvPr/>
        </p:nvPicPr>
        <p:blipFill>
          <a:blip r:embed="rId8"/>
          <a:stretch/>
        </p:blipFill>
        <p:spPr>
          <a:xfrm>
            <a:off x="185760" y="1409760"/>
            <a:ext cx="1825560" cy="12970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0" descr="C:\Users\Александр\Desktop\images.jpg"/>
          <p:cNvPicPr/>
          <p:nvPr/>
        </p:nvPicPr>
        <p:blipFill>
          <a:blip r:embed="rId9"/>
          <a:stretch/>
        </p:blipFill>
        <p:spPr>
          <a:xfrm>
            <a:off x="6948360" y="1413000"/>
            <a:ext cx="1738440" cy="127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Заголовок 1"/>
          <p:cNvSpPr/>
          <p:nvPr/>
        </p:nvSpPr>
        <p:spPr>
          <a:xfrm>
            <a:off x="1116000" y="115920"/>
            <a:ext cx="71247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Franklin Gothic Medium"/>
              </a:rPr>
              <a:t>Сколько зайцев за холмом?</a:t>
            </a:r>
            <a:endParaRPr b="0" lang="en-US" sz="25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Объект 2"/>
          <p:cNvSpPr/>
          <p:nvPr/>
        </p:nvSpPr>
        <p:spPr>
          <a:xfrm>
            <a:off x="6084720" y="1484280"/>
            <a:ext cx="3164040" cy="40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Зайцы за холмом сидят,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только ушки их торчат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5" name="Picture 2" descr="C:\Users\Александр\Desktop\Безымянный.png"/>
          <p:cNvPicPr/>
          <p:nvPr/>
        </p:nvPicPr>
        <p:blipFill>
          <a:blip r:embed="rId2"/>
          <a:stretch/>
        </p:blipFill>
        <p:spPr>
          <a:xfrm>
            <a:off x="42840" y="1566720"/>
            <a:ext cx="6010200" cy="870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Заголовок 1"/>
          <p:cNvSpPr/>
          <p:nvPr/>
        </p:nvSpPr>
        <p:spPr>
          <a:xfrm>
            <a:off x="2556000" y="189000"/>
            <a:ext cx="71244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Franklin Gothic Medium"/>
              </a:rPr>
              <a:t>         </a:t>
            </a:r>
            <a:r>
              <a:rPr b="0" i="1" lang="en-US" sz="2500" spc="-1" strike="noStrike">
                <a:solidFill>
                  <a:srgbClr val="000000"/>
                </a:solidFill>
                <a:latin typeface="Franklin Gothic Medium"/>
              </a:rPr>
              <a:t>Физкультминутка</a:t>
            </a:r>
            <a:endParaRPr b="0" lang="en-US" sz="25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7" name="Picture 2" descr="C:\Users\Александр\Desktop\iosplgqznr4.jpg"/>
          <p:cNvPicPr/>
          <p:nvPr/>
        </p:nvPicPr>
        <p:blipFill>
          <a:blip r:embed="rId2"/>
          <a:stretch/>
        </p:blipFill>
        <p:spPr>
          <a:xfrm>
            <a:off x="1763640" y="1197000"/>
            <a:ext cx="566100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Заголовок 1"/>
          <p:cNvSpPr/>
          <p:nvPr/>
        </p:nvSpPr>
        <p:spPr>
          <a:xfrm>
            <a:off x="900000" y="260280"/>
            <a:ext cx="712476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Franklin Gothic Medium"/>
              </a:rPr>
              <a:t>Кто что любит?</a:t>
            </a:r>
            <a:endParaRPr b="0" lang="en-US" sz="25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9" name="Picture 3" descr="C:\Users\Александр\Desktop\загруженное (4).jpg"/>
          <p:cNvPicPr/>
          <p:nvPr/>
        </p:nvPicPr>
        <p:blipFill>
          <a:blip r:embed="rId2"/>
          <a:stretch/>
        </p:blipFill>
        <p:spPr>
          <a:xfrm>
            <a:off x="492120" y="1427040"/>
            <a:ext cx="1535040" cy="9302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Users\Александр\Desktop\загруженное (5).jpg"/>
          <p:cNvPicPr/>
          <p:nvPr/>
        </p:nvPicPr>
        <p:blipFill>
          <a:blip r:embed="rId3"/>
          <a:stretch/>
        </p:blipFill>
        <p:spPr>
          <a:xfrm>
            <a:off x="492120" y="2513160"/>
            <a:ext cx="1535040" cy="10443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C:\Users\Александр\Desktop\загруженное (9).jpg"/>
          <p:cNvPicPr/>
          <p:nvPr/>
        </p:nvPicPr>
        <p:blipFill>
          <a:blip r:embed="rId4"/>
          <a:stretch/>
        </p:blipFill>
        <p:spPr>
          <a:xfrm>
            <a:off x="492120" y="3933720"/>
            <a:ext cx="1535040" cy="1165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9" descr="C:\Users\Александр\Desktop\загруженное.jpg"/>
          <p:cNvPicPr/>
          <p:nvPr/>
        </p:nvPicPr>
        <p:blipFill>
          <a:blip r:embed="rId5"/>
          <a:stretch/>
        </p:blipFill>
        <p:spPr>
          <a:xfrm>
            <a:off x="492120" y="5373720"/>
            <a:ext cx="1531800" cy="12841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0" descr="C:\Users\Александр\Desktop\images (15).jpg"/>
          <p:cNvPicPr/>
          <p:nvPr/>
        </p:nvPicPr>
        <p:blipFill>
          <a:blip r:embed="rId6"/>
          <a:stretch/>
        </p:blipFill>
        <p:spPr>
          <a:xfrm>
            <a:off x="6659640" y="3933720"/>
            <a:ext cx="1800000" cy="11653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1" descr="C:\Users\Александр\Desktop\загруженное (11).jpg"/>
          <p:cNvPicPr/>
          <p:nvPr/>
        </p:nvPicPr>
        <p:blipFill>
          <a:blip r:embed="rId7"/>
          <a:stretch/>
        </p:blipFill>
        <p:spPr>
          <a:xfrm>
            <a:off x="6659640" y="2513160"/>
            <a:ext cx="1800000" cy="11509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2" descr="C:\Users\Александр\Desktop\images (16).jpg"/>
          <p:cNvPicPr/>
          <p:nvPr/>
        </p:nvPicPr>
        <p:blipFill>
          <a:blip r:embed="rId8"/>
          <a:stretch/>
        </p:blipFill>
        <p:spPr>
          <a:xfrm>
            <a:off x="6659640" y="1427040"/>
            <a:ext cx="1800000" cy="93024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3" descr="C:\Users\Александр\Desktop\загруженное (12).jpg"/>
          <p:cNvPicPr/>
          <p:nvPr/>
        </p:nvPicPr>
        <p:blipFill>
          <a:blip r:embed="rId9"/>
          <a:stretch/>
        </p:blipFill>
        <p:spPr>
          <a:xfrm>
            <a:off x="6659640" y="5373720"/>
            <a:ext cx="1800000" cy="1284120"/>
          </a:xfrm>
          <a:prstGeom prst="rect">
            <a:avLst/>
          </a:prstGeom>
          <a:ln w="0">
            <a:noFill/>
          </a:ln>
        </p:spPr>
      </p:pic>
      <p:sp>
        <p:nvSpPr>
          <p:cNvPr id="437" name="Полилиния 19"/>
          <p:cNvSpPr/>
          <p:nvPr/>
        </p:nvSpPr>
        <p:spPr>
          <a:xfrm>
            <a:off x="2019240" y="1886040"/>
            <a:ext cx="4591080" cy="4282920"/>
          </a:xfrm>
          <a:custGeom>
            <a:avLst/>
            <a:gdLst/>
            <a:ahLst/>
            <a:rect l="l" t="t" r="r" b="b"/>
            <a:pathLst>
              <a:path w="4667250" h="4283606">
                <a:moveTo>
                  <a:pt x="0" y="4191000"/>
                </a:moveTo>
                <a:cubicBezTo>
                  <a:pt x="968375" y="4311650"/>
                  <a:pt x="1936750" y="4432300"/>
                  <a:pt x="2714625" y="3733800"/>
                </a:cubicBezTo>
                <a:cubicBezTo>
                  <a:pt x="3492500" y="3035300"/>
                  <a:pt x="4375150" y="617537"/>
                  <a:pt x="4667250" y="0"/>
                </a:cubicBezTo>
              </a:path>
            </a:pathLst>
          </a:custGeom>
          <a:noFill/>
          <a:ln cap="rnd" w="28440">
            <a:solidFill>
              <a:srgbClr val="f47e5a"/>
            </a:solidFill>
            <a:round/>
          </a:ln>
          <a:effectLst>
            <a:outerShdw dist="2556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8" name="Полилиния 17"/>
          <p:cNvSpPr/>
          <p:nvPr/>
        </p:nvSpPr>
        <p:spPr>
          <a:xfrm>
            <a:off x="2028960" y="1987560"/>
            <a:ext cx="4591080" cy="4103640"/>
          </a:xfrm>
          <a:custGeom>
            <a:avLst/>
            <a:gdLst/>
            <a:ahLst/>
            <a:rect l="l" t="t" r="r" b="b"/>
            <a:pathLst>
              <a:path w="4591050" h="4102704">
                <a:moveTo>
                  <a:pt x="0" y="1088663"/>
                </a:moveTo>
                <a:cubicBezTo>
                  <a:pt x="923925" y="451281"/>
                  <a:pt x="1847850" y="-186100"/>
                  <a:pt x="2438400" y="50438"/>
                </a:cubicBezTo>
                <a:cubicBezTo>
                  <a:pt x="3028950" y="286976"/>
                  <a:pt x="3184525" y="1833201"/>
                  <a:pt x="3543300" y="2507888"/>
                </a:cubicBezTo>
                <a:cubicBezTo>
                  <a:pt x="3902075" y="3182575"/>
                  <a:pt x="4425950" y="4174763"/>
                  <a:pt x="4591050" y="4098563"/>
                </a:cubicBezTo>
              </a:path>
            </a:pathLst>
          </a:custGeom>
          <a:noFill/>
          <a:ln cap="rnd" w="28440">
            <a:solidFill>
              <a:srgbClr val="f47e5a"/>
            </a:solidFill>
            <a:round/>
          </a:ln>
          <a:effectLst>
            <a:outerShdw dist="2556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9" name="Полилиния 16"/>
          <p:cNvSpPr/>
          <p:nvPr/>
        </p:nvSpPr>
        <p:spPr>
          <a:xfrm>
            <a:off x="2104920" y="1990800"/>
            <a:ext cx="4505400" cy="2733480"/>
          </a:xfrm>
          <a:custGeom>
            <a:avLst/>
            <a:gdLst/>
            <a:ahLst/>
            <a:rect l="l" t="t" r="r" b="b"/>
            <a:pathLst>
              <a:path w="4505325" h="2734205">
                <a:moveTo>
                  <a:pt x="0" y="0"/>
                </a:moveTo>
                <a:cubicBezTo>
                  <a:pt x="1006475" y="637381"/>
                  <a:pt x="2012950" y="1274763"/>
                  <a:pt x="2419350" y="1343025"/>
                </a:cubicBezTo>
                <a:cubicBezTo>
                  <a:pt x="2825750" y="1411287"/>
                  <a:pt x="2682875" y="296863"/>
                  <a:pt x="2438400" y="409575"/>
                </a:cubicBezTo>
                <a:cubicBezTo>
                  <a:pt x="2193925" y="522288"/>
                  <a:pt x="608013" y="1631950"/>
                  <a:pt x="952500" y="2019300"/>
                </a:cubicBezTo>
                <a:cubicBezTo>
                  <a:pt x="1296987" y="2406650"/>
                  <a:pt x="3759200" y="2749550"/>
                  <a:pt x="4505325" y="2733675"/>
                </a:cubicBezTo>
              </a:path>
            </a:pathLst>
          </a:custGeom>
          <a:noFill/>
          <a:ln cap="rnd" w="28440">
            <a:solidFill>
              <a:srgbClr val="f47e5a"/>
            </a:solidFill>
            <a:round/>
          </a:ln>
          <a:effectLst>
            <a:outerShdw dist="2556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Полилиния 18"/>
          <p:cNvSpPr/>
          <p:nvPr/>
        </p:nvSpPr>
        <p:spPr>
          <a:xfrm>
            <a:off x="2019240" y="3067200"/>
            <a:ext cx="4619520" cy="1508040"/>
          </a:xfrm>
          <a:custGeom>
            <a:avLst/>
            <a:gdLst/>
            <a:ahLst/>
            <a:rect l="l" t="t" r="r" b="b"/>
            <a:pathLst>
              <a:path w="4619625" h="1508524">
                <a:moveTo>
                  <a:pt x="0" y="1476375"/>
                </a:moveTo>
                <a:cubicBezTo>
                  <a:pt x="1086644" y="1518443"/>
                  <a:pt x="2173288" y="1560512"/>
                  <a:pt x="2943225" y="1314450"/>
                </a:cubicBezTo>
                <a:cubicBezTo>
                  <a:pt x="3713162" y="1068388"/>
                  <a:pt x="4289425" y="658812"/>
                  <a:pt x="4619625" y="0"/>
                </a:cubicBezTo>
              </a:path>
            </a:pathLst>
          </a:custGeom>
          <a:noFill/>
          <a:ln cap="rnd" w="28440">
            <a:solidFill>
              <a:srgbClr val="f47e5a"/>
            </a:solidFill>
            <a:round/>
          </a:ln>
          <a:effectLst>
            <a:outerShdw dist="2556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3010680" y="247680"/>
            <a:ext cx="2221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Franklin Gothic Medium"/>
              </a:rPr>
              <a:t>Кто лишний?</a:t>
            </a:r>
            <a:endParaRPr b="0" lang="en-US" sz="25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42" name="Picture 2" descr="C:\Users\Александр\Desktop\images (17).jpg"/>
          <p:cNvPicPr/>
          <p:nvPr/>
        </p:nvPicPr>
        <p:blipFill>
          <a:blip r:embed="rId2"/>
          <a:stretch/>
        </p:blipFill>
        <p:spPr>
          <a:xfrm>
            <a:off x="993600" y="1420920"/>
            <a:ext cx="2981520" cy="21034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C:\Users\Александр\Desktop\images (18).jpg"/>
          <p:cNvPicPr/>
          <p:nvPr/>
        </p:nvPicPr>
        <p:blipFill>
          <a:blip r:embed="rId3"/>
          <a:stretch/>
        </p:blipFill>
        <p:spPr>
          <a:xfrm>
            <a:off x="4522680" y="1420920"/>
            <a:ext cx="3005280" cy="20844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" descr="C:\Users\Александр\Desktop\images (9).jpg"/>
          <p:cNvPicPr/>
          <p:nvPr/>
        </p:nvPicPr>
        <p:blipFill>
          <a:blip r:embed="rId4"/>
          <a:stretch/>
        </p:blipFill>
        <p:spPr>
          <a:xfrm>
            <a:off x="981000" y="3560760"/>
            <a:ext cx="2212920" cy="28162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5" descr="C:\Users\Александр\Desktop\загруженное (8).jpg"/>
          <p:cNvPicPr/>
          <p:nvPr/>
        </p:nvPicPr>
        <p:blipFill>
          <a:blip r:embed="rId5"/>
          <a:stretch/>
        </p:blipFill>
        <p:spPr>
          <a:xfrm>
            <a:off x="4522680" y="3938760"/>
            <a:ext cx="3005280" cy="221292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6"/>
          <a:stretch/>
        </p:blipFill>
        <p:spPr>
          <a:xfrm>
            <a:off x="4788000" y="4149720"/>
            <a:ext cx="25192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4T10:44:15Z</dcterms:created>
  <dc:creator>Александр</dc:creator>
  <dc:description/>
  <dc:language>en-US</dc:language>
  <cp:lastModifiedBy>user</cp:lastModifiedBy>
  <dcterms:modified xsi:type="dcterms:W3CDTF">2015-10-18T13:12:49Z</dcterms:modified>
  <cp:revision>50</cp:revision>
  <dc:subject/>
  <dc:title>Презентация PowerPoint</dc:title>
</cp:coreProperties>
</file>