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5.jpeg" ContentType="image/jpeg"/>
  <Override PartName="/ppt/media/image26.jpeg" ContentType="image/jpeg"/>
  <Override PartName="/ppt/media/image32.jpeg" ContentType="image/jpe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20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30.png" ContentType="image/png"/>
  <Override PartName="/ppt/media/image31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3.jpeg" ContentType="image/jpeg"/>
  <Override PartName="/ppt/media/image2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8B50-D927-43FE-88CC-639908058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E023-A3D7-47A5-8BCD-85ABB91A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7740C-B045-4AB4-9126-2A1B3E94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3D12E-3757-49B7-B5B9-FE50AB5A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D842F-ABC2-4E6D-B6CA-D5478820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6C440-35EB-4AB5-832E-A22ADB76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E13C7-17E7-49FF-ACA7-7C637D92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4658D-D415-43EA-9B1E-9DAAEFF2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6B33B-B091-4249-B192-FD413665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FB534-CE58-4C61-AF5E-1A88AB82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2E322-7476-4BC3-B52E-7E3DDC7F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E1A8-8E48-4AE5-8F05-EF2102CC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769B-BC57-4EF1-B549-A0CEA05D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D3C0-E95B-4CCF-87EA-4FDCBB97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1BD7-7849-4F87-8FA0-1404EF1D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80B2-B5E1-49DD-9549-4FA3DFC3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376E-FF5B-4D0D-AD97-ADDDB13C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A656-453A-45F5-B5D4-B24AB288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E2BB-A8C2-469A-A3B3-53941BFA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D378-5E58-4102-BDEA-AEB25CD7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B08F-6E26-4326-BE29-62757B10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A2BB-990E-417C-B9B2-5BDC7278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069A-5077-43D4-B674-F6A99B74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D65B-4813-40F7-9649-8923A0D0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70F4-2766-41F4-9D68-1E1A372F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5A1B-B26F-4BFB-9363-CE4F8B55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E12B8-D3FF-48DE-BA22-D7A24F7A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22AA4-D976-46F2-8D15-02FF14ED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9E75D-9017-480B-9D9B-53C29D44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33D4C-F4CC-43EE-8DA9-3F083527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4A4E1-4D0B-4A59-BC89-0072BB96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B91D-BF55-4951-BF3E-7BA0E415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1606C-F906-46BC-A256-8ADCB5B6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14C2F-602E-4A71-9B9E-E4E59DA1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D916D-4060-4F4F-A4BD-6C5E49D8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0731E-DD64-400D-BDAB-B47C7C18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66FDF-9CF4-425D-883F-3958224C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6EB08-9995-4B77-92AE-2DE3CFBE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58C04-5BEE-41EA-952D-0B2214C1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2A0F9-84AC-4C66-839D-3F260B69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22659-9874-460F-B183-EBDE3285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38E55-AC1F-4C1C-B9AC-E37E3247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762F-8B57-4D08-9A8E-B36E92A7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81701-AB73-4385-8C84-456A0F73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8C271-43CA-4477-BA35-B3C387C1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A1457-5390-47E0-A27F-00DB808F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01312-7F72-4AA5-BA8D-DE630B2A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D1D60-CA1B-41B7-88CC-FBB6591B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13B6A-BA19-41F6-A3DB-A43B08EA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86203-C5B6-4838-A741-EA12CAD4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812AD-3B81-4665-A65D-9CDE94CC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86774-6AF3-44DA-9535-06B17B23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5A143-7BBE-4C93-B330-F6FEDAE9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EACB-EAC0-41B2-A064-C75DDED7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ACAF9-F7A1-4270-8DBF-967207D1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F5F25-8740-4245-A748-0915B7DC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9454D-75B8-4E6C-9B5E-93FA0364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427E6-4502-4C31-93D8-CBBF7FF4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9ED2E-6ED6-47D4-AA39-795B8A56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1D93A-9294-4D28-AD2E-298F6CC2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47D1D-3CD6-4950-99EE-58FBA620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EF9AD-7239-4D1B-B404-07E49C86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0CEC8-3B19-4DE4-8ED2-74885A1E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61326-A2D3-49DC-A39A-723696ED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6086-5BD7-4EB3-904F-4E9D383C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7DC40-3100-4886-A9D8-CFAC6446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E9EA5-5BDC-454D-8830-D996A332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61225-7539-4CB9-A1C2-CE3F040E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32DDA-4F0D-41D7-878D-319FC93C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B956D-CD3C-40D1-A3A3-2F3B4550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76A94-D4C5-4F3C-BD8F-C1044B8C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3832A-46EF-428A-8DDF-87B84B33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1EDA9-A736-4D7F-8C4C-6F433059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5F222-C2F4-4B48-AA30-887FD102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9D482-5446-4720-BC52-1A04CDB9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6A29-EFB7-4386-999D-957E28E2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D0285-63B5-4E10-AD92-D210DB04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04DA3-1393-4056-A71A-0B0BA645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A5B8F-D9AD-4A2E-93AE-AF7EB27E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38F7F-B59B-426E-B713-5BB0CD27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2CF89-2C1B-4AE8-BC59-ED193345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2DA17-D9C3-4EA2-BB1B-049B567D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B3F2A-3897-408D-B0E2-D5813D4C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04DE2-CC30-42C3-9D3B-65D813F5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7B627-F3F3-416B-ACA2-CCD9103D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3CCDF-DE3B-474E-ABAC-99986285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129D-EB8A-4DF1-9C0F-84FBEF1D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0F239-6EA4-406F-BC4C-F81EB274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90FA9-8B51-469B-AC32-12282FCE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17323-3A7D-48E5-A696-D54D5994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989B8-360E-4D15-B045-7EEFD6E5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CBC1B-A9B2-49CC-93F2-060A00B7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E9836-2111-46BD-BF80-ACB6F037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5F276-79DB-47C6-A0EF-A5997CB1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F879B-C2B7-42AF-AFA8-852D4982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5CE83-E67E-47E4-B4CF-FC482CB6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227F3-745A-42A2-8539-6EE34278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A6E0-5189-497F-8F19-A75E4C24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2387E-792F-4BB2-8B74-30EF8533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DE407-6C15-4585-86C5-0BDCDE20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D2E21-D467-4D5F-A1A1-7399CF5B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E8F3D-2D4F-43B6-A20A-3F6B2ADC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7D726-77D7-437E-8479-5F449430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4D9B8-B055-4A0E-9C63-E81084D7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3F3A5-D8CE-4500-A297-4939B86B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D99C3-5EAB-4509-AF05-1130CEBE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F6C98-D60F-472D-8ACD-95435FC9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53D60-DA1A-4212-A74C-8D2C6BEB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D1CF-A183-4945-923E-3A38338EDAF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9FD8-8647-4CB8-9A80-C90B472F542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5128-195F-4ED3-A48C-FA7CFD09322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6089-AF4E-4E7B-B2A0-31CAF32F251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9881-C70A-41A2-9A8B-550C58E8E5C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B483-667B-4F6F-ADC2-837543CAD9E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2496-07B5-4E85-B918-11CF7572C7B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C7C7-8F03-41AF-8914-87E21F2CED1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22E0-7401-4DFC-A54C-08D7EE98224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15.jpeg"/><Relationship Id="rId5" Type="http://schemas.openxmlformats.org/officeDocument/2006/relationships/image" Target="../media/image5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55640" y="27813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Franklin Gothic Book"/>
              </a:rPr>
              <a:t>Индивидуальная работа с детьми с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ЗПР</a:t>
            </a:r>
            <a:r>
              <a:rPr b="0" i="1" lang="en-US" sz="3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Franklin Gothic Book"/>
              </a:rPr>
              <a:t>по теме  </a:t>
            </a:r>
            <a:br>
              <a:rPr sz="3000"/>
            </a:br>
            <a:r>
              <a:rPr b="1" i="1" lang="en-US" sz="3000" spc="-1" strike="noStrike">
                <a:solidFill>
                  <a:srgbClr val="000000"/>
                </a:solidFill>
                <a:latin typeface="Franklin Gothic Book"/>
              </a:rPr>
              <a:t>«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i="1" lang="en-US" sz="3000" spc="-1" strike="noStrike">
                <a:solidFill>
                  <a:srgbClr val="000000"/>
                </a:solidFill>
                <a:latin typeface="Franklin Gothic Book"/>
              </a:rPr>
              <a:t>икие животные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TextBox 3"/>
          <p:cNvSpPr/>
          <p:nvPr/>
        </p:nvSpPr>
        <p:spPr>
          <a:xfrm>
            <a:off x="4603680" y="468792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Учитель-дефектолог Т.А.Титов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ГБДОУ №67 Фрунзенского район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TextBox 4"/>
          <p:cNvSpPr/>
          <p:nvPr/>
        </p:nvSpPr>
        <p:spPr>
          <a:xfrm>
            <a:off x="2771640" y="59500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Franklin Gothic Medium"/>
              </a:rPr>
              <a:t>Назови одним словом:</a:t>
            </a:r>
            <a:endParaRPr b="0" lang="en-US" sz="30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3" name="Picture 2" descr="C:\Users\Александр\Desktop\загруженное.jpg"/>
          <p:cNvPicPr/>
          <p:nvPr/>
        </p:nvPicPr>
        <p:blipFill>
          <a:blip r:embed="rId2"/>
          <a:stretch/>
        </p:blipFill>
        <p:spPr>
          <a:xfrm>
            <a:off x="826920" y="1924200"/>
            <a:ext cx="2827440" cy="19825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C:\Users\Александр\Desktop\загруженное (1).jpg"/>
          <p:cNvPicPr/>
          <p:nvPr/>
        </p:nvPicPr>
        <p:blipFill>
          <a:blip r:embed="rId3"/>
          <a:stretch/>
        </p:blipFill>
        <p:spPr>
          <a:xfrm>
            <a:off x="5670720" y="1924200"/>
            <a:ext cx="2520720" cy="19825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C:\Users\Александр\Desktop\загруженное (2).jpg"/>
          <p:cNvPicPr/>
          <p:nvPr/>
        </p:nvPicPr>
        <p:blipFill>
          <a:blip r:embed="rId4"/>
          <a:stretch/>
        </p:blipFill>
        <p:spPr>
          <a:xfrm>
            <a:off x="3276720" y="4292640"/>
            <a:ext cx="282708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3"/>
          <p:cNvSpPr/>
          <p:nvPr/>
        </p:nvSpPr>
        <p:spPr>
          <a:xfrm>
            <a:off x="528480" y="476280"/>
            <a:ext cx="828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Franklin Gothic Medium"/>
              </a:rPr>
              <a:t>У зверей в лесу густом, есть у каждого свой дом</a:t>
            </a:r>
            <a:endParaRPr b="0" lang="en-US" sz="2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528480" y="1197000"/>
            <a:ext cx="8147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8" name="Picture 3" descr="C:\Users\Александр\Desktop\1247.jpg"/>
          <p:cNvPicPr/>
          <p:nvPr/>
        </p:nvPicPr>
        <p:blipFill>
          <a:blip r:embed="rId2"/>
          <a:stretch/>
        </p:blipFill>
        <p:spPr>
          <a:xfrm>
            <a:off x="971640" y="3933720"/>
            <a:ext cx="3657600" cy="2754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C:\Users\Александр\Desktop\загруженное (14).jpg"/>
          <p:cNvPicPr/>
          <p:nvPr/>
        </p:nvPicPr>
        <p:blipFill>
          <a:blip r:embed="rId3"/>
          <a:stretch/>
        </p:blipFill>
        <p:spPr>
          <a:xfrm>
            <a:off x="5810400" y="4011480"/>
            <a:ext cx="3462120" cy="2754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C:\Users\Александр\Desktop\загруженное (13).jpg"/>
          <p:cNvPicPr/>
          <p:nvPr/>
        </p:nvPicPr>
        <p:blipFill>
          <a:blip r:embed="rId4"/>
          <a:stretch/>
        </p:blipFill>
        <p:spPr>
          <a:xfrm>
            <a:off x="3059280" y="1413000"/>
            <a:ext cx="317628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919440" y="390600"/>
            <a:ext cx="361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Franklin Gothic Medium"/>
              </a:rPr>
              <a:t>Кто спрятался в лесу?</a:t>
            </a:r>
            <a:endParaRPr b="0" lang="en-US" sz="25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2" name="Picture 3" descr="C:\Users\Александр\Desktop\p6_5.jpg"/>
          <p:cNvPicPr/>
          <p:nvPr/>
        </p:nvPicPr>
        <p:blipFill>
          <a:blip r:embed="rId2"/>
          <a:stretch/>
        </p:blipFill>
        <p:spPr>
          <a:xfrm>
            <a:off x="1908000" y="1700280"/>
            <a:ext cx="53280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3"/>
          <p:cNvSpPr/>
          <p:nvPr/>
        </p:nvSpPr>
        <p:spPr>
          <a:xfrm>
            <a:off x="684360" y="620640"/>
            <a:ext cx="7775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Franklin Gothic Medium"/>
              </a:rPr>
              <a:t>Помоги мамам найти своих малышей</a:t>
            </a:r>
            <a:endParaRPr b="0" lang="en-US" sz="2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Объект 2"/>
          <p:cNvSpPr/>
          <p:nvPr/>
        </p:nvSpPr>
        <p:spPr>
          <a:xfrm>
            <a:off x="1042920" y="1628640"/>
            <a:ext cx="712476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У белки маленький….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У зайца серенький……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У ежика смешной…….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А у медведя ………………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5" name="Picture 2" descr="C:\Users\Александр\Desktop\загруженное (10).jpg"/>
          <p:cNvPicPr/>
          <p:nvPr/>
        </p:nvPicPr>
        <p:blipFill>
          <a:blip r:embed="rId2"/>
          <a:stretch/>
        </p:blipFill>
        <p:spPr>
          <a:xfrm>
            <a:off x="2484360" y="4584600"/>
            <a:ext cx="1762200" cy="13813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C:\Users\Александр\Desktop\images (8).jpg"/>
          <p:cNvPicPr/>
          <p:nvPr/>
        </p:nvPicPr>
        <p:blipFill>
          <a:blip r:embed="rId3"/>
          <a:stretch/>
        </p:blipFill>
        <p:spPr>
          <a:xfrm>
            <a:off x="179280" y="4581360"/>
            <a:ext cx="1825560" cy="13924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C:\Users\Александр\Desktop\images (7).jpg"/>
          <p:cNvPicPr/>
          <p:nvPr/>
        </p:nvPicPr>
        <p:blipFill>
          <a:blip r:embed="rId4"/>
          <a:stretch/>
        </p:blipFill>
        <p:spPr>
          <a:xfrm>
            <a:off x="4716360" y="1413000"/>
            <a:ext cx="1755720" cy="1315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6" descr="C:\Users\Александр\Desktop\загруженное (9).jpg"/>
          <p:cNvPicPr/>
          <p:nvPr/>
        </p:nvPicPr>
        <p:blipFill>
          <a:blip r:embed="rId5"/>
          <a:stretch/>
        </p:blipFill>
        <p:spPr>
          <a:xfrm>
            <a:off x="4716360" y="4584600"/>
            <a:ext cx="1755720" cy="13813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C:\Users\Александр\Desktop\загруженное (8).jpg"/>
          <p:cNvPicPr/>
          <p:nvPr/>
        </p:nvPicPr>
        <p:blipFill>
          <a:blip r:embed="rId6"/>
          <a:stretch/>
        </p:blipFill>
        <p:spPr>
          <a:xfrm>
            <a:off x="2484360" y="1413000"/>
            <a:ext cx="1762200" cy="1319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C:\Users\Александр\Desktop\images (6).jpg"/>
          <p:cNvPicPr/>
          <p:nvPr/>
        </p:nvPicPr>
        <p:blipFill>
          <a:blip r:embed="rId7"/>
          <a:stretch/>
        </p:blipFill>
        <p:spPr>
          <a:xfrm>
            <a:off x="6948360" y="4581360"/>
            <a:ext cx="1738440" cy="13924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9" descr="C:\Users\Александр\Desktop\загруженное (7).jpg"/>
          <p:cNvPicPr/>
          <p:nvPr/>
        </p:nvPicPr>
        <p:blipFill>
          <a:blip r:embed="rId8"/>
          <a:stretch/>
        </p:blipFill>
        <p:spPr>
          <a:xfrm>
            <a:off x="185760" y="1409760"/>
            <a:ext cx="1825560" cy="12970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0" descr="C:\Users\Александр\Desktop\images.jpg"/>
          <p:cNvPicPr/>
          <p:nvPr/>
        </p:nvPicPr>
        <p:blipFill>
          <a:blip r:embed="rId9"/>
          <a:stretch/>
        </p:blipFill>
        <p:spPr>
          <a:xfrm>
            <a:off x="6948360" y="1413000"/>
            <a:ext cx="1738440" cy="12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Заголовок 1"/>
          <p:cNvSpPr/>
          <p:nvPr/>
        </p:nvSpPr>
        <p:spPr>
          <a:xfrm>
            <a:off x="1116000" y="115920"/>
            <a:ext cx="7124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Franklin Gothic Medium"/>
              </a:rPr>
              <a:t>Сколько зайцев за холмом?</a:t>
            </a:r>
            <a:endParaRPr b="0" lang="en-US" sz="2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Объект 2"/>
          <p:cNvSpPr/>
          <p:nvPr/>
        </p:nvSpPr>
        <p:spPr>
          <a:xfrm>
            <a:off x="6084720" y="1484280"/>
            <a:ext cx="316404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Зайцы за холмом сидят,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только ушки их торчат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5" name="Picture 2" descr="C:\Users\Александр\Desktop\Безымянный.png"/>
          <p:cNvPicPr/>
          <p:nvPr/>
        </p:nvPicPr>
        <p:blipFill>
          <a:blip r:embed="rId2"/>
          <a:stretch/>
        </p:blipFill>
        <p:spPr>
          <a:xfrm>
            <a:off x="42840" y="1566720"/>
            <a:ext cx="6010200" cy="870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Заголовок 1"/>
          <p:cNvSpPr/>
          <p:nvPr/>
        </p:nvSpPr>
        <p:spPr>
          <a:xfrm>
            <a:off x="2556000" y="189000"/>
            <a:ext cx="7124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Franklin Gothic Medium"/>
              </a:rPr>
              <a:t>         </a:t>
            </a:r>
            <a:r>
              <a:rPr b="0" i="1" lang="en-US" sz="2500" spc="-1" strike="noStrike">
                <a:solidFill>
                  <a:srgbClr val="000000"/>
                </a:solidFill>
                <a:latin typeface="Franklin Gothic Medium"/>
              </a:rPr>
              <a:t>Физкультминутка</a:t>
            </a:r>
            <a:endParaRPr b="0" lang="en-US" sz="25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7" name="Picture 2" descr="C:\Users\Александр\Desktop\iosplgqznr4.jpg"/>
          <p:cNvPicPr/>
          <p:nvPr/>
        </p:nvPicPr>
        <p:blipFill>
          <a:blip r:embed="rId2"/>
          <a:stretch/>
        </p:blipFill>
        <p:spPr>
          <a:xfrm>
            <a:off x="1763640" y="1197000"/>
            <a:ext cx="566100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Заголовок 1"/>
          <p:cNvSpPr/>
          <p:nvPr/>
        </p:nvSpPr>
        <p:spPr>
          <a:xfrm>
            <a:off x="900000" y="260280"/>
            <a:ext cx="71247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Franklin Gothic Medium"/>
              </a:rPr>
              <a:t>Кто что любит?</a:t>
            </a:r>
            <a:endParaRPr b="0" lang="en-US" sz="25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9" name="Picture 3" descr="C:\Users\Александр\Desktop\загруженное (4).jpg"/>
          <p:cNvPicPr/>
          <p:nvPr/>
        </p:nvPicPr>
        <p:blipFill>
          <a:blip r:embed="rId2"/>
          <a:stretch/>
        </p:blipFill>
        <p:spPr>
          <a:xfrm>
            <a:off x="492120" y="1427040"/>
            <a:ext cx="1535040" cy="9302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Users\Александр\Desktop\загруженное (5).jpg"/>
          <p:cNvPicPr/>
          <p:nvPr/>
        </p:nvPicPr>
        <p:blipFill>
          <a:blip r:embed="rId3"/>
          <a:stretch/>
        </p:blipFill>
        <p:spPr>
          <a:xfrm>
            <a:off x="492120" y="2513160"/>
            <a:ext cx="1535040" cy="10443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C:\Users\Александр\Desktop\загруженное (9).jpg"/>
          <p:cNvPicPr/>
          <p:nvPr/>
        </p:nvPicPr>
        <p:blipFill>
          <a:blip r:embed="rId4"/>
          <a:stretch/>
        </p:blipFill>
        <p:spPr>
          <a:xfrm>
            <a:off x="492120" y="3933720"/>
            <a:ext cx="1535040" cy="1165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9" descr="C:\Users\Александр\Desktop\загруженное.jpg"/>
          <p:cNvPicPr/>
          <p:nvPr/>
        </p:nvPicPr>
        <p:blipFill>
          <a:blip r:embed="rId5"/>
          <a:stretch/>
        </p:blipFill>
        <p:spPr>
          <a:xfrm>
            <a:off x="492120" y="5373720"/>
            <a:ext cx="1531800" cy="1284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0" descr="C:\Users\Александр\Desktop\images (15).jpg"/>
          <p:cNvPicPr/>
          <p:nvPr/>
        </p:nvPicPr>
        <p:blipFill>
          <a:blip r:embed="rId6"/>
          <a:stretch/>
        </p:blipFill>
        <p:spPr>
          <a:xfrm>
            <a:off x="6659640" y="3933720"/>
            <a:ext cx="1800000" cy="11653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" descr="C:\Users\Александр\Desktop\загруженное (11).jpg"/>
          <p:cNvPicPr/>
          <p:nvPr/>
        </p:nvPicPr>
        <p:blipFill>
          <a:blip r:embed="rId7"/>
          <a:stretch/>
        </p:blipFill>
        <p:spPr>
          <a:xfrm>
            <a:off x="6659640" y="2513160"/>
            <a:ext cx="1800000" cy="11509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2" descr="C:\Users\Александр\Desktop\images (16).jpg"/>
          <p:cNvPicPr/>
          <p:nvPr/>
        </p:nvPicPr>
        <p:blipFill>
          <a:blip r:embed="rId8"/>
          <a:stretch/>
        </p:blipFill>
        <p:spPr>
          <a:xfrm>
            <a:off x="6659640" y="1427040"/>
            <a:ext cx="1800000" cy="9302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3" descr="C:\Users\Александр\Desktop\загруженное (12).jpg"/>
          <p:cNvPicPr/>
          <p:nvPr/>
        </p:nvPicPr>
        <p:blipFill>
          <a:blip r:embed="rId9"/>
          <a:stretch/>
        </p:blipFill>
        <p:spPr>
          <a:xfrm>
            <a:off x="6659640" y="5373720"/>
            <a:ext cx="1800000" cy="1284120"/>
          </a:xfrm>
          <a:prstGeom prst="rect">
            <a:avLst/>
          </a:prstGeom>
          <a:ln w="0">
            <a:noFill/>
          </a:ln>
        </p:spPr>
      </p:pic>
      <p:sp>
        <p:nvSpPr>
          <p:cNvPr id="437" name="Полилиния 19"/>
          <p:cNvSpPr/>
          <p:nvPr/>
        </p:nvSpPr>
        <p:spPr>
          <a:xfrm>
            <a:off x="2019240" y="1886040"/>
            <a:ext cx="4591080" cy="4282920"/>
          </a:xfrm>
          <a:custGeom>
            <a:avLst/>
            <a:gdLst/>
            <a:ahLst/>
            <a:rect l="l" t="t" r="r" b="b"/>
            <a:pathLst>
              <a:path w="4667250" h="4283606">
                <a:moveTo>
                  <a:pt x="0" y="4191000"/>
                </a:moveTo>
                <a:cubicBezTo>
                  <a:pt x="968375" y="4311650"/>
                  <a:pt x="1936750" y="4432300"/>
                  <a:pt x="2714625" y="3733800"/>
                </a:cubicBezTo>
                <a:cubicBezTo>
                  <a:pt x="3492500" y="3035300"/>
                  <a:pt x="4375150" y="617537"/>
                  <a:pt x="4667250" y="0"/>
                </a:cubicBezTo>
              </a:path>
            </a:pathLst>
          </a:custGeom>
          <a:noFill/>
          <a:ln cap="rnd" w="28440">
            <a:solidFill>
              <a:srgbClr val="f47e5a"/>
            </a:solidFill>
            <a:round/>
          </a:ln>
          <a:effectLst>
            <a:outerShdw dist="2556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Полилиния 17"/>
          <p:cNvSpPr/>
          <p:nvPr/>
        </p:nvSpPr>
        <p:spPr>
          <a:xfrm>
            <a:off x="2028960" y="1987560"/>
            <a:ext cx="4591080" cy="4103640"/>
          </a:xfrm>
          <a:custGeom>
            <a:avLst/>
            <a:gdLst/>
            <a:ahLst/>
            <a:rect l="l" t="t" r="r" b="b"/>
            <a:pathLst>
              <a:path w="4591050" h="4102704">
                <a:moveTo>
                  <a:pt x="0" y="1088663"/>
                </a:moveTo>
                <a:cubicBezTo>
                  <a:pt x="923925" y="451281"/>
                  <a:pt x="1847850" y="-186100"/>
                  <a:pt x="2438400" y="50438"/>
                </a:cubicBezTo>
                <a:cubicBezTo>
                  <a:pt x="3028950" y="286976"/>
                  <a:pt x="3184525" y="1833201"/>
                  <a:pt x="3543300" y="2507888"/>
                </a:cubicBezTo>
                <a:cubicBezTo>
                  <a:pt x="3902075" y="3182575"/>
                  <a:pt x="4425950" y="4174763"/>
                  <a:pt x="4591050" y="4098563"/>
                </a:cubicBezTo>
              </a:path>
            </a:pathLst>
          </a:custGeom>
          <a:noFill/>
          <a:ln cap="rnd" w="28440">
            <a:solidFill>
              <a:srgbClr val="f47e5a"/>
            </a:solidFill>
            <a:round/>
          </a:ln>
          <a:effectLst>
            <a:outerShdw dist="2556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Полилиния 16"/>
          <p:cNvSpPr/>
          <p:nvPr/>
        </p:nvSpPr>
        <p:spPr>
          <a:xfrm>
            <a:off x="2104920" y="1990800"/>
            <a:ext cx="4505400" cy="2733480"/>
          </a:xfrm>
          <a:custGeom>
            <a:avLst/>
            <a:gdLst/>
            <a:ahLst/>
            <a:rect l="l" t="t" r="r" b="b"/>
            <a:pathLst>
              <a:path w="4505325" h="2734205">
                <a:moveTo>
                  <a:pt x="0" y="0"/>
                </a:moveTo>
                <a:cubicBezTo>
                  <a:pt x="1006475" y="637381"/>
                  <a:pt x="2012950" y="1274763"/>
                  <a:pt x="2419350" y="1343025"/>
                </a:cubicBezTo>
                <a:cubicBezTo>
                  <a:pt x="2825750" y="1411287"/>
                  <a:pt x="2682875" y="296863"/>
                  <a:pt x="2438400" y="409575"/>
                </a:cubicBezTo>
                <a:cubicBezTo>
                  <a:pt x="2193925" y="522288"/>
                  <a:pt x="608013" y="1631950"/>
                  <a:pt x="952500" y="2019300"/>
                </a:cubicBezTo>
                <a:cubicBezTo>
                  <a:pt x="1296987" y="2406650"/>
                  <a:pt x="3759200" y="2749550"/>
                  <a:pt x="4505325" y="2733675"/>
                </a:cubicBezTo>
              </a:path>
            </a:pathLst>
          </a:custGeom>
          <a:noFill/>
          <a:ln cap="rnd" w="28440">
            <a:solidFill>
              <a:srgbClr val="f47e5a"/>
            </a:solidFill>
            <a:round/>
          </a:ln>
          <a:effectLst>
            <a:outerShdw dist="2556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Полилиния 18"/>
          <p:cNvSpPr/>
          <p:nvPr/>
        </p:nvSpPr>
        <p:spPr>
          <a:xfrm>
            <a:off x="2019240" y="3067200"/>
            <a:ext cx="4619520" cy="1508040"/>
          </a:xfrm>
          <a:custGeom>
            <a:avLst/>
            <a:gdLst/>
            <a:ahLst/>
            <a:rect l="l" t="t" r="r" b="b"/>
            <a:pathLst>
              <a:path w="4619625" h="1508524">
                <a:moveTo>
                  <a:pt x="0" y="1476375"/>
                </a:moveTo>
                <a:cubicBezTo>
                  <a:pt x="1086644" y="1518443"/>
                  <a:pt x="2173288" y="1560512"/>
                  <a:pt x="2943225" y="1314450"/>
                </a:cubicBezTo>
                <a:cubicBezTo>
                  <a:pt x="3713162" y="1068388"/>
                  <a:pt x="4289425" y="658812"/>
                  <a:pt x="4619625" y="0"/>
                </a:cubicBezTo>
              </a:path>
            </a:pathLst>
          </a:custGeom>
          <a:noFill/>
          <a:ln cap="rnd" w="28440">
            <a:solidFill>
              <a:srgbClr val="f47e5a"/>
            </a:solidFill>
            <a:round/>
          </a:ln>
          <a:effectLst>
            <a:outerShdw dist="2556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010680" y="247680"/>
            <a:ext cx="222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Franklin Gothic Medium"/>
              </a:rPr>
              <a:t>Кто лишний?</a:t>
            </a:r>
            <a:endParaRPr b="0" lang="en-US" sz="25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2" name="Picture 2" descr="C:\Users\Александр\Desktop\images (17).jpg"/>
          <p:cNvPicPr/>
          <p:nvPr/>
        </p:nvPicPr>
        <p:blipFill>
          <a:blip r:embed="rId2"/>
          <a:stretch/>
        </p:blipFill>
        <p:spPr>
          <a:xfrm>
            <a:off x="993600" y="1420920"/>
            <a:ext cx="2981520" cy="21034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C:\Users\Александр\Desktop\images (18).jpg"/>
          <p:cNvPicPr/>
          <p:nvPr/>
        </p:nvPicPr>
        <p:blipFill>
          <a:blip r:embed="rId3"/>
          <a:stretch/>
        </p:blipFill>
        <p:spPr>
          <a:xfrm>
            <a:off x="4522680" y="1420920"/>
            <a:ext cx="3005280" cy="20844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C:\Users\Александр\Desktop\images (9).jpg"/>
          <p:cNvPicPr/>
          <p:nvPr/>
        </p:nvPicPr>
        <p:blipFill>
          <a:blip r:embed="rId4"/>
          <a:stretch/>
        </p:blipFill>
        <p:spPr>
          <a:xfrm>
            <a:off x="981000" y="3560760"/>
            <a:ext cx="2212920" cy="2816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C:\Users\Александр\Desktop\загруженное (8).jpg"/>
          <p:cNvPicPr/>
          <p:nvPr/>
        </p:nvPicPr>
        <p:blipFill>
          <a:blip r:embed="rId5"/>
          <a:stretch/>
        </p:blipFill>
        <p:spPr>
          <a:xfrm>
            <a:off x="4522680" y="3938760"/>
            <a:ext cx="3005280" cy="221292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6"/>
          <a:stretch/>
        </p:blipFill>
        <p:spPr>
          <a:xfrm>
            <a:off x="4788000" y="4149720"/>
            <a:ext cx="2519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4T10:44:15Z</dcterms:created>
  <dc:creator>Александр</dc:creator>
  <dc:description/>
  <dc:language>en-US</dc:language>
  <cp:lastModifiedBy>user</cp:lastModifiedBy>
  <dcterms:modified xsi:type="dcterms:W3CDTF">2015-10-18T13:12:49Z</dcterms:modified>
  <cp:revision>50</cp:revision>
  <dc:subject/>
  <dc:title>Презентация PowerPoint</dc:title>
</cp:coreProperties>
</file>