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EDA-F730-450D-8BAB-2074261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EA0-B9E3-4EB4-A2E9-B96B9A20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BAF-DDA7-40F0-9E55-9EF1E622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A05-8CB4-4449-BC9F-251D37A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745C-AC05-4875-9B75-7BDED0A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173F-0822-4592-B9B6-F2EDC191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E348-9E57-4836-A955-E85217ED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ABC3-59B3-4D5D-93FB-A5178BD5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BAF-09F4-4F21-8147-808DC44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C67A-F354-4E12-9EDB-76A86A4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A34-BF68-45C3-B915-386FFEA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7CC-D9DA-4DE0-A3DE-C5F47CCC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14C-091B-42CB-AF7F-6838ADC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E75-FB45-4B1F-97BB-C59339A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E135-C74B-414C-8E43-5E5ED919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6D71-2F62-4CBD-95AA-FD2D744C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2D9-7E95-4D38-AEC6-33A509E1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528-78D6-4DA3-9E5F-5F06D2F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6EF-2232-4A91-82BD-7325DAF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9EE-ED3F-400E-9B02-F34129F1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071-60E2-46FE-B3F7-E37298D8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BA9-48F6-4FAA-81B3-B3B1CD3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F92-6177-4B0B-BE88-3B1024D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27D-C6C7-4A97-8C5F-CEAC203B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430-E8E9-4BFE-BD22-4F66DBA1C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253-3710-42C7-A3F2-A65A87228D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ворческий отчет по теме: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16640" y="1877400"/>
            <a:ext cx="737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«Игра и сказка  как мето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экологического воспит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дошкольников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19640" y="4724280"/>
            <a:ext cx="48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МДОУ «Детский сад комбинированного вида   № 37» г. Кызыл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Куулар Чодура Сарыг- оо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5"/>
          <p:cNvSpPr/>
          <p:nvPr/>
        </p:nvSpPr>
        <p:spPr>
          <a:xfrm>
            <a:off x="3708360" y="2637000"/>
            <a:ext cx="194328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851280" y="2781360"/>
            <a:ext cx="1584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едметно-развивающая экологическая сред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уголок природ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rot="8930400">
            <a:off x="1978920" y="76464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492360" y="4508640"/>
            <a:ext cx="2376720" cy="1800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 rot="14148600">
            <a:off x="5004360" y="97992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17854200">
            <a:off x="5652360" y="306900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 rot="4447800">
            <a:off x="970200" y="292464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 rot="18720600">
            <a:off x="1413720" y="3706920"/>
            <a:ext cx="10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ини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 rot="19193400">
            <a:off x="2411280" y="112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лл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е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659640" y="205092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 rot="3810000">
            <a:off x="5828760" y="13078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кологи-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 rot="17763000">
            <a:off x="6291000" y="3583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ини-лабора-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211640" y="5084640"/>
            <a:ext cx="12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грушки-аналоги, муляжи овощей и фру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3588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бота с детьми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3419640" y="2924280"/>
            <a:ext cx="2447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33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9640" y="1268280"/>
            <a:ext cx="295272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148360" y="1268280"/>
            <a:ext cx="295272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95280" y="450864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458136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372360" y="458136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84360" y="1484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тератур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онаж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364000" y="1557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 ти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3964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южет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л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92436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ы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659640" y="5084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659640" y="486900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игрушкам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ог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H="1" flipV="1">
            <a:off x="2410920" y="2636640"/>
            <a:ext cx="10810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5580000" y="2637000"/>
            <a:ext cx="1224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1763280" y="4005360"/>
            <a:ext cx="208764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471636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5508720" y="4005360"/>
            <a:ext cx="2016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Экологические иг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ы с правилам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«Кто потерялся?», «Узнай по вкусу», «Чудесный мешочек», «Две корзины», «Что будет, если?», «Птицы, рыбы, звери», «Цепочка», «Воздух, земля, вода», «Летает, плавает, бегает»,«Угадай правило»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южетно-ролевые игр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«Больница для животных», «Магазин «Фрукты и овощи»», «Лесная аптека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-«путешествия»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Поездка в зоопарк», «Прогулка в лес», «Посещение выставки картин о природе», «Поездка в деревню к бабушке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 с игрушками-аналогами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ыбки живые и игрушечные»,  «Живая кошка и игрушечный котёнок», «Игрушечный зайчик хочет узнать о жизни зайцев в лесу», «Грибы-красавцы лесные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 с литературными персонажам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Карлсон выращивает овёс на крыше», «Карлсон выращивает  зелёный лук»,  «Айболит осматривает комнатные растения», «Колобок отправляется в лес», «Чиполлино учит детей выращивать картофель»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35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абота с родителями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к оформлению развивающей          среды 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ьские  собрания в форме развлечения,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о–родительские выставки рисун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родителей к участию в экологических выстав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ие в утренни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, консуль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довые консуль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ценка результатов исследования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809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диагностики уровня сформированности экологических ЗУН я использовала метод индивидуальной беседы, включающий в себя три части (по С.Н.Николаевой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рвой выявляются представления ребёнка о существенных признаках живого и целостности как важнейшем условии жизни организма.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второй акцент делается на изучение представлений о свойствах целостного живого организма: его потребностях в условиях среды, состоянии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ретьей - выявляются представления о приспособлении живых существ к различным средам об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итоге  для составления диагностической таблицы мною были выделены следующие критер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сезонных измен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домашних живот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диких живот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деревьев и кустар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знания об особенностях родного кра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об овощах и фрукт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умение называть предметы окружения, их назначения и свой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бережное отношение к природ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навыки ухода за растениями и животны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о правилах поведения в природ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е экологических иг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826920" y="836640"/>
          <a:ext cx="7561440" cy="533700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09 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09 (середина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формирова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 дете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экологических ЗУ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формирова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экологических  ЗУ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ами педагогической деятельности по экологическому воспитанию дошкольников считаю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мои воспитанники научил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нимать свою роль в окружающем ми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сознавать последствия своих действий во взаимоотношении с прир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меют представления о законах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нают экологические особенности родного к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нают множество разнообразных экологических игр, самостоятельно могут их организовы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ти приобрели навыки бережного и внимательного отношения к объектам растительного и животного мира, в том числе и навыки по уходу за н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жду детьми укрепились дружеские взаимоотношения, дети научились работать совместно, стали более доброжелатель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аким образом, по результатам диагностики видно, что   развитие  экологическом  воспитания через основы краеведения у детей дошкольного возраста способствует более эффективному усвоению детьми экологических 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ктуальность тем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блем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трение экологической проблемы в стране и в мире диктует необходимость интенсивной просветительской работы по формированию у детей экологического сознания, культуры природополь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ши дети экологически не воспитаны, т. е. не у всех проявляется доброжелательное отношение к живым существам, объектам природы, не у всех достаточен запас знаний об окружающей нас природе, они потребительски относятся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507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учно-методические обоснования актуальности тем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ff66"/>
                </a:solidFill>
                <a:uFillTx/>
                <a:latin typeface="Arial"/>
              </a:rPr>
              <a:t>Первый асп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детство – начальный этап формирования личности человека, его ценностной ориентации в окружающем мире. В этот период закладываются позитивное отношение к природе, к «рукотворному миру», к себе и к окружающим людям. Очень важно уже в раннем детстве сформировать у ребёнка щадящее, оберегающее и ответственное отношение к объектам живой и неживой прир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аучно-методические обоснования актуальности темы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708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ff66"/>
                </a:solidFill>
                <a:uFillTx/>
                <a:latin typeface="Arial"/>
              </a:rPr>
              <a:t>Второй асп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 актуальным и эффективным методом в экологическом воспитании детей для периода дошкольного детства является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игра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ак как  в жизни детей дошкольного возраста игра является ведущей деятельность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а – это прежде всего эмоциональная деятельность: играющий ребенок находится в хорошем расположении духа, активен и доброжелател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ё, что нравится детям, все, что их впечатлило, преобразуется в практику сюжетной или какой-либо другой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, если дошкольники организовали игру на природоведческий сюжет (зоопарк, ферма, цирк и пр.), это означает, что полученные представления оказались яркими, запомнились, вызвали эмоциональный отк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«Экологические знания, вызывающие эмоциональную реакцию у детей, войдут в их самостоятельную игру, станут ее содержанием, лучше, чем знания, воздействие которых затрагивает лишь интеллектуальную сфер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cc"/>
                </a:solidFill>
                <a:latin typeface="Arial"/>
              </a:rPr>
              <a:t>С. Н.Никола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Научно-методическая литератур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. Методика экологического воспитания дошколь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.  Юный эколог – программа и условия её реализации в детском са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 Воспитание экологической культуры в дошкольном дет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В.В. РыньковаТ. В. Юдина. Азбука экологического воспитания.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В. В. Смирнова. Н. И. Балуева . Тропинка в природу.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А. И. Иванова Экологические наблюдения и эксперименты в детском саду.   Мир расте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480" y="260280"/>
            <a:ext cx="9083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Гипотеза педагогического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Используя игру как основной метод экологического воспитания дошкольников, я  буду содействовать  в более успешном овладении ими знаниями, накоплению у них эмоционально–позитивного опыта общения  с природой, воспитанию бережного отношения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Объект исследования: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формирования экологических знаний, умений и навыков у детей дошкольного возра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редмет исследования: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игры как основного метода формирования экологических ЗУН дошкольни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 исслед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казать, что метод игры является наиболее эффективным в экологическом воспитании дошкольни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методики С. Н. Николаевой «Игра как метод экологического воспит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бор и систематизация экологически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е перспективного планирования работы по экологическому воспитанию детей 2-7 лет с использованием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азвивающей среды (приобретение и изготовление необходимых для работы с детьми экологических игр, игрушек, муляжей, фруктов, овощей и наглядного материала; оформление уголка прир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разнообразных экологических игр в работе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динамики уровня сформированности экологических ЗУ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826920" y="549360"/>
            <a:ext cx="7777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620640"/>
            <a:ext cx="7272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равления 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рамках методической 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79280" y="2133720"/>
            <a:ext cx="374508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916360" y="3429000"/>
            <a:ext cx="37447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5003640" y="4941720"/>
            <a:ext cx="374508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556000" y="1557360"/>
            <a:ext cx="19447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500720" y="1557360"/>
            <a:ext cx="43164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4500720" y="1557360"/>
            <a:ext cx="3095640" cy="33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68360" y="24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. Создание развивающей экологическо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276720" y="3933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 Работ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435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. Работ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2:45:47Z</dcterms:created>
  <dc:creator>User</dc:creator>
  <dc:description/>
  <dc:language>en-US</dc:language>
  <cp:lastModifiedBy>XP</cp:lastModifiedBy>
  <dcterms:modified xsi:type="dcterms:W3CDTF">2010-12-08T04:40:39Z</dcterms:modified>
  <cp:revision>12</cp:revision>
  <dc:subject/>
  <dc:title>Творческий отчет по теме: </dc:title>
</cp:coreProperties>
</file>