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F14-46E3-4243-8113-A250839C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773-2772-4A69-9139-1371F48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3EF-FFBB-4537-9C08-1F0AB4DF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779-7DA0-4F97-8C98-03A84787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CF9-E795-47FC-A19C-D031D27F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1502-2A80-4B1A-A78F-A4358A4D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F0BF-8742-4E56-99C3-54449C6A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0615-4028-4DC1-BDA2-D57A4310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DF2-45E9-4AC0-A2B2-5BE5B5F9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BEC5-292D-4181-AA16-1FF0C7ED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4A0B-592C-48A5-A4A7-32C24695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C6A-40FC-4695-AA6F-3E85E21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23C7-0D31-45C9-8A36-8E892A4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6285-78FF-4326-81EF-E56D0B36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4695-BC72-4C2F-A6C0-C46A9796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CF4F-B293-4F02-8490-280485E6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C931-B6E6-42A5-A459-F1A3D770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4B2-9432-49E2-A7A8-E8507FE1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748-916E-4DDD-BB6E-2946B14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9D0-0FBB-436F-A38F-15D177D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3BD-2E4E-46DF-8DAD-A98C8710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5BB-ECB9-4C91-9549-2CD6236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9C8-FF86-401D-9703-306CAB18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B64-7E60-4E02-B7FB-FA123E48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16A9-297B-4ACE-883A-748B074620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4434-E0FD-4CEB-A0AD-F6C30B76A6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Творческий отчет по теме: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16640" y="1877400"/>
            <a:ext cx="737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"/>
              </a:rPr>
              <a:t>«Игра и сказка  как метод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"/>
              </a:rPr>
              <a:t>экологического воспита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Arial"/>
              </a:rPr>
              <a:t>дошкольников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419640" y="4724280"/>
            <a:ext cx="4895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Arial"/>
              </a:rPr>
              <a:t>Воспита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Arial"/>
              </a:rPr>
              <a:t>МДОУ «Детский сад комбинированного вида   № 37» г. Кызыл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Куулар Чодура Сарыг- оо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5"/>
          <p:cNvSpPr/>
          <p:nvPr/>
        </p:nvSpPr>
        <p:spPr>
          <a:xfrm>
            <a:off x="3708360" y="2637000"/>
            <a:ext cx="194328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851280" y="2781360"/>
            <a:ext cx="1584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едметно-развивающая экологическая сред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(уголок природы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 rot="8930400">
            <a:off x="1978920" y="764640"/>
            <a:ext cx="2376360" cy="180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492360" y="4508640"/>
            <a:ext cx="2376720" cy="18000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 rot="14148600">
            <a:off x="5004360" y="979920"/>
            <a:ext cx="2376360" cy="180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 rot="17854200">
            <a:off x="5652360" y="3069000"/>
            <a:ext cx="2376360" cy="180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 rot="4447800">
            <a:off x="970200" y="2924640"/>
            <a:ext cx="2376360" cy="180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 rot="18720600">
            <a:off x="1413720" y="3706920"/>
            <a:ext cx="10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ини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 rot="19193400">
            <a:off x="2411280" y="112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лл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ем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659640" y="205092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 rot="3810000">
            <a:off x="5828760" y="13078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кологи-ческие иг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 rot="17763000">
            <a:off x="6291000" y="3583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ини-лабора-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211640" y="5084640"/>
            <a:ext cx="12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грушки-аналоги, муляжи овощей и фру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3588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бота с детьми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3419640" y="2924280"/>
            <a:ext cx="24476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335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39640" y="1268280"/>
            <a:ext cx="2952720" cy="1368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148360" y="1268280"/>
            <a:ext cx="2952720" cy="1368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95280" y="4508640"/>
            <a:ext cx="223200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4581360"/>
            <a:ext cx="223200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6372360" y="4581360"/>
            <a:ext cx="223200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684360" y="1484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С-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тератур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сонаж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364000" y="1557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С- ти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еше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39640" y="501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южет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ле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3924360" y="4941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ы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659640" y="5084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659640" y="486900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игрушкам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ог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H="1" flipV="1">
            <a:off x="2410920" y="2636640"/>
            <a:ext cx="10810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5580000" y="2637000"/>
            <a:ext cx="122400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 flipH="1">
            <a:off x="1763280" y="4005360"/>
            <a:ext cx="208764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4716360" y="414972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5508720" y="4005360"/>
            <a:ext cx="2016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Экологические игр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Игры с правилами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«Кто потерялся?», «Узнай по вкусу», «Чудесный мешочек», «Две корзины», «Что будет, если?», «Птицы, рыбы, звери», «Цепочка», «Воздух, земля, вода», «Летает, плавает, бегает»,«Угадай правило»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южетно-ролевые игры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«Больница для животных», «Магазин «Фрукты и овощи»», «Лесная аптека» и 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Игровые обучающие ситуации-«путешествия»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Поездка в зоопарк», «Прогулка в лес», «Посещение выставки картин о природе», «Поездка в деревню к бабушке» и 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Игровые обучающие ситуации с игрушками-аналогами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ыбки живые и игрушечные»,  «Живая кошка и игрушечный котёнок», «Игрушечный зайчик хочет узнать о жизни зайцев в лесу», «Грибы-красавцы лесные» и 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Игровые обучающие ситуации с литературными персонажами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Карлсон выращивает овёс на крыше», «Карлсон выращивает  зелёный лук»,  «Айболит осматривает комнатные растения», «Колобок отправляется в лес», «Чиполлино учит детей выращивать картофель»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435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абота с родителями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к оформлению развивающей          среды 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тельские  собрания в форме развлечения,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о–родительские выставки рисун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родителей к участию в экологических выстав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ие в утренни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дивидуальные беседы, консуль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довые консуль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Оценка результатов исследования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80928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диагностики уровня сформированности экологических ЗУН я использовала метод индивидуальной беседы, включающий в себя три части (по С.Н.Николаевой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ервой выявляются представления ребёнка о существенных признаках живого и целостности как важнейшем условии жизни организма.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второй акцент делается на изучение представлений о свойствах целостного живого организма: его потребностях в условиях среды, состоянии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третьей - выявляются представления о приспособлении живых существ к различным средам обит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итоге  для составления диагностической таблицы мною были выделены следующие критер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едставления о сезонных измен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едставления о домашних животны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едставления о диких животны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знания деревьев и кустар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знания об особенностях родного кра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знания об овощах и фрукта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умение называть предметы окружения, их назначения и свойст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бережное отношение к природ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навыки ухода за растениями и животны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знания о правилах поведения в природ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знание экологических иг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826920" y="836640"/>
          <a:ext cx="7561440" cy="533700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09 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09 (середина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формирова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 дете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экологических ЗУ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формирова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экологических  ЗУ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ами педагогической деятельности по экологическому воспитанию дошкольников считаю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мои воспитанники научил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нимать свою роль в окружающем ми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сознавать последствия своих действий во взаимоотношении с прир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меют представления о законах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нают экологические особенности родного кр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нают множество разнообразных экологических игр, самостоятельно могут их организовы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ти приобрели навыки бережного и внимательного отношения к объектам растительного и животного мира, в том числе и навыки по уходу за н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 детей сформирована произвольная регуляция поведения через выработку умения соблюдать правила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жду детьми укрепились дружеские взаимоотношения, дети научились работать совместно, стали более доброжелатель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аким образом, по результатам диагностики видно, что   развитие  экологическом  воспитания через основы краеведения у детей дошкольного возраста способствует более эффективному усвоению детьми экологических 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ктуальность тем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блем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стрение экологической проблемы в стране и в мире диктует необходимость интенсивной просветительской работы по формированию у детей экологического сознания, культуры природополь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ши дети экологически не воспитаны, т. е. не у всех проявляется доброжелательное отношение к живым существам, объектам природы, не у всех достаточен запас знаний об окружающей нас природе, они потребительски относятся к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507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учно-методические обоснования актуальности тем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ff66"/>
                </a:solidFill>
                <a:uFillTx/>
                <a:latin typeface="Arial"/>
              </a:rPr>
              <a:t>Первый асп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ое детство – начальный этап формирования личности человека, его ценностной ориентации в окружающем мире. В этот период закладываются позитивное отношение к природе, к «рукотворному миру», к себе и к окружающим людям. Очень важно уже в раннем детстве сформировать у ребёнка щадящее, оберегающее и ответственное отношение к объектам живой и неживой прир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915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Научно-методические обоснования актуальности темы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5708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ff66"/>
                </a:solidFill>
                <a:uFillTx/>
                <a:latin typeface="Arial"/>
              </a:rPr>
              <a:t>Второй асп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 актуальным и эффективным методом в экологическом воспитании детей для периода дошкольного детства является 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игра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ак как  в жизни детей дошкольного возраста игра является ведущей деятельностью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а – это прежде всего эмоциональная деятельность: играющий ребенок находится в хорошем расположении духа, активен и доброжелател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ё, что нравится детям, все, что их впечатлило, преобразуется в практику сюжетной или какой-либо другой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этому, если дошкольники организовали игру на природоведческий сюжет (зоопарк, ферма, цирк и пр.), это означает, что полученные представления оказались яркими, запомнились, вызвали эмоциональный отк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"/>
              </a:rPr>
              <a:t>«Экологические знания, вызывающие эмоциональную реакцию у детей, войдут в их самостоятельную игру, станут ее содержанием, лучше, чем знания, воздействие которых затрагивает лишь интеллектуальную сферу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66cc"/>
                </a:solidFill>
                <a:latin typeface="Arial"/>
              </a:rPr>
              <a:t>С. Н.Никола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Научно-методическая литератур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С. Н. Николаева. Методика экологического воспитания дошколь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С. Н. Николаева.  Юный эколог – программа и условия её реализации в детском са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С. Н. Николаева Воспитание экологической культуры в дошкольном дет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В.В. РыньковаТ. В. Юдина. Азбука экологического воспитания.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В. В. Смирнова. Н. И. Балуева . Тропинка в природу.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А. И. Иванова Экологические наблюдения и эксперименты в детском саду.   Мир растени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480" y="260280"/>
            <a:ext cx="90835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Гипотеза педагогического исследовани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Используя игру как основной метод экологического воспитания дошкольников, я  буду содействовать  в более успешном овладении ими знаниями, накоплению у них эмоционально–позитивного опыта общения  с природой, воспитанию бережного отношения к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Объект исследования: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сс формирования экологических знаний, умений и навыков у детей дошкольного возрас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Предмет исследования: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игры как основного метода формирования экологических ЗУН дошкольни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ь исследов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казать, что метод игры является наиболее эффективным в экологическом воспитании дошкольни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ение методики С. Н. Николаевой «Игра как метод экологического воспита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бор и систематизация экологических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е перспективного планирования работы по экологическому воспитанию детей 2-7 лет с использованием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азвивающей среды (приобретение и изготовление необходимых для работы с детьми экологических игр, игрушек, муляжей, фруктов, овощей и наглядного материала; оформление уголка природ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разнообразных экологических игр в работе с дет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 динамики уровня сформированности экологических ЗУ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826920" y="549360"/>
            <a:ext cx="77774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71640" y="620640"/>
            <a:ext cx="7272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равления 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рамках методической т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79280" y="2133720"/>
            <a:ext cx="374508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916360" y="3429000"/>
            <a:ext cx="374472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5003640" y="4941720"/>
            <a:ext cx="374508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2556000" y="1557360"/>
            <a:ext cx="194472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500720" y="1557360"/>
            <a:ext cx="43164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4500720" y="1557360"/>
            <a:ext cx="3095640" cy="33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68360" y="2492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. Создание развивающей экологической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276720" y="3933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. Работа с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435640" y="54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. Работ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2:45:47Z</dcterms:created>
  <dc:creator>User</dc:creator>
  <dc:description/>
  <dc:language>en-US</dc:language>
  <cp:lastModifiedBy>XP</cp:lastModifiedBy>
  <dcterms:modified xsi:type="dcterms:W3CDTF">2010-12-08T04:40:39Z</dcterms:modified>
  <cp:revision>12</cp:revision>
  <dc:subject/>
  <dc:title>Творческий отчет по теме: </dc:title>
</cp:coreProperties>
</file>