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9.wmf" ContentType="image/x-wmf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3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9E1-5858-4C4F-A98B-A20DB29B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466-AA78-48A4-BC0E-75424F6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FF9-D80E-494B-9E5D-05C2FAF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A53-E485-4C05-AFB1-E66D96F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4E6E-605B-4C47-8267-74A8E8B2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BB5C-7C7E-4B1B-9D90-B0DBF09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C9DD-439D-4E0B-98C5-27649065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DBCF-6597-48C6-BCA1-8040DA62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9C6B-7FE8-4ECD-ABEB-F77BDE8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56E5-C1B7-4BA1-AFFE-B0140FFD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5FA-D7E7-4788-A1FA-CBB1BBD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C2A-9823-4856-941A-5C9F52B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95AB-08A0-4327-B4AD-7330A60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73F-EF1A-4D71-B77D-915CD1E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471-A71D-4E4F-A563-CF108FC2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03C4-C708-4749-BB74-FABD85F6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A09-E373-4717-ADE2-6E98054A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F7EC-7EA3-497C-BADC-B3BA161E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B582-5A9F-4304-B5BB-1F0DDE2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C923-C2AB-4751-A9B6-DDEA1E9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D33F-11A3-43DA-B5A1-906DF73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0E2A-C110-41CA-8CEC-C241283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3CD-3456-4AB2-AF7E-42468DD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669C-08BF-487A-84B8-C6677F3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A428-E5A5-4885-8CCB-F1621DF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1000-C1E3-4153-8167-CBD25CA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FB03-69C0-4452-A32A-F135254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776D-BE10-4B22-95B5-D48BFD0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CE78-4B2D-4F16-AE41-2AA46E49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F031-6A73-4D1F-BD80-293EC46A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D37D-E9AD-4DDC-8981-CF98EAD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6B67-4B75-4464-870D-7EB0972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B616-13CB-446E-A483-04E57D74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68F-A797-46AF-A506-D17DFB7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7AE3-4EF2-44A5-A890-81EE868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05FB-5389-4270-BA8B-9F5EF5CB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22E1-4E56-4A8A-B5C7-EF806FF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A9BF-7F9C-4FD4-AC2C-7E209B0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0802-B2BF-4FB5-90A2-6A847CE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EA25-FB4E-4D38-A91B-7DB1855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2070-931F-4843-A9DE-D97DD8EC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35D1-D438-4BB7-A932-DF69CB21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C4D1-5EC6-4351-ADB1-408FD298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A7DB-E3FC-41B7-AF19-38DAC9A0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13A-D6B2-400B-82E9-1A9A98C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7DB0-1BB9-4C44-8681-F09EE7A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F3A83-A49E-4D51-A94A-C778D73B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2467-D9E6-4A98-903D-045DEF9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3641-2568-4D5F-880E-DC69154A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AE74-ABC4-4882-9184-0BFD52F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22A1C-71EC-4424-9268-0AF0982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8901-44D8-4D22-A5BB-D70412A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9FB51-40BF-48C2-82E0-6BE8ED2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94AD-FBD6-4CE1-99F0-377308DD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9D44-7CBC-4470-995C-5DE1EFCA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CF1-EF03-4C72-A884-583F68B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4005-30F6-4A10-BAE3-B2CE7C5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4E2F-7BA0-4FBF-BDE5-E4B3FD7D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97EB-F568-444B-BAFE-5258EC9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1647-E708-485A-B8BF-B2C70E9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FD15-64AE-48C0-B47B-948729D9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73D24-7B8D-4836-B3A2-81F7A5D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D42D-B68D-4B2E-BE3B-81D8379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E529-CC0E-4D2E-BC52-75A3017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ADEB0-B0A9-40C2-A617-28D7F50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8D98-D281-4B89-8D16-566873B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123-BA08-447F-B7A4-1621560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1C05-AD6A-4EF1-9E14-3E98DFD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E20B-C6F1-44FC-9F38-18134C5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372A-0286-48A8-B3A9-DBFA878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D7C-1E48-4B0D-8D88-967351A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55-2527-4C50-99B6-142CC16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782-7799-4E6A-847B-BF4464A72B2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2975-D3F7-4C3F-8E02-313CA7B65AC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ACAB-38F4-4848-955D-DE3EE216B51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88AB-2ED2-4995-BA7C-857327C605C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861-6EE9-4BC3-8FF7-134890B4D74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675-3743-401D-ADD6-69E631A4F46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826920" y="260280"/>
            <a:ext cx="749016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b3b3b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лимпийские игры древности</a:t>
            </a:r>
            <a:endParaRPr b="1" lang="en-US" sz="1800" spc="1" strike="noStrike">
              <a:ln w="25560">
                <a:solidFill>
                  <a:srgbClr val="3b3b3b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971640" y="2708280"/>
            <a:ext cx="2087640" cy="1944720"/>
          </a:xfrm>
          <a:prstGeom prst="ellipse">
            <a:avLst/>
          </a:prstGeom>
          <a:noFill/>
          <a:ln w="190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3419640" y="2708280"/>
            <a:ext cx="2087280" cy="1944720"/>
          </a:xfrm>
          <a:prstGeom prst="ellipse">
            <a:avLst/>
          </a:prstGeom>
          <a:noFill/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2195640" y="3933720"/>
            <a:ext cx="2087280" cy="1944720"/>
          </a:xfrm>
          <a:prstGeom prst="ellipse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5796000" y="2781360"/>
            <a:ext cx="2087640" cy="1944720"/>
          </a:xfrm>
          <a:prstGeom prst="ellipse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572000" y="4005360"/>
            <a:ext cx="2087640" cy="1944720"/>
          </a:xfrm>
          <a:prstGeom prst="ellipse">
            <a:avLst/>
          </a:prstGeom>
          <a:noFill/>
          <a:ln w="190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Гонки на колесница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Состязание колесниц"/>
          <p:cNvPicPr/>
          <p:nvPr/>
        </p:nvPicPr>
        <p:blipFill>
          <a:blip r:embed="rId1"/>
          <a:stretch/>
        </p:blipFill>
        <p:spPr>
          <a:xfrm>
            <a:off x="611280" y="1628640"/>
            <a:ext cx="72486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Церемония награжд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Picture 9" descr="Победитель получает головную повязку"/>
          <p:cNvPicPr/>
          <p:nvPr/>
        </p:nvPicPr>
        <p:blipFill>
          <a:blip r:embed="rId1"/>
          <a:stretch/>
        </p:blipFill>
        <p:spPr>
          <a:xfrm>
            <a:off x="6156360" y="1700280"/>
            <a:ext cx="2098800" cy="2104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2"/>
          <p:cNvPicPr/>
          <p:nvPr/>
        </p:nvPicPr>
        <p:blipFill>
          <a:blip r:embed="rId2"/>
          <a:stretch/>
        </p:blipFill>
        <p:spPr>
          <a:xfrm>
            <a:off x="5724360" y="4076640"/>
            <a:ext cx="2498760" cy="249876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395280" y="2276640"/>
            <a:ext cx="431964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ручение наградных вен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вая медаль возрождённых Олимпийских и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Император Греции Феодосий </a:t>
            </a:r>
            <a:r>
              <a:rPr b="0" lang="en-US" sz="3200" spc="-1" strike="noStrike">
                <a:solidFill>
                  <a:srgbClr val="000099"/>
                </a:solidFill>
                <a:latin typeface="Franklin Gothic Book"/>
              </a:rPr>
              <a:t>I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запретил проведение Олимпийских игр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в древней Греции в 394году н.э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12" descr="царь Пирр"/>
          <p:cNvPicPr/>
          <p:nvPr/>
        </p:nvPicPr>
        <p:blipFill>
          <a:blip r:embed="rId1"/>
          <a:stretch/>
        </p:blipFill>
        <p:spPr>
          <a:xfrm>
            <a:off x="539640" y="2421000"/>
            <a:ext cx="30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Возрождение Олимпийских игр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Picture 7" descr="Пьер де Кубертен"/>
          <p:cNvPicPr/>
          <p:nvPr/>
        </p:nvPicPr>
        <p:blipFill>
          <a:blip r:embed="rId1"/>
          <a:stretch/>
        </p:blipFill>
        <p:spPr>
          <a:xfrm>
            <a:off x="4500720" y="1413000"/>
            <a:ext cx="3632040" cy="4680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395280" y="1413000"/>
            <a:ext cx="37450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1894 году выдающийся французский просветитель, б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ьер де Кубертен выступил с предложением возродить Олимпийски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гимнаст"/>
          <p:cNvPicPr/>
          <p:nvPr/>
        </p:nvPicPr>
        <p:blipFill>
          <a:blip r:embed="rId1"/>
          <a:stretch/>
        </p:blipFill>
        <p:spPr>
          <a:xfrm>
            <a:off x="539640" y="404640"/>
            <a:ext cx="1290600" cy="1944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борьба3"/>
          <p:cNvPicPr/>
          <p:nvPr/>
        </p:nvPicPr>
        <p:blipFill>
          <a:blip r:embed="rId2"/>
          <a:stretch/>
        </p:blipFill>
        <p:spPr>
          <a:xfrm>
            <a:off x="7020000" y="2781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коллаж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гимнаст2"/>
          <p:cNvPicPr/>
          <p:nvPr/>
        </p:nvPicPr>
        <p:blipFill>
          <a:blip r:embed="rId4"/>
          <a:stretch/>
        </p:blipFill>
        <p:spPr>
          <a:xfrm>
            <a:off x="687708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медали"/>
          <p:cNvPicPr/>
          <p:nvPr/>
        </p:nvPicPr>
        <p:blipFill>
          <a:blip r:embed="rId5"/>
          <a:stretch/>
        </p:blipFill>
        <p:spPr>
          <a:xfrm>
            <a:off x="3564000" y="189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лошадь"/>
          <p:cNvPicPr/>
          <p:nvPr/>
        </p:nvPicPr>
        <p:blipFill>
          <a:blip r:embed="rId6"/>
          <a:stretch/>
        </p:blipFill>
        <p:spPr>
          <a:xfrm>
            <a:off x="250920" y="2708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флаг"/>
          <p:cNvPicPr/>
          <p:nvPr/>
        </p:nvPicPr>
        <p:blipFill>
          <a:blip r:embed="rId7"/>
          <a:stretch/>
        </p:blipFill>
        <p:spPr>
          <a:xfrm>
            <a:off x="2700360" y="1700280"/>
            <a:ext cx="38163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4"/>
          <p:cNvSpPr txBox="1"/>
          <p:nvPr/>
        </p:nvSpPr>
        <p:spPr>
          <a:xfrm>
            <a:off x="1476360" y="2349360"/>
            <a:ext cx="6840720" cy="22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1. Древние Олимпийские игры праздновались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в Олимп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в Афин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в Марафо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MCj02861240000[1]"/>
          <p:cNvPicPr/>
          <p:nvPr/>
        </p:nvPicPr>
        <p:blipFill>
          <a:blip r:embed="rId1"/>
          <a:stretch/>
        </p:blipFill>
        <p:spPr>
          <a:xfrm>
            <a:off x="5724360" y="3141720"/>
            <a:ext cx="25196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2.Первые достоверно известные Олимпийские игры состоялись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в 700 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в 725 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в 776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MCj02903340000[1]"/>
          <p:cNvPicPr/>
          <p:nvPr/>
        </p:nvPicPr>
        <p:blipFill>
          <a:blip r:embed="rId1"/>
          <a:stretch/>
        </p:blipFill>
        <p:spPr>
          <a:xfrm>
            <a:off x="5148360" y="2492280"/>
            <a:ext cx="2647800" cy="35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3. Победителем первых Олимпийских игр древности был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Пелопе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Энома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Короибо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MCj01990820000[1]"/>
          <p:cNvPicPr/>
          <p:nvPr/>
        </p:nvPicPr>
        <p:blipFill>
          <a:blip r:embed="rId1"/>
          <a:stretch/>
        </p:blipFill>
        <p:spPr>
          <a:xfrm>
            <a:off x="5796000" y="3141720"/>
            <a:ext cx="2521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4. Олимпийцами на древних играх могли стать только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Свободные мужчины, не раб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Свободные мужчины, греки по национа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Мужчины любой национа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j0299763"/>
          <p:cNvPicPr/>
          <p:nvPr/>
        </p:nvPicPr>
        <p:blipFill>
          <a:blip r:embed="rId1"/>
          <a:stretch/>
        </p:blipFill>
        <p:spPr>
          <a:xfrm>
            <a:off x="5651640" y="4292640"/>
            <a:ext cx="269244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4211640" y="21337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А именно почитаемое греками святилище Олимпия, расположенное в западной части Пелопонесского полуостр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0670792"/>
          <p:cNvPicPr/>
          <p:nvPr/>
        </p:nvPicPr>
        <p:blipFill>
          <a:blip r:embed="rId1"/>
          <a:stretch/>
        </p:blipFill>
        <p:spPr>
          <a:xfrm>
            <a:off x="539640" y="2133720"/>
            <a:ext cx="352764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62" name="WordArt 7"/>
          <p:cNvGrpSpPr/>
          <p:nvPr/>
        </p:nvGrpSpPr>
        <p:grpSpPr>
          <a:xfrm>
            <a:off x="390600" y="396720"/>
            <a:ext cx="8289720" cy="1382760"/>
            <a:chOff x="390600" y="396720"/>
            <a:chExt cx="8289720" cy="1382760"/>
          </a:xfrm>
        </p:grpSpPr>
        <p:pic>
          <p:nvPicPr>
            <p:cNvPr id="263" name="WordArt 7" descr=""/>
            <p:cNvPicPr/>
            <p:nvPr/>
          </p:nvPicPr>
          <p:blipFill>
            <a:blip r:embed="rId2"/>
            <a:stretch/>
          </p:blipFill>
          <p:spPr>
            <a:xfrm>
              <a:off x="390600" y="396720"/>
              <a:ext cx="8289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5280" y="404640"/>
              <a:ext cx="828036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Palatino Linotype"/>
                </a:rPr>
                <a:t>Родиной Олимпийских игр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Palatino Linotype"/>
                </a:rPr>
                <a:t>является Древняя Грец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Text Box 8"/>
          <p:cNvSpPr/>
          <p:nvPr/>
        </p:nvSpPr>
        <p:spPr>
          <a:xfrm>
            <a:off x="468360" y="4653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Здесь, у подножья горы Кронос, в долине реки Алфей, до сих пор зажигается олимпийский огонь современных Игр . Отсюда начинается факельная эстафета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5. Олимпионики – это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Зрите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Жители Олимп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Победители иг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MCj02056300000[1]"/>
          <p:cNvPicPr/>
          <p:nvPr/>
        </p:nvPicPr>
        <p:blipFill>
          <a:blip r:embed="rId1"/>
          <a:stretch/>
        </p:blipFill>
        <p:spPr>
          <a:xfrm>
            <a:off x="5508720" y="3141720"/>
            <a:ext cx="237636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Book"/>
              </a:rPr>
              <a:t>5.Одна из наиболее распространённых мер длины в Древней Греции – стадий (отсюда возникло слово стадион). В современном исчислении это: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204м10с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190м5с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192м27с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MCPE01802_0000[1]"/>
          <p:cNvPicPr/>
          <p:nvPr/>
        </p:nvPicPr>
        <p:blipFill>
          <a:blip r:embed="rId1"/>
          <a:stretch/>
        </p:blipFill>
        <p:spPr>
          <a:xfrm>
            <a:off x="3492360" y="4076640"/>
            <a:ext cx="532764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6.О некультурном человеке древние эллины говорили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«не умеет ни читать, ни плавать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«ленится заниматься физическими     упражнениями хотя бы для себ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«не умеет хорошо воевать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j0301480"/>
          <p:cNvPicPr/>
          <p:nvPr/>
        </p:nvPicPr>
        <p:blipFill>
          <a:blip r:embed="rId1"/>
          <a:stretch/>
        </p:blipFill>
        <p:spPr>
          <a:xfrm>
            <a:off x="5003640" y="4076640"/>
            <a:ext cx="2664000" cy="22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7. Когда и кто запретил древние Олимпийские соревнования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Неррон в 200 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Феодосий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в 401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Феодосий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в 394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MCj02225900000[1]"/>
          <p:cNvPicPr/>
          <p:nvPr/>
        </p:nvPicPr>
        <p:blipFill>
          <a:blip r:embed="rId1"/>
          <a:stretch/>
        </p:blipFill>
        <p:spPr>
          <a:xfrm>
            <a:off x="5148360" y="3716280"/>
            <a:ext cx="2592360" cy="25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8.Кто был первым инициатором возрождения первых Олимпийских игр современности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П. де Куберт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А. Бутовск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Д. Викел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MCj02129010000[1]"/>
          <p:cNvPicPr/>
          <p:nvPr/>
        </p:nvPicPr>
        <p:blipFill>
          <a:blip r:embed="rId1"/>
          <a:stretch/>
        </p:blipFill>
        <p:spPr>
          <a:xfrm>
            <a:off x="6084720" y="3068640"/>
            <a:ext cx="230364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3059280" y="836640"/>
            <a:ext cx="57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На время Игр на всей территории  Древней Эллады наступал всеобщий мир. Нарушителя священного перемирия , которое именовалось «экехирия», ждало суровое наказ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95280" y="3716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ервые Олимпийские игры состоялись в 776 году до новой эры. Кто же имел право участвовать в Олимпийских играх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8" descr="200px-Athens_1896_report_cover"/>
          <p:cNvPicPr/>
          <p:nvPr/>
        </p:nvPicPr>
        <p:blipFill>
          <a:blip r:embed="rId1"/>
          <a:stretch/>
        </p:blipFill>
        <p:spPr>
          <a:xfrm>
            <a:off x="395280" y="260280"/>
            <a:ext cx="2340000" cy="324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борьба"/>
          <p:cNvPicPr/>
          <p:nvPr/>
        </p:nvPicPr>
        <p:blipFill>
          <a:blip r:embed="rId2"/>
          <a:stretch/>
        </p:blipFill>
        <p:spPr>
          <a:xfrm>
            <a:off x="5580000" y="3357720"/>
            <a:ext cx="3240000" cy="1990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250920" y="5373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Олимпиониками могли стать только греки по происхождению, свободные и только мужч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2268360" y="333360"/>
            <a:ext cx="64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Раз в четыре года отправлялись специальные послы, которые приглашали всех желающих принять участие в Олимпийских иг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95280" y="3429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Соревнования проходили напряжённо, упорно, а главное – честно. Победители, олимпионики, награждались оливковой ветвью или лавровым вен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1" descr="лавровый венок"/>
          <p:cNvPicPr/>
          <p:nvPr/>
        </p:nvPicPr>
        <p:blipFill>
          <a:blip r:embed="rId1"/>
          <a:stretch/>
        </p:blipFill>
        <p:spPr>
          <a:xfrm>
            <a:off x="6443640" y="3141720"/>
            <a:ext cx="2206800" cy="223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победитель"/>
          <p:cNvPicPr/>
          <p:nvPr/>
        </p:nvPicPr>
        <p:blipFill>
          <a:blip r:embed="rId2"/>
          <a:stretch/>
        </p:blipFill>
        <p:spPr>
          <a:xfrm>
            <a:off x="468360" y="260280"/>
            <a:ext cx="1701720" cy="25909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4"/>
          <p:cNvSpPr/>
          <p:nvPr/>
        </p:nvSpPr>
        <p:spPr>
          <a:xfrm>
            <a:off x="324000" y="566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Их ждала бессмертная слава не только в своем родном городе, но и во всём греческ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5" descr="соревнования"/>
          <p:cNvPicPr/>
          <p:nvPr/>
        </p:nvPicPr>
        <p:blipFill>
          <a:blip r:embed="rId3"/>
          <a:stretch/>
        </p:blipFill>
        <p:spPr>
          <a:xfrm>
            <a:off x="2843280" y="1989000"/>
            <a:ext cx="29527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Участники Олимпийских игр должны были готовиться к соревнованиям на протяжении 10 месяцев вне Олимпии, а затем 1-2 месяца в Олимпии под наблюдением жрецов храма Зевса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3" descr="занятия в гимнастической школе (2)"/>
          <p:cNvPicPr/>
          <p:nvPr/>
        </p:nvPicPr>
        <p:blipFill>
          <a:blip r:embed="rId1"/>
          <a:stretch/>
        </p:blipFill>
        <p:spPr>
          <a:xfrm>
            <a:off x="0" y="1989000"/>
            <a:ext cx="1995480" cy="4869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занятия в гимнастической школе"/>
          <p:cNvPicPr/>
          <p:nvPr/>
        </p:nvPicPr>
        <p:blipFill>
          <a:blip r:embed="rId2"/>
          <a:stretch/>
        </p:blipFill>
        <p:spPr>
          <a:xfrm rot="779400">
            <a:off x="2268360" y="2779560"/>
            <a:ext cx="3961080" cy="2508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занятия в гимн школе"/>
          <p:cNvPicPr/>
          <p:nvPr/>
        </p:nvPicPr>
        <p:blipFill>
          <a:blip r:embed="rId3"/>
          <a:stretch/>
        </p:blipFill>
        <p:spPr>
          <a:xfrm>
            <a:off x="6167520" y="1844640"/>
            <a:ext cx="297648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ервый вид состязаний: бе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на одну стадию (192,27м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тсюда и название </a:t>
            </a:r>
            <a:r>
              <a:rPr b="1" i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СТАДИО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Стадион Древней Греции"/>
          <p:cNvPicPr/>
          <p:nvPr/>
        </p:nvPicPr>
        <p:blipFill>
          <a:blip r:embed="rId1"/>
          <a:stretch/>
        </p:blipFill>
        <p:spPr>
          <a:xfrm>
            <a:off x="3851280" y="3789360"/>
            <a:ext cx="5292720" cy="2909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Стадион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Виды состязан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3" descr="древние бегуны"/>
          <p:cNvPicPr/>
          <p:nvPr/>
        </p:nvPicPr>
        <p:blipFill>
          <a:blip r:embed="rId1"/>
          <a:stretch/>
        </p:blipFill>
        <p:spPr>
          <a:xfrm>
            <a:off x="0" y="1125360"/>
            <a:ext cx="4643280" cy="32115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на один стадий (192,27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на две стадии (древние бег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в воору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Бег в доспехах"/>
          <p:cNvPicPr/>
          <p:nvPr/>
        </p:nvPicPr>
        <p:blipFill>
          <a:blip r:embed="rId2"/>
          <a:stretch/>
        </p:blipFill>
        <p:spPr>
          <a:xfrm>
            <a:off x="0" y="4343400"/>
            <a:ext cx="4643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улачный 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ор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На древней вазе 3 вида пятиборья (метание диска и копья, борьба, толчки ладонями)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Панкратионисты (борцы, бронзовая репродукция 3 век)"/>
          <p:cNvPicPr/>
          <p:nvPr/>
        </p:nvPicPr>
        <p:blipFill>
          <a:blip r:embed="rId2"/>
          <a:stretch/>
        </p:blipFill>
        <p:spPr>
          <a:xfrm>
            <a:off x="5238720" y="3989520"/>
            <a:ext cx="2857680" cy="2085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AG00583_"/>
          <p:cNvPicPr/>
          <p:nvPr/>
        </p:nvPicPr>
        <p:blipFill>
          <a:blip r:embed="rId3"/>
          <a:stretch/>
        </p:blipFill>
        <p:spPr>
          <a:xfrm>
            <a:off x="1187280" y="5661000"/>
            <a:ext cx="19447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Пятиборье </a:t>
            </a:r>
            <a:r>
              <a:rPr b="0" lang="ru-RU" sz="2800" spc="-1" strike="noStrike">
                <a:solidFill>
                  <a:srgbClr val="000099"/>
                </a:solidFill>
                <a:latin typeface="Franklin Gothic Book"/>
              </a:rPr>
              <a:t>(бег на один стадий, метание диска, копья, прыжки в длину, борьба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Picture 5" descr="Метатель копья"/>
          <p:cNvPicPr/>
          <p:nvPr/>
        </p:nvPicPr>
        <p:blipFill>
          <a:blip r:embed="rId1"/>
          <a:stretch/>
        </p:blipFill>
        <p:spPr>
          <a:xfrm>
            <a:off x="468360" y="1484280"/>
            <a:ext cx="2987640" cy="2552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Борцы"/>
          <p:cNvPicPr/>
          <p:nvPr/>
        </p:nvPicPr>
        <p:blipFill>
          <a:blip r:embed="rId2"/>
          <a:stretch/>
        </p:blipFill>
        <p:spPr>
          <a:xfrm>
            <a:off x="6156360" y="1484280"/>
            <a:ext cx="2987640" cy="2641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Античный бег 530г"/>
          <p:cNvPicPr/>
          <p:nvPr/>
        </p:nvPicPr>
        <p:blipFill>
          <a:blip r:embed="rId3"/>
          <a:stretch/>
        </p:blipFill>
        <p:spPr>
          <a:xfrm>
            <a:off x="0" y="4064040"/>
            <a:ext cx="3809880" cy="2793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метание диска"/>
          <p:cNvPicPr/>
          <p:nvPr/>
        </p:nvPicPr>
        <p:blipFill>
          <a:blip r:embed="rId4"/>
          <a:stretch/>
        </p:blipFill>
        <p:spPr>
          <a:xfrm rot="20596800">
            <a:off x="3492000" y="2133720"/>
            <a:ext cx="2587680" cy="357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длина"/>
          <p:cNvPicPr/>
          <p:nvPr/>
        </p:nvPicPr>
        <p:blipFill>
          <a:blip r:embed="rId5"/>
          <a:stretch/>
        </p:blipFill>
        <p:spPr>
          <a:xfrm>
            <a:off x="5724360" y="4227480"/>
            <a:ext cx="3419640" cy="26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4:18:35Z</dcterms:created>
  <dc:creator>Учитель</dc:creator>
  <dc:description/>
  <dc:language>en-US</dc:language>
  <cp:lastModifiedBy>игорь</cp:lastModifiedBy>
  <dcterms:modified xsi:type="dcterms:W3CDTF">2010-12-06T09:13:21Z</dcterms:modified>
  <cp:revision>37</cp:revision>
  <dc:subject/>
  <dc:title>Олимпийские игры </dc:title>
</cp:coreProperties>
</file>