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9.wmf" ContentType="image/x-wmf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3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559-3250-43C6-8774-2EA607E8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D42-43A1-4857-BAA5-208EF4DB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F29-CA83-41C9-8F45-738CC38D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12D-2245-4D53-A099-2D504C13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EED-F7B9-4EA8-BE1B-1B980560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A19B-8BB2-4216-A048-58378C2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508-FBD7-48B5-976A-1B30228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42A-0989-44EF-B974-C762159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AE7-C41B-4E52-80AF-710D744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BCD-5401-492D-8D88-9E43F0D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E0E-04BF-46F5-B5BE-6D0B3BC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D51-A42B-4D40-99E6-9D25742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F5A-A54C-41F2-AD17-FEDB71F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56DC-C362-402A-93D4-1553561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483B-031B-4FD4-BD03-DC14BD0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F6F-F3C3-4C1E-BB14-003A676B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C8C-77B0-472E-B37B-F58E7A00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5472-4F51-40DD-9211-4450F79E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1BE8-41EA-4E6E-A34D-C8EADD02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4660-A32A-42A1-817C-A849E8C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108D-5A8D-4407-87AC-1CAABCF5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B138-DE98-42E0-BD64-978EB314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FAB-6AC5-4F45-8348-253B37F2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889D-6847-41C0-9207-8753B1B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45E6-1FD2-493D-9FFC-097D0E5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6565-53E2-4DA3-9448-4764C536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56D3-2671-4640-8A21-00B1C0B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A69E-BBC5-4C3F-B76B-B711FCF0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44EB-5519-4B4A-B9A7-3DADAFA6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5059-318E-4D40-94B3-DFE2CF66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CA94-7696-482B-9492-5E9F972A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E4A6-1CEA-4D3A-8A39-16403ED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7DC9-A4F1-4203-A4F4-E159B9C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E8E-5F94-40A8-A153-591AE23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FAA2-894D-4F35-9867-6ED615D2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5561-B543-4394-A6E9-AD2882E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3B59-B982-4DD5-A2BB-A6E9487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4147-A53F-4133-B2A7-31372DF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6602-20FA-4117-8F27-697324E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8B75-2D49-43DF-A8BF-F8B7BB8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9BCC-ECC7-4514-9F46-0A3477F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F200-7A8E-4FAF-B225-E25F8CB7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633B-8C1A-4AAA-9448-289BC80E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45BF-E86D-461C-8F63-5CE676E1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DA6-48CA-41E3-B20D-F45E655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5D36-0ECB-4338-A30F-36AC76F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5B49-007F-4225-B6ED-7DE4A38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7A57-4A1B-4E7B-A5FF-43B8BEDE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290D-80C3-4500-A068-0C2369C1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090A-342F-42F9-ADED-B2ACFC35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E25F-8867-4EBF-87F6-A819B55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5EA0-CF21-49BF-A2E2-6F45A55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1D432-3112-4B2D-8FBC-1A7400E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8CA3C-1A00-4763-B380-68414CF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838B-F37A-4109-B7AA-F0B5B938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353-651B-4119-A2C4-90E06AEB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88DE-2834-4B68-BB4C-E056168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39F0-F29E-41CA-8999-FD7D551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4765-2B36-4B58-9B73-113E196A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08DC6-A499-4B08-BE0B-B9977DD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809E-31C0-4F8A-8701-8CB5883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8774-2E6E-4FBE-87BD-9C4B05C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360E-FAA4-4BA4-BC45-5450587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2DD6-A5E7-458C-AD3F-0B0BDEF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309E-510D-49F7-8A88-573BE4C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A256-5A92-4B18-91A9-9501DBD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430-BA07-4088-994E-EC813EB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0570-B671-4325-B9E7-09CB175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8AB11-98D0-4EDC-B846-E0528C9C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6E7F-61D3-4188-BA55-3C88B1E4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5E8-8C6A-4C51-9191-92997FE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D16-E956-48B4-BD8F-8B2A797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A4A-9DD7-4CC9-B66B-C0E39C58B83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18D9-7C98-4BA6-868B-233E8822311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AF48-CF6A-4601-903D-DD91414A6F6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FFC-0AAB-42B8-A115-BDC210E9F1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A26-DF65-412F-A372-CCEF6F5BE57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F870-01E3-40C0-877B-2094AAF589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826920" y="260280"/>
            <a:ext cx="749016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b3b3b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Олимпийские игры древности</a:t>
            </a:r>
            <a:endParaRPr b="1" lang="en-US" sz="1800" spc="1" strike="noStrike">
              <a:ln w="25560">
                <a:solidFill>
                  <a:srgbClr val="3b3b3b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971640" y="2708280"/>
            <a:ext cx="2087640" cy="1944720"/>
          </a:xfrm>
          <a:prstGeom prst="ellipse">
            <a:avLst/>
          </a:prstGeom>
          <a:noFill/>
          <a:ln w="190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3419640" y="2708280"/>
            <a:ext cx="2087280" cy="1944720"/>
          </a:xfrm>
          <a:prstGeom prst="ellipse">
            <a:avLst/>
          </a:prstGeom>
          <a:noFill/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2195640" y="3933720"/>
            <a:ext cx="2087280" cy="1944720"/>
          </a:xfrm>
          <a:prstGeom prst="ellipse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5796000" y="2781360"/>
            <a:ext cx="2087640" cy="1944720"/>
          </a:xfrm>
          <a:prstGeom prst="ellipse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572000" y="4005360"/>
            <a:ext cx="2087640" cy="1944720"/>
          </a:xfrm>
          <a:prstGeom prst="ellipse">
            <a:avLst/>
          </a:prstGeom>
          <a:noFill/>
          <a:ln w="190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Гонки на колесница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Picture 3" descr="Состязание колесниц"/>
          <p:cNvPicPr/>
          <p:nvPr/>
        </p:nvPicPr>
        <p:blipFill>
          <a:blip r:embed="rId1"/>
          <a:stretch/>
        </p:blipFill>
        <p:spPr>
          <a:xfrm>
            <a:off x="611280" y="1628640"/>
            <a:ext cx="72486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Церемония награждени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Picture 9" descr="Победитель получает головную повязку"/>
          <p:cNvPicPr/>
          <p:nvPr/>
        </p:nvPicPr>
        <p:blipFill>
          <a:blip r:embed="rId1"/>
          <a:stretch/>
        </p:blipFill>
        <p:spPr>
          <a:xfrm>
            <a:off x="6156360" y="1700280"/>
            <a:ext cx="2098800" cy="2104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2"/>
          <p:cNvPicPr/>
          <p:nvPr/>
        </p:nvPicPr>
        <p:blipFill>
          <a:blip r:embed="rId2"/>
          <a:stretch/>
        </p:blipFill>
        <p:spPr>
          <a:xfrm>
            <a:off x="5724360" y="4076640"/>
            <a:ext cx="2498760" cy="249876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395280" y="2276640"/>
            <a:ext cx="431964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ручение наградных вен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вая медаль возрождённых Олимпийских и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Император Греции Феодосий </a:t>
            </a:r>
            <a:r>
              <a:rPr b="0" lang="en-US" sz="3200" spc="-1" strike="noStrike">
                <a:solidFill>
                  <a:srgbClr val="000099"/>
                </a:solidFill>
                <a:latin typeface="Franklin Gothic Book"/>
              </a:rPr>
              <a:t>I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запретил проведение Олимпийских игр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в древней Греции в 394году н.э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12" descr="царь Пирр"/>
          <p:cNvPicPr/>
          <p:nvPr/>
        </p:nvPicPr>
        <p:blipFill>
          <a:blip r:embed="rId1"/>
          <a:stretch/>
        </p:blipFill>
        <p:spPr>
          <a:xfrm>
            <a:off x="539640" y="2421000"/>
            <a:ext cx="30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Возрождение Олимпийских игр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Picture 7" descr="Пьер де Кубертен"/>
          <p:cNvPicPr/>
          <p:nvPr/>
        </p:nvPicPr>
        <p:blipFill>
          <a:blip r:embed="rId1"/>
          <a:stretch/>
        </p:blipFill>
        <p:spPr>
          <a:xfrm>
            <a:off x="4500720" y="1413000"/>
            <a:ext cx="3632040" cy="4680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395280" y="1413000"/>
            <a:ext cx="37450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1894 году выдающийся французский просветитель, б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ьер де Кубертен выступил с предложением возродить Олимпийски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гимнаст"/>
          <p:cNvPicPr/>
          <p:nvPr/>
        </p:nvPicPr>
        <p:blipFill>
          <a:blip r:embed="rId1"/>
          <a:stretch/>
        </p:blipFill>
        <p:spPr>
          <a:xfrm>
            <a:off x="539640" y="404640"/>
            <a:ext cx="1290600" cy="1944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борьба3"/>
          <p:cNvPicPr/>
          <p:nvPr/>
        </p:nvPicPr>
        <p:blipFill>
          <a:blip r:embed="rId2"/>
          <a:stretch/>
        </p:blipFill>
        <p:spPr>
          <a:xfrm>
            <a:off x="7020000" y="2781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коллаж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гимнаст2"/>
          <p:cNvPicPr/>
          <p:nvPr/>
        </p:nvPicPr>
        <p:blipFill>
          <a:blip r:embed="rId4"/>
          <a:stretch/>
        </p:blipFill>
        <p:spPr>
          <a:xfrm>
            <a:off x="687708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медали"/>
          <p:cNvPicPr/>
          <p:nvPr/>
        </p:nvPicPr>
        <p:blipFill>
          <a:blip r:embed="rId5"/>
          <a:stretch/>
        </p:blipFill>
        <p:spPr>
          <a:xfrm>
            <a:off x="3564000" y="189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лошадь"/>
          <p:cNvPicPr/>
          <p:nvPr/>
        </p:nvPicPr>
        <p:blipFill>
          <a:blip r:embed="rId6"/>
          <a:stretch/>
        </p:blipFill>
        <p:spPr>
          <a:xfrm>
            <a:off x="250920" y="2708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флаг"/>
          <p:cNvPicPr/>
          <p:nvPr/>
        </p:nvPicPr>
        <p:blipFill>
          <a:blip r:embed="rId7"/>
          <a:stretch/>
        </p:blipFill>
        <p:spPr>
          <a:xfrm>
            <a:off x="2700360" y="1700280"/>
            <a:ext cx="38163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4"/>
          <p:cNvSpPr txBox="1"/>
          <p:nvPr/>
        </p:nvSpPr>
        <p:spPr>
          <a:xfrm>
            <a:off x="1476360" y="2349360"/>
            <a:ext cx="6840720" cy="22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1. Древние Олимпийские игры праздновались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в Олимп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в Афин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в Марафо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MCj02861240000[1]"/>
          <p:cNvPicPr/>
          <p:nvPr/>
        </p:nvPicPr>
        <p:blipFill>
          <a:blip r:embed="rId1"/>
          <a:stretch/>
        </p:blipFill>
        <p:spPr>
          <a:xfrm>
            <a:off x="5724360" y="3141720"/>
            <a:ext cx="25196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2.Первые достоверно известные Олимпийские игры состоялись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в 700 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в 725 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в 776г. до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MCj02903340000[1]"/>
          <p:cNvPicPr/>
          <p:nvPr/>
        </p:nvPicPr>
        <p:blipFill>
          <a:blip r:embed="rId1"/>
          <a:stretch/>
        </p:blipFill>
        <p:spPr>
          <a:xfrm>
            <a:off x="5148360" y="2492280"/>
            <a:ext cx="2647800" cy="35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3. Победителем первых Олимпийских игр древности был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Пелопе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Энома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Короибо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MCj01990820000[1]"/>
          <p:cNvPicPr/>
          <p:nvPr/>
        </p:nvPicPr>
        <p:blipFill>
          <a:blip r:embed="rId1"/>
          <a:stretch/>
        </p:blipFill>
        <p:spPr>
          <a:xfrm>
            <a:off x="5796000" y="3141720"/>
            <a:ext cx="2521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4. Олимпийцами на древних играх могли стать только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Свободные мужчины, не раб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Свободные мужчины, греки по национа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Мужчины любой национа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j0299763"/>
          <p:cNvPicPr/>
          <p:nvPr/>
        </p:nvPicPr>
        <p:blipFill>
          <a:blip r:embed="rId1"/>
          <a:stretch/>
        </p:blipFill>
        <p:spPr>
          <a:xfrm>
            <a:off x="5651640" y="4292640"/>
            <a:ext cx="269244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4211640" y="21337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А именно почитаемое греками святилище Олимпия, расположенное в западной части Пелопонесского полуостр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0670792"/>
          <p:cNvPicPr/>
          <p:nvPr/>
        </p:nvPicPr>
        <p:blipFill>
          <a:blip r:embed="rId1"/>
          <a:stretch/>
        </p:blipFill>
        <p:spPr>
          <a:xfrm>
            <a:off x="539640" y="2133720"/>
            <a:ext cx="352764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62" name="WordArt 7"/>
          <p:cNvGrpSpPr/>
          <p:nvPr/>
        </p:nvGrpSpPr>
        <p:grpSpPr>
          <a:xfrm>
            <a:off x="390600" y="396720"/>
            <a:ext cx="8289720" cy="1382760"/>
            <a:chOff x="390600" y="396720"/>
            <a:chExt cx="8289720" cy="1382760"/>
          </a:xfrm>
        </p:grpSpPr>
        <p:pic>
          <p:nvPicPr>
            <p:cNvPr id="263" name="WordArt 7" descr=""/>
            <p:cNvPicPr/>
            <p:nvPr/>
          </p:nvPicPr>
          <p:blipFill>
            <a:blip r:embed="rId2"/>
            <a:stretch/>
          </p:blipFill>
          <p:spPr>
            <a:xfrm>
              <a:off x="390600" y="396720"/>
              <a:ext cx="8289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5280" y="404640"/>
              <a:ext cx="828036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Palatino Linotype"/>
                </a:rPr>
                <a:t>Родиной Олимпийских игр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Palatino Linotype"/>
                </a:rPr>
                <a:t>является Древняя Грец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Text Box 8"/>
          <p:cNvSpPr/>
          <p:nvPr/>
        </p:nvSpPr>
        <p:spPr>
          <a:xfrm>
            <a:off x="468360" y="4653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Здесь, у подножья горы Кронос, в долине реки Алфей, до сих пор зажигается олимпийский огонь современных Игр . Отсюда начинается факельная эстафета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Franklin Gothic Book"/>
              </a:rPr>
              <a:t>5. Олимпионики – это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Зрите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Жители Олимп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Победители иг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MCj02056300000[1]"/>
          <p:cNvPicPr/>
          <p:nvPr/>
        </p:nvPicPr>
        <p:blipFill>
          <a:blip r:embed="rId1"/>
          <a:stretch/>
        </p:blipFill>
        <p:spPr>
          <a:xfrm>
            <a:off x="5508720" y="3141720"/>
            <a:ext cx="237636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Book"/>
              </a:rPr>
              <a:t>5.Одна из наиболее распространённых мер длины в Древней Греции – стадий (отсюда возникло слово стадион). В современном исчислении это: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204м10с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190м5с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192м27с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MCPE01802_0000[1]"/>
          <p:cNvPicPr/>
          <p:nvPr/>
        </p:nvPicPr>
        <p:blipFill>
          <a:blip r:embed="rId1"/>
          <a:stretch/>
        </p:blipFill>
        <p:spPr>
          <a:xfrm>
            <a:off x="3492360" y="4076640"/>
            <a:ext cx="532764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6.О некультурном человеке древние эллины говорили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«не умеет ни читать, ни плавать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«ленится заниматься физическими     упражнениями хотя бы для себ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«не умеет хорошо воевать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j0301480"/>
          <p:cNvPicPr/>
          <p:nvPr/>
        </p:nvPicPr>
        <p:blipFill>
          <a:blip r:embed="rId1"/>
          <a:stretch/>
        </p:blipFill>
        <p:spPr>
          <a:xfrm>
            <a:off x="5003640" y="4076640"/>
            <a:ext cx="2664000" cy="22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7. Когда и кто запретил древние Олимпийские соревнования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Неррон в 200 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Феодосий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в 401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Феодосий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в 394г. Н.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MCj02225900000[1]"/>
          <p:cNvPicPr/>
          <p:nvPr/>
        </p:nvPicPr>
        <p:blipFill>
          <a:blip r:embed="rId1"/>
          <a:stretch/>
        </p:blipFill>
        <p:spPr>
          <a:xfrm>
            <a:off x="5148360" y="3716280"/>
            <a:ext cx="2592360" cy="25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8.Кто был первым инициатором возрождения первых Олимпийских игр современности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П. де Куберт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А. Бутовск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Д. Викел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MCj02129010000[1]"/>
          <p:cNvPicPr/>
          <p:nvPr/>
        </p:nvPicPr>
        <p:blipFill>
          <a:blip r:embed="rId1"/>
          <a:stretch/>
        </p:blipFill>
        <p:spPr>
          <a:xfrm>
            <a:off x="6084720" y="3068640"/>
            <a:ext cx="230364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3059280" y="836640"/>
            <a:ext cx="57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На время Игр на всей территории  Древней Эллады наступал всеобщий мир. Нарушителя священного перемирия , которое именовалось «экехирия», ждало суровое наказ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95280" y="3716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ервые Олимпийские игры состоялись в 776 году до новой эры. Кто же имел право участвовать в Олимпийских играх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8" descr="200px-Athens_1896_report_cover"/>
          <p:cNvPicPr/>
          <p:nvPr/>
        </p:nvPicPr>
        <p:blipFill>
          <a:blip r:embed="rId1"/>
          <a:stretch/>
        </p:blipFill>
        <p:spPr>
          <a:xfrm>
            <a:off x="395280" y="260280"/>
            <a:ext cx="2340000" cy="324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борьба"/>
          <p:cNvPicPr/>
          <p:nvPr/>
        </p:nvPicPr>
        <p:blipFill>
          <a:blip r:embed="rId2"/>
          <a:stretch/>
        </p:blipFill>
        <p:spPr>
          <a:xfrm>
            <a:off x="5580000" y="3357720"/>
            <a:ext cx="3240000" cy="1990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250920" y="5373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Олимпиониками могли стать только греки по происхождению, свободные и только мужч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aeb"/>
            </a:gs>
            <a:gs pos="100000">
              <a:srgbClr val="df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2268360" y="333360"/>
            <a:ext cx="64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Раз в четыре года отправлялись специальные послы, которые приглашали всех желающих принять участие в Олимпийских иг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95280" y="3429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Соревнования проходили напряжённо, упорно, а главное – честно. Победители, олимпионики, награждались оливковой ветвью или лавровым вен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1" descr="лавровый венок"/>
          <p:cNvPicPr/>
          <p:nvPr/>
        </p:nvPicPr>
        <p:blipFill>
          <a:blip r:embed="rId1"/>
          <a:stretch/>
        </p:blipFill>
        <p:spPr>
          <a:xfrm>
            <a:off x="6443640" y="3141720"/>
            <a:ext cx="2206800" cy="223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победитель"/>
          <p:cNvPicPr/>
          <p:nvPr/>
        </p:nvPicPr>
        <p:blipFill>
          <a:blip r:embed="rId2"/>
          <a:stretch/>
        </p:blipFill>
        <p:spPr>
          <a:xfrm>
            <a:off x="468360" y="260280"/>
            <a:ext cx="1701720" cy="25909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4"/>
          <p:cNvSpPr/>
          <p:nvPr/>
        </p:nvSpPr>
        <p:spPr>
          <a:xfrm>
            <a:off x="324000" y="566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Их ждала бессмертная слава не только в своем родном городе, но и во всём греческо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5" descr="соревнования"/>
          <p:cNvPicPr/>
          <p:nvPr/>
        </p:nvPicPr>
        <p:blipFill>
          <a:blip r:embed="rId3"/>
          <a:stretch/>
        </p:blipFill>
        <p:spPr>
          <a:xfrm>
            <a:off x="2843280" y="1989000"/>
            <a:ext cx="29527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Участники Олимпийских игр должны были готовиться к соревнованиям на протяжении 10 месяцев вне Олимпии, а затем 1-2 месяца в Олимпии под наблюдением жрецов храма Зевса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3" descr="занятия в гимнастической школе (2)"/>
          <p:cNvPicPr/>
          <p:nvPr/>
        </p:nvPicPr>
        <p:blipFill>
          <a:blip r:embed="rId1"/>
          <a:stretch/>
        </p:blipFill>
        <p:spPr>
          <a:xfrm>
            <a:off x="0" y="1989000"/>
            <a:ext cx="1995480" cy="4869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занятия в гимнастической школе"/>
          <p:cNvPicPr/>
          <p:nvPr/>
        </p:nvPicPr>
        <p:blipFill>
          <a:blip r:embed="rId2"/>
          <a:stretch/>
        </p:blipFill>
        <p:spPr>
          <a:xfrm rot="779400">
            <a:off x="2268360" y="2779560"/>
            <a:ext cx="3961080" cy="2508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занятия в гимн школе"/>
          <p:cNvPicPr/>
          <p:nvPr/>
        </p:nvPicPr>
        <p:blipFill>
          <a:blip r:embed="rId3"/>
          <a:stretch/>
        </p:blipFill>
        <p:spPr>
          <a:xfrm>
            <a:off x="6167520" y="1844640"/>
            <a:ext cx="297648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ервый вид состязаний: бе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на одну стадию (192,27м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тсюда и название </a:t>
            </a:r>
            <a:r>
              <a:rPr b="1" i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СТАДИО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Стадион Древней Греции"/>
          <p:cNvPicPr/>
          <p:nvPr/>
        </p:nvPicPr>
        <p:blipFill>
          <a:blip r:embed="rId1"/>
          <a:stretch/>
        </p:blipFill>
        <p:spPr>
          <a:xfrm>
            <a:off x="3851280" y="3789360"/>
            <a:ext cx="5292720" cy="2909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Стадион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Виды состязан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3" descr="древние бегуны"/>
          <p:cNvPicPr/>
          <p:nvPr/>
        </p:nvPicPr>
        <p:blipFill>
          <a:blip r:embed="rId1"/>
          <a:stretch/>
        </p:blipFill>
        <p:spPr>
          <a:xfrm>
            <a:off x="0" y="1125360"/>
            <a:ext cx="4643280" cy="32115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на один стадий (192,27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на две стадии (древние бег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ег в воору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Бег в доспехах"/>
          <p:cNvPicPr/>
          <p:nvPr/>
        </p:nvPicPr>
        <p:blipFill>
          <a:blip r:embed="rId2"/>
          <a:stretch/>
        </p:blipFill>
        <p:spPr>
          <a:xfrm>
            <a:off x="0" y="4343400"/>
            <a:ext cx="4643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улачный 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ор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На древней вазе 3 вида пятиборья (метание диска и копья, борьба, толчки ладонями)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Панкратионисты (борцы, бронзовая репродукция 3 век)"/>
          <p:cNvPicPr/>
          <p:nvPr/>
        </p:nvPicPr>
        <p:blipFill>
          <a:blip r:embed="rId2"/>
          <a:stretch/>
        </p:blipFill>
        <p:spPr>
          <a:xfrm>
            <a:off x="5238720" y="3989520"/>
            <a:ext cx="2857680" cy="2085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AG00583_"/>
          <p:cNvPicPr/>
          <p:nvPr/>
        </p:nvPicPr>
        <p:blipFill>
          <a:blip r:embed="rId3"/>
          <a:stretch/>
        </p:blipFill>
        <p:spPr>
          <a:xfrm>
            <a:off x="1187280" y="5661000"/>
            <a:ext cx="194472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Пятиборье </a:t>
            </a:r>
            <a:r>
              <a:rPr b="0" lang="ru-RU" sz="2800" spc="-1" strike="noStrike">
                <a:solidFill>
                  <a:srgbClr val="000099"/>
                </a:solidFill>
                <a:latin typeface="Franklin Gothic Book"/>
              </a:rPr>
              <a:t>(бег на один стадий, метание диска, копья, прыжки в длину, борьба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Picture 5" descr="Метатель копья"/>
          <p:cNvPicPr/>
          <p:nvPr/>
        </p:nvPicPr>
        <p:blipFill>
          <a:blip r:embed="rId1"/>
          <a:stretch/>
        </p:blipFill>
        <p:spPr>
          <a:xfrm>
            <a:off x="468360" y="1484280"/>
            <a:ext cx="2987640" cy="2552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Борцы"/>
          <p:cNvPicPr/>
          <p:nvPr/>
        </p:nvPicPr>
        <p:blipFill>
          <a:blip r:embed="rId2"/>
          <a:stretch/>
        </p:blipFill>
        <p:spPr>
          <a:xfrm>
            <a:off x="6156360" y="1484280"/>
            <a:ext cx="2987640" cy="2641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Античный бег 530г"/>
          <p:cNvPicPr/>
          <p:nvPr/>
        </p:nvPicPr>
        <p:blipFill>
          <a:blip r:embed="rId3"/>
          <a:stretch/>
        </p:blipFill>
        <p:spPr>
          <a:xfrm>
            <a:off x="0" y="4064040"/>
            <a:ext cx="3809880" cy="2793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метание диска"/>
          <p:cNvPicPr/>
          <p:nvPr/>
        </p:nvPicPr>
        <p:blipFill>
          <a:blip r:embed="rId4"/>
          <a:stretch/>
        </p:blipFill>
        <p:spPr>
          <a:xfrm rot="20596800">
            <a:off x="3492000" y="2133720"/>
            <a:ext cx="2587680" cy="357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длина"/>
          <p:cNvPicPr/>
          <p:nvPr/>
        </p:nvPicPr>
        <p:blipFill>
          <a:blip r:embed="rId5"/>
          <a:stretch/>
        </p:blipFill>
        <p:spPr>
          <a:xfrm>
            <a:off x="5724360" y="4227480"/>
            <a:ext cx="3419640" cy="26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4:18:35Z</dcterms:created>
  <dc:creator>Учитель</dc:creator>
  <dc:description/>
  <dc:language>en-US</dc:language>
  <cp:lastModifiedBy>игорь</cp:lastModifiedBy>
  <dcterms:modified xsi:type="dcterms:W3CDTF">2010-12-06T09:13:21Z</dcterms:modified>
  <cp:revision>37</cp:revision>
  <dc:subject/>
  <dc:title>Олимпийские игры </dc:title>
</cp:coreProperties>
</file>