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6.gif" ContentType="image/gif"/>
  <Override PartName="/ppt/media/image19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50.jpeg" ContentType="image/jpeg"/>
  <Override PartName="/ppt/media/image12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20.png" ContentType="image/png"/>
  <Override PartName="/ppt/media/image57.png" ContentType="image/pn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CED0-09B5-4B09-81C5-E10BE1AA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FCB2-4A1E-43A5-9746-00531DDE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CDE5-9911-4493-90E5-CEFD6A2A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B4E4-574F-4CF0-8C74-F40D6CBF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904-7181-4C0E-92C7-C7141BB3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FD4D-D928-49BB-BC1C-1F2ACE3C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3FC7-214D-4191-8024-86A57FC4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8009-5FDE-4BA3-9CB4-F25677F5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FBE-CBD0-44A2-BC44-4FD79673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C076-7547-4411-962D-817A264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25F-A288-48B6-9069-26860A5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F81A-3140-4604-B19C-D4C09E0D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F41-5E16-45B2-8DA0-2EF28DF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68EA-419F-4814-A5BA-392AB3B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1A52-5FE3-40B5-9980-A38E0C63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36E-741A-4CC6-9A02-38D03192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B136-0195-4049-AEC5-38C3F335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C39A-58E7-41B8-8802-4560A29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A637-F84E-4157-B763-5DD4D0D4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4EF1-0D10-4FB0-9B36-1C721F4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1524-3B32-4BDF-AD0D-2AC31E7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B417-D699-4942-AA11-B17FB29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A257-64FD-4346-877F-B39755EF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CD62-5966-4C42-B225-E5B16C5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ECA-5F53-4204-A43B-6F46B772B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0FF-3914-4DB1-A3F9-F04C8324F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92;&#1080;&#1083;&#1100;&#1077;&#1088;&#1072;.doc" TargetMode="Externa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pekar.ru/katalogf/10/7big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lpak.ru/upload/iblock/efc/efc1d08612f3ca5e07d7c0a5bdad111e.jpg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hyperlink" Target="http://gklvl.ru/uploads/posts/2011-07/1310103669_upakovka.jpg" TargetMode="External"/><Relationship Id="rId10" Type="http://schemas.openxmlformats.org/officeDocument/2006/relationships/image" Target="../media/image40.jpeg"/><Relationship Id="rId11" Type="http://schemas.openxmlformats.org/officeDocument/2006/relationships/hyperlink" Target="http://www.unipack.ru/user_files/file18970.jpg" TargetMode="External"/><Relationship Id="rId12" Type="http://schemas.openxmlformats.org/officeDocument/2006/relationships/image" Target="../media/image41.jpeg"/><Relationship Id="rId13" Type="http://schemas.openxmlformats.org/officeDocument/2006/relationships/hyperlink" Target="http://www.sostav.ru/articles/rus/2009/28.05/news/images/2.jpg" TargetMode="External"/><Relationship Id="rId14" Type="http://schemas.openxmlformats.org/officeDocument/2006/relationships/image" Target="../media/image42.jpeg"/><Relationship Id="rId15" Type="http://schemas.openxmlformats.org/officeDocument/2006/relationships/hyperlink" Target="http://www.unipack.ru/user_files/file17224.jpg" TargetMode="External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hem.prompages.ru/images/gallary/3072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megasklad.ru/data/photoes/s440627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www.agro3.ru/InFo-data/item_030/bpic_0002795.jp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www.klenmarket.ru/upload/shop_3/7/2/3/item_7232/shop_items_catalog_image7232.jp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allindustry.com.ua/data/218564_1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ru.all.biz/img/ru/catalog/672666.jpeg" TargetMode="External"/><Relationship Id="rId12" Type="http://schemas.openxmlformats.org/officeDocument/2006/relationships/image" Target="../media/image49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Тема урока «?»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ильная промышленность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ские товары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овой техн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льское хозяйство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мобилестроение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ая промышл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Рисунок 5" descr="31956.gif"/>
          <p:cNvPicPr/>
          <p:nvPr/>
        </p:nvPicPr>
        <p:blipFill>
          <a:blip r:embed="rId9"/>
          <a:stretch/>
        </p:blipFill>
        <p:spPr>
          <a:xfrm>
            <a:off x="7093080" y="4653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5" descr="31956.gif"/>
          <p:cNvPicPr/>
          <p:nvPr/>
        </p:nvPicPr>
        <p:blipFill>
          <a:blip r:embed="rId10"/>
          <a:stretch/>
        </p:blipFill>
        <p:spPr>
          <a:xfrm>
            <a:off x="7093080" y="4653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5" descr="31956.gif"/>
          <p:cNvPicPr/>
          <p:nvPr/>
        </p:nvPicPr>
        <p:blipFill>
          <a:blip r:embed="rId11"/>
          <a:stretch/>
        </p:blipFill>
        <p:spPr>
          <a:xfrm>
            <a:off x="7020000" y="4653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5" descr="31956.gif"/>
          <p:cNvPicPr/>
          <p:nvPr/>
        </p:nvPicPr>
        <p:blipFill>
          <a:blip r:embed="rId12"/>
          <a:stretch/>
        </p:blipFill>
        <p:spPr>
          <a:xfrm>
            <a:off x="7020000" y="46530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войства пластмасс и способы формования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9528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войства пластмас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оля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ойчивы к корро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зкая 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и в обрабо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пособы формования пластмас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у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ду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тамп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давливание чере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филь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ланди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4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7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0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3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6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8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1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4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7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Форма макромолекул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55520" y="1828800"/>
            <a:ext cx="3511800" cy="41148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3378240" cy="386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416040" cy="39625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666880" y="60199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b89"/>
                </a:solidFill>
                <a:latin typeface="Arial"/>
              </a:rPr>
              <a:t>Линейная 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7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Форма макромолекул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41008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b89"/>
                </a:solidFill>
                <a:latin typeface="Arial"/>
              </a:rPr>
              <a:t>Разветвленная 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0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19360" cy="29718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724280" y="548640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b89"/>
                </a:solidFill>
                <a:latin typeface="Arial"/>
              </a:rPr>
              <a:t>Пространственная 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странственные конфигурации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нтетических каучуков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3124440" cy="13017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1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5181480" y="2209680"/>
            <a:ext cx="3429000" cy="11685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429000" cy="12067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828800" y="1341360"/>
            <a:ext cx="586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ереорегулярная струк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47242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стереорегулярная струк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340000" y="5300640"/>
            <a:ext cx="472428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7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500"/>
                            </p:stCondLst>
                            <p:childTnLst>
                              <p:par>
                                <p:cTn id="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93080" cy="258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998"/>
                            </p:stCondLst>
                            <p:childTnLst>
                              <p:par>
                                <p:cTn id="8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иды пластмасс и их влияние на здоровье человека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1512720" cy="13842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1368360" cy="15289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913400" y="1772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этилентерефтала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4932360" y="148428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692360" y="349992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этилен высо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35280" y="530064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винилхлор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88000" y="1773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этилен низ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5003640" y="2997360"/>
            <a:ext cx="1513080" cy="13125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5003640" y="4581360"/>
            <a:ext cx="1513080" cy="1511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590160" y="479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стиро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17080" y="3284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пропиле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«Полимеры в хлебопекарном и кондитерском производстве»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ушайте доклад и запишите в тетрадь название полимеров, с которыми вы встречаетесь в профессиональ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Картинка 28 из 1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4071960"/>
            <a:ext cx="2214720" cy="2440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4" descr="Картинка 141 из 16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857240"/>
            <a:ext cx="3143520" cy="2286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паковочные материалы для хлебобулочных издел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7" name="Picture 2" descr="xleb"/>
          <p:cNvPicPr/>
          <p:nvPr/>
        </p:nvPicPr>
        <p:blipFill>
          <a:blip r:embed="rId5"/>
          <a:stretch/>
        </p:blipFill>
        <p:spPr>
          <a:xfrm>
            <a:off x="0" y="13572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plenka1"/>
          <p:cNvPicPr/>
          <p:nvPr/>
        </p:nvPicPr>
        <p:blipFill>
          <a:blip r:embed="rId6"/>
          <a:stretch/>
        </p:blipFill>
        <p:spPr>
          <a:xfrm>
            <a:off x="2571840" y="1500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plenka2"/>
          <p:cNvPicPr/>
          <p:nvPr/>
        </p:nvPicPr>
        <p:blipFill>
          <a:blip r:embed="rId7"/>
          <a:stretch/>
        </p:blipFill>
        <p:spPr>
          <a:xfrm>
            <a:off x="285840" y="3500280"/>
            <a:ext cx="2071440" cy="20718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6"/>
          <p:cNvSpPr/>
          <p:nvPr/>
        </p:nvSpPr>
        <p:spPr>
          <a:xfrm>
            <a:off x="1643040" y="10717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Разному хлебу разная упак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6" descr="http://www.upakovano.ru/pictures/news_imgs/News_S/pictures13/polimerpack-300.jpg"/>
          <p:cNvPicPr/>
          <p:nvPr/>
        </p:nvPicPr>
        <p:blipFill>
          <a:blip r:embed="rId8"/>
          <a:stretch/>
        </p:blipFill>
        <p:spPr>
          <a:xfrm>
            <a:off x="0" y="5470560"/>
            <a:ext cx="3357720" cy="1387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" descr="Картинка 19 из 164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58040" y="928800"/>
            <a:ext cx="1785960" cy="17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Картинка 51 из 164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86800" y="2643120"/>
            <a:ext cx="1357200" cy="20113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Картинка 52 из 164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9720" y="5032440"/>
            <a:ext cx="1214280" cy="1825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2" descr="Картинка 108 из 1644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500800" y="421488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7" name="Picture 6" descr="Картинка 2 из 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981000"/>
            <a:ext cx="2214720" cy="2664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Картинка 9 из 110">
            <a:hlinkClick r:id="rId3"/>
          </p:cNvPr>
          <p:cNvPicPr/>
          <p:nvPr/>
        </p:nvPicPr>
        <p:blipFill>
          <a:blip r:embed="rId4"/>
          <a:srcRect l="0" t="0" r="0" b="25325"/>
          <a:stretch/>
        </p:blipFill>
        <p:spPr>
          <a:xfrm>
            <a:off x="2916360" y="4286160"/>
            <a:ext cx="2117520" cy="2571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Картинка 31 из 1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3933720"/>
            <a:ext cx="3057480" cy="2924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Картинка 64 из 1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1197000"/>
            <a:ext cx="2392560" cy="2354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Картинка 40 из 11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1285920"/>
            <a:ext cx="3227400" cy="2143080"/>
          </a:xfrm>
          <a:prstGeom prst="rect">
            <a:avLst/>
          </a:prstGeom>
          <a:ln w="0">
            <a:noFill/>
          </a:ln>
        </p:spPr>
      </p:pic>
      <p:sp>
        <p:nvSpPr>
          <p:cNvPr id="632" name="TextBox 11"/>
          <p:cNvSpPr/>
          <p:nvPr/>
        </p:nvSpPr>
        <p:spPr>
          <a:xfrm>
            <a:off x="0" y="3143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Пельменный 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858000" y="5143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Упаковочный 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14"/>
          <p:cNvSpPr/>
          <p:nvPr/>
        </p:nvSpPr>
        <p:spPr>
          <a:xfrm flipV="1" rot="10782600">
            <a:off x="6730200" y="77832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Микс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15"/>
          <p:cNvSpPr/>
          <p:nvPr/>
        </p:nvSpPr>
        <p:spPr>
          <a:xfrm>
            <a:off x="2700360" y="40053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Конвектом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16" descr="Картинка 70 из 11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9280" y="4290840"/>
            <a:ext cx="2214720" cy="256716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2"/>
          <p:cNvSpPr/>
          <p:nvPr/>
        </p:nvSpPr>
        <p:spPr>
          <a:xfrm>
            <a:off x="285840" y="4000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Тестодел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ормы для выпеч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39" name="Picture 2" descr="Картинка 1 из 110"/>
          <p:cNvPicPr/>
          <p:nvPr/>
        </p:nvPicPr>
        <p:blipFill>
          <a:blip r:embed="rId1"/>
          <a:stretch/>
        </p:blipFill>
        <p:spPr>
          <a:xfrm>
            <a:off x="250920" y="1125360"/>
            <a:ext cx="2786040" cy="3211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Картинка 17 из 110"/>
          <p:cNvPicPr/>
          <p:nvPr/>
        </p:nvPicPr>
        <p:blipFill>
          <a:blip r:embed="rId2"/>
          <a:srcRect l="9803" t="24378" r="0" b="17498"/>
          <a:stretch/>
        </p:blipFill>
        <p:spPr>
          <a:xfrm>
            <a:off x="3276720" y="1341360"/>
            <a:ext cx="3887640" cy="2824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Картинка 21 из 110"/>
          <p:cNvPicPr/>
          <p:nvPr/>
        </p:nvPicPr>
        <p:blipFill>
          <a:blip r:embed="rId3"/>
          <a:srcRect l="17504" t="22500" r="0" b="19376"/>
          <a:stretch/>
        </p:blipFill>
        <p:spPr>
          <a:xfrm>
            <a:off x="214200" y="450072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Картинка 32 из 110"/>
          <p:cNvPicPr/>
          <p:nvPr/>
        </p:nvPicPr>
        <p:blipFill>
          <a:blip r:embed="rId4"/>
          <a:srcRect l="63325" t="36295" r="22611" b="0"/>
          <a:stretch/>
        </p:blipFill>
        <p:spPr>
          <a:xfrm>
            <a:off x="7286760" y="571680"/>
            <a:ext cx="1857240" cy="3912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Картинка 29 из 476"/>
          <p:cNvPicPr/>
          <p:nvPr/>
        </p:nvPicPr>
        <p:blipFill>
          <a:blip r:embed="rId5"/>
          <a:srcRect l="0" t="21249" r="0" b="14997"/>
          <a:stretch/>
        </p:blipFill>
        <p:spPr>
          <a:xfrm>
            <a:off x="2987640" y="4653000"/>
            <a:ext cx="3071880" cy="1958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Картинка 75 из 476"/>
          <p:cNvPicPr/>
          <p:nvPr/>
        </p:nvPicPr>
        <p:blipFill>
          <a:blip r:embed="rId6"/>
          <a:stretch/>
        </p:blipFill>
        <p:spPr>
          <a:xfrm>
            <a:off x="6572160" y="4924440"/>
            <a:ext cx="2571840" cy="1933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нение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733920" y="1638360"/>
            <a:ext cx="2133360" cy="160812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238880" y="3429000"/>
            <a:ext cx="1354320" cy="16002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133360" cy="16002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5486400" y="5334120"/>
            <a:ext cx="1316160" cy="13716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6553080" y="1676520"/>
            <a:ext cx="1981440" cy="148572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3733920" y="3429000"/>
            <a:ext cx="1544400" cy="18288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914400" y="3581280"/>
            <a:ext cx="619200" cy="14097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3886200" y="5486400"/>
            <a:ext cx="1066680" cy="106668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182880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5486400" y="3778200"/>
            <a:ext cx="1600200" cy="11368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>
            <a:off x="533520" y="5029200"/>
            <a:ext cx="1369800" cy="160488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086600" y="5257800"/>
            <a:ext cx="1752480" cy="138096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2286000" y="5105520"/>
            <a:ext cx="1270080" cy="152388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«Закрепление нового материала»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10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амостоятельная рабо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еделение на группы  пластмасс, волокон и каучуков в соответствии с классификаци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еделите полимеры на три группы: природные, искусственные и синтетичес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е из выданных веществ получают в результат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полимеризации; б) поликонденс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52578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ритерии оценк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ый правильный ответ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бал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максимально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баллов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спределение на группы пластмасс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ные 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енные 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тетические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меризацией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конденсацией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этилен, пластикат, вискоза, рез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винилхлорид, пенополистиро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учук, ацетатный шел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стирол, вискоза, лавсан, Ф.Ф. пластм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Рисунок 7" descr="полимер1.jpg"/>
          <p:cNvPicPr/>
          <p:nvPr/>
        </p:nvPicPr>
        <p:blipFill>
          <a:blip r:embed="rId1"/>
          <a:stretch/>
        </p:blipFill>
        <p:spPr>
          <a:xfrm>
            <a:off x="468360" y="47628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Образец верных ответов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60948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род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натуральный шелк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кусствен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иско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тетическ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полиэтилен, резина, пластик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меризация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олиэтилен, пластик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конденсация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вискоза, рез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2666880"/>
            <a:ext cx="8076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род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хлопок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кусствен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ацетатный шел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тетическ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поливинилхлорид, каучук, пенополистир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ме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оливинилхлорид, пенополистир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конденс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учук, ацетатный шел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46483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род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натуральная шерсть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кусствен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искоз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тетическ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лавсан, полистирол, Ф.Ф. пластм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ме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олистир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конденс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вискоза, лавсан, Ф.Ф. пластм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азработка рекомендаций по использованию пластмасс в быту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айте разработаем рекомендации людям, заботящимся о своем здоровь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«Подведение итогов урока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458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читаете ли вы, что наши цели урока достигну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бы вы оценили результаты своей работы на уро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6685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считай баллы, полученные на уро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ставь себе оц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28195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ценку поставьте в графе “самооценка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все понял, могу этот материал объясн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ому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 балл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я сам все понял, но объяснить другому не беру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 бал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для полного понимания мне нужно повтор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у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бал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я ничего не понял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768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768" fill="hold"/>
                                        <p:tgtEl>
                                          <p:spTgt spid="6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6" dur="768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8" dur="768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9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 § 21,  § 22, ответить на вопросы 1-4. Составить кроссворд по теме «Полимеры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0-20 с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7" dur="399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ОЛИМЕР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 нашего урока: Обобщить и систематизировать знания о  полимерах,  изучить классификацию и приме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Рисунок 5" descr="31956.gif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1871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hm263"/>
          <p:cNvPicPr/>
          <p:nvPr/>
        </p:nvPicPr>
        <p:blipFill>
          <a:blip r:embed="rId3"/>
          <a:stretch/>
        </p:blipFill>
        <p:spPr>
          <a:xfrm>
            <a:off x="7238880" y="4781520"/>
            <a:ext cx="1905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ценочный лист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1484280"/>
          <a:ext cx="9144000" cy="4322520"/>
        </p:xfrm>
        <a:graphic>
          <a:graphicData uri="http://schemas.openxmlformats.org/drawingml/2006/table">
            <a:tbl>
              <a:tblPr/>
              <a:tblGrid>
                <a:gridCol w="1320840"/>
                <a:gridCol w="990720"/>
                <a:gridCol w="1063440"/>
                <a:gridCol w="716040"/>
                <a:gridCol w="825480"/>
                <a:gridCol w="1662120"/>
                <a:gridCol w="1192320"/>
                <a:gridCol w="585720"/>
                <a:gridCol w="787320"/>
              </a:tblGrid>
              <a:tr h="64648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Фами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Опре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Игра  «крестики – ноли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балла – 1 сект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max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балло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С.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Дополнительные баллы (устные ответы, индивидуальное задание, докла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само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"/>
          <p:cNvSpPr/>
          <p:nvPr/>
        </p:nvSpPr>
        <p:spPr>
          <a:xfrm>
            <a:off x="1880280" y="5898240"/>
            <a:ext cx="253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Оценка за работу в течение </a:t>
            </a:r>
            <a:r>
              <a:rPr b="0" lang="en-US" sz="1200" spc="-1" strike="noStrike">
                <a:solidFill>
                  <a:srgbClr val="ffffff"/>
                </a:solidFill>
                <a:latin typeface="SimSun"/>
                <a:ea typeface="SimSun"/>
              </a:rPr>
              <a:t>урок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imSun"/>
                <a:ea typeface="SimSu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SimSun"/>
                <a:ea typeface="SimSun"/>
              </a:rPr>
              <a:t>5”–25 баллов и более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4”– 15–24 балл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3”–менее15 балл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Рисунок 5" descr="31956.gif"/>
          <p:cNvPicPr/>
          <p:nvPr/>
        </p:nvPicPr>
        <p:blipFill>
          <a:blip r:embed="rId1"/>
          <a:stretch/>
        </p:blipFill>
        <p:spPr>
          <a:xfrm>
            <a:off x="7308720" y="18900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ИГРА «Крестики - нолики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57200" y="1197000"/>
          <a:ext cx="8229600" cy="5411880"/>
        </p:xfrm>
        <a:graphic>
          <a:graphicData uri="http://schemas.openxmlformats.org/drawingml/2006/table">
            <a:tbl>
              <a:tblPr/>
              <a:tblGrid>
                <a:gridCol w="2962440"/>
                <a:gridCol w="2869920"/>
                <a:gridCol w="2397240"/>
              </a:tblGrid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Моно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Пол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Ка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образую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белки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Формула этил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Реакция поли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конденс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Реакция полимер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Структурное зве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Формула крахма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опросы к игр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оно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поли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бразуются белки, из каких соедине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формулу этилена. В какие реакции вступает этил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реакция поликонденсации? Написать реакцию на до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реакция полимеризации? Написать реакцию на до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обозначаю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формулах полимер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структурное зве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формулу крахм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Рисунок 5" descr="31956.gif"/>
          <p:cNvPicPr/>
          <p:nvPr/>
        </p:nvPicPr>
        <p:blipFill>
          <a:blip r:embed="rId10"/>
          <a:stretch/>
        </p:blipFill>
        <p:spPr>
          <a:xfrm>
            <a:off x="7308720" y="333360"/>
            <a:ext cx="1363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ассификация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1676520"/>
            <a:ext cx="45720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666699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происхожд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048120"/>
            <a:ext cx="25146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прир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3124080"/>
            <a:ext cx="27432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43828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0080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3887280"/>
            <a:ext cx="260208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х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лю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тур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24480" y="3962520"/>
            <a:ext cx="2819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Ф пол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ок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уч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29000" y="3505320"/>
            <a:ext cx="25146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искус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26668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4419720"/>
            <a:ext cx="227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ск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луло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цета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ок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68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68" fill="hold"/>
                                        <p:tgtEl>
                                          <p:spTgt spid="5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68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ассификация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1905120"/>
            <a:ext cx="4572000" cy="914400"/>
          </a:xfrm>
          <a:prstGeom prst="rect">
            <a:avLst/>
          </a:prstGeom>
          <a:gradFill rotWithShape="0">
            <a:gsLst>
              <a:gs pos="0">
                <a:srgbClr val="ffbe05"/>
              </a:gs>
              <a:gs pos="50000">
                <a:srgbClr val="666699"/>
              </a:gs>
              <a:gs pos="100000">
                <a:srgbClr val="ffbe05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отношению к нагре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00000" y="3357720"/>
            <a:ext cx="32004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термопласти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57800" y="3352680"/>
            <a:ext cx="32004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термореак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352680" y="28954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28954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98040" y="4268880"/>
            <a:ext cx="298620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проп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винилхлор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пр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05520" y="4267080"/>
            <a:ext cx="37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нолформальдегид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фирные см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рбамидные см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68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68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68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68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ассификация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38280" y="1676520"/>
            <a:ext cx="45720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666699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форме макро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>
            <a:hlinkClick r:id="rId1" action="ppaction://hlinksldjump"/>
          </p:cNvPr>
          <p:cNvSpPr/>
          <p:nvPr/>
        </p:nvSpPr>
        <p:spPr>
          <a:xfrm>
            <a:off x="685800" y="304812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666699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линей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312408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666699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пространств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43828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0080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2895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 (Н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проп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ок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396252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Ф пол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05320" y="350532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666699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разветвл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26668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29000" y="4343400"/>
            <a:ext cx="2871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 (В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х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уч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68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68" fill="hold"/>
                                        <p:tgtEl>
                                          <p:spTgt spid="5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68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68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5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50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07:44:00Z</dcterms:created>
  <dc:creator>днс</dc:creator>
  <dc:description/>
  <dc:language>en-US</dc:language>
  <cp:lastModifiedBy>днс</cp:lastModifiedBy>
  <dcterms:modified xsi:type="dcterms:W3CDTF">2011-12-25T14:59:01Z</dcterms:modified>
  <cp:revision>30</cp:revision>
  <dc:subject/>
  <dc:title>Слайд 1</dc:title>
</cp:coreProperties>
</file>