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C1D4-3858-4C36-907D-A7887B51D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BCA6-C719-414F-AB8D-F38AC373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590175-2327-4D05-A641-DB82A8A3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D3BD39-A78E-479B-8224-3741D678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72FFC-2BA1-4FB8-9F31-7C704DB7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9E55AB-EA26-4D25-868E-94AE2031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F4A99-5BE2-49A7-B881-A643724D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5D7B68-B24B-427E-812B-B479E3C4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F2CB8B-218E-4D9D-B44B-D54FBD0F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33E89-242C-4530-8BE0-7BCD7D86E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7B80AB-B6CA-4BDA-8D2B-9AF80EE2D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68AD-ACA2-498C-8184-BE30206E2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78B2-710F-4E52-B700-DD35DB65D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627B-3B0A-4D4B-BF39-3EDDE483E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43C9E-63CC-4EFA-BDAC-BA4D03F6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9239-2C78-4543-85D6-5CFFAD7E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F0A53-E53E-41E2-844D-7BCB4903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75908-78CB-47F9-A0C5-1EDC3403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2B42B-2FCB-4930-A9F2-AB353ED3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A33D-868D-4002-A043-1A23E57E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9C2E-EA9A-43A6-8799-2896B218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2265-E1F9-4681-B8B5-233136A0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980E-F5D6-4EBB-BBEB-71FB11D5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2568-B68F-447D-8A1C-FA7C7C5A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2F55C-B496-450D-B74D-BC2FB04F6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8856-0EE6-40AB-A8DD-96EE58C44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392B8-458E-4E8E-B0E7-72F0A4923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C18EC-3879-4E93-A22C-B569F222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33117-20F0-4BE4-82E7-1AA2589C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A1A26-41EA-4CAB-A8AE-9652C3E6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17E01-3392-4393-A429-63961EAC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6581-5BD8-4904-990A-5F3D9970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E3AD4-CB30-439F-BA99-17C55669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AAAEE-ADF6-407D-936D-9C703538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8A5C0-6774-4752-A544-6ECCF4BB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0473D-55FD-42A9-A062-ADFE3518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D681D-5B7B-440D-86ED-795E56FE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7E760-9464-4A28-91FF-A15B040E3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68CF6-10D0-42E2-A733-C5070F1B8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34A35-F0A5-4E28-899F-E143A9129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68FDC-4162-4C9A-8498-0C97B35E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0AED1-0A4B-4772-BDFF-3311D1BC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DE1F-B001-4830-87E8-F375B13E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D673B-31DF-4044-BCEA-90B0A517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54251-50BB-4BD8-BC88-8CB19852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4BC13-55F5-44F0-9BFC-066EA875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12A02-D69A-4433-9305-9BF2B44B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D30E1-4E0B-4492-8ADB-59614E29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99A3B-8E79-4BDC-9501-3AA50132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6F6F6-B993-482E-8600-6BBBDFCF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691C6-3CE0-42FC-A7B7-759D2CEDB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6F080-C234-46A4-96E6-A20B45C6A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2089D-1B72-4DE0-826D-B785658A6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E813-3EE7-4383-B205-022A43D8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70DF3-AA57-4B07-9E1B-D01722CE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3C473-57F0-4530-90DC-B7D42A8B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60154-DCC9-4319-B95B-5FD1C39A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3B0D3-0B14-4E8C-B536-CD402B87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38988-E9A6-40C2-B353-EEE99D7A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BD7C1-2A97-48AF-831D-52B6AFF6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D806A-53CC-43AE-B38B-E1E0836D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0040E-9810-45F0-9293-3E0A4FD4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DD12E-8B1C-47D1-8D0C-A3E046B0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A1929-8F18-4F46-A986-2D1B39284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854D-4940-453E-9A80-58839F8A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805A1-1166-4581-9CD0-C2D7A2D88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34549-1841-469C-882F-90F0864DA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66D5B-1A04-4757-B699-23433DBB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0490F-6D68-4761-A8BF-24167386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46241-0FD7-4926-8980-80F19BAE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B708C-C290-4316-A324-329A369D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5246C-0FD5-4643-991F-284FC233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16699-952D-497C-BCFE-00605725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91735-D022-463C-A358-E353DC5C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C9295-E911-4A43-99C6-C9DD8A65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438E-4C31-4A8E-82FB-029C9425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EC50E-41E9-4125-AC7E-C45BEED4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E465C-B416-4DE6-9A86-B73F838DE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14D28-89D5-4AC1-84D6-B635D1738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C7617-3D10-429B-A088-CD9B1F557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9E3C8-791F-4571-9556-EADFB69C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0B0E1-80F2-46EF-8E92-0CF6AA35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A594E-27A8-454C-8692-6DA497E2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A718B-0287-4DFE-86D0-EE348BFF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0CFBC-C748-40F7-8F36-B85FEC17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9DEB2-8C6A-4FEF-83AC-1DDAE9D9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9B6E-B150-4BC1-9BDD-7E888D2E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99840-DE6D-4AB4-89E4-F1CF2BE4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7E3B0-73FC-400A-AC9A-8C43D83A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96D4F-C191-4D80-B8FB-934DC631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BF981-1B54-443F-92F8-2EAC53105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1434E-0C5B-4B87-80CF-4AED15A9A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91718-278B-42D4-86F4-302FC06F8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56057-26E7-48D1-919A-FB8B6478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AC73D-A03A-4292-AB7C-1B3B2753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BA93A-33DB-4844-A203-DC00BF73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4FA1A-DE02-4D98-B56E-C1F0206E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39A8-9DCA-49B0-928A-F04916E4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1ED3F-F449-432F-A966-F896701B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3E125-0B6D-4B8C-9362-E5418663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70FB9-CE02-4D75-A00E-0E8FE4F9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30546-26A1-4390-AD0B-278FB417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12790-B93E-404B-B1E4-E9BEC237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63B27-B783-4DF9-96FA-99E9185E8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6E48F-1E60-4E09-9A6D-BF4B5DAF3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8325E2-5E97-4B84-9786-843889577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B8B3DB-45E9-45CB-83D5-D5BFD6E6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DACDA4-1BF7-43A2-B8C0-AAB1278C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D141-2178-4E56-9B75-2C3F8A9AD158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5027-7AAF-4BCC-AFC6-2B11D2391BA9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7066-7668-447A-BD90-A475ECBD4B5E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477F-7FAD-4375-923D-D66222FBFE3F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388B-35EE-4A20-BBAD-7A96B9B99A5C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149A-FD4C-4273-9442-030BB117ABDC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15FA-8D5E-4D00-A4B0-6C740018CD28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3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9229-CD82-4AAF-9F89-653117B95D9B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5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6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27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BB91-2950-4D6A-AB9F-0DABE2C7F844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image" Target="../media/image12.jpeg"/><Relationship Id="rId4" Type="http://schemas.openxmlformats.org/officeDocument/2006/relationships/image" Target="../media/image19.jpeg"/><Relationship Id="rId5" Type="http://schemas.openxmlformats.org/officeDocument/2006/relationships/image" Target="../media/image15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устын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69" name="Picture 8" descr="пустыня"/>
          <p:cNvPicPr/>
          <p:nvPr/>
        </p:nvPicPr>
        <p:blipFill>
          <a:blip r:embed="rId1"/>
          <a:stretch/>
        </p:blipFill>
        <p:spPr>
          <a:xfrm>
            <a:off x="1000080" y="1214280"/>
            <a:ext cx="3640320" cy="51850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2" descr="кактус"/>
          <p:cNvPicPr/>
          <p:nvPr/>
        </p:nvPicPr>
        <p:blipFill>
          <a:blip r:embed="rId2"/>
          <a:stretch/>
        </p:blipFill>
        <p:spPr>
          <a:xfrm>
            <a:off x="5056200" y="1600200"/>
            <a:ext cx="3222720" cy="21859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3" descr="колючка кактуса"/>
          <p:cNvPicPr/>
          <p:nvPr/>
        </p:nvPicPr>
        <p:blipFill>
          <a:blip r:embed="rId3"/>
          <a:stretch/>
        </p:blipFill>
        <p:spPr>
          <a:xfrm>
            <a:off x="6265800" y="4611600"/>
            <a:ext cx="803160" cy="84132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14"/>
          <p:cNvSpPr/>
          <p:nvPr/>
        </p:nvSpPr>
        <p:spPr>
          <a:xfrm>
            <a:off x="5290920" y="1125360"/>
            <a:ext cx="182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кту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15"/>
          <p:cNvSpPr/>
          <p:nvPr/>
        </p:nvSpPr>
        <p:spPr>
          <a:xfrm>
            <a:off x="5506560" y="3933720"/>
            <a:ext cx="227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колюч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акту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Влажный тропический лес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75" name="Picture 8" descr="тропики"/>
          <p:cNvPicPr/>
          <p:nvPr/>
        </p:nvPicPr>
        <p:blipFill>
          <a:blip r:embed="rId1"/>
          <a:stretch/>
        </p:blipFill>
        <p:spPr>
          <a:xfrm>
            <a:off x="857160" y="1143000"/>
            <a:ext cx="3646440" cy="532764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4" descr="банан"/>
          <p:cNvPicPr/>
          <p:nvPr/>
        </p:nvPicPr>
        <p:blipFill>
          <a:blip r:embed="rId2"/>
          <a:stretch/>
        </p:blipFill>
        <p:spPr>
          <a:xfrm>
            <a:off x="4788000" y="1700280"/>
            <a:ext cx="3529080" cy="23050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5" descr="лист банана"/>
          <p:cNvPicPr/>
          <p:nvPr/>
        </p:nvPicPr>
        <p:blipFill>
          <a:blip r:embed="rId3"/>
          <a:stretch/>
        </p:blipFill>
        <p:spPr>
          <a:xfrm>
            <a:off x="5580000" y="4724280"/>
            <a:ext cx="1984320" cy="185256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17"/>
          <p:cNvSpPr/>
          <p:nvPr/>
        </p:nvSpPr>
        <p:spPr>
          <a:xfrm>
            <a:off x="6012000" y="1125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ан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18"/>
          <p:cNvSpPr/>
          <p:nvPr/>
        </p:nvSpPr>
        <p:spPr>
          <a:xfrm>
            <a:off x="4932360" y="414972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крупный лис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бана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Луг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81" name="Picture 8" descr="луг"/>
          <p:cNvPicPr/>
          <p:nvPr/>
        </p:nvPicPr>
        <p:blipFill>
          <a:blip r:embed="rId1"/>
          <a:stretch/>
        </p:blipFill>
        <p:spPr>
          <a:xfrm>
            <a:off x="1000080" y="1143000"/>
            <a:ext cx="3672000" cy="525636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2" descr="мышиный горошек"/>
          <p:cNvPicPr/>
          <p:nvPr/>
        </p:nvPicPr>
        <p:blipFill>
          <a:blip r:embed="rId2"/>
          <a:stretch/>
        </p:blipFill>
        <p:spPr>
          <a:xfrm>
            <a:off x="4932360" y="1398600"/>
            <a:ext cx="1871640" cy="324000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3" descr="усик гороха"/>
          <p:cNvPicPr/>
          <p:nvPr/>
        </p:nvPicPr>
        <p:blipFill>
          <a:blip r:embed="rId3"/>
          <a:stretch/>
        </p:blipFill>
        <p:spPr>
          <a:xfrm>
            <a:off x="4932360" y="5070600"/>
            <a:ext cx="1871640" cy="151272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14"/>
          <p:cNvSpPr/>
          <p:nvPr/>
        </p:nvSpPr>
        <p:spPr>
          <a:xfrm>
            <a:off x="7164360" y="197316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ышиный гороше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15"/>
          <p:cNvSpPr/>
          <p:nvPr/>
        </p:nvSpPr>
        <p:spPr>
          <a:xfrm>
            <a:off x="7164360" y="5214960"/>
            <a:ext cx="165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усики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ышиного горош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Степь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87" name="Picture 27" descr="1"/>
          <p:cNvPicPr/>
          <p:nvPr/>
        </p:nvPicPr>
        <p:blipFill>
          <a:blip r:embed="rId1"/>
          <a:stretch/>
        </p:blipFill>
        <p:spPr>
          <a:xfrm>
            <a:off x="928800" y="1285920"/>
            <a:ext cx="3673440" cy="48974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9" descr="2"/>
          <p:cNvPicPr/>
          <p:nvPr/>
        </p:nvPicPr>
        <p:blipFill>
          <a:blip r:embed="rId2"/>
          <a:stretch/>
        </p:blipFill>
        <p:spPr>
          <a:xfrm>
            <a:off x="5072040" y="1357200"/>
            <a:ext cx="2089080" cy="20894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2" descr="чешуя"/>
          <p:cNvPicPr/>
          <p:nvPr/>
        </p:nvPicPr>
        <p:blipFill>
          <a:blip r:embed="rId3"/>
          <a:stretch/>
        </p:blipFill>
        <p:spPr>
          <a:xfrm>
            <a:off x="1542960" y="3981600"/>
            <a:ext cx="1866960" cy="210168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 txBox="1"/>
          <p:nvPr/>
        </p:nvSpPr>
        <p:spPr>
          <a:xfrm>
            <a:off x="4647960" y="5300280"/>
            <a:ext cx="78732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1" name="Text Box 17"/>
          <p:cNvSpPr/>
          <p:nvPr/>
        </p:nvSpPr>
        <p:spPr>
          <a:xfrm>
            <a:off x="4932360" y="140184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18"/>
          <p:cNvSpPr/>
          <p:nvPr/>
        </p:nvSpPr>
        <p:spPr>
          <a:xfrm>
            <a:off x="5076720" y="1401840"/>
            <a:ext cx="107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20"/>
          <p:cNvSpPr/>
          <p:nvPr/>
        </p:nvSpPr>
        <p:spPr>
          <a:xfrm>
            <a:off x="6929280" y="2133720"/>
            <a:ext cx="172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уковица тюльпа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21"/>
          <p:cNvSpPr/>
          <p:nvPr/>
        </p:nvSpPr>
        <p:spPr>
          <a:xfrm>
            <a:off x="6948360" y="4653000"/>
            <a:ext cx="18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чешу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луковиц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22"/>
          <p:cNvSpPr/>
          <p:nvPr/>
        </p:nvSpPr>
        <p:spPr>
          <a:xfrm>
            <a:off x="4572000" y="3933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Хвойный лес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97" name="Picture 8" descr="лес"/>
          <p:cNvPicPr/>
          <p:nvPr/>
        </p:nvPicPr>
        <p:blipFill>
          <a:blip r:embed="rId1"/>
          <a:stretch/>
        </p:blipFill>
        <p:spPr>
          <a:xfrm>
            <a:off x="785880" y="1285920"/>
            <a:ext cx="3816360" cy="52560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12" descr="ель1"/>
          <p:cNvPicPr/>
          <p:nvPr/>
        </p:nvPicPr>
        <p:blipFill>
          <a:blip r:embed="rId2"/>
          <a:stretch/>
        </p:blipFill>
        <p:spPr>
          <a:xfrm>
            <a:off x="4859280" y="1525680"/>
            <a:ext cx="1944720" cy="32400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3" descr="хвоя"/>
          <p:cNvPicPr/>
          <p:nvPr/>
        </p:nvPicPr>
        <p:blipFill>
          <a:blip r:embed="rId3"/>
          <a:stretch/>
        </p:blipFill>
        <p:spPr>
          <a:xfrm>
            <a:off x="4859280" y="5084640"/>
            <a:ext cx="2017800" cy="140040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14"/>
          <p:cNvSpPr/>
          <p:nvPr/>
        </p:nvSpPr>
        <p:spPr>
          <a:xfrm>
            <a:off x="7020000" y="1571760"/>
            <a:ext cx="212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ыкновен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15"/>
          <p:cNvSpPr/>
          <p:nvPr/>
        </p:nvSpPr>
        <p:spPr>
          <a:xfrm>
            <a:off x="6948360" y="5157720"/>
            <a:ext cx="2195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хвоинки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ыкновенн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Болото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03" name="Picture 8" descr="болото"/>
          <p:cNvPicPr/>
          <p:nvPr/>
        </p:nvPicPr>
        <p:blipFill>
          <a:blip r:embed="rId1"/>
          <a:stretch/>
        </p:blipFill>
        <p:spPr>
          <a:xfrm>
            <a:off x="500040" y="1214280"/>
            <a:ext cx="3889440" cy="54007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12" descr="росянка"/>
          <p:cNvPicPr/>
          <p:nvPr/>
        </p:nvPicPr>
        <p:blipFill>
          <a:blip r:embed="rId2"/>
          <a:stretch/>
        </p:blipFill>
        <p:spPr>
          <a:xfrm>
            <a:off x="4643280" y="1214280"/>
            <a:ext cx="2016360" cy="273708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3" descr="лист росянки"/>
          <p:cNvPicPr/>
          <p:nvPr/>
        </p:nvPicPr>
        <p:blipFill>
          <a:blip r:embed="rId3"/>
          <a:stretch/>
        </p:blipFill>
        <p:spPr>
          <a:xfrm>
            <a:off x="4572000" y="4437000"/>
            <a:ext cx="2087640" cy="2089080"/>
          </a:xfrm>
          <a:prstGeom prst="rect">
            <a:avLst/>
          </a:prstGeom>
          <a:ln w="0">
            <a:noFill/>
          </a:ln>
        </p:spPr>
      </p:pic>
      <p:sp>
        <p:nvSpPr>
          <p:cNvPr id="506" name="Text Box 14"/>
          <p:cNvSpPr/>
          <p:nvPr/>
        </p:nvSpPr>
        <p:spPr>
          <a:xfrm>
            <a:off x="6877080" y="1690560"/>
            <a:ext cx="20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сянка круглолист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15"/>
          <p:cNvSpPr/>
          <p:nvPr/>
        </p:nvSpPr>
        <p:spPr>
          <a:xfrm>
            <a:off x="6732720" y="4724280"/>
            <a:ext cx="24112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Ловчий аппара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осян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углолистн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Видоизменения листьев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09" name="Picture 4" descr="лист банана"/>
          <p:cNvPicPr/>
          <p:nvPr/>
        </p:nvPicPr>
        <p:blipFill>
          <a:blip r:embed="rId1"/>
          <a:stretch/>
        </p:blipFill>
        <p:spPr>
          <a:xfrm>
            <a:off x="684360" y="1989000"/>
            <a:ext cx="2016000" cy="14400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6" descr="усик гороха"/>
          <p:cNvPicPr/>
          <p:nvPr/>
        </p:nvPicPr>
        <p:blipFill>
          <a:blip r:embed="rId2"/>
          <a:stretch/>
        </p:blipFill>
        <p:spPr>
          <a:xfrm>
            <a:off x="3492360" y="1989000"/>
            <a:ext cx="2087640" cy="14400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8" descr="чешуя"/>
          <p:cNvPicPr/>
          <p:nvPr/>
        </p:nvPicPr>
        <p:blipFill>
          <a:blip r:embed="rId3"/>
          <a:stretch/>
        </p:blipFill>
        <p:spPr>
          <a:xfrm>
            <a:off x="6300720" y="1989000"/>
            <a:ext cx="1865520" cy="14400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22" descr="3"/>
          <p:cNvPicPr/>
          <p:nvPr/>
        </p:nvPicPr>
        <p:blipFill>
          <a:blip r:embed="rId4"/>
          <a:stretch/>
        </p:blipFill>
        <p:spPr>
          <a:xfrm>
            <a:off x="684360" y="4941720"/>
            <a:ext cx="2174760" cy="15145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2" descr="хвоя"/>
          <p:cNvPicPr/>
          <p:nvPr/>
        </p:nvPicPr>
        <p:blipFill>
          <a:blip r:embed="rId5"/>
          <a:stretch/>
        </p:blipFill>
        <p:spPr>
          <a:xfrm>
            <a:off x="3419640" y="4941720"/>
            <a:ext cx="2232000" cy="15382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3" descr="лист росянки"/>
          <p:cNvPicPr/>
          <p:nvPr/>
        </p:nvPicPr>
        <p:blipFill>
          <a:blip r:embed="rId6"/>
          <a:stretch/>
        </p:blipFill>
        <p:spPr>
          <a:xfrm>
            <a:off x="6300720" y="5013360"/>
            <a:ext cx="1981440" cy="1440000"/>
          </a:xfrm>
          <a:prstGeom prst="rect">
            <a:avLst/>
          </a:prstGeom>
          <a:ln w="0">
            <a:noFill/>
          </a:ln>
        </p:spPr>
      </p:pic>
      <p:sp>
        <p:nvSpPr>
          <p:cNvPr id="515" name="Text Box 14"/>
          <p:cNvSpPr/>
          <p:nvPr/>
        </p:nvSpPr>
        <p:spPr>
          <a:xfrm>
            <a:off x="684360" y="12682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крупный лис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бана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15"/>
          <p:cNvSpPr/>
          <p:nvPr/>
        </p:nvSpPr>
        <p:spPr>
          <a:xfrm>
            <a:off x="3492360" y="126828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усик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ышиного горош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16"/>
          <p:cNvSpPr/>
          <p:nvPr/>
        </p:nvSpPr>
        <p:spPr>
          <a:xfrm>
            <a:off x="6372360" y="1341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чешу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луковицы тюльпа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 Box 17"/>
          <p:cNvSpPr/>
          <p:nvPr/>
        </p:nvSpPr>
        <p:spPr>
          <a:xfrm>
            <a:off x="684360" y="4005360"/>
            <a:ext cx="2303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колючк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акту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 Box 18"/>
          <p:cNvSpPr/>
          <p:nvPr/>
        </p:nvSpPr>
        <p:spPr>
          <a:xfrm>
            <a:off x="3635280" y="4005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хвоинк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ыкновенн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 Box 19"/>
          <p:cNvSpPr/>
          <p:nvPr/>
        </p:nvSpPr>
        <p:spPr>
          <a:xfrm>
            <a:off x="6012000" y="4005360"/>
            <a:ext cx="31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ловчий аппар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росян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углолистн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6T14:52:53Z</dcterms:created>
  <dc:creator>№326</dc:creator>
  <dc:description/>
  <dc:language>en-US</dc:language>
  <cp:lastModifiedBy>Комп</cp:lastModifiedBy>
  <dcterms:modified xsi:type="dcterms:W3CDTF">2015-10-18T10:09:24Z</dcterms:modified>
  <cp:revision>12</cp:revision>
  <dc:subject/>
  <dc:title>Пустыня</dc:title>
</cp:coreProperties>
</file>