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0A7-86CF-4599-841E-28C5BB89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433-A4DC-4AAB-8E08-F9CDA549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88F95-A5EC-46D8-936D-2D8B908E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3C0C8-45B5-437B-B532-97D0B731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B76F8-40D1-46F0-8CDA-6626C7B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32436-FC7D-47AB-80CA-92220DF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FF66-5E12-4F28-9452-4739D72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17BA9-F9A1-492F-B464-9305AED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C9B72-AA32-40B8-8FBE-839ED3D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9D84A-5295-45A1-971D-0A0BDAD4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CE900-56AE-4CA2-8883-60A0CAA4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BB8-6147-4576-8590-4E81E302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F27-E79A-43F7-B13F-7F255A62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D849-2AE2-46C8-84E1-C5138682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DB74-00E2-4402-B67D-81C10AB6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B8F1-4159-46A1-9EEB-0952DF3A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CDAD-615D-411B-B558-3E9CD64E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D291-252D-4459-907C-E2F496A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1EC-2465-49A6-A8EF-7198D11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350-AB8A-465B-8D89-C3B3E448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CF6-2655-4D41-9B34-6267B58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7D4B-3DD1-4CB8-8971-40DF939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755C-099A-43AA-AE8B-B338325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174-1A3B-4B0D-975F-FEF2B7B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2AE2-45E6-4CCD-8D84-A743A110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C06A-2195-4306-841D-33FABB10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8C94-9377-4B37-9912-F2C0AF5F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9907-6A66-4F21-8457-1F01EFC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1E23-3A0C-4D74-8859-51140698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BD5E-64D5-473C-A07E-F82B72B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74CE-4D7A-43F3-AA7C-9BCF75C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590-EB56-415A-97A1-9C42BBD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A29C-2C31-4856-9514-2B3A15FE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8BFF-D061-4907-A686-EDF718B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B4CB-A3C7-4705-AB42-B444E37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5CD2-1FD1-4F4E-ABDF-8F10783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2224-A547-4BBD-A2BB-D4F0BCBB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90BF-E190-4B58-8123-31A4E8A9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2447-EEBA-40CA-84EB-4D848BBE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AEE3-3DF9-474B-A632-744A14B6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982D-5207-43A6-8067-958B5F3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931E-DC54-45DC-B81B-A6B29DB8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851-42DC-4DCD-80D1-E888E316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F19C8-9764-4785-8FDF-21C2BA7B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47A1-F348-4D2E-B122-48DA3F3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0807-11FE-4D20-BE47-AFA580B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1ADC-8D81-4995-9B99-73FB6FE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9191-7BDE-4F7E-ADC8-7DCF3D8C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3A198-9C3D-48BF-9B00-21E99906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BA43-3800-4674-8434-1117CA3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0365-EF0E-40CD-A8DC-90755C90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1B95-13A0-4C9E-BB67-F2F752E0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BFBF-BAA8-416C-B462-AB9AA8C1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A62-360C-4D1B-8CEF-D32FF81B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ABC56-C63D-4EC4-972A-70AE900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BC5B-63C7-44D4-8BAF-7731B44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9E33-55B4-429D-9507-CBC0084B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25DB-2C0D-4941-B0EE-786C04D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9BAC-CFCC-45CD-974C-5528F34D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C3DF-762A-4115-8625-D781ACC5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DF76C-E35B-460E-824D-B65908B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D5F9-69D5-4314-B9E3-0F2E46C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9D2FF-312B-4787-9C86-02A080EE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262D-EAE5-4E5E-977F-F0CEC642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3DD-2AF7-44AE-920A-F8D4D74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4ED0-0AAB-400A-A26C-5123ACE7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9B360-5915-4606-8C98-EAAF2316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ADB3-C107-4867-AE7D-A7FF5C6D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EFD6-D32E-4C96-9428-14628677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996C-DF4D-4FF1-9A40-154F5DF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8809-5396-40C0-B09B-7F71011F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1BC4-2DFE-481E-A21F-BD3A5BB6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CD89-8C76-4D7B-BE5E-29B16E0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56E1-77D3-4A1F-AD36-80F4B20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B0D1-0117-4400-BFBA-E4EEFFC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ADA-A63D-43DF-B228-71F92CB0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F72E-E2E2-4F65-AEEF-39BA5BD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9FD3-4192-4439-8475-96455009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A73BF-56A2-432D-BD5B-D3B82618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7A761-1802-4966-B482-9535AF76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4FE2-392B-427D-9A63-CF55BFA7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5E71-C1C3-4F91-83E5-84C2BB1A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DAF8-182A-4CDC-8508-BE467F2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B2889-9B8E-4590-B013-9691EAF5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9B277-E46E-439D-B869-2FC707C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F428-8E5D-4A03-9CFA-88281CA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60E-4C2E-4C7C-AFE7-154A3D4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060B-91A2-477A-AFFE-647093A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C2873-116A-46E6-BBB6-602F7F7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02C36-D7DA-4C9A-A608-9CC6A42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0E43-72C8-4E25-B3F0-EA92D622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D70E-A3AE-4B13-B913-B24E7C74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50A7-3EE8-4975-A997-2521B075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EBA1-8D16-4B5F-BFAF-CCDED2E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AF210-E079-4315-BD24-F451BDC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F5722-22F0-4730-9093-B0439E27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04231-7709-4F67-A436-256D8C1D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8B7-A91F-40C3-B857-639577C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46AC-79A2-4DEA-B62F-2708273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DED7-A733-415B-9041-CD3BFC3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BD89A-CA99-4B79-BBD4-3B2A93B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BC4FE-E82C-4914-8FF3-E4E9019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C0533-90A0-46B4-A005-2C24B3B7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5A0B7-CC7E-4F9F-B517-26B48961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48099-1453-4618-BC39-4F716858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477C2-F7B9-4527-B0BB-E2AD3988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80C04-1B54-454E-ABB1-AD64CEA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DCA0E-CC42-479C-B95E-057D0C6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B711-9737-43C1-9D5A-BE9AD0C3470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BFD9-969D-43D9-A885-ADDDBDFC31F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7CE-62B3-4F16-88C6-5542C06257E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F5D8-1EFB-44D3-93BA-EF610FDA0BC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161-3396-44A7-B03B-8F2352D64EF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FCDC-7A08-4D7E-8F7D-277BF3C9CCB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4F8E-EE4F-4EC7-BA83-3D42A070C96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6DDF-F1BF-4AAF-AFC9-EF02B9B345E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D317-52FD-49CA-9C62-DBFA9742C75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5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устын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пустыня"/>
          <p:cNvPicPr/>
          <p:nvPr/>
        </p:nvPicPr>
        <p:blipFill>
          <a:blip r:embed="rId1"/>
          <a:stretch/>
        </p:blipFill>
        <p:spPr>
          <a:xfrm>
            <a:off x="1000080" y="1214280"/>
            <a:ext cx="3640320" cy="5185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кактус"/>
          <p:cNvPicPr/>
          <p:nvPr/>
        </p:nvPicPr>
        <p:blipFill>
          <a:blip r:embed="rId2"/>
          <a:stretch/>
        </p:blipFill>
        <p:spPr>
          <a:xfrm>
            <a:off x="5056200" y="1600200"/>
            <a:ext cx="3222720" cy="2185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колючка кактуса"/>
          <p:cNvPicPr/>
          <p:nvPr/>
        </p:nvPicPr>
        <p:blipFill>
          <a:blip r:embed="rId3"/>
          <a:stretch/>
        </p:blipFill>
        <p:spPr>
          <a:xfrm>
            <a:off x="6265800" y="461160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4"/>
          <p:cNvSpPr/>
          <p:nvPr/>
        </p:nvSpPr>
        <p:spPr>
          <a:xfrm>
            <a:off x="5290920" y="112536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т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506560" y="393372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люч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т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лажный тропический лес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5" name="Picture 8" descr="тропики"/>
          <p:cNvPicPr/>
          <p:nvPr/>
        </p:nvPicPr>
        <p:blipFill>
          <a:blip r:embed="rId1"/>
          <a:stretch/>
        </p:blipFill>
        <p:spPr>
          <a:xfrm>
            <a:off x="857160" y="1143000"/>
            <a:ext cx="3646440" cy="5327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" descr="банан"/>
          <p:cNvPicPr/>
          <p:nvPr/>
        </p:nvPicPr>
        <p:blipFill>
          <a:blip r:embed="rId2"/>
          <a:stretch/>
        </p:blipFill>
        <p:spPr>
          <a:xfrm>
            <a:off x="4788000" y="1700280"/>
            <a:ext cx="35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лист банана"/>
          <p:cNvPicPr/>
          <p:nvPr/>
        </p:nvPicPr>
        <p:blipFill>
          <a:blip r:embed="rId3"/>
          <a:stretch/>
        </p:blipFill>
        <p:spPr>
          <a:xfrm>
            <a:off x="5580000" y="4724280"/>
            <a:ext cx="1984320" cy="1852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7"/>
          <p:cNvSpPr/>
          <p:nvPr/>
        </p:nvSpPr>
        <p:spPr>
          <a:xfrm>
            <a:off x="601200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н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8"/>
          <p:cNvSpPr/>
          <p:nvPr/>
        </p:nvSpPr>
        <p:spPr>
          <a:xfrm>
            <a:off x="4932360" y="4149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рупный лис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ан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у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1" name="Picture 8" descr="луг"/>
          <p:cNvPicPr/>
          <p:nvPr/>
        </p:nvPicPr>
        <p:blipFill>
          <a:blip r:embed="rId1"/>
          <a:stretch/>
        </p:blipFill>
        <p:spPr>
          <a:xfrm>
            <a:off x="1000080" y="1143000"/>
            <a:ext cx="3672000" cy="5256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мышиный горошек"/>
          <p:cNvPicPr/>
          <p:nvPr/>
        </p:nvPicPr>
        <p:blipFill>
          <a:blip r:embed="rId2"/>
          <a:stretch/>
        </p:blipFill>
        <p:spPr>
          <a:xfrm>
            <a:off x="4932360" y="1398600"/>
            <a:ext cx="1871640" cy="3240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усик гороха"/>
          <p:cNvPicPr/>
          <p:nvPr/>
        </p:nvPicPr>
        <p:blipFill>
          <a:blip r:embed="rId3"/>
          <a:stretch/>
        </p:blipFill>
        <p:spPr>
          <a:xfrm>
            <a:off x="4932360" y="5070600"/>
            <a:ext cx="1871640" cy="15127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4"/>
          <p:cNvSpPr/>
          <p:nvPr/>
        </p:nvSpPr>
        <p:spPr>
          <a:xfrm>
            <a:off x="7164360" y="19731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иный горош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7164360" y="5214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си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иного горо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еп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7" name="Picture 27" descr="1"/>
          <p:cNvPicPr/>
          <p:nvPr/>
        </p:nvPicPr>
        <p:blipFill>
          <a:blip r:embed="rId1"/>
          <a:stretch/>
        </p:blipFill>
        <p:spPr>
          <a:xfrm>
            <a:off x="928800" y="1285920"/>
            <a:ext cx="3673440" cy="4897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9" descr="2"/>
          <p:cNvPicPr/>
          <p:nvPr/>
        </p:nvPicPr>
        <p:blipFill>
          <a:blip r:embed="rId2"/>
          <a:stretch/>
        </p:blipFill>
        <p:spPr>
          <a:xfrm>
            <a:off x="5072040" y="135720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" descr="чешуя"/>
          <p:cNvPicPr/>
          <p:nvPr/>
        </p:nvPicPr>
        <p:blipFill>
          <a:blip r:embed="rId3"/>
          <a:stretch/>
        </p:blipFill>
        <p:spPr>
          <a:xfrm>
            <a:off x="1542960" y="3981600"/>
            <a:ext cx="1866960" cy="21016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4647960" y="5300280"/>
            <a:ext cx="787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4932360" y="14018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8"/>
          <p:cNvSpPr/>
          <p:nvPr/>
        </p:nvSpPr>
        <p:spPr>
          <a:xfrm>
            <a:off x="5076720" y="140184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0"/>
          <p:cNvSpPr/>
          <p:nvPr/>
        </p:nvSpPr>
        <p:spPr>
          <a:xfrm>
            <a:off x="6929280" y="213372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ковица тюльп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6948360" y="465300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шу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луков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2"/>
          <p:cNvSpPr/>
          <p:nvPr/>
        </p:nvSpPr>
        <p:spPr>
          <a:xfrm>
            <a:off x="4572000" y="39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Хвойный лес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7" name="Picture 8" descr="лес"/>
          <p:cNvPicPr/>
          <p:nvPr/>
        </p:nvPicPr>
        <p:blipFill>
          <a:blip r:embed="rId1"/>
          <a:stretch/>
        </p:blipFill>
        <p:spPr>
          <a:xfrm>
            <a:off x="785880" y="1285920"/>
            <a:ext cx="3816360" cy="5256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ель1"/>
          <p:cNvPicPr/>
          <p:nvPr/>
        </p:nvPicPr>
        <p:blipFill>
          <a:blip r:embed="rId2"/>
          <a:stretch/>
        </p:blipFill>
        <p:spPr>
          <a:xfrm>
            <a:off x="4859280" y="1525680"/>
            <a:ext cx="1944720" cy="3240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хвоя"/>
          <p:cNvPicPr/>
          <p:nvPr/>
        </p:nvPicPr>
        <p:blipFill>
          <a:blip r:embed="rId3"/>
          <a:stretch/>
        </p:blipFill>
        <p:spPr>
          <a:xfrm>
            <a:off x="4859280" y="5084640"/>
            <a:ext cx="2017800" cy="14004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4"/>
          <p:cNvSpPr/>
          <p:nvPr/>
        </p:nvSpPr>
        <p:spPr>
          <a:xfrm>
            <a:off x="7020000" y="1571760"/>
            <a:ext cx="21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ыкнов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6948360" y="5157720"/>
            <a:ext cx="21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хвоин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ыкновен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Болот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3" name="Picture 8" descr="болото"/>
          <p:cNvPicPr/>
          <p:nvPr/>
        </p:nvPicPr>
        <p:blipFill>
          <a:blip r:embed="rId1"/>
          <a:stretch/>
        </p:blipFill>
        <p:spPr>
          <a:xfrm>
            <a:off x="500040" y="1214280"/>
            <a:ext cx="3889440" cy="5400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росянка"/>
          <p:cNvPicPr/>
          <p:nvPr/>
        </p:nvPicPr>
        <p:blipFill>
          <a:blip r:embed="rId2"/>
          <a:stretch/>
        </p:blipFill>
        <p:spPr>
          <a:xfrm>
            <a:off x="4643280" y="1214280"/>
            <a:ext cx="2016360" cy="2737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3" descr="лист росянки"/>
          <p:cNvPicPr/>
          <p:nvPr/>
        </p:nvPicPr>
        <p:blipFill>
          <a:blip r:embed="rId3"/>
          <a:stretch/>
        </p:blipFill>
        <p:spPr>
          <a:xfrm>
            <a:off x="4572000" y="4437000"/>
            <a:ext cx="2087640" cy="20890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14"/>
          <p:cNvSpPr/>
          <p:nvPr/>
        </p:nvSpPr>
        <p:spPr>
          <a:xfrm>
            <a:off x="6877080" y="16905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янка круглолист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6732720" y="4724280"/>
            <a:ext cx="241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овчий аппар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я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лолист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оизменения листье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9" name="Picture 4" descr="лист банана"/>
          <p:cNvPicPr/>
          <p:nvPr/>
        </p:nvPicPr>
        <p:blipFill>
          <a:blip r:embed="rId1"/>
          <a:stretch/>
        </p:blipFill>
        <p:spPr>
          <a:xfrm>
            <a:off x="684360" y="198900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усик гороха"/>
          <p:cNvPicPr/>
          <p:nvPr/>
        </p:nvPicPr>
        <p:blipFill>
          <a:blip r:embed="rId2"/>
          <a:stretch/>
        </p:blipFill>
        <p:spPr>
          <a:xfrm>
            <a:off x="3492360" y="198900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чешуя"/>
          <p:cNvPicPr/>
          <p:nvPr/>
        </p:nvPicPr>
        <p:blipFill>
          <a:blip r:embed="rId3"/>
          <a:stretch/>
        </p:blipFill>
        <p:spPr>
          <a:xfrm>
            <a:off x="6300720" y="1989000"/>
            <a:ext cx="1865520" cy="1440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2" descr="3"/>
          <p:cNvPicPr/>
          <p:nvPr/>
        </p:nvPicPr>
        <p:blipFill>
          <a:blip r:embed="rId4"/>
          <a:stretch/>
        </p:blipFill>
        <p:spPr>
          <a:xfrm>
            <a:off x="684360" y="4941720"/>
            <a:ext cx="2174760" cy="1514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хвоя"/>
          <p:cNvPicPr/>
          <p:nvPr/>
        </p:nvPicPr>
        <p:blipFill>
          <a:blip r:embed="rId5"/>
          <a:stretch/>
        </p:blipFill>
        <p:spPr>
          <a:xfrm>
            <a:off x="3419640" y="4941720"/>
            <a:ext cx="2232000" cy="1538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3" descr="лист росянки"/>
          <p:cNvPicPr/>
          <p:nvPr/>
        </p:nvPicPr>
        <p:blipFill>
          <a:blip r:embed="rId6"/>
          <a:stretch/>
        </p:blipFill>
        <p:spPr>
          <a:xfrm>
            <a:off x="6300720" y="5013360"/>
            <a:ext cx="1981440" cy="1440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4"/>
          <p:cNvSpPr/>
          <p:nvPr/>
        </p:nvSpPr>
        <p:spPr>
          <a:xfrm>
            <a:off x="684360" y="126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рупный лис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бан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3492360" y="1268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с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шиного горо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6372360" y="134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ешу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уковицы тюльп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684360" y="400536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лючк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ту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3635280" y="400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воин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ыкнове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6012000" y="400536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вчий аппар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ся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глолист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4:52:53Z</dcterms:created>
  <dc:creator>№326</dc:creator>
  <dc:description/>
  <dc:language>en-US</dc:language>
  <cp:lastModifiedBy>Комп</cp:lastModifiedBy>
  <dcterms:modified xsi:type="dcterms:W3CDTF">2015-10-18T10:09:24Z</dcterms:modified>
  <cp:revision>12</cp:revision>
  <dc:subject/>
  <dc:title>Пустыня</dc:title>
</cp:coreProperties>
</file>