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F79-A083-45C8-A7C5-3C31B337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D46-96CB-46E6-AD81-B38C2C3D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1B2-398A-49D6-A008-B9B7C6D7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3E4-CC5D-4119-9110-E5C03543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D49A-523E-4745-9874-7AA53DD4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9669-4D73-4533-928D-9CFE831D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C6E7-589A-4C54-AB9F-CC0C6579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B1E1-9B9B-4F4E-82ED-C25430C6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B27A-AC4C-40EC-AD4C-EE82DC6C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21BC-F85E-44B7-B112-08679AA0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E637-BC67-4383-B541-1B5702BD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D41-E199-47F2-B582-84FEB11A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35AA-B811-496E-A2C2-39AF1F73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A1B5-18EB-4A08-BDA9-168AC3B0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35DC-D52C-4377-87D5-58345723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0AED-DF10-4DF6-8DD7-BB0F2A43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F24B-FE20-4A4E-BE86-4EA6A1DB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628-C634-4397-BC59-FB78C94A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EFE-48F3-49D2-A038-A7BE1599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5FA-BB2C-4507-8A41-FCD2BD46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513-853E-47B0-8E6D-93040E3B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279-F888-4870-891C-09113E23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A39-5518-4276-9F75-CFA95CFA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3CE-90A9-4A69-A0CB-340CD79B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E329-538B-4211-895C-B4DE3C9B8264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93DC-CCB8-4215-82E2-17E3B45BB895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8618400" cy="12430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8160" y="2787480"/>
            <a:ext cx="7049880" cy="1795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e6d"/>
                </a:solidFill>
                <a:latin typeface="Georgia"/>
              </a:rPr>
              <a:t>«Лексикон </a:t>
            </a:r>
            <a:r>
              <a:rPr b="1" lang="ru-RU" sz="2800" spc="-1" strike="noStrike">
                <a:solidFill>
                  <a:srgbClr val="004e6d"/>
                </a:solidFill>
                <a:latin typeface="Arial"/>
              </a:rPr>
              <a:t>современных школьников».</a:t>
            </a:r>
            <a:r>
              <a:rPr b="1" lang="ru-RU" sz="3200" spc="-1" strike="noStrike">
                <a:solidFill>
                  <a:srgbClr val="004e6d"/>
                </a:solidFill>
                <a:latin typeface="Georgia"/>
              </a:rPr>
              <a:t>       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0" y="24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              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340000" y="547740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79280" y="115920"/>
          <a:ext cx="8229600" cy="6826320"/>
        </p:xfrm>
        <a:graphic>
          <a:graphicData uri="http://schemas.openxmlformats.org/drawingml/2006/table">
            <a:tbl>
              <a:tblPr/>
              <a:tblGrid>
                <a:gridCol w="2243160"/>
                <a:gridCol w="5986440"/>
              </a:tblGrid>
              <a:tr h="182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лова, обозначающие людей по родству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едки, родичи, родоки (родители), папан, папка (папа), маман (мама), сеструха (сестра), братва 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друзья), братуха, браток (брат), мен (парень)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</a:tr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Учеб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домашка (домашнее задание), двойка (оценка «2»), пятак (оценка «5»), контрошк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Продукты питания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хавка, хавать, хавчик, жрачка (еда), магаз, магазик (магазин), столовка (столовая)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Деньги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бабки, бабло, баксы, штук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320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Слова-оценки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классно, клево, лафа, ништяк, зашибись, кайф (хорошо, отлично), прикольно (интересно), круто (отлично), сто пудов, конкретно (точно), по натуре, реально (правда), воще (восхищение), позорно, стремно, отстойно (плохо, некрасиво), везуха (везучий), фигня(очень простое)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4920" y="189000"/>
          <a:ext cx="8785080" cy="6978600"/>
        </p:xfrm>
        <a:graphic>
          <a:graphicData uri="http://schemas.openxmlformats.org/drawingml/2006/table">
            <a:tbl>
              <a:tblPr/>
              <a:tblGrid>
                <a:gridCol w="2943360"/>
                <a:gridCol w="5841720"/>
              </a:tblGrid>
              <a:tr h="33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Глаголы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отвали, отвяжись, отцепись, отвянь (отойди, отстань), базарить (говорить), приколоться (пошутить), грузить (надоедать), обломиться (неудача), очуметь, обалдеть (удивиться), мутить, наколоть (обманывать), оторвать (достать),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оттянуться (отдохнуть), балдею, тащусь (очень хорошо), слинять, смотать (сбежать), зыришь, пялишь (смотришь), лыбишься  (улыбаешься), грузить (надоедать, приставать), пришить, забить (убить), сгинь, слиняй (уйди), наехать (угрожать);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155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мотик, мотак (мотоцикл), велик (велосипед), тачка (машина), девятка, десятка, пятнадцатка (модели автомобилей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7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Слова, обозначающие людей по их качеству характера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крыса, баран, свинья, собака, лось, лох, лошара,  тормоз, шестерка, дятел, козел, чмо, дылда, корова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0bd0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           </a:t>
            </a: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Вывод:</a:t>
            </a:r>
            <a:endParaRPr b="0" lang="en-US" sz="2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26920" y="1052280"/>
            <a:ext cx="76312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ш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учиться уместно использовать ограниченную лексику в соответствии с ситуацией  общени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Знать о невозможности  ее применения в нормированной реч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Чтобы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бавиться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т отрицательного влияния  ограниченной в употреблении  лексики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до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хорош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нать нормы литературного языка-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нормы произношения, ударения, словоизмен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Не засоряйте свою речь жаргонизмами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Берегите свой язык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Пусть ваша речь будет яркой, образной</a:t>
            </a: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и эмоциональной, доставляющей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окружающим эстетическое удовольствие</a:t>
            </a: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Ведь экология языка – есть экология дух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Молчат гробницы, мумии и кости, –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Лишь слову жизнь дана: 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з древней тьмы, на мировом погосте.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Звучат лишь Письмена!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 нет у нас иного достоянья!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Умейте же беречь 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Хоть в меру сил, в дни злобы и страданья,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аш дар бесценный – речь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И.Бунин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640" y="-1074600"/>
            <a:ext cx="8158320" cy="2147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Цель исследовани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55640" y="1341360"/>
            <a:ext cx="77724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роанализировать речь современных школьников с точки зрения использования ими общеупотребительной и ограниченной в употреблении лексики и определение путей пополнения словарного запаса учащихся моего класс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45520" indent="-245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Область исследования:</a:t>
            </a: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6200" y="1769760"/>
            <a:ext cx="6913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жаргонизмы и молодежный сленг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как слой лексики, тесно связанный с жизнью современного школьника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611280" y="3860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Объект</a:t>
            </a:r>
            <a:r>
              <a:rPr b="0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исследования</a:t>
            </a:r>
            <a:r>
              <a:rPr b="1" lang="ru-RU" sz="3600" spc="-1" strike="noStrike">
                <a:solidFill>
                  <a:srgbClr val="2f1311"/>
                </a:solidFill>
                <a:latin typeface="Constantia"/>
              </a:rPr>
              <a:t>:</a:t>
            </a:r>
            <a:r>
              <a:rPr b="0" lang="ru-RU" sz="3600" spc="-1" strike="noStrike">
                <a:solidFill>
                  <a:srgbClr val="2f1311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684360" y="486900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устная речь учащихся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школы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Гипотеза: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55640" y="1341000"/>
            <a:ext cx="7702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в речи учащихся преобладает ограниченная в употреблении лексика: сленг,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жаргонизм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-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часто употребляемые средства в речи школьников, их употребление связано с желанием выделиться среди людей, быть современными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жаргонные слова составляют смысловые группы, связанные с жизнью и деятельностью школьник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Задачи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2692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20680" indent="-2206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Определить, какое место занимает необщеупотребительная лексика в речи учащихся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Определить понятия "жаргон" и "сленг"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Провести исследование среди учащихся 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класса </a:t>
            </a: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с целью определения :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            </a:t>
            </a: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круга наиболее употребительных жаргонных слов;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            </a:t>
            </a: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частоты  употребления жаргонизмов;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            </a:t>
            </a: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причин употребления школьниками жаргонизмов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430200"/>
            <a:ext cx="74768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002060"/>
                </a:solidFill>
                <a:latin typeface="Georgia"/>
              </a:rPr>
              <a:t>Что такое сленг?</a:t>
            </a:r>
            <a:r>
              <a:rPr b="0" lang="ru-RU" sz="3400" spc="-1" strike="noStrike">
                <a:solidFill>
                  <a:srgbClr val="002060"/>
                </a:solidFill>
                <a:latin typeface="Georgia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560" y="1196640"/>
            <a:ext cx="8569080" cy="51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Georgia"/>
              </a:rPr>
              <a:t>Сленг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- это вариант разговорной речи,  не совпадающий  с нормой литературного языка.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Georgia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Georgia"/>
              </a:rPr>
              <a:t>Сленг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- речь какой-либо объединенной общими  интересами группы, содержащая много отличающихся от общего языка слов и выражений, не вполне понятных окружающи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Georgia"/>
              </a:rPr>
              <a:t>Молодёжный сленг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—это  социальный диалект людей в возрасте 13 — 30 лет, возникший из противопоставления себя старшему поколению и официальной системе,  отличающийся разговорной, а иногда и грубо-фамильярной окраск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025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НК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6312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2f1311"/>
                </a:solidFill>
                <a:uFillTx/>
                <a:latin typeface="Arial"/>
              </a:rPr>
              <a:t>Вопросы анкетирования, которые были предложены учащимся </a:t>
            </a:r>
            <a:r>
              <a:rPr b="0" i="1" lang="ru-RU" sz="10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f1311"/>
                </a:solidFill>
                <a:latin typeface="Arial"/>
              </a:rPr>
              <a:t>1.Употребляете  ли Вы жаргонизмы:</a:t>
            </a: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а). Да;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б). Нет;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в). Иногда;</a:t>
            </a:r>
            <a:br>
              <a:rPr sz="1000"/>
            </a:br>
            <a:br>
              <a:rPr sz="1000"/>
            </a:br>
            <a:r>
              <a:rPr b="1" i="1" lang="ru-RU" sz="1000" spc="-1" strike="noStrike">
                <a:solidFill>
                  <a:srgbClr val="2f1311"/>
                </a:solidFill>
                <a:latin typeface="Arial"/>
              </a:rPr>
              <a:t>2. Почему?</a:t>
            </a: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а). Хотите лучше выразить свои мысли;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б). Не хотите отличаться от сверстников;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в). Боитесь быть осмеянными другими: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г). Не можете заменить жаргонизмы: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д). Другие варианты.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f1311"/>
                </a:solidFill>
                <a:latin typeface="Arial"/>
              </a:rPr>
              <a:t>3. Какие жаргонизмы вы чаще всего употребляете?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ru-RU" sz="1000" spc="-1" strike="noStrike">
                <a:solidFill>
                  <a:srgbClr val="2f1311"/>
                </a:solidFill>
                <a:latin typeface="Arial"/>
              </a:rPr>
              <a:t>4. Как Вы понимаете значение этих слов?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ru-RU" sz="1000" spc="-1" strike="noStrike">
                <a:solidFill>
                  <a:srgbClr val="2f1311"/>
                </a:solidFill>
                <a:latin typeface="Arial"/>
              </a:rPr>
              <a:t>5. Сколько раз в день Вы употребляете такие слова: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а). 1-5 раз;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б). 6-10 раз;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в). Более 10 раз.</a:t>
            </a:r>
            <a:br>
              <a:rPr sz="1000"/>
            </a:br>
            <a:br>
              <a:rPr sz="1000"/>
            </a:br>
            <a:r>
              <a:rPr b="1" i="1" lang="ru-RU" sz="1000" spc="-1" strike="noStrike">
                <a:solidFill>
                  <a:srgbClr val="2f1311"/>
                </a:solidFill>
                <a:latin typeface="Arial"/>
              </a:rPr>
              <a:t>6. Как Вы считаете, в результате речь становится: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а). Лучше;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б). Хуже;</a:t>
            </a:r>
            <a:br>
              <a:rPr sz="1000"/>
            </a:br>
            <a:br>
              <a:rPr sz="1200"/>
            </a:b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в). Затрудняюсь ответить.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025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- Анализ анкет показал следующие наиболее распространенные среди учащихся жаргонизмы: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2f1311"/>
                </a:solidFill>
                <a:uFillTx/>
                <a:latin typeface="Arial"/>
              </a:rPr>
              <a:t>     </a:t>
            </a:r>
            <a:r>
              <a:rPr b="0" lang="ru-RU" sz="1200" spc="-1" strike="noStrike" u="sng">
                <a:solidFill>
                  <a:srgbClr val="0033cc"/>
                </a:solidFill>
                <a:uFillTx/>
                <a:latin typeface="Arial"/>
              </a:rPr>
              <a:t>СУЩЕСТВИТЕЛЬНЫЕ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                                          </a:t>
            </a:r>
            <a:r>
              <a:rPr b="0" lang="ru-RU" sz="1200" spc="-1" strike="noStrike" u="sng">
                <a:solidFill>
                  <a:srgbClr val="0033cc"/>
                </a:solidFill>
                <a:uFillTx/>
                <a:latin typeface="Arial"/>
              </a:rPr>
              <a:t>ГЛАГОЛ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хавальник                                                              зыркат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                                                                               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приперся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чувак                                                                      замутит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фигня                                                                     прошвырнут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лажа                                                                       притащился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бабло                                                                      лыбиться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репа                                                                        мозговат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лох                                                                          схамякат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косяк                                                                      пахат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тупизна                                                                  не тормози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                                                                               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звякнут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                                                                                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лухат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cc"/>
                </a:solidFill>
                <a:uFillTx/>
                <a:latin typeface="Arial"/>
              </a:rPr>
              <a:t>НАРЕЧИЯ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клев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крут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офигенн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топудов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прикольн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зашибис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фиолетов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68360" y="0"/>
            <a:ext cx="8418600" cy="10368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31560" y="2922480"/>
            <a:ext cx="704988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24000" y="1197000"/>
          <a:ext cx="8569080" cy="4948200"/>
        </p:xfrm>
        <a:graphic>
          <a:graphicData uri="http://schemas.openxmlformats.org/drawingml/2006/table">
            <a:tbl>
              <a:tblPr/>
              <a:tblGrid>
                <a:gridCol w="2808000"/>
                <a:gridCol w="5761080"/>
              </a:tblGrid>
              <a:tr h="219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Части тел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грабли, заготовки (руки), пачка, башня (голова), зенки, бельма (глаза), варежка (рот), локаторы (уши)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</a:tr>
              <a:tr h="219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Слова, обозначающие людей</a:t>
                      </a:r>
                      <a:r>
                        <a:rPr b="0" lang="ru-RU" sz="2400" spc="-1" strike="noStrike">
                          <a:solidFill>
                            <a:srgbClr val="c1605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по профессии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79af7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училка (учительница), водила (водитель), историчка (учитель истории), мент (милиционер)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79af7d"/>
                    </a:solidFill>
                  </a:tcPr>
                </a:tc>
              </a:tr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Бытовая техник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ящик, телик (телевизор), мобила,  сотик (мобильный телефон), комп (компьютер), видак (видеомагнитофон), дивидишка (</a:t>
                      </a:r>
                      <a:r>
                        <a:rPr b="0" lang="en-US" sz="24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DVD</a:t>
                      </a:r>
                      <a:r>
                        <a:rPr b="0" lang="ru-RU" sz="2400" spc="-1" strike="noStrike">
                          <a:solidFill>
                            <a:srgbClr val="c16059"/>
                          </a:solidFill>
                          <a:latin typeface="Georgia"/>
                          <a:ea typeface="Times New Roman"/>
                        </a:rPr>
                        <a:t>)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09:25:03Z</dcterms:created>
  <dc:creator>Minira</dc:creator>
  <dc:description/>
  <dc:language>en-US</dc:language>
  <cp:lastModifiedBy>Minira</cp:lastModifiedBy>
  <dcterms:modified xsi:type="dcterms:W3CDTF">2015-10-18T15:23:44Z</dcterms:modified>
  <cp:revision>8</cp:revision>
  <dc:subject/>
  <dc:title>PowerPoint Presentation</dc:title>
</cp:coreProperties>
</file>