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5F0-C5C9-4557-AB58-7067AEBC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6DE-14CA-4F64-803D-48EEDF19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42A-0704-416B-9A35-0EBEFEA0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918B-434F-435F-B4D4-474F016A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4D69-35D3-4DC4-85EF-15A2E49F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FAB7-72DB-4A14-8498-E18C9D16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5AF9-EF71-468A-88DB-737BB153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5B25-A18B-4336-B79F-F68B3947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CCF2-5E69-4237-B813-93685FD1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B45C-6DDD-4046-9060-427D44EA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3346-A9F5-40B8-8BE0-8C434E9D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93E-357A-4259-9FE8-2B65E100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5D35-A01A-4205-8FF4-99F18D10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7952-31B8-4884-8670-035AE866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661E-9DED-4A85-AFE7-3EC70255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22E3-B3D6-452D-A6A3-6AD80003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5304-95DB-4A31-B534-6E05841D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678-36AC-4C11-A148-559A2119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5F1-15E4-4D9D-A6DE-E012CE0D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6CA-9073-434F-AF00-712FD37B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3D9-1D01-4852-A70E-EC07D989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AB7-9C35-4DB4-BA74-FC7A22FE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DFA-F2A7-4F5D-94D1-13C838FF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086-A899-4956-A752-43423DC6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4410-A9C2-4049-9311-DA9BA9F85E90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DAA9-D89C-4EE7-B119-CAD3ED2231AA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8618400" cy="12430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8160" y="2787480"/>
            <a:ext cx="7049880" cy="1795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e6d"/>
                </a:solidFill>
                <a:latin typeface="Georgia"/>
              </a:rPr>
              <a:t>«Лексикон </a:t>
            </a:r>
            <a:r>
              <a:rPr b="1" lang="ru-RU" sz="2800" spc="-1" strike="noStrike">
                <a:solidFill>
                  <a:srgbClr val="004e6d"/>
                </a:solidFill>
                <a:latin typeface="Arial"/>
              </a:rPr>
              <a:t>современных школьников».</a:t>
            </a:r>
            <a:r>
              <a:rPr b="1" lang="ru-RU" sz="3200" spc="-1" strike="noStrike">
                <a:solidFill>
                  <a:srgbClr val="004e6d"/>
                </a:solidFill>
                <a:latin typeface="Georgia"/>
              </a:rPr>
              <a:t>        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0" y="24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              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340000" y="547740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79280" y="115920"/>
          <a:ext cx="8229600" cy="6826320"/>
        </p:xfrm>
        <a:graphic>
          <a:graphicData uri="http://schemas.openxmlformats.org/drawingml/2006/table">
            <a:tbl>
              <a:tblPr/>
              <a:tblGrid>
                <a:gridCol w="2243160"/>
                <a:gridCol w="5986440"/>
              </a:tblGrid>
              <a:tr h="182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лова, обозначающие людей по родству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едки, родичи, родоки (родители), папан, папка (папа), маман (мама), сеструха (сестра), братва 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друзья), братуха, браток (брат), мен (парень)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</a:tr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Учеб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домашка (домашнее задание), двойка (оценка «2»), пятак (оценка «5»), контрошк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Продукты питания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хавка, хавать, хавчик, жрачка (еда), магаз, магазик (магазин), столовка (столовая)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Деньги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бабки, бабло, баксы, штук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320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Слова-оценки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классно, клево, лафа, ништяк, зашибись, кайф (хорошо, отлично), прикольно (интересно), круто (отлично), сто пудов, конкретно (точно), по натуре, реально (правда), воще (восхищение), позорно, стремно, отстойно (плохо, некрасиво), везуха (везучий), фигня(очень простое)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4920" y="189000"/>
          <a:ext cx="8785080" cy="6978600"/>
        </p:xfrm>
        <a:graphic>
          <a:graphicData uri="http://schemas.openxmlformats.org/drawingml/2006/table">
            <a:tbl>
              <a:tblPr/>
              <a:tblGrid>
                <a:gridCol w="2943360"/>
                <a:gridCol w="5841720"/>
              </a:tblGrid>
              <a:tr h="33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Глаголы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отвали, отвяжись, отцепись, отвянь (отойди, отстань), базарить (говорить), приколоться (пошутить), грузить (надоедать), обломиться (неудача), очуметь, обалдеть (удивиться), мутить, наколоть (обманывать), оторвать (достать),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оттянуться (отдохнуть), балдею, тащусь (очень хорошо), слинять, смотать (сбежать), зыришь, пялишь (смотришь), лыбишься  (улыбаешься), грузить (надоедать, приставать), пришить, забить (убить), сгинь, слиняй (уйди), наехать (угрожать);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155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мотик, мотак (мотоцикл), велик (велосипед), тачка (машина), девятка, десятка, пятнадцатка (модели автомобилей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7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Слова, обозначающие людей по их качеству характера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крыса, баран, свинья, собака, лось, лох, лошара,  тормоз, шестерка, дятел, козел, чмо, дылда, корова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bd0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           </a:t>
            </a: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Вывод:</a:t>
            </a:r>
            <a:endParaRPr b="0" lang="en-US" sz="2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26920" y="1052280"/>
            <a:ext cx="76312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ш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учиться уместно использовать ограниченную лексику в соответствии с ситуацией  общени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Знать о невозможности  ее применения в нормированной реч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Чтобы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збавиться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т отрицательного влияния  ограниченной в употреблении  лексики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до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хорош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нать нормы литературного языка-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нормы произношения, ударения, словоизмен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Не засоряйте свою речь жаргонизмами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Берегите свой язык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Пусть ваша речь будет яркой, образной</a:t>
            </a: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и эмоциональной, доставляющей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окружающим эстетическое удовольствие</a:t>
            </a: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Ведь экология языка – есть экология дух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Молчат гробницы, мумии и кости, –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Лишь слову жизнь дана: 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Из древней тьмы, на мировом погосте.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Звучат лишь Письмена!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И нет у нас иного достоянья!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Умейте же беречь 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Хоть в меру сил, в дни злобы и страданья,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аш дар бесценный – речь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И.Бунин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640" y="-1074600"/>
            <a:ext cx="8158320" cy="2147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Цель исследовани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55640" y="1341360"/>
            <a:ext cx="77724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роанализировать речь современных школьников с точки зрения использования ими общеупотребительной и ограниченной в употреблении лексики и определение путей пополнения словарного запаса учащихся моего класс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45520" indent="-245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Область исследования:</a:t>
            </a: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6200" y="1769760"/>
            <a:ext cx="6913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Georgia"/>
              </a:rPr>
              <a:t>жаргонизмы и молодежный сленг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u-RU" sz="3000" spc="-1" strike="noStrike">
                <a:solidFill>
                  <a:srgbClr val="002060"/>
                </a:solidFill>
                <a:latin typeface="Georgia"/>
              </a:rPr>
              <a:t>как слой лексики, тесно связанный с жизнью современного школьника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611280" y="3860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Объект</a:t>
            </a:r>
            <a:r>
              <a:rPr b="0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исследования</a:t>
            </a:r>
            <a:r>
              <a:rPr b="1" lang="ru-RU" sz="3600" spc="-1" strike="noStrike">
                <a:solidFill>
                  <a:srgbClr val="2f1311"/>
                </a:solidFill>
                <a:latin typeface="Constantia"/>
              </a:rPr>
              <a:t>:</a:t>
            </a:r>
            <a:r>
              <a:rPr b="0" lang="ru-RU" sz="3600" spc="-1" strike="noStrike">
                <a:solidFill>
                  <a:srgbClr val="2f1311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684360" y="486900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устная речь учащихся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школы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Гипотеза: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55640" y="1341000"/>
            <a:ext cx="7702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в речи учащихся преобладает ограниченная в употреблении лексика: сленг,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жаргонизм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-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часто употребляемые средства в речи школьников, их употребление связано с желанием выделиться среди людей, быть современными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жаргонные слова составляют смысловые группы, связанные с жизнью и деятельностью школьник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Задачи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2692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20680" indent="-2206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Определить, какое место занимает необщеупотребительная лексика в речи учащихся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Определить понятия "жаргон" и "сленг"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Провести исследование среди учащихся 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класса </a:t>
            </a: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с целью определения :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            </a:t>
            </a: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круга наиболее употребительных жаргонных слов;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            </a:t>
            </a: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частоты  употребления жаргонизмов;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            </a:t>
            </a: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причин употребления школьниками жаргонизмов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430200"/>
            <a:ext cx="74768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002060"/>
                </a:solidFill>
                <a:latin typeface="Georgia"/>
              </a:rPr>
              <a:t>Что такое сленг?</a:t>
            </a:r>
            <a:r>
              <a:rPr b="0" lang="ru-RU" sz="3400" spc="-1" strike="noStrike">
                <a:solidFill>
                  <a:srgbClr val="002060"/>
                </a:solidFill>
                <a:latin typeface="Georgia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560" y="1196640"/>
            <a:ext cx="8569080" cy="51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Georgia"/>
              </a:rPr>
              <a:t>Сленг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 - это вариант разговорной речи,  не совпадающий  с нормой литературного языка.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Georgia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Georgia"/>
              </a:rPr>
              <a:t>Сленг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 - речь какой-либо объединенной общими  интересами группы, содержащая много отличающихся от общего языка слов и выражений, не вполне понятных окружающи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Georgia"/>
              </a:rPr>
              <a:t>Молодёжный сленг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 —это  социальный диалект людей в возрасте 13 — 30 лет, возникший из противопоставления себя старшему поколению и официальной системе,  отличающийся разговорной, а иногда и грубо-фамильярной окраск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025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НК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76312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2f1311"/>
                </a:solidFill>
                <a:uFillTx/>
                <a:latin typeface="Arial"/>
              </a:rPr>
              <a:t>Вопросы анкетирования, которые были предложены учащимся </a:t>
            </a:r>
            <a:r>
              <a:rPr b="0" i="1" lang="ru-RU" sz="10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f1311"/>
                </a:solidFill>
                <a:latin typeface="Arial"/>
              </a:rPr>
              <a:t>1.Употребляете  ли Вы жаргонизмы:</a:t>
            </a: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а). Да;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б). Нет;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в). Иногда;</a:t>
            </a:r>
            <a:br>
              <a:rPr sz="1000"/>
            </a:br>
            <a:br>
              <a:rPr sz="1000"/>
            </a:br>
            <a:r>
              <a:rPr b="1" i="1" lang="ru-RU" sz="1000" spc="-1" strike="noStrike">
                <a:solidFill>
                  <a:srgbClr val="2f1311"/>
                </a:solidFill>
                <a:latin typeface="Arial"/>
              </a:rPr>
              <a:t>2. Почему?</a:t>
            </a: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а). Хотите лучше выразить свои мысли;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б). Не хотите отличаться от сверстников;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в). Боитесь быть осмеянными другими: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г). Не можете заменить жаргонизмы: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д). Другие варианты.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f1311"/>
                </a:solidFill>
                <a:latin typeface="Arial"/>
              </a:rPr>
              <a:t>3. Какие жаргонизмы вы чаще всего употребляете?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ru-RU" sz="1000" spc="-1" strike="noStrike">
                <a:solidFill>
                  <a:srgbClr val="2f1311"/>
                </a:solidFill>
                <a:latin typeface="Arial"/>
              </a:rPr>
              <a:t>4. Как Вы понимаете значение этих слов?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ru-RU" sz="1000" spc="-1" strike="noStrike">
                <a:solidFill>
                  <a:srgbClr val="2f1311"/>
                </a:solidFill>
                <a:latin typeface="Arial"/>
              </a:rPr>
              <a:t>5. Сколько раз в день Вы употребляете такие слова: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а). 1-5 раз;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б). 6-10 раз;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в). Более 10 раз.</a:t>
            </a:r>
            <a:br>
              <a:rPr sz="1000"/>
            </a:br>
            <a:br>
              <a:rPr sz="1000"/>
            </a:br>
            <a:r>
              <a:rPr b="1" i="1" lang="ru-RU" sz="1000" spc="-1" strike="noStrike">
                <a:solidFill>
                  <a:srgbClr val="2f1311"/>
                </a:solidFill>
                <a:latin typeface="Arial"/>
              </a:rPr>
              <a:t>6. Как Вы считаете, в результате речь становится: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а). Лучше;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б). Хуже;</a:t>
            </a:r>
            <a:br>
              <a:rPr sz="1000"/>
            </a:br>
            <a:br>
              <a:rPr sz="12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в). Затрудняюсь ответить.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025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- Анализ анкет показал следующие наиболее распространенные среди учащихся жаргонизмы: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2f1311"/>
                </a:solidFill>
                <a:uFillTx/>
                <a:latin typeface="Arial"/>
              </a:rPr>
              <a:t>     </a:t>
            </a:r>
            <a:r>
              <a:rPr b="0" lang="ru-RU" sz="1200" spc="-1" strike="noStrike" u="sng">
                <a:solidFill>
                  <a:srgbClr val="0033cc"/>
                </a:solidFill>
                <a:uFillTx/>
                <a:latin typeface="Arial"/>
              </a:rPr>
              <a:t>СУЩЕСТВИТЕЛЬНЫЕ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                                          </a:t>
            </a:r>
            <a:r>
              <a:rPr b="0" lang="ru-RU" sz="1200" spc="-1" strike="noStrike" u="sng">
                <a:solidFill>
                  <a:srgbClr val="0033cc"/>
                </a:solidFill>
                <a:uFillTx/>
                <a:latin typeface="Arial"/>
              </a:rPr>
              <a:t>ГЛАГОЛ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хавальник                                                              зыркат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                                                                               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приперся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чувак                                                                      замутит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фигня                                                                     прошвырнут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лажа                                                                       притащился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бабло                                                                      лыбиться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репа                                                                        мозговат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лох                                                                          схамякат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косяк                                                                      пахат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тупизна                                                                  не тормози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                                                                               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звякнут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                                                                                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лухат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cc"/>
                </a:solidFill>
                <a:uFillTx/>
                <a:latin typeface="Arial"/>
              </a:rPr>
              <a:t>НАРЕЧИЯ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клево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круто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офигенно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топудово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прикольно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зашибис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фиолетово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468360" y="0"/>
            <a:ext cx="8418600" cy="10368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31560" y="2922480"/>
            <a:ext cx="704988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24000" y="1197000"/>
          <a:ext cx="8569080" cy="4948200"/>
        </p:xfrm>
        <a:graphic>
          <a:graphicData uri="http://schemas.openxmlformats.org/drawingml/2006/table">
            <a:tbl>
              <a:tblPr/>
              <a:tblGrid>
                <a:gridCol w="2808000"/>
                <a:gridCol w="5761080"/>
              </a:tblGrid>
              <a:tr h="219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Части тел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грабли, заготовки (руки), пачка, башня (голова), зенки, бельма (глаза), варежка (рот), локаторы (уши)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</a:tr>
              <a:tr h="219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Слова, обозначающие людей</a:t>
                      </a:r>
                      <a:r>
                        <a:rPr b="0" lang="ru-RU" sz="2400" spc="-1" strike="noStrike">
                          <a:solidFill>
                            <a:srgbClr val="c1605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по профессии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79af7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училка (учительница), водила (водитель), историчка (учитель истории), мент (милиционер)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79af7d"/>
                    </a:solidFill>
                  </a:tcPr>
                </a:tc>
              </a:tr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Бытовая техник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ящик, телик (телевизор), мобила,  сотик (мобильный телефон), комп (компьютер), видак (видеомагнитофон), дивидишка (</a:t>
                      </a:r>
                      <a:r>
                        <a:rPr b="0" lang="en-US" sz="24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DVD</a:t>
                      </a:r>
                      <a:r>
                        <a:rPr b="0" lang="ru-RU" sz="24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)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09:25:03Z</dcterms:created>
  <dc:creator>Minira</dc:creator>
  <dc:description/>
  <dc:language>en-US</dc:language>
  <cp:lastModifiedBy>Minira</cp:lastModifiedBy>
  <dcterms:modified xsi:type="dcterms:W3CDTF">2015-10-18T15:23:44Z</dcterms:modified>
  <cp:revision>8</cp:revision>
  <dc:subject/>
  <dc:title>PowerPoint Presentation</dc:title>
</cp:coreProperties>
</file>