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0ED-3A9A-4159-8D37-962E38A9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CB7-8026-4107-AA8E-8762AB4A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78D-8840-4C34-B50C-A1C06B11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83F-DFF0-4513-AC83-5509AE3F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2F2C-EED1-452C-8EAB-4B30C91C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A8CC-A5F9-44B9-84A4-EC3881B3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0A4C-93FE-4EE0-81F5-A28FDB81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40B8-580B-41E4-958D-F654697E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C2D1-257F-4C3C-ACE8-583377C3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EA80-132E-4F2D-94A4-4BA1D9BE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7E94-8760-4632-8935-7E2CF15B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3B6-E4F6-4791-B186-7E2684AB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B3A1-503C-467B-8F8D-04E3045E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6F49-AE57-4031-8B97-65E79A6A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C1A8-9CDC-4E07-ABE3-A3FD60B9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14DA-F8B0-41D0-9017-8E3A0E31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FA69-85EF-4007-8EA8-D77E2CCD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F63-13BA-4E32-87A8-B002B71E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9B9-14FD-422B-BF4A-6ABB8893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62F-4FDB-4EA6-AEEA-4ECBD141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16D-43E8-4B92-A7FE-BE0E5975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44D-76DF-444E-9D44-8DC4F3EC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95B-4F4E-4F36-A564-F3B51746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344-6102-41D0-A486-91DD58DA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A8B4-C42C-4A72-8A07-1D9FA694BC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4632-A496-4588-9BD1-7D54032EE3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rditecountryshownotes.files.wordpress.com/2009/10/cougar-82.jpg?w=570&amp;h=427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s.ru/photo/usa_191020051227_9368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loonder.ru/imgserv/mod/nature/forest/1280x800/wallpaper-1280x800-08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«Пума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0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у выполнила ученица 3 класса МБОУ «Гончаровская СОШ»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рочкина Анастасия Владимиров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 Black"/>
              </a:rPr>
              <a:t>                                                           </a:t>
            </a:r>
            <a:endParaRPr b="1" lang="en-US" sz="11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324000" y="357120"/>
            <a:ext cx="8569080" cy="63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564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Как только ни называли этого зверя: 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и львом, и тигром, и пантерой, и леопардом, 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и серебристым львом, и американским львом, 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и горным львом, и кугуаром. 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Но зоологи эту крупную кошку называют…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71640" y="6308280"/>
            <a:ext cx="6781680" cy="4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у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Дикие пумы (59 фото)"/>
          <p:cNvPicPr/>
          <p:nvPr/>
        </p:nvPicPr>
        <p:blipFill>
          <a:blip r:embed="rId1"/>
          <a:stretch/>
        </p:blipFill>
        <p:spPr>
          <a:xfrm>
            <a:off x="250920" y="1700280"/>
            <a:ext cx="87850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66"/>
                </a:solidFill>
                <a:uFillTx/>
                <a:latin typeface="Arial Black"/>
              </a:rPr>
              <a:t>Распространены пумы от юга Канады до Огненной Земли у самого конца Южной Америки.</a:t>
            </a: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 Пума хорошо себя чувствует и в прохладе высокогорий, и рядом с тропическими болотами, и в различных лесах (но везде предпочитает селиться на опушках)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5661000"/>
            <a:ext cx="8521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Картинка 5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44640"/>
            <a:ext cx="87138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436640"/>
            <a:ext cx="8424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Arial Black"/>
              </a:rPr>
              <a:t>Это крупная и сильная кошка.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Arial Black"/>
              </a:rPr>
              <a:t> Длина взрослой пумы до кончика хвоста достигает 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Arial Black"/>
              </a:rPr>
              <a:t>2,5 метров. Вес до 90 килограмм. </a:t>
            </a:r>
            <a:br>
              <a:rPr sz="1800"/>
            </a:br>
            <a:r>
              <a:rPr b="1" lang="ru-RU" sz="2400" spc="-1" strike="noStrike">
                <a:solidFill>
                  <a:srgbClr val="ffff66"/>
                </a:solidFill>
                <a:latin typeface="Arial Black"/>
              </a:rPr>
              <a:t>Пума</a:t>
            </a:r>
            <a:br>
              <a:rPr sz="2400"/>
            </a:br>
            <a:r>
              <a:rPr b="1" lang="ru-RU" sz="1800" spc="-1" strike="noStrike">
                <a:solidFill>
                  <a:srgbClr val="ffff66"/>
                </a:solidFill>
                <a:latin typeface="Arial Black"/>
              </a:rPr>
              <a:t> отлично лазает по деревьям и обрывам. Хорошо, но неохотно плавает. Прыжок у пумы почти 8 метров. Любимая добыча пумы - белохвостый олень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9930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476280"/>
            <a:ext cx="446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 Black"/>
              </a:rPr>
              <a:t>Пумы это охотники-одиночки. Котят они рождают высоко в горах в пещерах. Их бывает не больше 6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 Black"/>
              </a:rPr>
              <a:t>а то и вовсе 1. Рождаются котята слепыми, мать их кормит молоком, пока они не откроют глаза. Это происходит через 2-3 недели после рождения. Держатся с матерью они до двух лет. Живут пумы около 15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puma_30"/>
          <p:cNvPicPr/>
          <p:nvPr/>
        </p:nvPicPr>
        <p:blipFill>
          <a:blip r:embed="rId1"/>
          <a:stretch/>
        </p:blipFill>
        <p:spPr>
          <a:xfrm>
            <a:off x="179280" y="189000"/>
            <a:ext cx="3997440" cy="59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3428640"/>
            <a:ext cx="5761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 Black"/>
              </a:rPr>
              <a:t>Это хищник, а хищник - вра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 Black"/>
              </a:rPr>
              <a:t>Вот потому-то человек начал уничтожать Пуму. Она может броситься на человека только когда ей не </a:t>
            </a: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 Black"/>
              </a:rPr>
              <a:t>куда д</a:t>
            </a:r>
            <a:r>
              <a:rPr b="0" lang="ru-RU" sz="2000" spc="-1" strike="noStrike">
                <a:solidFill>
                  <a:srgbClr val="ffff66"/>
                </a:solidFill>
                <a:latin typeface="Arial Black"/>
              </a:rPr>
              <a:t>еват</a:t>
            </a: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 Black"/>
              </a:rPr>
              <a:t>ься, если человек </a:t>
            </a:r>
            <a:r>
              <a:rPr b="0" lang="ru-RU" sz="2000" spc="-1" strike="noStrike">
                <a:solidFill>
                  <a:srgbClr val="ffff66"/>
                </a:solidFill>
                <a:latin typeface="Arial Black"/>
              </a:rPr>
              <a:t>загнал её на дерево или в тупик. Пумы очень тихие животные. Даже в ловушке или затравленная собаками она хранит молчание. Визжит она только в том случае, если теряет детёны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Дикие пумы (59 фото)"/>
          <p:cNvPicPr/>
          <p:nvPr/>
        </p:nvPicPr>
        <p:blipFill>
          <a:blip r:embed="rId1"/>
          <a:stretch/>
        </p:blipFill>
        <p:spPr>
          <a:xfrm>
            <a:off x="179280" y="115920"/>
            <a:ext cx="5905440" cy="309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Пума"/>
          <p:cNvPicPr/>
          <p:nvPr/>
        </p:nvPicPr>
        <p:blipFill>
          <a:blip r:embed="rId2"/>
          <a:stretch/>
        </p:blipFill>
        <p:spPr>
          <a:xfrm>
            <a:off x="6156360" y="2852640"/>
            <a:ext cx="280836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3500280"/>
            <a:ext cx="52578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За добычу пум даже выплачивали прем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Только в США с 1937—1969 гг. убили почти 7,3 тыс. этих хищни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Численность животных сократилась из-за разрушения мест обитания (вырубка лес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Сохранилось лишь небольшое количество пум на западе Канады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США и немного во Флориде, в болотах Эверглейд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(ныне там национальный парк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Картинка 133 из 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844640"/>
            <a:ext cx="309744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артинка 53 из 59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72436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1116000" y="404640"/>
            <a:ext cx="6840720" cy="410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337440" cy="3961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494400"/>
            <a:ext cx="838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ffffb7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0:06:15Z</dcterms:created>
  <dc:creator>Админ</dc:creator>
  <dc:description/>
  <dc:language>en-US</dc:language>
  <cp:lastModifiedBy>User</cp:lastModifiedBy>
  <dcterms:modified xsi:type="dcterms:W3CDTF">2015-10-17T21:46:51Z</dcterms:modified>
  <cp:revision>11</cp:revision>
  <dc:subject/>
  <dc:title>Животные Красной книги</dc:title>
</cp:coreProperties>
</file>