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EFFD1-6972-4156-B559-A53992E09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DEC34-C1F8-492F-81E3-EE722EE3E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25894-E718-4CF2-8096-85AF6EFFF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C3CA6-4A6B-49C8-AC4E-20C040C98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9F26F-80BE-43BD-8D30-CE2973E0A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4291E-0372-4CE4-96FD-1FBAC36BA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2581C-1685-4F88-BBC7-FEBB85473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ED34B-35B4-464A-9170-168087113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C9A98-2C6E-4A65-8DB4-14F30C8A4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6D9A2-B017-479C-9A20-415C97DD5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EC21F-29E0-4BA6-8687-C5C35FA14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31ACA-D422-4A1D-B924-B9D1FBBF6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3D51C-04C6-4C16-870F-31F96B7C2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51C70-265B-4806-9E94-BA5F51F03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D4709-D92F-490A-ACA2-9B1FADF4B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5D0D0-DA8C-426A-A3B6-6386EF7F5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1C973-1409-4AE5-A536-BA48EF21B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7803C-015A-4BCA-9361-D2FF9D73F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F371C-110E-482F-8D87-D8DCFDC89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4DE29-5948-4318-B5F1-2263A1FE4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1A78D-749C-44D8-B3C6-36CDA9D5D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A3FE7-9435-4554-A9C6-923BBD9E5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82288-D4C2-4197-B3DB-E6A8343AE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57F36-6B08-4D2A-8675-8834FE73F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6E32B-38AD-42C3-896B-ED11479A618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CC582-473F-4655-82FD-C0B4FB3B70F5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corditecountryshownotes.files.wordpress.com/2009/10/cougar-82.jpg?w=570&amp;h=427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worlds.ru/photo/usa_191020051227_9368.jpg" TargetMode="External"/><Relationship Id="rId2" Type="http://schemas.openxmlformats.org/officeDocument/2006/relationships/image" Target="../media/image8.jpeg"/><Relationship Id="rId3" Type="http://schemas.openxmlformats.org/officeDocument/2006/relationships/hyperlink" Target="http://www.loonder.ru/imgserv/mod/nature/forest/1280x800/wallpaper-1280x800-083.jpg" TargetMode="External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ffff"/>
                </a:solidFill>
                <a:latin typeface="Arial"/>
              </a:rPr>
              <a:t>«Пума»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404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Работу выполнила ученица 3 класса МБОУ «Гончаровская СОШ»</a:t>
            </a:r>
            <a:br>
              <a:rPr sz="4400"/>
            </a:b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Курочкина Анастасия Владимировн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0066"/>
                </a:solidFill>
                <a:latin typeface="Arial Black"/>
              </a:rPr>
              <a:t>                                                           </a:t>
            </a:r>
            <a:endParaRPr b="1" lang="en-US" sz="11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1" name="Picture 5" descr=""/>
          <p:cNvPicPr/>
          <p:nvPr/>
        </p:nvPicPr>
        <p:blipFill>
          <a:blip r:embed="rId1"/>
          <a:stretch/>
        </p:blipFill>
        <p:spPr>
          <a:xfrm>
            <a:off x="324000" y="357120"/>
            <a:ext cx="8569080" cy="6384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3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95280" y="115920"/>
            <a:ext cx="8564400" cy="13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66"/>
                </a:solidFill>
                <a:latin typeface="Arial Black"/>
              </a:rPr>
              <a:t>Как только ни называли этого зверя: </a:t>
            </a:r>
            <a:br>
              <a:rPr sz="2000"/>
            </a:br>
            <a:r>
              <a:rPr b="1" lang="ru-RU" sz="2000" spc="-1" strike="noStrike">
                <a:solidFill>
                  <a:srgbClr val="ffff66"/>
                </a:solidFill>
                <a:latin typeface="Arial Black"/>
              </a:rPr>
              <a:t>и львом, и тигром, и пантерой, и леопардом, </a:t>
            </a:r>
            <a:br>
              <a:rPr sz="2000"/>
            </a:br>
            <a:r>
              <a:rPr b="1" lang="ru-RU" sz="2000" spc="-1" strike="noStrike">
                <a:solidFill>
                  <a:srgbClr val="ffff66"/>
                </a:solidFill>
                <a:latin typeface="Arial Black"/>
              </a:rPr>
              <a:t>и серебристым львом, и американским львом, </a:t>
            </a:r>
            <a:br>
              <a:rPr sz="2000"/>
            </a:br>
            <a:r>
              <a:rPr b="1" lang="ru-RU" sz="2000" spc="-1" strike="noStrike">
                <a:solidFill>
                  <a:srgbClr val="ffff66"/>
                </a:solidFill>
                <a:latin typeface="Arial Black"/>
              </a:rPr>
              <a:t>и горным львом, и кугуаром. </a:t>
            </a:r>
            <a:br>
              <a:rPr sz="2000"/>
            </a:br>
            <a:r>
              <a:rPr b="1" lang="ru-RU" sz="2000" spc="-1" strike="noStrike">
                <a:solidFill>
                  <a:srgbClr val="ffff66"/>
                </a:solidFill>
                <a:latin typeface="Arial Black"/>
              </a:rPr>
              <a:t>Но зоологи эту крупную кошку называют…</a:t>
            </a: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971640" y="6308280"/>
            <a:ext cx="6781680" cy="40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         </a:t>
            </a: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Пумо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Picture 7" descr="Дикие пумы (59 фото)"/>
          <p:cNvPicPr/>
          <p:nvPr/>
        </p:nvPicPr>
        <p:blipFill>
          <a:blip r:embed="rId1"/>
          <a:stretch/>
        </p:blipFill>
        <p:spPr>
          <a:xfrm>
            <a:off x="250920" y="1700280"/>
            <a:ext cx="8785080" cy="4537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8920" y="188640"/>
            <a:ext cx="871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66"/>
                </a:solidFill>
                <a:uFillTx/>
                <a:latin typeface="Arial Black"/>
              </a:rPr>
              <a:t>Распространены пумы от юга Канады до Огненной Земли у самого конца Южной Америки.</a:t>
            </a:r>
            <a:r>
              <a:rPr b="1" lang="ru-RU" sz="2000" spc="-1" strike="noStrike">
                <a:solidFill>
                  <a:srgbClr val="ffff66"/>
                </a:solidFill>
                <a:latin typeface="Arial Black"/>
              </a:rPr>
              <a:t> Пума хорошо себя чувствует и в прохладе высокогорий, и рядом с тропическими болотами, и в различных лесах (но везде предпочитает селиться на опушках).</a:t>
            </a: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23640" y="5661000"/>
            <a:ext cx="852156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Picture 5" descr="Картинка 59 из 6400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0920" y="1844640"/>
            <a:ext cx="8713800" cy="468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50920" y="4436640"/>
            <a:ext cx="8424720" cy="170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1800" spc="-1" strike="noStrike">
                <a:solidFill>
                  <a:srgbClr val="ffff66"/>
                </a:solidFill>
                <a:latin typeface="Arial Black"/>
              </a:rPr>
              <a:t>Это крупная и сильная кошка.</a:t>
            </a:r>
            <a:br>
              <a:rPr sz="1800"/>
            </a:br>
            <a:r>
              <a:rPr b="1" lang="ru-RU" sz="1800" spc="-1" strike="noStrike">
                <a:solidFill>
                  <a:srgbClr val="ffff66"/>
                </a:solidFill>
                <a:latin typeface="Arial Black"/>
              </a:rPr>
              <a:t> Длина взрослой пумы до кончика хвоста достигает </a:t>
            </a:r>
            <a:br>
              <a:rPr sz="1800"/>
            </a:br>
            <a:r>
              <a:rPr b="1" lang="ru-RU" sz="1800" spc="-1" strike="noStrike">
                <a:solidFill>
                  <a:srgbClr val="ffff66"/>
                </a:solidFill>
                <a:latin typeface="Arial Black"/>
              </a:rPr>
              <a:t>2,5 метров. Вес до 90 килограмм. </a:t>
            </a:r>
            <a:br>
              <a:rPr sz="1800"/>
            </a:br>
            <a:r>
              <a:rPr b="1" lang="ru-RU" sz="2400" spc="-1" strike="noStrike">
                <a:solidFill>
                  <a:srgbClr val="ffff66"/>
                </a:solidFill>
                <a:latin typeface="Arial Black"/>
              </a:rPr>
              <a:t>Пума</a:t>
            </a:r>
            <a:br>
              <a:rPr sz="2400"/>
            </a:br>
            <a:r>
              <a:rPr b="1" lang="ru-RU" sz="1800" spc="-1" strike="noStrike">
                <a:solidFill>
                  <a:srgbClr val="ffff66"/>
                </a:solidFill>
                <a:latin typeface="Arial Black"/>
              </a:rPr>
              <a:t> отлично лазает по деревьям и обрывам. Хорошо, но неохотно плавает. Прыжок у пумы почти 8 метров. Любимая добыча пумы - белохвостый олень.</a:t>
            </a:r>
            <a:endParaRPr b="1" lang="en-US" sz="18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9" name="Picture 4" descr=""/>
          <p:cNvPicPr/>
          <p:nvPr/>
        </p:nvPicPr>
        <p:blipFill>
          <a:blip r:embed="rId1"/>
          <a:stretch/>
        </p:blipFill>
        <p:spPr>
          <a:xfrm>
            <a:off x="755640" y="189000"/>
            <a:ext cx="7993080" cy="410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00720" y="476280"/>
            <a:ext cx="4464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Arial Black"/>
              </a:rPr>
              <a:t>Пумы это охотники-одиночки. Котят они рождают высоко в горах в пещерах. Их бывает не больше 6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Arial Black"/>
              </a:rPr>
              <a:t>а то и вовсе 1. Рождаются котята слепыми, мать их кормит молоком, пока они не откроют глаза. Это происходит через 2-3 недели после рождения. Держатся с матерью они до двух лет. Живут пумы около 15 лет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Picture 5" descr="puma_30"/>
          <p:cNvPicPr/>
          <p:nvPr/>
        </p:nvPicPr>
        <p:blipFill>
          <a:blip r:embed="rId1"/>
          <a:stretch/>
        </p:blipFill>
        <p:spPr>
          <a:xfrm>
            <a:off x="179280" y="189000"/>
            <a:ext cx="3997440" cy="597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178920" y="3428640"/>
            <a:ext cx="576108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66"/>
                </a:solidFill>
                <a:latin typeface="Arial Black"/>
              </a:rPr>
              <a:t>Это хищник, а хищник - враг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66"/>
                </a:solidFill>
                <a:latin typeface="Arial Black"/>
              </a:rPr>
              <a:t>Вот потому-то человек начал уничтожать Пуму. Она может броситься на человека только когда ей не </a:t>
            </a:r>
            <a:r>
              <a:rPr b="0" lang="ru-RU" sz="2000" spc="-1" strike="noStrike" u="sng">
                <a:solidFill>
                  <a:srgbClr val="ffff66"/>
                </a:solidFill>
                <a:uFillTx/>
                <a:latin typeface="Arial Black"/>
              </a:rPr>
              <a:t>куда д</a:t>
            </a:r>
            <a:r>
              <a:rPr b="0" lang="ru-RU" sz="2000" spc="-1" strike="noStrike">
                <a:solidFill>
                  <a:srgbClr val="ffff66"/>
                </a:solidFill>
                <a:latin typeface="Arial Black"/>
              </a:rPr>
              <a:t>еват</a:t>
            </a:r>
            <a:r>
              <a:rPr b="0" lang="ru-RU" sz="2000" spc="-1" strike="noStrike" u="sng">
                <a:solidFill>
                  <a:srgbClr val="ffff66"/>
                </a:solidFill>
                <a:uFillTx/>
                <a:latin typeface="Arial Black"/>
              </a:rPr>
              <a:t>ься, если человек </a:t>
            </a:r>
            <a:r>
              <a:rPr b="0" lang="ru-RU" sz="2000" spc="-1" strike="noStrike">
                <a:solidFill>
                  <a:srgbClr val="ffff66"/>
                </a:solidFill>
                <a:latin typeface="Arial Black"/>
              </a:rPr>
              <a:t>загнал её на дерево или в тупик. Пумы очень тихие животные. Даже в ловушке или затравленная собаками она хранит молчание. Визжит она только в том случае, если теряет детёныше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5" descr="Дикие пумы (59 фото)"/>
          <p:cNvPicPr/>
          <p:nvPr/>
        </p:nvPicPr>
        <p:blipFill>
          <a:blip r:embed="rId1"/>
          <a:stretch/>
        </p:blipFill>
        <p:spPr>
          <a:xfrm>
            <a:off x="179280" y="115920"/>
            <a:ext cx="5905440" cy="30970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9" descr="Пума"/>
          <p:cNvPicPr/>
          <p:nvPr/>
        </p:nvPicPr>
        <p:blipFill>
          <a:blip r:embed="rId2"/>
          <a:stretch/>
        </p:blipFill>
        <p:spPr>
          <a:xfrm>
            <a:off x="6156360" y="2852640"/>
            <a:ext cx="2808360" cy="388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250560" y="3500280"/>
            <a:ext cx="5257800" cy="28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66"/>
                </a:solidFill>
                <a:latin typeface="Arial Black"/>
              </a:rPr>
              <a:t>За добычу пум даже выплачивали премии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66"/>
                </a:solidFill>
                <a:latin typeface="Arial Black"/>
              </a:rPr>
              <a:t>Только в США с 1937—1969 гг. убили почти 7,3 тыс. этих хищников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66"/>
                </a:solidFill>
                <a:latin typeface="Arial Black"/>
              </a:rPr>
              <a:t> </a:t>
            </a:r>
            <a:r>
              <a:rPr b="0" lang="ru-RU" sz="1600" spc="-1" strike="noStrike">
                <a:solidFill>
                  <a:srgbClr val="ffff66"/>
                </a:solidFill>
                <a:latin typeface="Arial Black"/>
              </a:rPr>
              <a:t>Численность животных сократилась из-за разрушения мест обитания (вырубка лесов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66"/>
                </a:solidFill>
                <a:latin typeface="Arial Black"/>
              </a:rPr>
              <a:t>Сохранилось лишь небольшое количество пум на западе Канады и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66"/>
                </a:solidFill>
                <a:latin typeface="Arial Black"/>
              </a:rPr>
              <a:t>США и немного во Флориде, в болотах Эверглейдс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66"/>
                </a:solidFill>
                <a:latin typeface="Arial Black"/>
              </a:rPr>
              <a:t>(ныне там национальный парк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Picture 5" descr="Картинка 133 из 59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867280" y="1844640"/>
            <a:ext cx="3097440" cy="48960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7" descr="Картинка 53 из 597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0"/>
            <a:ext cx="5724360" cy="3171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WordArt 5"/>
          <p:cNvSpPr txBox="1"/>
          <p:nvPr/>
        </p:nvSpPr>
        <p:spPr>
          <a:xfrm>
            <a:off x="1116000" y="404640"/>
            <a:ext cx="6840720" cy="41054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cc00"/>
                  </a:solidFill>
                  <a:miter/>
                </a:ln>
                <a:solidFill>
                  <a:srgbClr val="ffff66"/>
                </a:solidFill>
                <a:latin typeface="Arial"/>
              </a:rPr>
              <a:t>Спасибо за внимание!</a:t>
            </a:r>
            <a:endParaRPr b="0" lang="en-US" sz="1800" spc="1" strike="noStrike">
              <a:ln w="9360">
                <a:solidFill>
                  <a:srgbClr val="99cc00"/>
                </a:solidFill>
                <a:miter/>
              </a:ln>
              <a:solidFill>
                <a:srgbClr val="ffff66"/>
              </a:solidFill>
              <a:latin typeface="Arial"/>
              <a:ea typeface="Arial"/>
            </a:endParaRPr>
          </a:p>
        </p:txBody>
      </p:sp>
      <p:pic>
        <p:nvPicPr>
          <p:cNvPr id="119" name="Picture 7" descr=""/>
          <p:cNvPicPr/>
          <p:nvPr/>
        </p:nvPicPr>
        <p:blipFill>
          <a:blip r:embed="rId1"/>
          <a:stretch/>
        </p:blipFill>
        <p:spPr>
          <a:xfrm>
            <a:off x="1258920" y="2492280"/>
            <a:ext cx="6337440" cy="396108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6494400"/>
            <a:ext cx="83851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200" spc="-1" strike="noStrike">
              <a:solidFill>
                <a:srgbClr val="ffffb7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7T10:06:15Z</dcterms:created>
  <dc:creator>Админ</dc:creator>
  <dc:description/>
  <dc:language>en-US</dc:language>
  <cp:lastModifiedBy>User</cp:lastModifiedBy>
  <dcterms:modified xsi:type="dcterms:W3CDTF">2015-10-17T21:46:51Z</dcterms:modified>
  <cp:revision>11</cp:revision>
  <dc:subject/>
  <dc:title>Животные Красной книги</dc:title>
</cp:coreProperties>
</file>