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512-A2D9-41FB-9D8F-14D767B4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DC8-F47D-4419-9EC8-B9602071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769-6BCE-4041-99BE-3975CCF3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393-45E0-4862-8639-8985F450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696EC-4E27-4E31-BBD6-F9B68CB1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C4FF2-9B0D-41EC-8F8F-294FC548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FC2F3-0DA7-480A-B746-8842BD96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6BBF2-D865-4B49-A92D-3EF67414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6DCB8-10DA-421E-ADD0-BA976C64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A80E2-28F8-41CF-BD05-D95D9B4C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D0E1C-2283-487F-B0BD-D18774F1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5FA-AF19-4410-A1FD-7AAA5555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F18CB-3A72-47EA-9762-93FBBA88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ADF50-0EE7-469D-AFEE-8CD3613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6A895-748A-43A7-AE26-5C59E6C9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5FC9C-F38B-4015-AC0D-3CA1EAC0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B6D7E-9950-492A-8E10-9F0ED29C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E81-7B56-4698-84F6-C75D3077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CB1-E17B-4D15-8785-08A77268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43B-6CB3-4CDE-9E37-72184BD5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701-B3B8-4188-BE24-8E803264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AA4-C38D-458E-B445-A65DF536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D42-D840-450E-B158-1B913783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78E-57AA-4100-989B-3F8E66E1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C44A-1B9D-4D3F-9636-305E634B7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B187-1D70-4EF3-B2E9-CBF3CAC59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okrugsveta.ru/encyclopedia/index.php?title=&#1048;&#1079;&#1086;&#1073;&#1088;&#1072;&#1078;&#1077;&#1085;&#1080;&#1077;:Suvorov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otonews.biz/wiki/&#1048;&#1079;&#1086;&#1073;&#1088;&#1072;&#1078;&#1077;&#1085;&#1080;&#1077;:Fall_of_Kolberg_in_1761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automotonews.biz/wiki/&#1048;&#1079;&#1086;&#1073;&#1088;&#1072;&#1078;&#1077;&#1085;&#1080;&#1077;:Novi.jpe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otonews.biz/wiki/&#1048;&#1079;&#1086;&#1073;&#1088;&#1072;&#1078;&#1077;&#1085;&#1080;&#1077;:Suvorov_na_vershine_Sen-Gotard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automotonews.biz/wiki/&#1048;&#1079;&#1086;&#1073;&#1088;&#1072;&#1078;&#1077;&#1085;&#1080;&#1077;:&#1055;&#1072;&#1084;&#1103;&#1090;&#1085;&#1080;&#1082;_&#1057;&#1091;&#1074;&#1086;&#1088;&#1086;&#1074;&#1091;_&#1074;&#1086;&#1079;&#1083;&#1077;_&#1058;&#1088;&#1086;&#1080;&#1094;&#1082;&#1086;&#1075;&#1086;_&#1084;&#1086;&#1089;&#1090;&#1072;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ru.wikipedia.org/wiki/&#1048;&#1079;&#1086;&#1073;&#1088;&#1072;&#1078;&#1077;&#1085;&#1080;&#1077;:Avsuvoro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otonews.biz/wiki/&#1048;&#1079;&#1086;&#1073;&#1088;&#1072;&#1078;&#1077;&#1085;&#1080;&#1077;:Georgy_I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automotonews.biz/wiki/&#1048;&#1079;&#1086;&#1073;&#1088;&#1072;&#1078;&#1077;&#1085;&#1080;&#1077;:Order_of_suvorov_medal_3rd_class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automotonews.biz/wiki/&#1048;&#1079;&#1086;&#1073;&#1088;&#1072;&#1078;&#1077;&#1085;&#1080;&#1077;:50_rublej_%28Suvorov%29.gif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79;&#1086;&#1073;&#1088;&#1072;&#1078;&#1077;&#1085;&#1080;&#1077;:Fall_of_Kolberg_in_1761.jpg" TargetMode="External"/><Relationship Id="rId3" Type="http://schemas.openxmlformats.org/officeDocument/2006/relationships/hyperlink" Target="http://ru.wikipedia.org/wiki/&#1048;&#1079;&#1086;&#1073;&#1088;&#1072;&#1078;&#1077;&#1085;&#1080;&#1077;:Fall_of_Kolberg_in_1761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ru.wikipedia.org/wiki/&#1048;&#1079;&#1086;&#1073;&#1088;&#1072;&#1078;&#1077;&#1085;&#1080;&#1077;:Fall_of_Kolberg_in_1761.jpg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42920" y="1484280"/>
            <a:ext cx="69152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лександр Васильевич Сувор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Александр Васильевич Суворов - генералиссимус российских войск. Вариант портрета, написанного для фельдмаршальского зала Зимнего дворца. Неизвестный художник, 1830-е годы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3141720"/>
            <a:ext cx="2881440" cy="331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260640"/>
            <a:ext cx="7753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ександр Васильевич Сувор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родился 24 ноября, 13-го по старому стилю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1729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Москве; умер 18 мая, 6-го по старому стилю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18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Петербурге) - лучший русский полководец XVIII века, новатор в стратегии и тактике, один из образованнейших людей своего времени. Генералиссимус 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1799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, граф Рымникский, князь Италийский. Походы и сражения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уворов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 сих пор считаются вершиной военного искусства. Труд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уворов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"Наука побеждать" - выдающееся произведение военной мысли и новое явление в русской литерату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Художник А. Коцебу. «Взятие крепости Кольберг в ходе Семилетней войны». Холст, масло. 1852 год. 226х352 см.  На картине изображено взятие крепости русскими войсками в 1761 году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141720"/>
            <a:ext cx="3097080" cy="2233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Сражение при Нови. Художник А.Коцебу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3640" y="3141720"/>
            <a:ext cx="3173400" cy="2212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554760"/>
            <a:ext cx="859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менем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уворов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названы 2 атолла в Тихом океане - один из Маршалловых островов и один из островов Кука , многие населенные пункты в России и за её пределами; улицы, площади, боевые корабли и военные учреждения. Суворов выбрал место для основания город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Севастопол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А. И. Шарлемань. «Фельдмаршал Суворов на вершине Сен-Готарда 13 сенября 1799 года»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2708280"/>
            <a:ext cx="287964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Памятник Суворову в Петербурге, Михаил Козловский, 18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2565360"/>
            <a:ext cx="2028960" cy="278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2492280"/>
            <a:ext cx="1886040" cy="2881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92000" y="587700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 В. Суворов ввел военно-гимнастические упражнения в армии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771640" y="260280"/>
            <a:ext cx="36021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гра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5" name="" descr="Орден Св. Георгия 1-й степени. Вышитая звезда и лента принадлежали А. В. Суворову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2924280"/>
            <a:ext cx="1297080" cy="2614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Орден Суворова III степен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2924280"/>
            <a:ext cx="209700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08360" y="3284640"/>
            <a:ext cx="1430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987840"/>
            <a:ext cx="8713800" cy="54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Взятие крепости Кольберг в ходе Семилетней войны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». А. Коцебу. 1852 год. На картине изображено взятие крепости русскими войсками в 1761 го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1761 году командовал отдельными отрядами (драгунскими, гусарскими, казачьими), целью которых было сначала прикрыть отход русских войск к Бреславлю и безостановочно нападать на прусские войска. Нанёс ряд поражений прусской армии в Польше. Во время многочисленных стычек проявил себя как талантливый и смелый партизан и кавалерист. Среди его достижений в то время были захват в результате неожиданного набега и уничтожение значительных запасов сена на виду у неприятеля; при Бунцельвице с небольшим числом казаков Суворов захватил прусский пикет, отбил посланный против него отряд гусар и в пылу их преследования достигнул неприятельских окопов, так что мог рассмотреть палатки королевской квартиры в лагере. Участвовал в боях у Ландсберга, Бирштайна, дер. Вейсентин, Наугарта, дер. Келец, во взятии Гольнау, содействовал осадному корпусу П. А. Румянцева в овладении Кольбергом (Колобжег), принудив отступить генерала Плате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84360" y="260280"/>
            <a:ext cx="4681440" cy="2590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-4421160" y="407664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3068640"/>
            <a:ext cx="87138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1754 году получил первый чин поручика и был назначе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Ингерманландский пехотный полк. С 1756 по 1758 год служил в Военной коллег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Начало боевой деятельности Суворова относится к Семилетней войне 1756—1763. В первые годы войны он находился на тыловой службе в чине обер-провиантмейстера, затем майора и премьер-майора, где познакомился с принципами организации тыловых подразделений и снабжения действующей арм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1758 году переведён в действующую армию и назначен комендантом Мемеля, с 1759 — офицер главной квартиры русской действующей армии. В своей первой боевой стычке Суворов участвовал 14 (25) июля 1759 года, когда с эскадроном драгун атаковал и обратил в бегство немецких драгун. Вскоре Суворова назначают дежурным офицером при командире дивизии В. В. Ферморе. На этой должности он участвовал в сражении под Кунерсдорфом (1 (13) августа 1759). В 1760 году Суворов назначен генеральным дежурным при главнокомандующем русской армией генерал-аншефе Ферморе и в этом качестве участвует во взятии Берлина русскими войс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2305080" cy="266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92720" y="260280"/>
            <a:ext cx="244944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95640" y="1844640"/>
            <a:ext cx="5400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ОН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0:15:47Z</dcterms:created>
  <dc:creator>IGPU</dc:creator>
  <dc:description/>
  <dc:language>en-US</dc:language>
  <cp:lastModifiedBy>IGPU</cp:lastModifiedBy>
  <dcterms:modified xsi:type="dcterms:W3CDTF">2008-11-25T09:41:54Z</dcterms:modified>
  <cp:revision>4</cp:revision>
  <dc:subject/>
  <dc:title>Слайд 1</dc:title>
</cp:coreProperties>
</file>