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707B-3964-4223-A093-A1CB69F1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2347-EE03-47F3-A05D-5BEC81DE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3C2-D439-4280-8CCB-73DFFA52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243B-C861-48BF-A7CF-7489F3A8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3182C-8A15-4EC6-BF35-EC73648B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6E7A3-58DB-42C9-B99A-CA3667FC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7B39E-DBC7-4113-A01A-9CABCE19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8BE7C-B8B2-4F85-9D61-3EC0F550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E3EEC-DDBB-47F2-969F-7D678A9C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F0F3C-F9E0-49B4-B5D7-2E8DEFF5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E9236-A6EB-4463-A455-8B741377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8CEE-2346-4312-A3CE-E21C6CBE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66036-2AA8-4A60-A10D-8928ED16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82201-2015-4498-97B0-85369A68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CEDA8-B47E-4C45-887D-88989228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3B2A2-5AFC-4D0A-8CC2-D29F7C4D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A1BD9-EA51-40BA-9AAC-3FCF8B3B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3AB-2CF9-4BC9-85F3-76573C87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CEC-9941-47B0-8AD8-EE31ACCB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A7A-3D02-4A25-B26B-456DB492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C94F-3D11-4EFD-850E-1C956AA6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B261-CDE2-40B4-ABC8-C79B33AB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77B-29A4-4B06-8ECB-A9D84D58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FFD-C755-4BCD-AA9E-91F91ED5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7F26-08A1-4B94-8FA7-E374C3035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BC9A-C5F9-4991-A60F-E360870BA7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okrugsveta.ru/encyclopedia/index.php?title=&#1048;&#1079;&#1086;&#1073;&#1088;&#1072;&#1078;&#1077;&#1085;&#1080;&#1077;:Suvorov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otonews.biz/wiki/&#1048;&#1079;&#1086;&#1073;&#1088;&#1072;&#1078;&#1077;&#1085;&#1080;&#1077;:Fall_of_Kolberg_in_1761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automotonews.biz/wiki/&#1048;&#1079;&#1086;&#1073;&#1088;&#1072;&#1078;&#1077;&#1085;&#1080;&#1077;:Novi.jpe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otonews.biz/wiki/&#1048;&#1079;&#1086;&#1073;&#1088;&#1072;&#1078;&#1077;&#1085;&#1080;&#1077;:Suvorov_na_vershine_Sen-Gotarda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automotonews.biz/wiki/&#1048;&#1079;&#1086;&#1073;&#1088;&#1072;&#1078;&#1077;&#1085;&#1080;&#1077;:&#1055;&#1072;&#1084;&#1103;&#1090;&#1085;&#1080;&#1082;_&#1057;&#1091;&#1074;&#1086;&#1088;&#1086;&#1074;&#1091;_&#1074;&#1086;&#1079;&#1083;&#1077;_&#1058;&#1088;&#1086;&#1080;&#1094;&#1082;&#1086;&#1075;&#1086;_&#1084;&#1086;&#1089;&#1090;&#1072;.jpg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ru.wikipedia.org/wiki/&#1048;&#1079;&#1086;&#1073;&#1088;&#1072;&#1078;&#1077;&#1085;&#1080;&#1077;:Avsuvorov.jpg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otonews.biz/wiki/&#1048;&#1079;&#1086;&#1073;&#1088;&#1072;&#1078;&#1077;&#1085;&#1080;&#1077;:Georgy_I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automotonews.biz/wiki/&#1048;&#1079;&#1086;&#1073;&#1088;&#1072;&#1078;&#1077;&#1085;&#1080;&#1077;:Order_of_suvorov_medal_3rd_class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automotonews.biz/wiki/&#1048;&#1079;&#1086;&#1073;&#1088;&#1072;&#1078;&#1077;&#1085;&#1080;&#1077;:50_rublej_%28Suvorov%29.gif" TargetMode="Externa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8;&#1079;&#1086;&#1073;&#1088;&#1072;&#1078;&#1077;&#1085;&#1080;&#1077;:Fall_of_Kolberg_in_1761.jpg" TargetMode="External"/><Relationship Id="rId3" Type="http://schemas.openxmlformats.org/officeDocument/2006/relationships/hyperlink" Target="http://ru.wikipedia.org/wiki/&#1048;&#1079;&#1086;&#1073;&#1088;&#1072;&#1078;&#1077;&#1085;&#1080;&#1077;:Fall_of_Kolberg_in_1761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ru.wikipedia.org/wiki/&#1048;&#1079;&#1086;&#1073;&#1088;&#1072;&#1078;&#1077;&#1085;&#1080;&#1077;:Fall_of_Kolberg_in_1761.jpg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042920" y="1484280"/>
            <a:ext cx="69152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лександр Васильевич Суворо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" descr="Александр Васильевич Суворов - генералиссимус российских войск. Вариант портрета, написанного для фельдмаршальского зала Зимнего дворца. Неизвестный художник, 1830-е годы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3141720"/>
            <a:ext cx="2881440" cy="331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260640"/>
            <a:ext cx="7753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лександр Васильевич Суворо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(родился 24 ноября, 13-го по старому стилю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1729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 Москве; умер 18 мая, 6-го по старому стилю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180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 Петербурге) - лучший русский полководец XVIII века, новатор в стратегии и тактике, один из образованнейших людей своего времени. Генералиссимус (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1799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, граф Рымникский, князь Италийский. Походы и сражения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уворов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до сих пор считаются вершиной военного искусства. Труд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уворов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"Наука побеждать" - выдающееся произведение военной мысли и новое явление в русской литератур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Художник А. Коцебу. «Взятие крепости Кольберг в ходе Семилетней войны». Холст, масло. 1852 год. 226х352 см.  На картине изображено взятие крепости русскими войсками в 1761 году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141720"/>
            <a:ext cx="3097080" cy="2233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Сражение при Нови. Художник А.Коцебу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03640" y="3141720"/>
            <a:ext cx="3173400" cy="2212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554760"/>
            <a:ext cx="859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менем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уворов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названы 2 атолла в Тихом океане - один из Маршалловых островов и один из островов Кука , многие населенные пункты в России и за её пределами; улицы, площади, боевые корабли и военные учреждения. Суворов выбрал место для основания город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Севастопол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А. И. Шарлемань. «Фельдмаршал Суворов на вершине Сен-Готарда 13 сенября 1799 года»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2708280"/>
            <a:ext cx="2879640" cy="259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Памятник Суворову в Петербурге, Михаил Козловский, 18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2565360"/>
            <a:ext cx="2028960" cy="2784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9640" y="2492280"/>
            <a:ext cx="1886040" cy="2881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92000" y="587700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. В. Суворов ввел военно-гимнастические упражнения в армии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771640" y="260280"/>
            <a:ext cx="36021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гра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5" name="" descr="Орден Св. Георгия 1-й степени. Вышитая звезда и лента принадлежали А. В. Суворову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2924280"/>
            <a:ext cx="1297080" cy="2614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Орден Суворова III степени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2924280"/>
            <a:ext cx="2097000" cy="2592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08360" y="3284640"/>
            <a:ext cx="1430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987840"/>
            <a:ext cx="8713800" cy="54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Взятие крепости Кольберг в ходе Семилетней войны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». А. Коцебу. 1852 год. На картине изображено взятие крепости русскими войсками в 1761 го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1761 году командовал отдельными отрядами (драгунскими, гусарскими, казачьими), целью которых было сначала прикрыть отход русских войск к Бреславлю и безостановочно нападать на прусские войска. Нанёс ряд поражений прусской армии в Польше. Во время многочисленных стычек проявил себя как талантливый и смелый партизан и кавалерист. Среди его достижений в то время были захват в результате неожиданного набега и уничтожение значительных запасов сена на виду у неприятеля; при Бунцельвице с небольшим числом казаков Суворов захватил прусский пикет, отбил посланный против него отряд гусар и в пылу их преследования достигнул неприятельских окопов, так что мог рассмотреть палатки королевской квартиры в лагере. Участвовал в боях у Ландсберга, Бирштайна, дер. Вейсентин, Наугарта, дер. Келец, во взятии Гольнау, содействовал осадному корпусу П. А. Румянцева в овладении Кольбергом (Колобжег), принудив отступить генерала Плате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84360" y="260280"/>
            <a:ext cx="4681440" cy="2590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-4421160" y="4076640"/>
            <a:ext cx="142920" cy="104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3068640"/>
            <a:ext cx="87138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 1754 году получил первый чин поручика и был назначе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 Ингерманландский пехотный полк. С 1756 по 1758 год служил в Военной коллег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Начало боевой деятельности Суворова относится к Семилетней войне 1756—1763. В первые годы войны он находился на тыловой службе в чине обер-провиантмейстера, затем майора и премьер-майора, где познакомился с принципами организации тыловых подразделений и снабжения действующей арм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 1758 году переведён в действующую армию и назначен комендантом Мемеля, с 1759 — офицер главной квартиры русской действующей армии. В своей первой боевой стычке Суворов участвовал 14 (25) июля 1759 года, когда с эскадроном драгун атаковал и обратил в бегство немецких драгун. Вскоре Суворова назначают дежурным офицером при командире дивизии В. В. Ферморе. На этой должности он участвовал в сражении под Кунерсдорфом (1 (13) августа 1759). В 1760 году Суворов назначен генеральным дежурным при главнокомандующем русской армией генерал-аншефе Ферморе и в этом качестве участвует во взятии Берлина русскими войск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2305080" cy="266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292720" y="260280"/>
            <a:ext cx="244944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195640" y="1844640"/>
            <a:ext cx="5400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КОНЕЦ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0:15:47Z</dcterms:created>
  <dc:creator>IGPU</dc:creator>
  <dc:description/>
  <dc:language>en-US</dc:language>
  <cp:lastModifiedBy>IGPU</cp:lastModifiedBy>
  <dcterms:modified xsi:type="dcterms:W3CDTF">2008-11-25T09:41:54Z</dcterms:modified>
  <cp:revision>4</cp:revision>
  <dc:subject/>
  <dc:title>Слайд 1</dc:title>
</cp:coreProperties>
</file>