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9412-8DDE-4FC0-96F7-59A94953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214D-187F-43E7-B447-800F6460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D246-86CD-4F56-B7E8-6337FAD78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5482-462F-4B1D-858D-F5A55A67E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26F5-F431-4DA4-921D-F7BE7005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76FA-7A58-4219-991F-EA42D0A7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00AB-F4B6-4493-AB8B-AC8864B8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CB4F-93E1-4C49-9BCC-14C53EBE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63A5-06F1-47C3-9351-518841E0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F4F2-E419-448E-8C50-04F5B338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8BB5-D8C5-40B5-952E-2B9FC4F8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07A9-59E4-4CD1-81FD-63E7027A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7759-7483-453A-A727-E47747E2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4C05-BE1C-49CA-8CF0-470598BC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634C-BBC7-4169-B834-C78AB270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B21E-6C17-46B6-ABC6-887997FF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6B9D-909D-4A9A-873F-60B199FD5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430D-A443-420B-815B-999D1F2E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7E94-D36B-43CD-A4C7-10250BBD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9E7B-45AB-4ACB-B03C-4720A3BF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7F15-3278-4501-8A48-42AE5EDC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3EE3-14E3-4D10-AC45-B6225DEA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F813-38DC-47A4-A77A-893FC88C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B4A7-6305-42D8-A905-EB23FFA7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FD57-FF17-40EE-8225-B818AABAC1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50E9-C3D1-4D1F-A243-4CE83D0C40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Презентац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ДЗЮД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71640" y="268200"/>
            <a:ext cx="7994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зюдо (буквально - "Путь мягкости") - одно из боевых искусств, вид борьбы без оружия, делающей упор, скорее, на быстрые движения, проницательные умственные суждения и жесткую приверженность форме, а не на грубую физическую силу. Китайский иероглиф "дзю" ведет свое происхождение из отрывка в древнекитайском военном трактате Санлюэ, который гласит : "Мягкость хорошо контролирует жесткость"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60_putin.jpg"/>
          <p:cNvPicPr/>
          <p:nvPr/>
        </p:nvPicPr>
        <p:blipFill>
          <a:blip r:embed="rId1"/>
          <a:stretch/>
        </p:blipFill>
        <p:spPr>
          <a:xfrm>
            <a:off x="1187280" y="3213000"/>
            <a:ext cx="3024360" cy="2381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1.JPG"/>
          <p:cNvPicPr/>
          <p:nvPr/>
        </p:nvPicPr>
        <p:blipFill>
          <a:blip r:embed="rId2"/>
          <a:stretch/>
        </p:blipFill>
        <p:spPr>
          <a:xfrm>
            <a:off x="5508720" y="3213000"/>
            <a:ext cx="2386080" cy="237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826920" y="472428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ехника дзюдо (вадза) включает в себя броски (нагэвадза), захваты (катамэвадза) и выпады, нацеленные на жизненные центры противника (атэмивадза). Два первых комплекса приемов используются в ходе соревнований, а третий - только при настоящих столкновениях с нападающими или обороняющимис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16.JPG"/>
          <p:cNvPicPr/>
          <p:nvPr/>
        </p:nvPicPr>
        <p:blipFill>
          <a:blip r:embed="rId1"/>
          <a:stretch/>
        </p:blipFill>
        <p:spPr>
          <a:xfrm>
            <a:off x="1403280" y="907920"/>
            <a:ext cx="2568600" cy="3210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15.jpg"/>
          <p:cNvPicPr/>
          <p:nvPr/>
        </p:nvPicPr>
        <p:blipFill>
          <a:blip r:embed="rId2"/>
          <a:stretch/>
        </p:blipFill>
        <p:spPr>
          <a:xfrm>
            <a:off x="5435640" y="907920"/>
            <a:ext cx="2325600" cy="3179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24000" y="47664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тория же дзюдзюцу восходит к сэтиэдзумо (борьба во время дворцовых приемов), бывшей в моде еще в периоды Нара (710 - 794) и Хэйан (794 - 1185). В период Эдо (1600 - 1868), когда в Японии надолго установился мир, дзюдзюцу особенно часто применялось при задержании преступников. Школы дзюдзюцу в этот период появились во многих районах страны, но с развалом самурайского сословия после реставрации Мэйдзи в 1868 г. они пришли в упадок. В 1882 г. Дзигоро Кано создал школу дзюдо Кодокан при токийском храме Эйсёдз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prv_02.jpg"/>
          <p:cNvPicPr/>
          <p:nvPr/>
        </p:nvPicPr>
        <p:blipFill>
          <a:blip r:embed="rId1"/>
          <a:stretch/>
        </p:blipFill>
        <p:spPr>
          <a:xfrm>
            <a:off x="611280" y="3213000"/>
            <a:ext cx="3097080" cy="2322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32542.jpeg"/>
          <p:cNvPicPr/>
          <p:nvPr/>
        </p:nvPicPr>
        <p:blipFill>
          <a:blip r:embed="rId2"/>
          <a:stretch/>
        </p:blipFill>
        <p:spPr>
          <a:xfrm>
            <a:off x="5003640" y="3213000"/>
            <a:ext cx="3024360" cy="2282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55640" y="3934080"/>
            <a:ext cx="774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азу после окончания Второй мировой войны школы дзюдо были запрещены оккупационными властями. Но уже в 1949 г. возникла Всеяпонская федерация дзюдо (Дзэн Нихон дзюдо рэммэй). В 1951 г. возобновили свою деятельность школы дзюдо, и на различных местных уровнях были организованы соответствующие лиги. Во многих крупных компаниях учредили клубы дзюдо. Первый мировой чемпионат по дзюдо прошел в Токио в 1956 г., а в 1964 г. оно было впервые включено в программу Олимпийских иг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_MG_3131.jpg"/>
          <p:cNvPicPr/>
          <p:nvPr/>
        </p:nvPicPr>
        <p:blipFill>
          <a:blip r:embed="rId1"/>
          <a:stretch/>
        </p:blipFill>
        <p:spPr>
          <a:xfrm>
            <a:off x="4427640" y="62064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246726.jpg"/>
          <p:cNvPicPr/>
          <p:nvPr/>
        </p:nvPicPr>
        <p:blipFill>
          <a:blip r:embed="rId2"/>
          <a:stretch/>
        </p:blipFill>
        <p:spPr>
          <a:xfrm>
            <a:off x="1187280" y="620640"/>
            <a:ext cx="1868760" cy="28195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908000" y="1484280"/>
            <a:ext cx="5427720" cy="292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конец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9:43:55Z</dcterms:created>
  <dc:creator>IGPU</dc:creator>
  <dc:description/>
  <dc:language>en-US</dc:language>
  <cp:lastModifiedBy>IGPU</cp:lastModifiedBy>
  <dcterms:modified xsi:type="dcterms:W3CDTF">2008-11-25T10:05:50Z</dcterms:modified>
  <cp:revision>2</cp:revision>
  <dc:subject/>
  <dc:title>Презент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