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336-86E7-4DDB-8F50-47944C18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353-1DA4-4FA8-A629-2660424A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98F-32C4-430D-A9F0-704D357C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5FF-FE08-4532-9857-EEB03A50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F5F-CC1B-48FE-B403-2077893F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9F78-1018-4C54-885F-D31B4BE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5E1D-14F8-45E2-AF02-298A614A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4457-8F60-4188-B45E-F0C18B2F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96EF-E82B-4067-A51A-83F2BA20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89C-0EC2-4F8D-B79E-EF566CB8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194-F1FA-419E-9F59-C6D7D4D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C89-2AC7-4212-A798-6194DA65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A7A-7F27-4D07-B3C5-C10F45B3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D7E0-F78C-4E8B-B7CF-09B6908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648-026D-4FB9-8AD7-D99BF3C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6147-AE4C-4594-B69E-26988892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E076-3278-4A48-98A4-5C37267C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B3C-66DD-49A7-90D8-62B5CD5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96A-F0F3-4E19-A0F9-4E4F0D76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B89-B6C4-488E-B7AB-3B4B70C9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22E-6099-4BA4-9C22-049DC79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471-B814-4BAC-9DF1-8353727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160-02E0-493F-A48A-63AD80B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644-565A-4D95-8679-9CB03CB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9B5-D9C4-4B4B-BEE8-1E0116495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2484-6BB1-416A-9AEE-87B3A1C60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ЗЮ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71640" y="268200"/>
            <a:ext cx="799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зюдо (буквально - "Путь мягкости") - одно из боевых искусств, вид борьбы без оружия, делающей упор, скорее, на быстрые движения, проницательные умственные суждения и жесткую приверженность форме, а не на грубую физическую силу. Китайский иероглиф "дзю" ведет свое происхождение из отрывка в древнекитайском военном трактате Санлюэ, который гласит : "Мягкость хорошо контролирует жесткость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60_putin.jpg"/>
          <p:cNvPicPr/>
          <p:nvPr/>
        </p:nvPicPr>
        <p:blipFill>
          <a:blip r:embed="rId1"/>
          <a:stretch/>
        </p:blipFill>
        <p:spPr>
          <a:xfrm>
            <a:off x="1187280" y="3213000"/>
            <a:ext cx="302436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1.JPG"/>
          <p:cNvPicPr/>
          <p:nvPr/>
        </p:nvPicPr>
        <p:blipFill>
          <a:blip r:embed="rId2"/>
          <a:stretch/>
        </p:blipFill>
        <p:spPr>
          <a:xfrm>
            <a:off x="5508720" y="3213000"/>
            <a:ext cx="238608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4724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хника дзюдо (вадза) включает в себя броски (нагэвадза), захваты (катамэвадза) и выпады, нацеленные на жизненные центры противника (атэмивадза). Два первых комплекса приемов используются в ходе соревнований, а третий - только при настоящих столкновениях с нападающими или обороняющими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16.JPG"/>
          <p:cNvPicPr/>
          <p:nvPr/>
        </p:nvPicPr>
        <p:blipFill>
          <a:blip r:embed="rId1"/>
          <a:stretch/>
        </p:blipFill>
        <p:spPr>
          <a:xfrm>
            <a:off x="1403280" y="907920"/>
            <a:ext cx="2568600" cy="3210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15.jpg"/>
          <p:cNvPicPr/>
          <p:nvPr/>
        </p:nvPicPr>
        <p:blipFill>
          <a:blip r:embed="rId2"/>
          <a:stretch/>
        </p:blipFill>
        <p:spPr>
          <a:xfrm>
            <a:off x="5435640" y="907920"/>
            <a:ext cx="2325600" cy="317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47664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же дзюдзюцу восходит к сэтиэдзумо (борьба во время дворцовых приемов), бывшей в моде еще в периоды Нара (710 - 794) и Хэйан (794 - 1185). В период Эдо (1600 - 1868), когда в Японии надолго установился мир, дзюдзюцу особенно часто применялось при задержании преступников. Школы дзюдзюцу в этот период появились во многих районах страны, но с развалом самурайского сословия после реставрации Мэйдзи в 1868 г. они пришли в упадок. В 1882 г. Дзигоро Кано создал школу дзюдо Кодокан при токийском храме Эйсёдз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prv_02.jpg"/>
          <p:cNvPicPr/>
          <p:nvPr/>
        </p:nvPicPr>
        <p:blipFill>
          <a:blip r:embed="rId1"/>
          <a:stretch/>
        </p:blipFill>
        <p:spPr>
          <a:xfrm>
            <a:off x="611280" y="3213000"/>
            <a:ext cx="3097080" cy="232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32542.jpeg"/>
          <p:cNvPicPr/>
          <p:nvPr/>
        </p:nvPicPr>
        <p:blipFill>
          <a:blip r:embed="rId2"/>
          <a:stretch/>
        </p:blipFill>
        <p:spPr>
          <a:xfrm>
            <a:off x="5003640" y="3213000"/>
            <a:ext cx="3024360" cy="228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3934080"/>
            <a:ext cx="77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зу после окончания Второй мировой войны школы дзюдо были запрещены оккупационными властями. Но уже в 1949 г. возникла Всеяпонская федерация дзюдо (Дзэн Нихон дзюдо рэммэй). В 1951 г. возобновили свою деятельность школы дзюдо, и на различных местных уровнях были организованы соответствующие лиги. Во многих крупных компаниях учредили клубы дзюдо. Первый мировой чемпионат по дзюдо прошел в Токио в 1956 г., а в 1964 г. оно было впервые включено в программу Олимпийских иг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_MG_3131.jpg"/>
          <p:cNvPicPr/>
          <p:nvPr/>
        </p:nvPicPr>
        <p:blipFill>
          <a:blip r:embed="rId1"/>
          <a:stretch/>
        </p:blipFill>
        <p:spPr>
          <a:xfrm>
            <a:off x="4427640" y="620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246726.jpg"/>
          <p:cNvPicPr/>
          <p:nvPr/>
        </p:nvPicPr>
        <p:blipFill>
          <a:blip r:embed="rId2"/>
          <a:stretch/>
        </p:blipFill>
        <p:spPr>
          <a:xfrm>
            <a:off x="1187280" y="620640"/>
            <a:ext cx="1868760" cy="2819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8000" y="1484280"/>
            <a:ext cx="5427720" cy="29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ец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9:43:55Z</dcterms:created>
  <dc:creator>IGPU</dc:creator>
  <dc:description/>
  <dc:language>en-US</dc:language>
  <cp:lastModifiedBy>IGPU</cp:lastModifiedBy>
  <dcterms:modified xsi:type="dcterms:W3CDTF">2008-11-25T10:05:50Z</dcterms:modified>
  <cp:revision>2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