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F77C-69BF-46F1-9DC6-8DA02A5F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1112-5F1D-4EDB-AA86-ECBB73D1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D56-BAD8-4676-BA54-11C355B0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045E-3DFA-4C64-AA8D-A39AAB4E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9643-DAD6-4F40-A778-9B2CF300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B660-17D9-4EA2-9EE5-12D741BF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D59D-F651-48D9-B670-AC87FA91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8310-44FE-4500-BB23-5CCC793D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6CBE-1EF9-4266-AD04-3B0CF82F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BB5E-E503-4D9C-A665-660A3B82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2693-A97D-4895-B579-8929CB44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683-ACF1-4A2D-AE45-31191006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E992-BAFA-4E5D-BBCF-84574D2F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3730-7AA7-4C9A-B5F6-4719BA25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638F-3E5F-47E0-AC05-4B621599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F1A7-CFC4-481C-8FC5-CE3D6610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BC37-BD07-44AC-95B1-8EC37B6D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3EB-4E54-4C0E-A5D7-AF2EB75E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5FA-C940-43F1-846D-B5022648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A501-8D99-4CF3-BD74-AA691AE1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320-E93C-4F11-8FF8-FCC02F05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5288-980E-4A64-85D6-FB2E88FA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E7B-C960-47B3-8EBB-7746EEFD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9EE-0367-4A06-A7B4-22E3B7E1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2A48-15E8-4670-92B4-F426D8C5A3C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34DC-EAF8-4120-93AF-125E7D1B009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4360" y="1628640"/>
            <a:ext cx="7696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ятые Зимние Олимпийские Игры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132000" y="2924280"/>
            <a:ext cx="1889280" cy="26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 ЗОИ  состоялись с 30 января по 8 февраля 1948 года  в Сент-Морице (Швейцария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29941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640" y="-360"/>
            <a:ext cx="8075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V ЗИМНИЕ ОЛИМПИЙСКИЕ ИГРЫ 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(САНКТ-МОРИЦ, ШВЕЙЦАРИЯ, 1948 ГОД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 играх приняли участие 713 спортсменов из 28 стран. Впервые участниками зимней Олимпиады стали представители Дании, Исландии, Ливии, Чили и Южная Кореи. Спортсмены разыграли 22 комплекта наград. 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ерерыв между белыми Олимпиадами вместо традиционных четырех лет оказался втрое большим: человечество пережило Вторую мировую войну. На проведение первых послевоенных зимних Олимпийских игр претендовали две европейские страны, не участвовавшие во II мировой войне: Швейцария и Швеция. В итоге швейцарцы победили. Вновь, как и 20 лет назад столицей белой Олимпиады стал зимний курорт Санкт-Мориц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сположенный в швейцарских Альпах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843280" y="4292640"/>
            <a:ext cx="309564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бщекомандную победу одержали спортсмены Швеции — 70 очков и 10 медалей (соответственно 4, 3, 3). Вторыми были олимпийцы Швейцарии — 68 очков и 9 медалей (3, 4, 2), а на третьем месте оказались американские спортсмены — 64,2 очка и 9 медалей (3, 4, 2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042920" y="450864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148360" y="4508640"/>
            <a:ext cx="23778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99"/>
              </a:spcBef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бщекомандные места в олимпиаде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 Швеци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2 Норвеги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3 США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4 Швейцария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5 Франция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6 Канада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7 Австри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8 Финляндия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9 Бельгия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0 Италия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 Чехословаки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2 Венгри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3 Великобритани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780000" y="1916280"/>
            <a:ext cx="1692000" cy="1728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6084720" y="3789360"/>
            <a:ext cx="179892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15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 V Играх программа обогатилась двумя новыми дисциплинами. На сей раз олимпийскими стали еще два вида горнолыжного спорта - скоростной спуск и слалом. Появился на этих играх и скелетон, включавшийся в программу Олимпиады здесь же 20 лет назад. Однако Игры в Швейцарии стали последними в XX веке для этого вида спорта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чередную сенсацию преподнес хоккей. Финальный поединок между командами Канады и Чехословакии прошел в упорной борьбе и закончился с непривычным для хоккея счетом – 0:0. Это вдвойне удивительно, если вспомнить, что привыкшие к крупным победам родоначальники хоккея на предыдущих Олимпиадах забили в ворота Чехословакии 52 безответные шайбы. Американский фигурист Ричард Баттон ошеломил зрителей и судей своим акробатическим стилем катания, положив начало новой школе в фигурном катании. Выступление этого фигуриста было насыщено сложными элементами, в числе которых впервые появился прыжок в три оборота. 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страдавшая во время войны Норвегия не смогла прислать в Сент-Мориц сильную команду. Результатом этого стала напряженная борьба за призовые места. В итоге по количеству наград первое место разделили Швеция и Норвегия – по 10 медалей (4 золотых, 3 серебряных, 3 бронзовых). На 1 медаль от них отстали США и Швейцария – 9 (3, 4, 2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835280" y="4941720"/>
            <a:ext cx="1800000" cy="1311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724360" y="4941720"/>
            <a:ext cx="1978200" cy="1376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2843280" y="2421000"/>
            <a:ext cx="3816360" cy="16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КОНЕЦ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0:23:05Z</dcterms:created>
  <dc:creator>IGPU</dc:creator>
  <dc:description/>
  <dc:language>en-US</dc:language>
  <cp:lastModifiedBy>user</cp:lastModifiedBy>
  <dcterms:modified xsi:type="dcterms:W3CDTF">2008-10-29T16:35:31Z</dcterms:modified>
  <cp:revision>4</cp:revision>
  <dc:subject/>
  <dc:title>Слайд 1</dc:title>
</cp:coreProperties>
</file>