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B40-8FD6-41C7-BD70-CFD8E4F7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233-1EA9-4B2F-8424-DF7E449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2E0-2325-421C-9B21-B4D61333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9CD-7AE0-45A4-AECB-FF00939D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0FE3-1B70-41B0-9AD8-291EFB69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ECC7-D874-49FF-8CFE-784B012F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5B4-37AA-42E2-932E-09285F7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C56-F9CB-4C95-94AF-AE321AF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4C8-CAAF-4792-96A3-486B1EB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6F2-CF57-4BF4-9BA2-E7D771D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FDA7-35C0-4921-98D1-002B976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10F-0CEB-4927-BAC7-B684155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59E-AD83-4FEC-815F-B67A308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9EC-DD6C-4138-BD5E-143B3A2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1C72-E1A5-4E7F-92C7-79E43060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CFAF-15FB-4D78-9B88-AB3E49E2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BAE0-C4BB-4D1F-BF24-A39DBF80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4EF-08DA-4250-8734-0882CA8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B54-240B-40F8-89E8-08DE1A5E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D4B-7705-4D2D-917B-C7209B8F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F3F-EFD4-40A0-BF14-8E6B01F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A16-ED9C-46FB-9D61-3CE490E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A72-BED9-4822-BAA3-06D2EDB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685-17D4-46D1-987D-9357636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7558-91A8-47E3-86AB-DDB11F3CD0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FD78-DC1C-47E8-9C70-777A55FE03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1628640"/>
            <a:ext cx="7696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ятые Зимние Олимпийские Игр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188928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 ЗОИ  состоялись с 30 января по 8 февраля 1948 года  в Сент-Морице (Швейцар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9941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8075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 ЗИМНИЕ ОЛИМПИЙСКИЕ ИГРЫ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САНКТ-МОРИЦ, ШВЕЙЦАРИЯ, 1948 ГО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грах приняли участие 713 спортсменов из 28 стран. Впервые участниками зимней Олимпиады стали представители Дании, Исландии, Ливии, Чили и Южная Кореи. Спортсмены разыграли 22 комплекта наград.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ерыв между белыми Олимпиадами вместо традиционных четырех лет оказался втрое большим: человечество пережило Вторую мировую войну. На проведение первых послевоенных зимних Олимпийских игр претендовали две европейские страны, не участвовавшие во II мировой войне: Швейцария и Швеция. В итоге швейцарцы победили. Вновь, как и 20 лет назад столицей белой Олимпиады стал зимний курорт Санкт-Мориц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сположенный в швейцарских Альпах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3095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щекомандную победу одержали спортсмены Швеции — 70 очков и 10 медалей (соответственно 4, 3, 3). Вторыми были олимпийцы Швейцарии — 68 очков и 9 медалей (3, 4, 2), а на третьем месте оказались американские спортсмены — 64,2 очка и 9 медалей (3, 4, 2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2377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99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командные места в олимпиаде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 Швец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2 Норвег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3 СШ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4 Швейцар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5 Франц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6 Канад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7 Австр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8 Финлянд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9 Бельг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0 Итал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 Чехословак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 Венгр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3 Великобритан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780000" y="191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084720" y="378936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1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V Играх программа обогатилась двумя новыми дисциплинами. На сей раз олимпийскими стали еще два вида горнолыжного спорта - скоростной спуск и слалом. Появился на этих играх и скелетон, включавшийся в программу Олимпиады здесь же 20 лет назад. Однако Игры в Швейцарии стали последними в XX веке для этого вида спорт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чередную сенсацию преподнес хоккей. Финальный поединок между командами Канады и Чехословакии прошел в упорной борьбе и закончился с непривычным для хоккея счетом – 0:0. Это вдвойне удивительно, если вспомнить, что привыкшие к крупным победам родоначальники хоккея на предыдущих Олимпиадах забили в ворота Чехословакии 52 безответные шайбы. Американский фигурист Ричард Баттон ошеломил зрителей и судей своим акробатическим стилем катания, положив начало новой школе в фигурном катании. Выступление этого фигуриста было насыщено сложными элементами, в числе которых впервые появился прыжок в три оборота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традавшая во время войны Норвегия не смогла прислать в Сент-Мориц сильную команду. Результатом этого стала напряженная борьба за призовые места. В итоге по количеству наград первое место разделили Швеция и Норвегия – по 10 медалей (4 золотых, 3 серебряных, 3 бронзовых). На 1 медаль от них отстали США и Швейцария – 9 (3, 4, 2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1800000" cy="131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1978200" cy="13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843280" y="2421000"/>
            <a:ext cx="381636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ОНЕЦ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0:23:05Z</dcterms:created>
  <dc:creator>IGPU</dc:creator>
  <dc:description/>
  <dc:language>en-US</dc:language>
  <cp:lastModifiedBy>user</cp:lastModifiedBy>
  <dcterms:modified xsi:type="dcterms:W3CDTF">2008-10-29T16:35:31Z</dcterms:modified>
  <cp:revision>4</cp:revision>
  <dc:subject/>
  <dc:title>Слайд 1</dc:title>
</cp:coreProperties>
</file>