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F93-B214-4671-AF8D-DB6361723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897-94A6-4C00-804F-1B898EEC6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10A-6859-43A9-B3C3-60ABDF77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C6D-55C3-4299-B87A-A21782E9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3C5-7003-4114-9777-F10EC18A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A65-FBB6-4951-A81E-4B0A90C2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64F-63EC-4E03-8C93-FC5A795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319-BC0D-458C-8D1E-28137F9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00F-D84B-4071-81E2-46F151F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BC1-D5B8-4546-A326-2D98D81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E35-6A97-4380-9A55-94E1D6C2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639-96F1-44C0-9256-0C4E56F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A78-8C2A-4116-9BC4-CBAADEF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805-06F8-4F35-92B7-E365F68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8FD-F681-48F6-A418-7A41DEAC3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2800"/>
            </a:b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ГОРОД НА КРАСНОЙ ГОР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56386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БДОУ Д/С № 3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ЕРЕМЬЕ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4267080" y="2987640"/>
            <a:ext cx="4443480" cy="339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812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ГОРСК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-28440"/>
            <a:ext cx="9296280" cy="697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IMG_0430"/>
          <p:cNvPicPr/>
          <p:nvPr/>
        </p:nvPicPr>
        <p:blipFill>
          <a:blip r:embed="rId3"/>
          <a:stretch/>
        </p:blipFill>
        <p:spPr>
          <a:xfrm>
            <a:off x="22860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IMG_0447"/>
          <p:cNvPicPr/>
          <p:nvPr/>
        </p:nvPicPr>
        <p:blipFill>
          <a:blip r:embed="rId4"/>
          <a:stretch/>
        </p:blipFill>
        <p:spPr>
          <a:xfrm>
            <a:off x="4648320" y="3276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029200" y="106668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ИМНАЗИЯ №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БИБЛИОТЕКА, МУЗ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_0165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_0144"/>
          <p:cNvPicPr/>
          <p:nvPr/>
        </p:nvPicPr>
        <p:blipFill>
          <a:blip r:embed="rId3"/>
          <a:stretch/>
        </p:blipFill>
        <p:spPr>
          <a:xfrm>
            <a:off x="4572000" y="33526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5029200" y="1219320"/>
            <a:ext cx="37339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НТРАЛЬНАЯ ДЕТСКАЯ БИБЛИОТЕКА НА УЛ. ПИОНЕ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АСТИЕ В КОНКУРСЕ ПО СКАЗКАМ А.С. ПУШ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MG_0182"/>
          <p:cNvPicPr/>
          <p:nvPr/>
        </p:nvPicPr>
        <p:blipFill>
          <a:blip r:embed="rId2"/>
          <a:stretch/>
        </p:blipFill>
        <p:spPr>
          <a:xfrm>
            <a:off x="457200" y="457200"/>
            <a:ext cx="4146480" cy="311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IMG_0193"/>
          <p:cNvPicPr/>
          <p:nvPr/>
        </p:nvPicPr>
        <p:blipFill>
          <a:blip r:embed="rId3"/>
          <a:stretch/>
        </p:blipFill>
        <p:spPr>
          <a:xfrm>
            <a:off x="5638680" y="2286000"/>
            <a:ext cx="311004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410080" y="685800"/>
            <a:ext cx="2971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НИК  А.С. ПУШКИН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Л. ПОЧТОВ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НКУРС ЧТЕ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MG_3146"/>
          <p:cNvPicPr/>
          <p:nvPr/>
        </p:nvPicPr>
        <p:blipFill>
          <a:blip r:embed="rId2"/>
          <a:stretch/>
        </p:blipFill>
        <p:spPr>
          <a:xfrm>
            <a:off x="22860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_3142"/>
          <p:cNvPicPr/>
          <p:nvPr/>
        </p:nvPicPr>
        <p:blipFill>
          <a:blip r:embed="rId3"/>
          <a:stretch/>
        </p:blipFill>
        <p:spPr>
          <a:xfrm>
            <a:off x="4038480" y="2286000"/>
            <a:ext cx="3273480" cy="4363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4114800" y="457200"/>
            <a:ext cx="32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КОММУНАЛЬНАЯ КВАРТ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543800" y="45720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ЛЕЯ ЗОНТ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0021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MG_0061"/>
          <p:cNvPicPr/>
          <p:nvPr/>
        </p:nvPicPr>
        <p:blipFill>
          <a:blip r:embed="rId3"/>
          <a:stretch/>
        </p:blipFill>
        <p:spPr>
          <a:xfrm>
            <a:off x="4724280" y="3352680"/>
            <a:ext cx="4222800" cy="3167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5029200" y="11430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РОДСКОЙ ПА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1300"/>
          <p:cNvPicPr/>
          <p:nvPr/>
        </p:nvPicPr>
        <p:blipFill>
          <a:blip r:embed="rId3"/>
          <a:stretch/>
        </p:blipFill>
        <p:spPr>
          <a:xfrm>
            <a:off x="2133720" y="10666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362320" y="38088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1050817"/>
          <p:cNvPicPr/>
          <p:nvPr/>
        </p:nvPicPr>
        <p:blipFill>
          <a:blip r:embed="rId3"/>
          <a:stretch/>
        </p:blipFill>
        <p:spPr>
          <a:xfrm>
            <a:off x="228600" y="26676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1050843"/>
          <p:cNvPicPr/>
          <p:nvPr/>
        </p:nvPicPr>
        <p:blipFill>
          <a:blip r:embed="rId4"/>
          <a:stretch/>
        </p:blipFill>
        <p:spPr>
          <a:xfrm>
            <a:off x="4343400" y="3048120"/>
            <a:ext cx="4648320" cy="348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12952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ТАНЦИЯ СКОР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103214605_large__46972075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MG_7313"/>
          <p:cNvPicPr/>
          <p:nvPr/>
        </p:nvPicPr>
        <p:blipFill>
          <a:blip r:embed="rId2"/>
          <a:stretch/>
        </p:blipFill>
        <p:spPr>
          <a:xfrm>
            <a:off x="2286000" y="1828800"/>
            <a:ext cx="5486400" cy="4194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676520" y="533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-УСАДЬБА «АРХАНГЕЛЬСКО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448920" cy="6913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1219320" y="609480"/>
            <a:ext cx="6629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ЗУЛЬТАТЫ ПРОЕКТА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ДАГОГИЧЕСКОЕ МАСТЕРСТВО ПЕДАГОГОВ В ОБЛАСТИ НРАВСТВЕННО-ПАТРИОТИЧЕСКОГО ВОСПИТАНИЯ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НАНИЯ ДЕТЕЙ О РОДНОМ ГОРОДЕ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НИЕ ЛИЧНЫХ КАЧЕСТВ ДОШКОЛЬНИКОВ: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ЮБОВЬ К РОДНОМУ ГОРОДУ, УВАЖЕНИЕ К ЛЮДЯМ ТРУДА, ВЕТЕРАНАМ ВОЙНЫ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ДАГОГИЧЕСКОЕ ПРОСВЕЩЕНИЕ РОДИТЕЛЕЙ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СТАВКА ХУДОЖЕСТВЕННОГО И СОВМЕСТНОГО ТВОРЧЕСТВА ДЕТЕЙ, РОДИТЕЛЕЙ, ПЕДАГ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img2"/>
          <p:cNvPicPr/>
          <p:nvPr/>
        </p:nvPicPr>
        <p:blipFill>
          <a:blip r:embed="rId1"/>
          <a:stretch/>
        </p:blipFill>
        <p:spPr>
          <a:xfrm>
            <a:off x="-228600" y="0"/>
            <a:ext cx="9524880" cy="7089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360" y="30481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37124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ИД ПРОЕКТА: СОЦИАЛЬНО – ПЕДАГОГИЧЕСКИЙ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ДОЛЖИТЕЛЬНОСТЬ: ДОЛГОСРОЧНЫЙ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СЕНТЯБРЬ 2014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– МАЙ 2016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ИТАНИЕ НРАВСТВЕННО-ПАТРИОТИЧЕСКИХ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АЧЕСТВ ЛИЧНОСТИ ДОШКОЛЬНИКОВ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ЕРЕЗ ОЗНАКОМЛЕНИЕ ИХ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ИСТОРИЕЙ 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РАМКАХ ПРОЕКТА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ИТАТЕЛЯМИ БЫЛ ПОДОБРАН И ИЗУЧЕН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МАТЕРИАЛ ПО ИСТОРИИ ГОРОДА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ФОРМЛЕНЫ ПАПКИ ДЛЯ РОДИТЕЛЕЙ ПО ТЕМЕ ПРОЕКТА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РГАНИЗОВАН СЕМЕЙНЫЙ КЛУБ  «ТАЙНЫ КРАСНОГОРСКА»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РЕДИ ДЕТЕЙ ПРОВЕДЕНЫ КОНКУРС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ЕЦО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«КРАСНОГОРСК – ЛЮБИМЫЙ ГОРОД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КУРС «КНИЖКА - МАЛЫШКА»;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ГРУППАХ СОЗДАНЫ УГОЛКИ КРАЕВЕДЕНИЯ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3214605_large__4697207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Фото7"/>
          <p:cNvPicPr/>
          <p:nvPr/>
        </p:nvPicPr>
        <p:blipFill>
          <a:blip r:embed="rId2"/>
          <a:stretch/>
        </p:blipFill>
        <p:spPr>
          <a:xfrm>
            <a:off x="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2339"/>
          <p:cNvPicPr/>
          <p:nvPr/>
        </p:nvPicPr>
        <p:blipFill>
          <a:blip r:embed="rId3"/>
          <a:stretch/>
        </p:blipFill>
        <p:spPr>
          <a:xfrm>
            <a:off x="4343400" y="3124080"/>
            <a:ext cx="4527720" cy="339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4495680" y="990720"/>
            <a:ext cx="403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ССМАТРИВАНИЕ КНИЖЕК-МАЛЫ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 КРАСНОГОР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743200" y="50292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ТАВКА РИСУНКОВ, ПОДЕЛОК      О Г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MG_2347"/>
          <p:cNvPicPr/>
          <p:nvPr/>
        </p:nvPicPr>
        <p:blipFill>
          <a:blip r:embed="rId2"/>
          <a:stretch/>
        </p:blipFill>
        <p:spPr>
          <a:xfrm>
            <a:off x="4038480" y="3048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MG_2336"/>
          <p:cNvPicPr/>
          <p:nvPr/>
        </p:nvPicPr>
        <p:blipFill>
          <a:blip r:embed="rId3"/>
          <a:stretch/>
        </p:blipFill>
        <p:spPr>
          <a:xfrm>
            <a:off x="-76320" y="2286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5181480" y="12193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РОД НА КРАСНОЙ ГО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_DSC7352"/>
          <p:cNvPicPr/>
          <p:nvPr/>
        </p:nvPicPr>
        <p:blipFill>
          <a:blip r:embed="rId2"/>
          <a:stretch/>
        </p:blipFill>
        <p:spPr>
          <a:xfrm>
            <a:off x="380880" y="609480"/>
            <a:ext cx="411480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_DSC7372"/>
          <p:cNvPicPr/>
          <p:nvPr/>
        </p:nvPicPr>
        <p:blipFill>
          <a:blip r:embed="rId3"/>
          <a:stretch/>
        </p:blipFill>
        <p:spPr>
          <a:xfrm>
            <a:off x="4724280" y="609480"/>
            <a:ext cx="411480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_DSC7586"/>
          <p:cNvPicPr/>
          <p:nvPr/>
        </p:nvPicPr>
        <p:blipFill>
          <a:blip r:embed="rId4"/>
          <a:stretch/>
        </p:blipFill>
        <p:spPr>
          <a:xfrm>
            <a:off x="2743200" y="3657600"/>
            <a:ext cx="4495680" cy="2982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124080" y="3124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391520" y="52578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МОРИАЛ НА КРАСНОЙ ГО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286000" y="3049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 НЕМЕЦКИХ АНТИФАШ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MG_1210"/>
          <p:cNvPicPr/>
          <p:nvPr/>
        </p:nvPicPr>
        <p:blipFill>
          <a:blip r:embed="rId2"/>
          <a:stretch/>
        </p:blipFill>
        <p:spPr>
          <a:xfrm>
            <a:off x="304920" y="3808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MG_1222"/>
          <p:cNvPicPr/>
          <p:nvPr/>
        </p:nvPicPr>
        <p:blipFill>
          <a:blip r:embed="rId3"/>
          <a:stretch/>
        </p:blipFill>
        <p:spPr>
          <a:xfrm>
            <a:off x="5257800" y="12952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G_1151"/>
          <p:cNvPicPr/>
          <p:nvPr/>
        </p:nvPicPr>
        <p:blipFill>
          <a:blip r:embed="rId2"/>
          <a:stretch/>
        </p:blipFill>
        <p:spPr>
          <a:xfrm>
            <a:off x="45720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1148"/>
          <p:cNvPicPr/>
          <p:nvPr/>
        </p:nvPicPr>
        <p:blipFill>
          <a:blip r:embed="rId3"/>
          <a:stretch/>
        </p:blipFill>
        <p:spPr>
          <a:xfrm>
            <a:off x="4952880" y="609480"/>
            <a:ext cx="3689640" cy="27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MG_0825"/>
          <p:cNvPicPr/>
          <p:nvPr/>
        </p:nvPicPr>
        <p:blipFill>
          <a:blip r:embed="rId4"/>
          <a:stretch/>
        </p:blipFill>
        <p:spPr>
          <a:xfrm>
            <a:off x="2895480" y="3657600"/>
            <a:ext cx="3918240" cy="2957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1523880" y="2286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ЕНИНО-СНЕГИРЕВСКИЙ ВОЕННО-ИСТОРИЧЕСКИЙ М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934320" y="579132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ЖАРНАЯ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. КРАСНО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18:38:08Z</dcterms:created>
  <dc:creator>D</dc:creator>
  <dc:description/>
  <dc:language>en-US</dc:language>
  <cp:lastModifiedBy>G</cp:lastModifiedBy>
  <dcterms:modified xsi:type="dcterms:W3CDTF">2015-10-18T11:42:5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