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856F-74DF-4709-ACCE-961642F4C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DB20-0094-4EB1-8389-371FCBE869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D11-6BE4-4CF5-BD8A-FFADBA3A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339-A633-4901-89C9-88075C84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D7E-3043-42B4-9C6B-F6F67152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7BF-5B57-4A3A-8846-89C2B7B4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C9F1-0AC2-4149-8B45-43759C91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523-BE32-4C12-9F5D-BC84CEBD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AA5-CC3B-4108-AD2A-50174AA1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BF6-BDDC-4F6C-9F57-AA9AC224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846-2758-46E1-B0EC-0C5FC7BD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A4E-17C8-4DCB-8372-D0D18B59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7CD-01E7-4D82-87F5-70894814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607-90D9-43C0-8261-6FF39580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2C64-EB4D-4B50-AF73-F1798EBFB3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65530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2800"/>
            </a:br>
            <a:br>
              <a:rPr sz="28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ГОРОД НА КРАСНОЙ ГОР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563868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ДГОТОВ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ОСПИТА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БДОУ Д/С № 3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ЕРЕМЬЕВА О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2"/>
          <a:stretch/>
        </p:blipFill>
        <p:spPr>
          <a:xfrm>
            <a:off x="4267080" y="2987640"/>
            <a:ext cx="4443480" cy="3394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8120" y="6392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СНОГОРСК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-28440"/>
            <a:ext cx="9296280" cy="697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03214605_large__46972075"/>
          <p:cNvPicPr/>
          <p:nvPr/>
        </p:nvPicPr>
        <p:blipFill>
          <a:blip r:embed="rId2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IMG_0430"/>
          <p:cNvPicPr/>
          <p:nvPr/>
        </p:nvPicPr>
        <p:blipFill>
          <a:blip r:embed="rId3"/>
          <a:stretch/>
        </p:blipFill>
        <p:spPr>
          <a:xfrm>
            <a:off x="228600" y="2286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IMG_0447"/>
          <p:cNvPicPr/>
          <p:nvPr/>
        </p:nvPicPr>
        <p:blipFill>
          <a:blip r:embed="rId4"/>
          <a:stretch/>
        </p:blipFill>
        <p:spPr>
          <a:xfrm>
            <a:off x="4648320" y="327672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5029200" y="1066680"/>
            <a:ext cx="373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ИМНАЗИЯ № 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БИБЛИОТЕКА, МУЗ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G_0165"/>
          <p:cNvPicPr/>
          <p:nvPr/>
        </p:nvPicPr>
        <p:blipFill>
          <a:blip r:embed="rId2"/>
          <a:stretch/>
        </p:blipFill>
        <p:spPr>
          <a:xfrm>
            <a:off x="304920" y="30492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mg_0144"/>
          <p:cNvPicPr/>
          <p:nvPr/>
        </p:nvPicPr>
        <p:blipFill>
          <a:blip r:embed="rId3"/>
          <a:stretch/>
        </p:blipFill>
        <p:spPr>
          <a:xfrm>
            <a:off x="4572000" y="335268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5029200" y="1219320"/>
            <a:ext cx="373392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ЕНТРАЛЬНАЯ ДЕТСКАЯ БИБЛИОТЕКА НА УЛ. ПИОНЕР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АСТИЕ В КОНКУРСЕ ПО СКАЗКАМ А.С. ПУШК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IMG_0182"/>
          <p:cNvPicPr/>
          <p:nvPr/>
        </p:nvPicPr>
        <p:blipFill>
          <a:blip r:embed="rId2"/>
          <a:stretch/>
        </p:blipFill>
        <p:spPr>
          <a:xfrm>
            <a:off x="457200" y="457200"/>
            <a:ext cx="4146480" cy="3110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IMG_0193"/>
          <p:cNvPicPr/>
          <p:nvPr/>
        </p:nvPicPr>
        <p:blipFill>
          <a:blip r:embed="rId3"/>
          <a:stretch/>
        </p:blipFill>
        <p:spPr>
          <a:xfrm>
            <a:off x="5638680" y="2286000"/>
            <a:ext cx="3110040" cy="4146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5410080" y="685800"/>
            <a:ext cx="2971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МЯТНИК  А.С. ПУШКИН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Л. ПОЧТОВ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ОНКУРС ЧТЕ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MG_3146"/>
          <p:cNvPicPr/>
          <p:nvPr/>
        </p:nvPicPr>
        <p:blipFill>
          <a:blip r:embed="rId2"/>
          <a:stretch/>
        </p:blipFill>
        <p:spPr>
          <a:xfrm>
            <a:off x="228600" y="228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IMG_3142"/>
          <p:cNvPicPr/>
          <p:nvPr/>
        </p:nvPicPr>
        <p:blipFill>
          <a:blip r:embed="rId3"/>
          <a:stretch/>
        </p:blipFill>
        <p:spPr>
          <a:xfrm>
            <a:off x="4038480" y="2286000"/>
            <a:ext cx="3273480" cy="4363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4114800" y="457200"/>
            <a:ext cx="327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УЗ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КОММУНАЛЬНАЯ КВАРТИ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7543800" y="45720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ЛЛЕЯ ЗОНТ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IMG_0021"/>
          <p:cNvPicPr/>
          <p:nvPr/>
        </p:nvPicPr>
        <p:blipFill>
          <a:blip r:embed="rId2"/>
          <a:stretch/>
        </p:blipFill>
        <p:spPr>
          <a:xfrm>
            <a:off x="304920" y="380880"/>
            <a:ext cx="4190760" cy="3143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IMG_0061"/>
          <p:cNvPicPr/>
          <p:nvPr/>
        </p:nvPicPr>
        <p:blipFill>
          <a:blip r:embed="rId3"/>
          <a:stretch/>
        </p:blipFill>
        <p:spPr>
          <a:xfrm>
            <a:off x="4724280" y="3352680"/>
            <a:ext cx="4222800" cy="3167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5029200" y="11430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ОРОДСКОЙ ПАР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103214605_large__46972075"/>
          <p:cNvPicPr/>
          <p:nvPr/>
        </p:nvPicPr>
        <p:blipFill>
          <a:blip r:embed="rId2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IMG_1300"/>
          <p:cNvPicPr/>
          <p:nvPr/>
        </p:nvPicPr>
        <p:blipFill>
          <a:blip r:embed="rId3"/>
          <a:stretch/>
        </p:blipFill>
        <p:spPr>
          <a:xfrm>
            <a:off x="2133720" y="1066680"/>
            <a:ext cx="6248160" cy="4686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2362320" y="38088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ВТО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103214605_large__46972075"/>
          <p:cNvPicPr/>
          <p:nvPr/>
        </p:nvPicPr>
        <p:blipFill>
          <a:blip r:embed="rId2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1050817"/>
          <p:cNvPicPr/>
          <p:nvPr/>
        </p:nvPicPr>
        <p:blipFill>
          <a:blip r:embed="rId3"/>
          <a:stretch/>
        </p:blipFill>
        <p:spPr>
          <a:xfrm>
            <a:off x="228600" y="26676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P1050843"/>
          <p:cNvPicPr/>
          <p:nvPr/>
        </p:nvPicPr>
        <p:blipFill>
          <a:blip r:embed="rId4"/>
          <a:stretch/>
        </p:blipFill>
        <p:spPr>
          <a:xfrm>
            <a:off x="4343400" y="3048120"/>
            <a:ext cx="4648320" cy="3485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638680" y="12952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ТАНЦИЯ СКОРОЙ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103214605_large__46972075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86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IMG_7313"/>
          <p:cNvPicPr/>
          <p:nvPr/>
        </p:nvPicPr>
        <p:blipFill>
          <a:blip r:embed="rId2"/>
          <a:stretch/>
        </p:blipFill>
        <p:spPr>
          <a:xfrm>
            <a:off x="2286000" y="1828800"/>
            <a:ext cx="5486400" cy="4194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1676520" y="5335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УЗЕЙ-УСАДЬБА «АРХАНГЕЛЬСКО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b05adb_ab6c717d15b24c66a9575c264b8f281c"/>
          <p:cNvPicPr/>
          <p:nvPr/>
        </p:nvPicPr>
        <p:blipFill>
          <a:blip r:embed="rId1"/>
          <a:stretch/>
        </p:blipFill>
        <p:spPr>
          <a:xfrm>
            <a:off x="0" y="0"/>
            <a:ext cx="9448920" cy="69134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1219320" y="609480"/>
            <a:ext cx="6629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ЕЗУЛЬТАТЫ ПРОЕКТА: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ДАГОГИЧЕСКОЕ МАСТЕРСТВО ПЕДАГОГОВ В ОБЛАСТИ НРАВСТВЕННО-ПАТРИОТИЧЕСКОГО ВОСПИТАНИЯ;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НАНИЯ ДЕТЕЙ О РОДНОМ ГОРОДЕ;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СПИТАНИЕ ЛИЧНЫХ КАЧЕСТВ ДОШКОЛЬНИКОВ: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ЮБОВЬ К РОДНОМУ ГОРОДУ, УВАЖЕНИЕ К ЛЮДЯМ ТРУДА, ВЕТЕРАНАМ ВОЙНЫ;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ДАГОГИЧЕСКОЕ ПРОСВЕЩЕНИЕ РОДИТЕЛЕЙ;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СТАВКА ХУДОЖЕСТВЕННОГО И СОВМЕСТНОГО ТВОРЧЕСТВА ДЕТЕЙ, РОДИТЕЛЕЙ, ПЕДАГОГ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img2"/>
          <p:cNvPicPr/>
          <p:nvPr/>
        </p:nvPicPr>
        <p:blipFill>
          <a:blip r:embed="rId1"/>
          <a:stretch/>
        </p:blipFill>
        <p:spPr>
          <a:xfrm>
            <a:off x="-228600" y="0"/>
            <a:ext cx="9524880" cy="7089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33360" y="304812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b05adb_ab6c717d15b24c66a9575c264b8f281c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137124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ИД ПРОЕКТА: СОЦИАЛЬНО – ПЕДАГОГИЧЕСКИЙ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ДОЛЖИТЕЛЬНОСТЬ: ДОЛГОСРОЧНЫЙ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СЕНТЯБРЬ 2014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 – МАЙ 2016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b05adb_ab6c717d15b24c66a9575c264b8f281c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990360"/>
            <a:ext cx="55627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ЦЕЛЬ ПРОЕКТА: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ОСПИТАНИЕ НРАВСТВЕННО-ПАТРИОТИЧЕСКИХ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АЧЕСТВ ЛИЧНОСТИ ДОШКОЛЬНИКОВ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ЕРЕЗ ОЗНАКОМЛЕНИЕ ИХ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 ИСТОРИЕЙ ГО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b05adb_ab6c717d15b24c66a9575c264b8f281c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2392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РАМКАХ ПРОЕКТА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ОСПИТАТЕЛЯМИ БЫЛ ПОДОБРАН И ИЗУЧЕН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МАТЕРИАЛ ПО ИСТОРИИ ГОРОДА;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ФОРМЛЕНЫ ПАПКИ ДЛЯ РОДИТЕЛЕЙ ПО ТЕМЕ ПРОЕКТА;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РГАНИЗОВАН СЕМЕЙНЫЙ КЛУБ  «ТАЙНЫ КРАСНОГОРСКА»;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РЕДИ ДЕТЕЙ ПРОВЕДЕНЫ КОНКУРС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Ы: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ТЕЦОВ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«КРАСНОГОРСК – ЛЮБИМЫЙ ГОРОД»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НКУРС «КНИЖКА - МАЛЫШКА»;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ГРУППАХ СОЗДАНЫ УГОЛКИ КРАЕВЕДЕНИЯ</a:t>
            </a:r>
            <a:br>
              <a:rPr sz="1400"/>
            </a:br>
            <a:br>
              <a:rPr sz="14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03214605_large__46972075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Фото7"/>
          <p:cNvPicPr/>
          <p:nvPr/>
        </p:nvPicPr>
        <p:blipFill>
          <a:blip r:embed="rId2"/>
          <a:stretch/>
        </p:blipFill>
        <p:spPr>
          <a:xfrm>
            <a:off x="0" y="3049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IMG_2339"/>
          <p:cNvPicPr/>
          <p:nvPr/>
        </p:nvPicPr>
        <p:blipFill>
          <a:blip r:embed="rId3"/>
          <a:stretch/>
        </p:blipFill>
        <p:spPr>
          <a:xfrm>
            <a:off x="4343400" y="3124080"/>
            <a:ext cx="4527720" cy="33958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4495680" y="990720"/>
            <a:ext cx="4038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АССМАТРИВАНИЕ КНИЖЕК-МАЛЫШ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 КРАСНОГОРС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743200" y="502920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ЫСТАВКА РИСУНКОВ, ПОДЕЛОК      О ГОРО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03214605_large__46972075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IMG_2347"/>
          <p:cNvPicPr/>
          <p:nvPr/>
        </p:nvPicPr>
        <p:blipFill>
          <a:blip r:embed="rId2"/>
          <a:stretch/>
        </p:blipFill>
        <p:spPr>
          <a:xfrm>
            <a:off x="4038480" y="304812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IMG_2336"/>
          <p:cNvPicPr/>
          <p:nvPr/>
        </p:nvPicPr>
        <p:blipFill>
          <a:blip r:embed="rId3"/>
          <a:stretch/>
        </p:blipFill>
        <p:spPr>
          <a:xfrm>
            <a:off x="-76320" y="2286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5181480" y="12193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ОРОД НА КРАСНОЙ ГОР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_DSC7352"/>
          <p:cNvPicPr/>
          <p:nvPr/>
        </p:nvPicPr>
        <p:blipFill>
          <a:blip r:embed="rId2"/>
          <a:stretch/>
        </p:blipFill>
        <p:spPr>
          <a:xfrm>
            <a:off x="380880" y="609480"/>
            <a:ext cx="4114800" cy="273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_DSC7372"/>
          <p:cNvPicPr/>
          <p:nvPr/>
        </p:nvPicPr>
        <p:blipFill>
          <a:blip r:embed="rId3"/>
          <a:stretch/>
        </p:blipFill>
        <p:spPr>
          <a:xfrm>
            <a:off x="4724280" y="609480"/>
            <a:ext cx="411480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_DSC7586"/>
          <p:cNvPicPr/>
          <p:nvPr/>
        </p:nvPicPr>
        <p:blipFill>
          <a:blip r:embed="rId4"/>
          <a:stretch/>
        </p:blipFill>
        <p:spPr>
          <a:xfrm>
            <a:off x="2743200" y="3657600"/>
            <a:ext cx="4495680" cy="2982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3124080" y="312408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7391520" y="52578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МОРИАЛ НА КРАСНОЙ ГОР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2286000" y="3049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УЗЕЙ НЕМЕЦКИХ АНТИФАШИС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MG_1210"/>
          <p:cNvPicPr/>
          <p:nvPr/>
        </p:nvPicPr>
        <p:blipFill>
          <a:blip r:embed="rId2"/>
          <a:stretch/>
        </p:blipFill>
        <p:spPr>
          <a:xfrm>
            <a:off x="304920" y="380880"/>
            <a:ext cx="4800600" cy="3600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MG_1222"/>
          <p:cNvPicPr/>
          <p:nvPr/>
        </p:nvPicPr>
        <p:blipFill>
          <a:blip r:embed="rId3"/>
          <a:stretch/>
        </p:blipFill>
        <p:spPr>
          <a:xfrm>
            <a:off x="5257800" y="1295280"/>
            <a:ext cx="3772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3214605_large__4697207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IMG_1151"/>
          <p:cNvPicPr/>
          <p:nvPr/>
        </p:nvPicPr>
        <p:blipFill>
          <a:blip r:embed="rId2"/>
          <a:stretch/>
        </p:blipFill>
        <p:spPr>
          <a:xfrm>
            <a:off x="457200" y="6094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IMG_1148"/>
          <p:cNvPicPr/>
          <p:nvPr/>
        </p:nvPicPr>
        <p:blipFill>
          <a:blip r:embed="rId3"/>
          <a:stretch/>
        </p:blipFill>
        <p:spPr>
          <a:xfrm>
            <a:off x="4952880" y="609480"/>
            <a:ext cx="3689640" cy="2766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IMG_0825"/>
          <p:cNvPicPr/>
          <p:nvPr/>
        </p:nvPicPr>
        <p:blipFill>
          <a:blip r:embed="rId4"/>
          <a:stretch/>
        </p:blipFill>
        <p:spPr>
          <a:xfrm>
            <a:off x="2895480" y="3657600"/>
            <a:ext cx="3918240" cy="2957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"/>
          <p:cNvSpPr/>
          <p:nvPr/>
        </p:nvSpPr>
        <p:spPr>
          <a:xfrm>
            <a:off x="1523880" y="22860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ЕНИНО-СНЕГИРЕВСКИЙ ВОЕННО-ИСТОРИЧЕСКИЙ МУ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6934320" y="579132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ЖАРНАЯ ЧА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. КРАСНОГО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9T18:38:08Z</dcterms:created>
  <dc:creator>D</dc:creator>
  <dc:description/>
  <dc:language>en-US</dc:language>
  <cp:lastModifiedBy>G</cp:lastModifiedBy>
  <dcterms:modified xsi:type="dcterms:W3CDTF">2015-10-18T11:42:58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