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CCB-C07E-40E6-90C3-5DC19613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67D-1908-4791-B54C-2468C2FB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896-4334-4543-AB99-90425FAC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C7D-7240-4898-B29A-6738032A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6FA-9528-4F1A-9955-459A62F5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55A-8411-49BE-99EA-3992C454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2DD-BD33-4842-A671-48F38B57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3C8-1CDB-4074-845C-D7722FC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A0B-8473-490F-AAEC-1D213384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733-EC27-46B9-8B52-94DB383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6C3-AC2C-4863-B3D2-5E1340E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5BE-F1A3-4FAA-A9D6-14DED16A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45B0-60DF-4D7E-8D49-FE7A3B720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752480"/>
            <a:ext cx="838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Проек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учащихся 3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"Если хочешь быть здоров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0" y="636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304920"/>
            <a:ext cx="8381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Календарно-тематическое план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ФАКУЛЬТАТИВА "РАСТИ ЗДОРОВЫМ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1 класс - 9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600200"/>
          <a:ext cx="8839440" cy="5154480"/>
        </p:xfrm>
        <a:graphic>
          <a:graphicData uri="http://schemas.openxmlformats.org/drawingml/2006/table">
            <a:tbl>
              <a:tblPr/>
              <a:tblGrid>
                <a:gridCol w="299520"/>
                <a:gridCol w="3295800"/>
                <a:gridCol w="5244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и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анка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правильное представление о посадке ученика, и о ее влиянии на развивающийся организм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представление о скелете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представление о скелете человека, о его значении на развивающийся орган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комить учащихся с режимом дня как неотъемлемой частью охраны здоровья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ть навыки выполнения и потребности выполнения гимна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ал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ить учащихся с принципами закаливания и его влияния на оздоровление организ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ая гиги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ить запас знаний о личной гигиене, сформировать навыки личной гиги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ищева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представление о системе пищева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питания. Болезни грязных р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навыков правильного п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ный журнал “Мое здоровье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ение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0" y="636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304920"/>
            <a:ext cx="8381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Календарно-тематическое план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ФАКУЛЬТАТИВА "РАСТИ ЗДОРОВЫМ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2 класс - 9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600200"/>
          <a:ext cx="8839440" cy="5005440"/>
        </p:xfrm>
        <a:graphic>
          <a:graphicData uri="http://schemas.openxmlformats.org/drawingml/2006/table">
            <a:tbl>
              <a:tblPr/>
              <a:tblGrid>
                <a:gridCol w="300240"/>
                <a:gridCol w="3295440"/>
                <a:gridCol w="5243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и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 - главное богатство человека повторение за 1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здорового образа жизни. Полезные и вредные привы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та о своем здоровье и хорошем настроении. Гигиена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гигиенической культуры в соответствии со знанием своего орган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упреждение простудных заболеваний. Первая помощь при обморажи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ить с профилактическими мерами по предупреждению простудных заболеваний и углубить знания о закали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зрения и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вать бережное отношение к органам зрения и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режима дня для укрепления здоровья, сон - успешная работа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ить умения выполнения режима дня, дать понятие о сне, сновид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е дыхание - залог хорошего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чистоты и порядка в классе, в квартире, на лестничной площадке, во дво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жизненной необходимости соблюдения гигиены и поря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ающий урок “В гостях у Мойдодыра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правильного отношения к объектам природы и результатам труда людей, т.е. формирование элементарной экологической 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природы - необходимые условия охраны здоровья лю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 знаний и умений учащихся по выполнению правил здорового образа жи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0" y="636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304920"/>
            <a:ext cx="8381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Календарно-тематическое план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ФАКУЛЬТАТИВА "РАСТИ ЗДОРОВЫМ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3 класс - 9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600200"/>
          <a:ext cx="8839440" cy="4956120"/>
        </p:xfrm>
        <a:graphic>
          <a:graphicData uri="http://schemas.openxmlformats.org/drawingml/2006/table">
            <a:tbl>
              <a:tblPr/>
              <a:tblGrid>
                <a:gridCol w="300240"/>
                <a:gridCol w="3295440"/>
                <a:gridCol w="5243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и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е своего организма - основа сохранения здоровья. Природа и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ить ранее изученные знания о человеке и дать представление о человеке как части природы. Нервная система и здоровье челове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елет, его строение. Значение скел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бить знания о строении скелета человека и его знач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 костей, свойства костей. Правильная осанка и посадка. Красота тела челове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редставления о взаимосогласованности работы всех частей скелета человека. Головной мозг и органы чув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шцы, работа мыш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физического труда дома и в школе для правильного формирования скелета, мыш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а. Закали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ухода за кожей. Различные системы закали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арение. Значение питания. Состав пищи. Витамины. Органы пищев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е питание - основа здоровья, а алкоголь - враг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ние. Органы дыхания. Табак - враг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бление знаний об органах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на “Кто я и какой я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понятие об органах кровообращения и их роли в системе орган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ь. Сердце. Кровообра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ение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атье 51 закона РФ "Об образовании" сказано, что образовательное учреждение создает условия, гарантирующие охрану и укрепление здоровья. Однако вместе со знаниями дети получают невротические заболевания, изменения в опорно-двигательном аппарате, сердечно-сосудистой системе. Наиболее массовыми являются патологии органов зрения и опорно-двигательного аппара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380880"/>
            <a:ext cx="8381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Состояние здоровья учащихся в 3-ем клас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17800" y="1146240"/>
          <a:ext cx="4730760" cy="567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7800" y="1146240"/>
                    <a:ext cx="473076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7200" y="2057400"/>
          <a:ext cx="2895480" cy="3429000"/>
        </p:xfrm>
        <a:graphic>
          <a:graphicData uri="http://schemas.openxmlformats.org/drawingml/2006/table">
            <a:tbl>
              <a:tblPr/>
              <a:tblGrid>
                <a:gridCol w="1366920"/>
                <a:gridCol w="152856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руппа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838080"/>
            <a:ext cx="8991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аболеваемость в класс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в течение 2005-2006 учебного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2819520"/>
          <a:ext cx="9143640" cy="1066680"/>
        </p:xfrm>
        <a:graphic>
          <a:graphicData uri="http://schemas.openxmlformats.org/drawingml/2006/table">
            <a:tbl>
              <a:tblPr/>
              <a:tblGrid>
                <a:gridCol w="1304280"/>
                <a:gridCol w="1307880"/>
                <a:gridCol w="1306440"/>
                <a:gridCol w="1306080"/>
                <a:gridCol w="1306440"/>
                <a:gridCol w="1304280"/>
                <a:gridCol w="13082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533520"/>
            <a:ext cx="8610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Результаты анкетирования по профилакти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употребления алкоголя и табакоку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514600"/>
          <a:ext cx="8534160" cy="31050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овал ли ты кури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3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– 23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овал ли ты пив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12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– 14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овал ли ты водк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2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– 24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тие ребёнка при сохранени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здорового образа жизни, бережного отношения к с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38088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Основные цел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228600"/>
            <a:ext cx="8382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адач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епление физического, психического и нравственного здоровь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амостоятельности, самоуправления, само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негативного отношения к вредным привычкам (курение, алк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523880"/>
            <a:ext cx="89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Комплекс мероприятий, направлен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на обеспечение физического здоровья ребё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00040" y="19047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режима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утренней заря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лассных часов на спортивные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праздников «Испытай себя», «Папа, мама, я - спортивная семья», «Осенние стар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 на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спортивных мероприятиях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уроков Мойдодыра и Айб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литературы о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сте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на свежем возду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3661" t="15776" r="14492" b="12306"/>
          <a:stretch/>
        </p:blipFill>
        <p:spPr>
          <a:xfrm>
            <a:off x="76320" y="1841400"/>
            <a:ext cx="2971800" cy="212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053" t="27471" r="22397" b="0"/>
          <a:stretch/>
        </p:blipFill>
        <p:spPr>
          <a:xfrm>
            <a:off x="76320" y="4176720"/>
            <a:ext cx="297180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0"/>
            <a:ext cx="8458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правильного отношения к своему здоров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нижение уровня заболев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нижение количества пропущенных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е общей культуры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838080"/>
            <a:ext cx="8382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Предпологаемые результаты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ка</cp:lastModifiedBy>
  <dcterms:modified xsi:type="dcterms:W3CDTF">2005-09-12T08:26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