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D403-9479-4C18-9828-0A1C23579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538F-53DB-4725-AC97-839515DC3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56F0-6A52-4421-B603-D89753B27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6C26-8CEA-46BA-B6C8-1009081B4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550E-D6C1-45F4-A957-D26B7CC00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46A8-4FD2-496D-9B31-15966D669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DC9D-7A13-44F4-981F-AE9962A44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C533-0D0E-4C48-9926-9DBFABED1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2F47-048D-400C-8890-FB982467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3CD9-6D52-4EF0-BB72-2B53049D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101A-3975-4766-BB5A-6B557979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153E-3FA9-47AB-BEF1-F774498B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99BB1-897A-41A5-9450-ECDE12B94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80880" y="1752480"/>
            <a:ext cx="838224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61700"/>
                    </a:gs>
                    <a:gs pos="50000">
                      <a:srgbClr val="993300"/>
                    </a:gs>
                    <a:gs pos="100000">
                      <a:srgbClr val="461700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Проект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61700"/>
                    </a:gs>
                    <a:gs pos="50000">
                      <a:srgbClr val="993300"/>
                    </a:gs>
                    <a:gs pos="100000">
                      <a:srgbClr val="461700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учащихся 3 класс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61700"/>
                    </a:gs>
                    <a:gs pos="50000">
                      <a:srgbClr val="993300"/>
                    </a:gs>
                    <a:gs pos="100000">
                      <a:srgbClr val="461700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"Если хочешь быть здоров!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86000" y="63648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04920" y="304920"/>
            <a:ext cx="83818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0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61700"/>
                    </a:gs>
                    <a:gs pos="50000">
                      <a:srgbClr val="993300"/>
                    </a:gs>
                    <a:gs pos="100000">
                      <a:srgbClr val="461700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Календарно-тематическое планиров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61700"/>
                    </a:gs>
                    <a:gs pos="50000">
                      <a:srgbClr val="993300"/>
                    </a:gs>
                    <a:gs pos="100000">
                      <a:srgbClr val="461700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ФАКУЛЬТАТИВА "РАСТИ ЗДОРОВЫМ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61700"/>
                    </a:gs>
                    <a:gs pos="50000">
                      <a:srgbClr val="993300"/>
                    </a:gs>
                    <a:gs pos="100000">
                      <a:srgbClr val="461700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1 класс - 9 час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52280" y="1600200"/>
          <a:ext cx="8839440" cy="5154480"/>
        </p:xfrm>
        <a:graphic>
          <a:graphicData uri="http://schemas.openxmlformats.org/drawingml/2006/table">
            <a:tbl>
              <a:tblPr/>
              <a:tblGrid>
                <a:gridCol w="299520"/>
                <a:gridCol w="3295800"/>
                <a:gridCol w="524412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а ур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и и зада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анка челове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ь правильное представление о посадке ученика, и о ее влиянии на развивающийся организм реб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ее представление о скелете челове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ь представление о скелете человека, о его значении на развивающийся организ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жим д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знакомить учащихся с режимом дня как неотъемлемой частью охраны здоровья челове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мнас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формировать навыки выполнения и потребности выполнения гимнаст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кали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знакомить учащихся с принципами закаливания и его влияния на оздоровление организ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чная гиги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ширить запас знаний о личной гигиене, сформировать навыки личной гигие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стема пищевар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ь представление о системе пищевар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жим питания. Болезни грязных ру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ние навыков правильного пит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тный журнал “Мое здоровье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бщение зн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86000" y="63648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04920" y="304920"/>
            <a:ext cx="83818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0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61700"/>
                    </a:gs>
                    <a:gs pos="50000">
                      <a:srgbClr val="993300"/>
                    </a:gs>
                    <a:gs pos="100000">
                      <a:srgbClr val="461700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Календарно-тематическое планиров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61700"/>
                    </a:gs>
                    <a:gs pos="50000">
                      <a:srgbClr val="993300"/>
                    </a:gs>
                    <a:gs pos="100000">
                      <a:srgbClr val="461700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ФАКУЛЬТАТИВА "РАСТИ ЗДОРОВЫМ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61700"/>
                    </a:gs>
                    <a:gs pos="50000">
                      <a:srgbClr val="993300"/>
                    </a:gs>
                    <a:gs pos="100000">
                      <a:srgbClr val="461700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2 класс - 9 час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2280" y="1600200"/>
          <a:ext cx="8839440" cy="5005440"/>
        </p:xfrm>
        <a:graphic>
          <a:graphicData uri="http://schemas.openxmlformats.org/drawingml/2006/table">
            <a:tbl>
              <a:tblPr/>
              <a:tblGrid>
                <a:gridCol w="300240"/>
                <a:gridCol w="3295440"/>
                <a:gridCol w="524376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а уро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и и задач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доровье - главное богатство человека повторение за 1 клас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ила здорового образа жизни. Полезные и вредные привыч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бота о своем здоровье и хорошем настроении. Гигиена зуб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ание гигиенической культуры в соответствии со знанием своего организ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упреждение простудных заболеваний. Первая помощь при обморажива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знакомить с профилактическими мерами по предупреждению простудных заболеваний и углубить знания о закалива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храна зрения и слух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вивать бережное отношение к органам зрения и слух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чение режима дня для укрепления здоровья, сон - успешная работа мозг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крепить умения выполнения режима дня, дать понятие о сне, сновиден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ы дых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ильное дыхание - залог хорошего здоровь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блюдение чистоты и порядка в классе, в квартире, на лестничной площадке, во двор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ание жизненной необходимости соблюдения гигиены и поряд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бщающий урок “В гостях у Мойдодыра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ание правильного отношения к объектам природы и результатам труда людей, т.е. формирование элементарной экологической культу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храна природы - необходимые условия охраны здоровья люд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крепление знаний и умений учащихся по выполнению правил здорового образа жизн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86000" y="63648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04920" y="304920"/>
            <a:ext cx="83818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0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61700"/>
                    </a:gs>
                    <a:gs pos="50000">
                      <a:srgbClr val="993300"/>
                    </a:gs>
                    <a:gs pos="100000">
                      <a:srgbClr val="461700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Календарно-тематическое планиров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61700"/>
                    </a:gs>
                    <a:gs pos="50000">
                      <a:srgbClr val="993300"/>
                    </a:gs>
                    <a:gs pos="100000">
                      <a:srgbClr val="461700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ФАКУЛЬТАТИВА "РАСТИ ЗДОРОВЫМ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61700"/>
                    </a:gs>
                    <a:gs pos="50000">
                      <a:srgbClr val="993300"/>
                    </a:gs>
                    <a:gs pos="100000">
                      <a:srgbClr val="461700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3 класс - 9 час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52280" y="1600200"/>
          <a:ext cx="8839440" cy="4956120"/>
        </p:xfrm>
        <a:graphic>
          <a:graphicData uri="http://schemas.openxmlformats.org/drawingml/2006/table">
            <a:tbl>
              <a:tblPr/>
              <a:tblGrid>
                <a:gridCol w="300240"/>
                <a:gridCol w="3295440"/>
                <a:gridCol w="524376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а уро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и и задач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ние своего организма - основа сохранения здоровья. Природа и челов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бщить ранее изученные знания о человеке и дать представление о человеке как части природы. Нервная система и здоровье челове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елет, его строение. Значение скел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лубить знания о строении скелета человека и его знач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единение костей, свойства костей. Правильная осанка и посадка. Красота тела челове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ние представления о взаимосогласованности работы всех частей скелета человека. Головной мозг и органы чув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ышцы, работа мыш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чение физического труда дома и в школе для правильного формирования скелета, мыш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жа. Закали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ила ухода за кожей. Различные системы закали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ищеварение. Значение питания. Состав пищи. Витамины. Органы пищевар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ильное питание - основа здоровья, а алкоголь - враг здоровь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ыхание. Органы дыхания. Табак - враг здоровь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лубление знаний об органах дых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кторина “Кто я и какой я?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ь понятие об органах кровообращения и их роли в системе организ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овь. Сердце. Кровообращ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бщение зн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статье 51 закона РФ "Об образовании" сказано, что образовательное учреждение создает условия, гарантирующие охрану и укрепление здоровья. Однако вместе со знаниями дети получают невротические заболевания, изменения в опорно-двигательном аппарате, сердечно-сосудистой системе. Наиболее массовыми являются патологии органов зрения и опорно-двигательного аппарата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04920" y="380880"/>
            <a:ext cx="83818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61700"/>
                    </a:gs>
                    <a:gs pos="50000">
                      <a:srgbClr val="993300"/>
                    </a:gs>
                    <a:gs pos="100000">
                      <a:srgbClr val="461700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Состояние здоровья учащихся в 3-ем класс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817800" y="1146240"/>
          <a:ext cx="4730760" cy="567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17800" y="1146240"/>
                    <a:ext cx="4730760" cy="567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457200" y="2057400"/>
          <a:ext cx="2895480" cy="3429000"/>
        </p:xfrm>
        <a:graphic>
          <a:graphicData uri="http://schemas.openxmlformats.org/drawingml/2006/table">
            <a:tbl>
              <a:tblPr/>
              <a:tblGrid>
                <a:gridCol w="1366920"/>
                <a:gridCol w="1528560"/>
              </a:tblGrid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группа здоровь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челове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группа здоровь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челове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группа здоровь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челове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группа здоровь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челове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52280" y="838080"/>
            <a:ext cx="89917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61700"/>
                    </a:gs>
                    <a:gs pos="50000">
                      <a:srgbClr val="993300"/>
                    </a:gs>
                    <a:gs pos="100000">
                      <a:srgbClr val="461700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Заболеваемость в класс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61700"/>
                    </a:gs>
                    <a:gs pos="50000">
                      <a:srgbClr val="993300"/>
                    </a:gs>
                    <a:gs pos="100000">
                      <a:srgbClr val="461700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в течение 2005-2006 учебного го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0" y="2819520"/>
          <a:ext cx="9143640" cy="1066680"/>
        </p:xfrm>
        <a:graphic>
          <a:graphicData uri="http://schemas.openxmlformats.org/drawingml/2006/table">
            <a:tbl>
              <a:tblPr/>
              <a:tblGrid>
                <a:gridCol w="1304280"/>
                <a:gridCol w="1307880"/>
                <a:gridCol w="1306440"/>
                <a:gridCol w="1306080"/>
                <a:gridCol w="1306440"/>
                <a:gridCol w="1304280"/>
                <a:gridCol w="130824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нтябр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тябр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ябр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кабр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нвар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вра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р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9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8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6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4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28600" y="533520"/>
            <a:ext cx="86104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61700"/>
                    </a:gs>
                    <a:gs pos="50000">
                      <a:srgbClr val="993300"/>
                    </a:gs>
                    <a:gs pos="100000">
                      <a:srgbClr val="461700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Результаты анкетирования по профилактик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61700"/>
                    </a:gs>
                    <a:gs pos="50000">
                      <a:srgbClr val="993300"/>
                    </a:gs>
                    <a:gs pos="100000">
                      <a:srgbClr val="461700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употребления алкоголя и табакокур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80880" y="2514600"/>
          <a:ext cx="8534160" cy="3105000"/>
        </p:xfrm>
        <a:graphic>
          <a:graphicData uri="http://schemas.openxmlformats.org/drawingml/2006/table">
            <a:tbl>
              <a:tblPr/>
              <a:tblGrid>
                <a:gridCol w="4267080"/>
                <a:gridCol w="4267080"/>
              </a:tblGrid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бовал ли ты курить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 – 3 челове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 – 23 челове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бовал ли ты пиво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 – 12 челове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 – 14 челове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бовал ли ты водку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 – 2 челове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 – 24 челове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27428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звитие ребёнка при сохранении здоров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ормирование здорового образа жизни, бережного отношения к себ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4920" y="380880"/>
            <a:ext cx="83818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61700"/>
                    </a:gs>
                    <a:gs pos="50000">
                      <a:srgbClr val="993300"/>
                    </a:gs>
                    <a:gs pos="100000">
                      <a:srgbClr val="461700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Основные цели проек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80880" y="228600"/>
            <a:ext cx="83822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61700"/>
                    </a:gs>
                    <a:gs pos="50000">
                      <a:srgbClr val="993300"/>
                    </a:gs>
                    <a:gs pos="100000">
                      <a:srgbClr val="461700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Задачи проек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крепление физического, психического и нравственного здоровья де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витие самостоятельности, самоуправления, самодисципл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ирование негативного отношения к вредным привычкам (курение, алкогол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523880"/>
            <a:ext cx="891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2280"/>
            <a:ext cx="83818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61700"/>
                    </a:gs>
                    <a:gs pos="50000">
                      <a:srgbClr val="993300"/>
                    </a:gs>
                    <a:gs pos="100000">
                      <a:srgbClr val="461700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Комплекс мероприятий, направленны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61700"/>
                    </a:gs>
                    <a:gs pos="50000">
                      <a:srgbClr val="993300"/>
                    </a:gs>
                    <a:gs pos="100000">
                      <a:srgbClr val="461700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на обеспечение физического здоровья ребён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200040" y="1904760"/>
            <a:ext cx="5791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ение режима д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дение утренней заряд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дение классных часов на спортивные т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дение праздников «Испытай себя», «Папа, мама, я - спортивная семья», «Осенние старт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курсии на прир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стие в спортивных мероприятиях шко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дение уроков Мойдодыра и Айболи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ение литературы о здоровом образе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формление стен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гры на свежем воздух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23661" t="15776" r="14492" b="12306"/>
          <a:stretch/>
        </p:blipFill>
        <p:spPr>
          <a:xfrm>
            <a:off x="76320" y="1841400"/>
            <a:ext cx="2971800" cy="2121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4053" t="27471" r="22397" b="0"/>
          <a:stretch/>
        </p:blipFill>
        <p:spPr>
          <a:xfrm>
            <a:off x="76320" y="4176720"/>
            <a:ext cx="2971800" cy="19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8600" y="2286000"/>
            <a:ext cx="84582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ормирование правильного отношения к своему здоров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нижение уровня заболевае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нижение количества пропущенных уро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вышение общей культуры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0880" y="838080"/>
            <a:ext cx="838224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0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61700"/>
                    </a:gs>
                    <a:gs pos="50000">
                      <a:srgbClr val="993300"/>
                    </a:gs>
                    <a:gs pos="100000">
                      <a:srgbClr val="461700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Предпологаемые результаты проек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имка</cp:lastModifiedBy>
  <dcterms:modified xsi:type="dcterms:W3CDTF">2005-09-12T08:26:51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