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C8C-883D-4844-BC77-A74191A8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76C-C4A2-4347-BA98-070D29FE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50D-1C74-4412-8173-D799867A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FC7-8FCD-4E3B-A4F7-3E036997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CD1-1A6A-4A16-A371-F4665B9F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CDF-8836-4137-8D59-FD05F628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8DF-EB3D-447B-B51D-39C5ECB4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4DD-8940-42DF-B228-EF636396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8D4-E1AF-4B21-BA3F-F5027665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3FA-51F8-40A1-8181-8D077B3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E4F-07AA-44E5-B911-22D17BA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CF1-EA4E-4460-91B8-CB30B59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7944-93B5-4242-A714-42DB569665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Documents and Settings\Serega maladec\Рабочий стол\карт книга\орнаментыдля оформления\прелестное окно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кола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2884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Образовательные возможности загад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 flipH="1">
            <a:off x="4500000" y="3643200"/>
            <a:ext cx="378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мякина Валент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 flipH="1">
            <a:off x="3428280" y="607212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раскрыть образовательные возможности 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 со сборником «Её величество Загадк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ть возможности созданного цифрового образовательного ресурс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крыть формы работы с загад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ё величество Заг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400" y="92844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варные сло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ые слова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сные после шипящих(жи,ши; ча,ща; чу,щ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ойчивые сочетания(чк,ч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ные звонкие и глухие со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ударные 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роизносимые со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военные со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ительные ъ и ь зн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арные звонкие и глухие согла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999880" y="142848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«Прощай, мой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чуб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Ты брошен в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суп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»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горьких</a:t>
            </a:r>
            <a:r>
              <a:rPr b="1" i="1" lang="ru-RU" sz="27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мук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тал горьким 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а одном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быке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семь шкур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идит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бабк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грядках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ся в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заплатках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то заплатку оторвет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Тот заплачет и уйдет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C:\Documents and Settings\Serega maladec\Рабочий стол\карт книга\лук.jpg"/>
          <p:cNvPicPr/>
          <p:nvPr/>
        </p:nvPicPr>
        <p:blipFill>
          <a:blip r:embed="rId1"/>
          <a:stretch/>
        </p:blipFill>
        <p:spPr>
          <a:xfrm>
            <a:off x="857160" y="1571760"/>
            <a:ext cx="21258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ьзование текста 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760" y="1285560"/>
            <a:ext cx="8286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задача (выдвижение и проверка гипотез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красный языковой материал, содержащ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аиз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зможности использования иллюст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714920" y="2714400"/>
            <a:ext cx="38577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ит Алён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ок зелё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нкий стан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ый сараф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3" descr="берёза"/>
          <p:cNvPicPr/>
          <p:nvPr/>
        </p:nvPicPr>
        <p:blipFill>
          <a:blip r:embed="rId1"/>
          <a:stretch/>
        </p:blipFill>
        <p:spPr>
          <a:xfrm>
            <a:off x="714240" y="1857240"/>
            <a:ext cx="40006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зможности использования цифрового образовательного рес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 rot="10800000">
            <a:off x="285840" y="192780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с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C:\Documents and Settings\Serega maladec\Рабочий стол\карт книга\вертишейка.jpg"/>
          <p:cNvPicPr/>
          <p:nvPr/>
        </p:nvPicPr>
        <p:blipFill>
          <a:blip r:embed="rId1"/>
          <a:stretch/>
        </p:blipFill>
        <p:spPr>
          <a:xfrm>
            <a:off x="3786120" y="2071800"/>
            <a:ext cx="178596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Serega maladec\Рабочий стол\карт книга\горихвостка.jpg"/>
          <p:cNvPicPr/>
          <p:nvPr/>
        </p:nvPicPr>
        <p:blipFill>
          <a:blip r:embed="rId2"/>
          <a:stretch/>
        </p:blipFill>
        <p:spPr>
          <a:xfrm>
            <a:off x="6072120" y="2928960"/>
            <a:ext cx="2617920" cy="2259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Serega maladec\Рабочий стол\карт книга\козодой.jpg"/>
          <p:cNvPicPr/>
          <p:nvPr/>
        </p:nvPicPr>
        <p:blipFill>
          <a:blip r:embed="rId3"/>
          <a:stretch/>
        </p:blipFill>
        <p:spPr>
          <a:xfrm>
            <a:off x="357120" y="242892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Serega maladec\Рабочий стол\карт книга\снегирь.jpeg"/>
          <p:cNvPicPr/>
          <p:nvPr/>
        </p:nvPicPr>
        <p:blipFill>
          <a:blip r:embed="rId4"/>
          <a:stretch/>
        </p:blipFill>
        <p:spPr>
          <a:xfrm>
            <a:off x="3736800" y="4643280"/>
            <a:ext cx="21193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агадка формир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1720" y="1357200"/>
            <a:ext cx="64008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 наблюдать жиз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ринимать предметы и явления с разных сто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еть мир в многообразных красках, звуках, движении, измен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Serega maladec\Рабочий стол\карт книга\орнаментыдля оформления\бук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Serega maladec\Рабочий стол\карт книга\орнаментыдля оформления\прелестное окно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20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928520" y="3785760"/>
            <a:ext cx="43578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и поним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8:49:44Z</dcterms:created>
  <dc:creator>Serega maladec</dc:creator>
  <dc:description/>
  <dc:language>en-US</dc:language>
  <cp:lastModifiedBy>Serega maladec</cp:lastModifiedBy>
  <dcterms:modified xsi:type="dcterms:W3CDTF">2011-03-22T21:16:53Z</dcterms:modified>
  <cp:revision>16</cp:revision>
  <dc:subject/>
  <dc:title>Слайд 1</dc:title>
</cp:coreProperties>
</file>