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81D-36B7-43DF-AC57-5A72F988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23E-49B6-4FE1-91D0-50AA0720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9BE-ADED-4D39-89FA-1D3F2FB6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F2C-32B2-47B3-8289-B90117C4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2D4-5B5F-473A-A51A-254F0F9D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263-558F-4747-9765-2F3327F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0FD-5982-48AA-AA59-4BEFF20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6BD-88A7-4884-9B52-6A8EC38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2E2-94ED-478D-B40E-DD1F338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31D-4469-43E2-9DC1-BBBE285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339-1F26-4EA7-A2D3-9B8D38D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273-E546-4217-8741-8058B55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386-3E56-43EC-80F3-2F6CDAF3A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Documents and Settings\Serega maladec\Рабочий стол\карт книга\орнаментыдля оформления\прелестное окно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ола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бразовательные возможности загад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 flipH="1">
            <a:off x="4500000" y="3643200"/>
            <a:ext cx="378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мякина Валент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 flipH="1">
            <a:off x="3428280" y="607212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аскрыть образовательные возможности 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со сборником «Её величество Загад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возможности созданного цифрового образовательного ресурс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рыть формы работы с загад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ё величество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92844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арные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 слова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сные после шипящих(жи,ши; ча,ща; чу,щ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ойчивые сочетания(чк,ч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ные звонкие и глухи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ударные 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оизносимы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военные 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тельные ъ и ь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рные звонкие и глухие со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99880" y="142848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«Прощай, мой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чуб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ы брошен в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су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»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горьких</a:t>
            </a:r>
            <a:r>
              <a:rPr b="1" i="1" lang="ru-RU" sz="27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мук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тал горьким 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одном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бык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семь шкур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идит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бабк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грядках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ся в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заплатках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то заплатку оторвет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от заплачет и уйдет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Documents and Settings\Serega maladec\Рабочий стол\карт книга\лук.jpg"/>
          <p:cNvPicPr/>
          <p:nvPr/>
        </p:nvPicPr>
        <p:blipFill>
          <a:blip r:embed="rId1"/>
          <a:stretch/>
        </p:blipFill>
        <p:spPr>
          <a:xfrm>
            <a:off x="857160" y="1571760"/>
            <a:ext cx="2125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ьзование текста 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760" y="1285560"/>
            <a:ext cx="8286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задача (выдвижение и проверка гипотез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красный языковой материал, содержащ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аиз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зможности использования иллюст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714920" y="2714400"/>
            <a:ext cx="3857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ит Алён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ок зелё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нкий ста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й сараф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берёза"/>
          <p:cNvPicPr/>
          <p:nvPr/>
        </p:nvPicPr>
        <p:blipFill>
          <a:blip r:embed="rId1"/>
          <a:stretch/>
        </p:blipFill>
        <p:spPr>
          <a:xfrm>
            <a:off x="714240" y="1857240"/>
            <a:ext cx="40006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зможности использования цифрового образовательного рес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 rot="10800000">
            <a:off x="285840" y="1927800"/>
            <a:ext cx="85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с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C:\Documents and Settings\Serega maladec\Рабочий стол\карт книга\вертишейка.jpg"/>
          <p:cNvPicPr/>
          <p:nvPr/>
        </p:nvPicPr>
        <p:blipFill>
          <a:blip r:embed="rId1"/>
          <a:stretch/>
        </p:blipFill>
        <p:spPr>
          <a:xfrm>
            <a:off x="3786120" y="2071800"/>
            <a:ext cx="178596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Serega maladec\Рабочий стол\карт книга\горихвостка.jpg"/>
          <p:cNvPicPr/>
          <p:nvPr/>
        </p:nvPicPr>
        <p:blipFill>
          <a:blip r:embed="rId2"/>
          <a:stretch/>
        </p:blipFill>
        <p:spPr>
          <a:xfrm>
            <a:off x="6072120" y="2928960"/>
            <a:ext cx="2617920" cy="225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Serega maladec\Рабочий стол\карт книга\козодой.jpg"/>
          <p:cNvPicPr/>
          <p:nvPr/>
        </p:nvPicPr>
        <p:blipFill>
          <a:blip r:embed="rId3"/>
          <a:stretch/>
        </p:blipFill>
        <p:spPr>
          <a:xfrm>
            <a:off x="357120" y="242892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Serega maladec\Рабочий стол\карт книга\снегирь.jpeg"/>
          <p:cNvPicPr/>
          <p:nvPr/>
        </p:nvPicPr>
        <p:blipFill>
          <a:blip r:embed="rId4"/>
          <a:stretch/>
        </p:blipFill>
        <p:spPr>
          <a:xfrm>
            <a:off x="3736800" y="4643280"/>
            <a:ext cx="21193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гадка формир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1720" y="1357200"/>
            <a:ext cx="64008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наблюдать жи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ринимать предметы и явления с разных сто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еть мир в многообразных красках, звуках, движении, измен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Serega maladec\Рабочий стол\карт книга\орнаментыдля оформления\бук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Serega maladec\Рабочий стол\карт книга\орнаментыдля оформления\прелестное окно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28520" y="3785760"/>
            <a:ext cx="43578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и поним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8:49:44Z</dcterms:created>
  <dc:creator>Serega maladec</dc:creator>
  <dc:description/>
  <dc:language>en-US</dc:language>
  <cp:lastModifiedBy>Serega maladec</cp:lastModifiedBy>
  <dcterms:modified xsi:type="dcterms:W3CDTF">2011-03-22T21:16:53Z</dcterms:modified>
  <cp:revision>16</cp:revision>
  <dc:subject/>
  <dc:title>Слайд 1</dc:title>
</cp:coreProperties>
</file>