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A9C-FE35-4EF2-B402-37144D08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9AE-231D-4044-8B74-EEBBFB41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0ED-8E92-4FBD-B09F-64116BBE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E2A-D579-4DEC-AE1F-926AB834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9E39-7F03-4F10-8572-DDFB77B0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2F5E-78D2-467C-934D-20017B19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293E-E9A3-4E46-A04B-B9D0F30E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7F11-2B42-4134-B86B-B2AD6337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2E0-6CD9-4210-8B5F-E429F98D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2F45-DCFF-4295-942E-265E112C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8344-CA43-4DEF-A541-5D7D3D86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251-BE61-4138-8FD2-2E396B1B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81FB-E8F0-4575-9168-BBF70B47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D94C-B29F-4E79-8F09-D199A68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E755-F6B7-49A0-A3D9-3BD8360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53A9-51F3-4D48-8050-B8109C7A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4AB1-193A-4813-AAF8-4FD0B3A6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8D6C-1886-4889-AE4F-35B294E1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A07D-2161-4FD0-BFBC-C3078258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562E-F8BC-47F7-AC82-92D88022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5E97-3CDE-417F-996F-F23DC8EE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9CDC-AF23-4BB4-9927-A277EE6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0FC-D0B5-44FB-A0F4-16229A1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4D7F-AA7A-487E-90E1-1EF7EC1D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11D5-0F61-406F-9158-BE0B3774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7B0B-E3F0-4AF2-B116-99C14BB0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0537-4D3F-4816-BF5E-223F6F9A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814B-8DE3-4CAE-965D-B587706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42A5-A321-4AC5-A7C5-3A6FE8A9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3B1E9-63C1-4959-B9A3-B73AF7C5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F9D75-A212-4187-A345-8C2F8EEC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AA60-D408-4F8C-B52A-E6CB6213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152C-8203-470F-BE88-35CB6C6C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2FC-10D5-4268-B709-FA77A1CA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FE66-A4DA-4EC5-B23A-5C149E85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5E89-5606-4741-9E8E-D46FEF54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18CB4-E113-42A2-830E-1A0412EE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15D0-0263-4E8D-9904-8B8CD95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01DAE-B271-4B3A-B888-C53B316F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8411-EC9B-4EDE-A692-65577D84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B5AD-5193-49F6-8F87-A857459C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6EC24-098E-43CF-8EC5-E8A90450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46F8-6F02-4B72-B698-3F7E748E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425-DD17-4169-8F33-9857F65F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17E-9603-4683-B0A4-8FFA1475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4C0-AF37-46C0-889A-B419C7BE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ADB-EA8B-4A05-9903-D4121044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366-9430-44B8-85D3-C3045626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21F2-C478-4328-A0EA-8FF1A17DEE0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B6BF-30FD-4CDE-AE8B-BCB23D4BD7E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0FB4-2AD1-4033-821A-741B4EEE41E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3C55-2A64-485C-99D5-39FE58C28FB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28600" y="1143000"/>
            <a:ext cx="8610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uten, Ta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Picture 6" descr="Water-Lilya"/>
          <p:cNvPicPr/>
          <p:nvPr/>
        </p:nvPicPr>
        <p:blipFill>
          <a:blip r:embed="rId1"/>
          <a:stretch/>
        </p:blipFill>
        <p:spPr>
          <a:xfrm>
            <a:off x="3124080" y="3581280"/>
            <a:ext cx="5257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Полина\Рабочий стол\Копия Scan_20131017_173148.jpg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Полина\Рабочий стол\Scan_20131017_173320.jpg"/>
          <p:cNvPicPr/>
          <p:nvPr/>
        </p:nvPicPr>
        <p:blipFill>
          <a:blip r:embed="rId1"/>
          <a:stretch/>
        </p:blipFill>
        <p:spPr>
          <a:xfrm>
            <a:off x="533520" y="9144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3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Wie antworten wir auf die Frage „Wo?"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o? 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hier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dort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link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recht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vor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    hint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          geradeaus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ine Stadt!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s Schloß, der Park!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nks die Kirch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hts der Markt.</a:t>
            </a:r>
            <a:br>
              <a:rPr sz="1900"/>
            </a:b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rn die Post, 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e Apothek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e Geschäfte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der Ecke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in Museum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der Mitt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ommt, hierher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sucht es bitte!</a:t>
            </a:r>
            <a:br>
              <a:rPr sz="1900"/>
            </a:br>
            <a:br>
              <a:rPr sz="15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1523880" y="457200"/>
            <a:ext cx="601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eine Stad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6400800" y="1752480"/>
            <a:ext cx="312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rt am Ran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egt der Zoo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eich daneb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in Bistro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 die Burg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ier ein Betrieb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ine Stadt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ch hab’ dich lieb!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HGP明朝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9" descr="BABGBS"/>
          <p:cNvPicPr/>
          <p:nvPr/>
        </p:nvPicPr>
        <p:blipFill>
          <a:blip r:embed="rId1"/>
          <a:stretch/>
        </p:blipFill>
        <p:spPr>
          <a:xfrm>
            <a:off x="3200400" y="2209680"/>
            <a:ext cx="274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Полина\Рабочий стол\Scan_20131017_190144.jpg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3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ir bauen unsere Stadt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685800" y="83808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s Projek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Picture 6" descr="C:\Documents and Settings\Полина\Рабочий стол\Scan_20131017_173950.jpg"/>
          <p:cNvPicPr/>
          <p:nvPr/>
        </p:nvPicPr>
        <p:blipFill>
          <a:blip r:embed="rId3"/>
          <a:stretch/>
        </p:blipFill>
        <p:spPr>
          <a:xfrm>
            <a:off x="4648320" y="35053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Сегодня на уроке 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знал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лся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омнил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Теперь 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наю, как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 …  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1219320" y="838080"/>
            <a:ext cx="7010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617b"/>
                </a:solidFill>
                <a:latin typeface="Calibri"/>
              </a:rPr>
              <a:t>HAUSAUFGAB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. 57 Abzählrei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2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Прямоугольник 3" descr=""/>
          <p:cNvPicPr/>
          <p:nvPr/>
        </p:nvPicPr>
        <p:blipFill>
          <a:blip r:embed="rId1"/>
          <a:stretch/>
        </p:blipFill>
        <p:spPr>
          <a:xfrm>
            <a:off x="450720" y="1494000"/>
            <a:ext cx="83152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440" y="1752120"/>
            <a:ext cx="8001000" cy="43038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4"/>
          <p:cNvSpPr txBox="1"/>
          <p:nvPr/>
        </p:nvSpPr>
        <p:spPr>
          <a:xfrm>
            <a:off x="457200" y="990720"/>
            <a:ext cx="8381880" cy="27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''Eine alte deutsche Stadt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as gibt es hier?''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Wiederholen wir die Wörter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as gibt es in der Stadt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HGP明朝E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XXCASTLE"/>
          <p:cNvPicPr/>
          <p:nvPr/>
        </p:nvPicPr>
        <p:blipFill>
          <a:blip r:embed="rId2"/>
          <a:stretch/>
        </p:blipFill>
        <p:spPr>
          <a:xfrm>
            <a:off x="2209680" y="380880"/>
            <a:ext cx="6477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WINSCENE"/>
          <p:cNvPicPr/>
          <p:nvPr/>
        </p:nvPicPr>
        <p:blipFill>
          <a:blip r:embed="rId2"/>
          <a:stretch/>
        </p:blipFill>
        <p:spPr>
          <a:xfrm>
            <a:off x="380880" y="685800"/>
            <a:ext cx="8153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Полина\Рабочий стол\Scan_20131017_173441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Полина\Рабочий стол\Копия Scan_20131017_173441.jpg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C:\Documents and Settings\Полина\Рабочий стол\Scan_20131017_173148.jpg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ина</cp:lastModifiedBy>
  <dcterms:modified xsi:type="dcterms:W3CDTF">2013-10-17T13:04:4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