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B05-397C-434A-8B5D-273ABB7E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F9B-D858-47DA-9CD4-125C5948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19E-D777-42AB-B979-75A864A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EB1-B332-45DB-999E-9C1B7B6A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DB1-3D4E-46BF-A8FC-21DE3562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918F-6624-46EC-8473-4148C0C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EDAE-8551-492E-82E2-EB672F8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AC8-3A71-4F61-8572-75A99DEA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1F4-E611-4A31-9346-99EDD81D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B685-D710-46E6-9BA2-8F40922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047-8050-4C57-8399-06BEBDC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05F-FE4F-42A9-B528-B52B6D56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3B7-35F1-4402-87DC-C07AF21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A7F1-B0AD-4A47-98ED-236223D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305-6BC5-4D47-88A6-6FF41D30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F878-1955-47A4-8093-3677DDA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5650-4595-4C63-8F58-21CA8DE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E7DE-9497-46CA-A7AC-AC4D362B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96CE-A471-48AD-97D4-6AD010F3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FF6E-1157-485C-B969-F49197E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FEDB-8E2F-4E24-AD6C-3EC0356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DD92-609D-4651-B21E-B764450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1AC-7795-4015-BC1F-B4D9B38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6E9F-F73A-4A3B-93BA-D2AF86AF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2920-A89D-4621-AAF9-0C21FE9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EA3A-36D5-4797-8646-4714E07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200F-DA17-40A1-A212-573BDD8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64FA-9D1A-4C7F-8AB2-D8523B7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0801-0E9A-4BE5-8EA3-44AA32AF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47C4-94FE-411E-8884-393A11E0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222D-DB7F-4125-9612-5284ED4A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45F4-8A9A-460C-85E6-4043E6E2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334E-1F49-4B90-987A-2C3AB1DB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2F4-2295-4C15-A9DE-961058A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E783-1BE3-4151-A91F-067868F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BCCE-36A8-4148-9181-FE4C12C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75DE-2997-4F14-AF35-03E56F0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47BB-BDB1-41E7-BF4A-D05D9AD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D318-EA0E-450B-A8BC-9C76D713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94A4-1BA0-453D-BB40-9A3F5A7C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618C-9EAE-4FA5-B157-EDA74692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6FF8-632E-433A-9783-FE262352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0BD8-6040-46CC-A778-AB0FDC2B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C15-9948-4694-BE9D-6AFC6CB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09E-7AF1-4C7A-8230-3701D98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7AE-DD19-487F-B304-859B459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2D8-905A-4E1C-B143-61C4A36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F74-4C75-48F2-932C-3624DDD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DF3-D6E2-4567-BB3A-C66448CD36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74F-F7D0-43F9-A4D2-9E4AD250561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125-5141-4140-A607-83306DDB638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48B-4D83-4143-991D-35E17D33C0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ten, Ta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6" descr="Water-Lilya"/>
          <p:cNvPicPr/>
          <p:nvPr/>
        </p:nvPicPr>
        <p:blipFill>
          <a:blip r:embed="rId1"/>
          <a:stretch/>
        </p:blipFill>
        <p:spPr>
          <a:xfrm>
            <a:off x="3124080" y="35812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Полина\Рабочий стол\Копия Scan_20131017_173148.jpg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Полина\Рабочий стол\Scan_20131017_173320.jpg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 antworten wir auf die Frage „Wo?"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o? 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hie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do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link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recht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vor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hint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      geradeaus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s Schloß, der Park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s die Kirch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hts der Markt.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rn die Post, 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Apothek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Geschäfte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der Ecke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Museum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der Mitt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ommt, hierher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sucht es bitte!</a:t>
            </a:r>
            <a:br>
              <a:rPr sz="1900"/>
            </a:b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523880" y="45720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ine Stad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400800" y="1752480"/>
            <a:ext cx="312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rt am Ra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egt der Zoo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eich daneb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Bistro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 die Burg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er ein Betrieb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ch hab’ dich lieb!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9" descr="BABGBS"/>
          <p:cNvPicPr/>
          <p:nvPr/>
        </p:nvPicPr>
        <p:blipFill>
          <a:blip r:embed="rId1"/>
          <a:stretch/>
        </p:blipFill>
        <p:spPr>
          <a:xfrm>
            <a:off x="3200400" y="2209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Полина\Рабочий стол\Scan_20131017_190144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ir bauen unsere Stadt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685800" y="83808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s Projek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C:\Documents and Settings\Полина\Рабочий стол\Scan_20131017_173950.jpg"/>
          <p:cNvPicPr/>
          <p:nvPr/>
        </p:nvPicPr>
        <p:blipFill>
          <a:blip r:embed="rId3"/>
          <a:stretch/>
        </p:blipFill>
        <p:spPr>
          <a:xfrm>
            <a:off x="4648320" y="3505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Сегодня на уроке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л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омни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Теперь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ю, как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 …  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21932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HAUSAUFGAB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. 57 Abzählrei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3152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440" y="1752120"/>
            <a:ext cx="8001000" cy="4303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457200" y="990720"/>
            <a:ext cx="8381880" cy="27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''Eine alte deutsche Stadt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as gibt es hier?''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derholen wir die Wörter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as gibt es in der Stadt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HGP明朝E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XXCASTLE"/>
          <p:cNvPicPr/>
          <p:nvPr/>
        </p:nvPicPr>
        <p:blipFill>
          <a:blip r:embed="rId2"/>
          <a:stretch/>
        </p:blipFill>
        <p:spPr>
          <a:xfrm>
            <a:off x="2209680" y="380880"/>
            <a:ext cx="6477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WINSCENE"/>
          <p:cNvPicPr/>
          <p:nvPr/>
        </p:nvPicPr>
        <p:blipFill>
          <a:blip r:embed="rId2"/>
          <a:stretch/>
        </p:blipFill>
        <p:spPr>
          <a:xfrm>
            <a:off x="380880" y="685800"/>
            <a:ext cx="815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Полина\Рабочий стол\Scan_20131017_173441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Полина\Рабочий стол\Копия Scan_20131017_173441.jpg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C:\Documents and Settings\Полина\Рабочий стол\Scan_20131017_173148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3-10-17T13:04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