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D7966-B045-43F2-8483-35F12D100A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9598B-7FEB-4DA2-B773-2F2123A167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A16AE-78CC-4CEF-B484-2EFF2A6ED6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A2EC2-4EC7-441D-B893-F6B7CA533C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150E2-933A-4936-8042-E212E5FAB3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0EBFE-BDC9-41BD-803F-C038DFAA80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F2319-4CCE-4A06-B351-142BA4D35A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A32DE-94B9-451E-9A9C-D50C35CB06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D2406-A75E-4437-B236-D574511DFF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FDCF8-67E6-441B-A25C-2BA2781CF4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8651C-AB7B-45A8-A17F-6E23A4693F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A26D8-2EBD-4FB4-96F3-81CEC86B30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9F30FF6-D1A3-476F-A02F-327E4178323F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"/>
          <p:cNvSpPr/>
          <p:nvPr/>
        </p:nvSpPr>
        <p:spPr>
          <a:xfrm>
            <a:off x="826920" y="620640"/>
            <a:ext cx="7490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Arial Black"/>
              </a:rPr>
              <a:t>Традиции и обычаи Япони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8991720" y="6553080"/>
            <a:ext cx="188640" cy="189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5759280" y="4437000"/>
            <a:ext cx="3384720" cy="222840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Презентацию выполнили ученики 9 класс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Мартыненко Ило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Янин Кирил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Руководитель: Ячник Алла Константино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1068480" y="384120"/>
            <a:ext cx="76327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                     </a:t>
            </a: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Актеры театра Кабуки</a:t>
            </a:r>
            <a:br>
              <a:rPr sz="2800"/>
            </a:br>
            <a:r>
              <a:rPr b="1" i="1" lang="ru-RU" sz="2200" spc="-1" strike="noStrike">
                <a:solidFill>
                  <a:srgbClr val="c00000"/>
                </a:solidFill>
                <a:latin typeface="Arial"/>
              </a:rPr>
              <a:t>Актеры театра Кабуки в традиционных костюмах и гриме.Мужчины исполняют и мужские и женские роли, представление сопровождается музыко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900000" y="2133720"/>
            <a:ext cx="678348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Arial Black"/>
              </a:rPr>
              <a:t>Архитекту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179280" y="907920"/>
            <a:ext cx="8785440" cy="24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Arial Black"/>
              </a:rPr>
              <a:t>    </a:t>
            </a:r>
            <a:r>
              <a:rPr b="1" i="1" lang="ru-RU" sz="2200" spc="-1" strike="noStrike">
                <a:solidFill>
                  <a:srgbClr val="a50021"/>
                </a:solidFill>
                <a:latin typeface="Arial Black"/>
              </a:rPr>
              <a:t>Японская архитектура имеет столь же длинную историю как любая другая составляющая часть японской культуры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a50021"/>
                </a:solidFill>
                <a:latin typeface="Arial Black"/>
              </a:rPr>
              <a:t>    </a:t>
            </a:r>
            <a:r>
              <a:rPr b="1" i="1" lang="ru-RU" sz="2200" spc="-1" strike="noStrike">
                <a:solidFill>
                  <a:srgbClr val="a50021"/>
                </a:solidFill>
                <a:latin typeface="Arial Black"/>
              </a:rPr>
              <a:t>В целом, для японской архитектуры характерно стремление к простоте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a50021"/>
                </a:solidFill>
                <a:latin typeface="Arial Black"/>
              </a:rPr>
              <a:t>    </a:t>
            </a:r>
            <a:r>
              <a:rPr b="1" i="1" lang="ru-RU" sz="2200" spc="-1" strike="noStrike">
                <a:solidFill>
                  <a:srgbClr val="a50021"/>
                </a:solidFill>
                <a:latin typeface="Arial Black"/>
              </a:rPr>
              <a:t>Традиционные деревянные жилые дома простых японцев, называемые «минка», максимально приспособлены к климату страны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2700360" y="3357720"/>
            <a:ext cx="4176720" cy="334152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9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324000" y="189000"/>
            <a:ext cx="8569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Своеобразием отличались японские замки, служившие не только для защиты своих хозяев от врагов, но и символом вла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3470040" cy="46656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>
            <a:off x="785880" y="609300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Georgia"/>
              </a:rPr>
              <a:t>Замок Мацумо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3"/>
          <a:stretch/>
        </p:blipFill>
        <p:spPr>
          <a:xfrm>
            <a:off x="3924360" y="1989000"/>
            <a:ext cx="5072040" cy="40006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5"/>
          <p:cNvSpPr/>
          <p:nvPr/>
        </p:nvSpPr>
        <p:spPr>
          <a:xfrm>
            <a:off x="5003640" y="6093000"/>
            <a:ext cx="25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Замок Химэдз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click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9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"/>
          <p:cNvSpPr/>
          <p:nvPr/>
        </p:nvSpPr>
        <p:spPr>
          <a:xfrm>
            <a:off x="468360" y="-316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Georgia"/>
              </a:rPr>
              <a:t>Одеж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395280" y="476280"/>
            <a:ext cx="82296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a50021"/>
                </a:solidFill>
                <a:latin typeface="Arial"/>
              </a:rPr>
              <a:t>В Японии можно встретить два типа одежды — традиционную — вафуку и более простую, повседневную, по европейскому образцу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179280" y="2637000"/>
            <a:ext cx="3024360" cy="4032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3"/>
          <a:stretch/>
        </p:blipFill>
        <p:spPr>
          <a:xfrm>
            <a:off x="6443640" y="2637000"/>
            <a:ext cx="2449440" cy="4032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4"/>
          <a:stretch/>
        </p:blipFill>
        <p:spPr>
          <a:xfrm>
            <a:off x="3708360" y="3141720"/>
            <a:ext cx="2301840" cy="3465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"/>
          <p:cNvPicPr/>
          <p:nvPr/>
        </p:nvPicPr>
        <p:blipFill>
          <a:blip r:embed="rId2"/>
          <a:stretch/>
        </p:blipFill>
        <p:spPr>
          <a:xfrm>
            <a:off x="1332000" y="1197000"/>
            <a:ext cx="5976720" cy="40179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"/>
          <p:cNvSpPr/>
          <p:nvPr/>
        </p:nvSpPr>
        <p:spPr>
          <a:xfrm>
            <a:off x="250920" y="40464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Национальные       костю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539640" y="5589720"/>
            <a:ext cx="756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Кимоно с середины 19 века считается японским «национальным костюмом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С вафуку связан японский праздник «Сити- Го- Сан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1116000" y="260280"/>
            <a:ext cx="7056360" cy="20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      </a:t>
            </a:r>
            <a:r>
              <a:rPr b="1" i="1" lang="ru-RU" sz="2500" spc="-1" strike="noStrike">
                <a:solidFill>
                  <a:srgbClr val="c00000"/>
                </a:solidFill>
                <a:latin typeface="Arial"/>
              </a:rPr>
              <a:t>Традиционная одежда японцев-кимоно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r>
              <a:rPr b="1" i="1" lang="ru-RU" sz="2200" spc="-1" strike="noStrike">
                <a:solidFill>
                  <a:srgbClr val="c00000"/>
                </a:solidFill>
                <a:latin typeface="Arial"/>
              </a:rPr>
              <a:t>Кимоно дословно – «Вещь которую одевают». Японская женщина ассоциируется с кимоно, как японский пейзаж- с горой Фудзи.</a:t>
            </a:r>
            <a:br>
              <a:rPr sz="2200"/>
            </a:b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971640" y="2133720"/>
            <a:ext cx="3313080" cy="4273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3"/>
          <a:stretch/>
        </p:blipFill>
        <p:spPr>
          <a:xfrm>
            <a:off x="5219640" y="1989000"/>
            <a:ext cx="2737080" cy="46674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179280" y="115920"/>
            <a:ext cx="8856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100" spc="-1" strike="noStrike">
                <a:solidFill>
                  <a:srgbClr val="c00000"/>
                </a:solidFill>
                <a:latin typeface="Arial"/>
              </a:rPr>
              <a:t>Кимоно сейчас в Японии исключено из повседневного обихода, но не могут изгнать его из сердца японцев. Вероятно, их непоколебимая верность традиционной одежде и спасла кимоно от забвения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3011760" cy="5157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3"/>
          <a:stretch/>
        </p:blipFill>
        <p:spPr>
          <a:xfrm>
            <a:off x="4859280" y="1258920"/>
            <a:ext cx="3745080" cy="5348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250920" y="189000"/>
            <a:ext cx="3673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Национальная прическа</a:t>
            </a:r>
            <a:br>
              <a:rPr sz="2800"/>
            </a:b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Прически древней Японии отличались своей оригинальностью, необыкновенной аккуратностью исполн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4211640" y="333360"/>
            <a:ext cx="4032360" cy="4946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611280" y="115920"/>
            <a:ext cx="457200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300" spc="-1" strike="noStrike">
                <a:solidFill>
                  <a:srgbClr val="c00000"/>
                </a:solidFill>
                <a:latin typeface="Arial"/>
              </a:rPr>
              <a:t>Главное требование к японской красавице- длинные прямые  волосы. В праздничных случаях волосы украшали с помощью золотых жгутов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684360" y="2421000"/>
            <a:ext cx="3619440" cy="4021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3"/>
          <a:stretch/>
        </p:blipFill>
        <p:spPr>
          <a:xfrm>
            <a:off x="5076720" y="907920"/>
            <a:ext cx="3382920" cy="470088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468360" y="3333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Икебана</a:t>
            </a:r>
            <a:br>
              <a:rPr sz="2800"/>
            </a:br>
            <a:r>
              <a:rPr b="1" i="1" lang="ru-RU" sz="2700" spc="-1" strike="noStrike">
                <a:solidFill>
                  <a:srgbClr val="c00000"/>
                </a:solidFill>
                <a:latin typeface="Arial"/>
              </a:rPr>
              <a:t>Порождение японского образа жизни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539640" y="1989000"/>
            <a:ext cx="3865680" cy="4526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3"/>
          <a:stretch/>
        </p:blipFill>
        <p:spPr>
          <a:xfrm>
            <a:off x="4859280" y="981000"/>
            <a:ext cx="4003560" cy="44640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179280" y="260280"/>
            <a:ext cx="864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826920" y="333360"/>
            <a:ext cx="7632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Цель. 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Изучить обычаи и традиции древнего государства-Япони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Расширить кругозор учащихся, вызвать интерес к изучению традиц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и культуры других народо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468360" y="115920"/>
            <a:ext cx="83516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100" spc="-1" strike="noStrike">
                <a:solidFill>
                  <a:srgbClr val="c00000"/>
                </a:solidFill>
                <a:latin typeface="Arial"/>
              </a:rPr>
              <a:t>Этот вид  искусства создан нацией которая веками воспитывала в себе умение обращаться к природе , как к неисчерпаемой сокровищнице прекрасного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826920" y="1268280"/>
            <a:ext cx="7058160" cy="53866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179280" y="11592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                        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Бонса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203640" y="1268280"/>
            <a:ext cx="5738760" cy="4681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3"/>
          <a:stretch/>
        </p:blipFill>
        <p:spPr>
          <a:xfrm>
            <a:off x="324000" y="1700280"/>
            <a:ext cx="2592360" cy="3457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"/>
          <p:cNvSpPr/>
          <p:nvPr/>
        </p:nvSpPr>
        <p:spPr>
          <a:xfrm>
            <a:off x="1187280" y="260280"/>
            <a:ext cx="64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1116000" y="115920"/>
            <a:ext cx="4697280" cy="3600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3"/>
          <a:stretch/>
        </p:blipFill>
        <p:spPr>
          <a:xfrm>
            <a:off x="3924360" y="3573360"/>
            <a:ext cx="4024080" cy="30243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4"/>
          <p:cNvSpPr/>
          <p:nvPr/>
        </p:nvSpPr>
        <p:spPr>
          <a:xfrm>
            <a:off x="179280" y="4076640"/>
            <a:ext cx="37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Такие карликовые деревья выращиваются поклонниками древнего искусства бонса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468360" y="-100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Arial"/>
              </a:rPr>
              <a:t>Сакур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0" y="692280"/>
            <a:ext cx="85186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200" spc="-1" strike="noStrike">
                <a:solidFill>
                  <a:srgbClr val="a50021"/>
                </a:solidFill>
                <a:latin typeface="Arial"/>
              </a:rPr>
              <a:t>Сакура – не просто дерево. Это дерево-символ. Символ Японии, символ красоты и юности. Цветение сакуры для японцев – национальный праздник. Синоптики составляют прогнозы сроков цветения сакуры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1619280" y="2276640"/>
            <a:ext cx="5689440" cy="43941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"/>
          <p:cNvPicPr/>
          <p:nvPr/>
        </p:nvPicPr>
        <p:blipFill>
          <a:blip r:embed="rId2"/>
          <a:stretch/>
        </p:blipFill>
        <p:spPr>
          <a:xfrm>
            <a:off x="4284720" y="115920"/>
            <a:ext cx="4684680" cy="4762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"/>
          <p:cNvSpPr/>
          <p:nvPr/>
        </p:nvSpPr>
        <p:spPr>
          <a:xfrm>
            <a:off x="0" y="333360"/>
            <a:ext cx="4248000" cy="39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Нэцк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</a:rPr>
              <a:t>Миниатюрная скульптура нэцкэ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</a:rPr>
              <a:t>получила широкое распространен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</a:rPr>
              <a:t>в 18 веке, как один из видов декоративного прикладного искусств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468360" y="274680"/>
            <a:ext cx="821700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</a:rPr>
              <a:t>Появление ее связано с тем, что национальный японский костюм- кимоно не имеет карманов и все необходимые мелкие предметы  прикрепляются к поясу  с помощью брелока- противовес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5003640" y="2060640"/>
            <a:ext cx="3032280" cy="4524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3"/>
          <a:stretch/>
        </p:blipFill>
        <p:spPr>
          <a:xfrm>
            <a:off x="250920" y="2349360"/>
            <a:ext cx="3857400" cy="412452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Arial"/>
              </a:rPr>
              <a:t>Оригам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a50021"/>
                </a:solidFill>
                <a:latin typeface="Arial"/>
              </a:rPr>
              <a:t>Бумажный фонарик и журавль - стали символами Японии для многих поколений европейцев. Умение складывать фигурки из бумаги стало</a:t>
            </a:r>
            <a:r>
              <a:rPr b="1" lang="en-US" sz="2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a50021"/>
                </a:solidFill>
                <a:latin typeface="Arial"/>
              </a:rPr>
              <a:t> признаком хорошего тона и изысканных манер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2"/>
          <a:stretch/>
        </p:blipFill>
        <p:spPr>
          <a:xfrm>
            <a:off x="2124000" y="2708280"/>
            <a:ext cx="5184720" cy="3889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Чайная церемо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0" y="981000"/>
            <a:ext cx="8964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0" y="5013360"/>
            <a:ext cx="9144000" cy="15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1" lang="ru-RU" sz="2100" spc="-1" strike="noStrike">
                <a:solidFill>
                  <a:srgbClr val="a50021"/>
                </a:solidFill>
                <a:latin typeface="Arial"/>
              </a:rPr>
              <a:t>По мнению японцев, чайная церемония воспитывает простоту, естественность, опрятность. Это, конечно, так, но в чайной церемонии заключено и нечто большее. Приобщая людей к точно установленному ритуалу, она приучает их к строгому порядку и безусловному исполнению социальных правил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1979640" y="1052640"/>
            <a:ext cx="5087880" cy="3816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click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Georgia"/>
              </a:rPr>
              <a:t>Национальная кухн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395280" y="836640"/>
            <a:ext cx="822960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1" lang="en-US" sz="21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a50021"/>
                </a:solidFill>
                <a:latin typeface="Arial"/>
              </a:rPr>
              <a:t>Японская кухня известна своим упором на сезонность питания, качество ингредиентов и подачу блюд. Основой японской кухни является рис. В последнее время японская кухня довольно популярна за пределами Японии, также вследствие её низкой калорийности она считается полезной для здоровья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2"/>
          <a:stretch/>
        </p:blipFill>
        <p:spPr>
          <a:xfrm>
            <a:off x="2340000" y="2997360"/>
            <a:ext cx="4033800" cy="33001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1403280" y="1557360"/>
            <a:ext cx="669780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Заключени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почитание давних  обычаев и традиц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позволяет Японии сохранить свою индивидуальность и духовность в современном мире глобализации.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3378240" cy="2592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0" y="1557360"/>
            <a:ext cx="4680000" cy="30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Arial Black"/>
              </a:rPr>
              <a:t>Удивительный сосед есть у России на востоке - Япо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Arial Black"/>
              </a:rPr>
              <a:t>Япония-страна восходящего солнца , один из экономических лидеров современного ми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Arial Black"/>
              </a:rPr>
              <a:t>Япония-это древнее государство. Однако длительный пери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Arial Black"/>
              </a:rPr>
              <a:t>её самоизоляции от внешнего мира привел к тому что вплоть до 20 века она была спрятана от глаз европейце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179280" y="476280"/>
            <a:ext cx="457200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Arial Black"/>
              </a:rPr>
              <a:t>Япония –страна восходящего солн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3"/>
          <a:stretch/>
        </p:blipFill>
        <p:spPr>
          <a:xfrm>
            <a:off x="4676760" y="3284640"/>
            <a:ext cx="431496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1"/>
          <p:cNvSpPr/>
          <p:nvPr/>
        </p:nvSpPr>
        <p:spPr>
          <a:xfrm>
            <a:off x="1547640" y="1125360"/>
            <a:ext cx="662472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Литератур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Интернет-ресурсы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Методическое пособие И.А.Кугут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Л.И.Елисеева:м.,Глобус,201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Методическое пособие Н.В.Болотникова-Волгоград:Учитель,201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2"/>
          <a:stretch/>
        </p:blipFill>
        <p:spPr>
          <a:xfrm>
            <a:off x="2556000" y="2349360"/>
            <a:ext cx="6033960" cy="42372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2"/>
          <p:cNvSpPr/>
          <p:nvPr/>
        </p:nvSpPr>
        <p:spPr>
          <a:xfrm>
            <a:off x="395280" y="115920"/>
            <a:ext cx="8569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Национальная символика Япон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Государственный флаг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Японии окрашен в белый цвет- символ мира, спокойствия и безопасности.</a:t>
            </a:r>
            <a:br>
              <a:rPr sz="2000"/>
            </a:br>
            <a:r>
              <a:rPr b="1" i="1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Государственный  герб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Японии представляет собой изображение цветка хризантемы с16 лепестками. Цветок хризантемы является национальным цветком японцев, на гербе он символизирует восходящее солнц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684360" y="0"/>
            <a:ext cx="7991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Происхождение названия «Япония» восходит к далекому историческому прошлому. Великий путешественник Марко Поло территорию на которой расположено  современное  японское государство назвал «Цыпан-го»  означающее Восточная импер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1476360" y="1989000"/>
            <a:ext cx="6033960" cy="4526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5508720" y="692280"/>
            <a:ext cx="4572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Женская одежда- кимоно                         Икебана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Бонсай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 Нэцкэ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Музыка                                  Каллиграфия    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Театр теней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Чайная церемония      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Японская живопись                    Карате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Дзюд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1512720" cy="2279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3"/>
          <a:stretch/>
        </p:blipFill>
        <p:spPr>
          <a:xfrm>
            <a:off x="179280" y="414972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4"/>
          <a:stretch/>
        </p:blipFill>
        <p:spPr>
          <a:xfrm>
            <a:off x="3635280" y="4149720"/>
            <a:ext cx="2772000" cy="1871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5"/>
          <a:stretch/>
        </p:blipFill>
        <p:spPr>
          <a:xfrm>
            <a:off x="2124000" y="836640"/>
            <a:ext cx="3311640" cy="33130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6"/>
          <p:cNvSpPr/>
          <p:nvPr/>
        </p:nvSpPr>
        <p:spPr>
          <a:xfrm>
            <a:off x="277920" y="189000"/>
            <a:ext cx="53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Япония-страна давних традиц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 Black"/>
              </a:rPr>
              <a:t>Японский язык и письмен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4500720" y="1268280"/>
            <a:ext cx="4174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ctr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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Arial Black"/>
              </a:rPr>
              <a:t>Японский язык всегда был важной составляющей японской культуры. Преобладающая часть населения страны разговаривает на японском языке. Японский язык считается одним из самых сложных для изучения. Некоторые слова в русском языке были заимствованы из японского языка, например: цунами, суши, караоке, самура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Arial Black"/>
              </a:rPr>
              <a:t>и т. 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3888000" cy="5324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395280" y="189000"/>
            <a:ext cx="828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Arial"/>
              </a:rPr>
              <a:t>Государственный язык — японский. Также распространено знание английского и китайского. Письменность — около 5000 иероглифов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5184720" cy="3633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>
            <a:off x="4788000" y="3860640"/>
            <a:ext cx="3578040" cy="269244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395280" y="5445000"/>
            <a:ext cx="41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Иероглифы заимствованы        в 6-7 веках у китайце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611280" y="-17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Arial Black"/>
              </a:rPr>
              <a:t>Теат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179280" y="692280"/>
            <a:ext cx="856944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Arial Black"/>
              </a:rPr>
              <a:t>    </a:t>
            </a:r>
            <a:r>
              <a:rPr b="1" i="1" lang="ru-RU" sz="2000" spc="-1" strike="noStrike">
                <a:solidFill>
                  <a:srgbClr val="a50021"/>
                </a:solidFill>
                <a:latin typeface="Arial Black"/>
              </a:rPr>
              <a:t>Одним из ранних видов культуры стал театр сложившийся в 14-15 веках, актёры играли в масках и роскошных костюмах. В 17 веке сложился один из наиболее известных видов японского традиционного театра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—</a:t>
            </a:r>
            <a:r>
              <a:rPr b="1" i="1" lang="ru-RU" sz="2000" spc="-1" strike="noStrike">
                <a:solidFill>
                  <a:srgbClr val="a50021"/>
                </a:solidFill>
                <a:latin typeface="Arial Black"/>
              </a:rPr>
              <a:t> кабуки (песня, танец, мастерство), актёры этого театра были исключительно мужчины, их лица были сложным образом загримирова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539640" y="3213000"/>
            <a:ext cx="5040360" cy="3359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3"/>
          <a:stretch/>
        </p:blipFill>
        <p:spPr>
          <a:xfrm>
            <a:off x="6084720" y="3068640"/>
            <a:ext cx="2463840" cy="36320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07:06:47Z</dcterms:created>
  <dc:creator>Zver</dc:creator>
  <dc:description/>
  <cp:keywords/>
  <dc:language>en-US</dc:language>
  <cp:lastModifiedBy>Александр</cp:lastModifiedBy>
  <dcterms:modified xsi:type="dcterms:W3CDTF">2015-10-18T14:38:26Z</dcterms:modified>
  <cp:revision>54</cp:revision>
  <dc:subject/>
  <dc:title>Слайд 1</dc:title>
</cp:coreProperties>
</file>