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5.png" ContentType="image/png"/>
  <Override PartName="/ppt/media/image35.png" ContentType="image/pn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3F21-A23E-4414-816A-13EF7FE50F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A1A6-1254-43F7-9B72-3ABA3AE44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0E9-FAD5-485A-A11B-ACEF4B58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1E6-0877-4BBB-8E75-EB746952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DBA-4289-423D-A860-51283D8F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3FD-CB70-4537-8A51-1378B834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773-7ABC-43CA-A747-CCB32BC3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59F-5514-4CB9-9D07-FCCB2DEE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2D0-D214-40D4-8B6E-73458296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BB7-30A8-4829-982C-6D377ED6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F9B-8327-40B9-A61C-C44E2F73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40B-CDE8-4498-91CE-65C5535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976-0A8B-4E0A-B084-63FDFF7A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39C-B268-43B1-9A95-D5E96A4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6EB8-BDFF-44BC-B22B-BB1452F336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2003-12.photosight.ru/08/362719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2.guns.ru/forums/icons/forum_pictures/000053/53444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okrugsveta.ru/photo/thumbnails/1024/1375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naturelight.ru/photo/2007-09-15/2446.jpg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static.eva.ru/eva/190001-200000/198839/photoalbum/3061670.jpg" TargetMode="External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900igr.net/datas/priroda/Tundra.files/0044-044-Rastenijami-i-nasekomymi-kormjatsja-utki-i-kuliki-kotorye-priletajut-na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school.xvatit.com/images/1/11/Kulik_t26.jpg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ost-2-13121171742767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ic.ngs.ru/news/preview/6ced5c17e2a623d786d0d1e82a0171c70b42102e_750.jpg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11.nnm.ru/1/5/d/a/0/22c2cba8dbfdc11dbc9c4db77a3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vestnikk.ru/uploads/posts/2010-07/768px-polarfuchs_1_2004-11-17.jpg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4emu.ru/7.Priroda/Ivelbot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vovoco.ibmh.msk.su/VV/JOURNAL/NATURE/03_07/POLAR0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go.ru/wp-content/uploads/2010/04/133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0.liveinternet.ru/images/attach/c/1/60/254/60254604_728pxArctic_Poppy_20010716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nationalgeographic.com/wpf/media-live/photos/000/007/cache/walrus_747_600x450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g1.liveinternet.ru/images/attach/c/3/75/464/75464995_large_tyulen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gdb.rferl.org/D1735427-A55B-4351-A383-E02B53879C97_mw800_mh600_s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2003-12.photosight.ru/08/362719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iziev.com/wp-content/uploads/2011/08/Winter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vvv.ru/photos/img/1649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21region.org/uploads/posts/2010-08/1282480513_09-iva-2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prv2.lori-images.net/karlikovaya-bereza-v-tundre-polyarnoe-leto-0002960218-preview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2 из 155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172440" cy="69818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3"/>
          <a:stretch/>
        </p:blipFill>
        <p:spPr>
          <a:xfrm>
            <a:off x="1590840" y="1457280"/>
            <a:ext cx="59864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Картинка 9 из 16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60280"/>
            <a:ext cx="3362400" cy="251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Картинка 5 из 187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1960" y="260280"/>
            <a:ext cx="3362400" cy="25434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826920" y="26622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ор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727600" y="27655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луб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Картинка 11 из 382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351240"/>
            <a:ext cx="3384720" cy="254952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927000" y="59389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Картинка 5 из 57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83200" y="3384720"/>
            <a:ext cx="3306600" cy="2554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0"/>
          <p:cNvSpPr/>
          <p:nvPr/>
        </p:nvSpPr>
        <p:spPr>
          <a:xfrm>
            <a:off x="6070680" y="5967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Яг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8000" y="170028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в тундре много комаров, мо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то прилетают журавли, гуси, лебеди, кулики. Здесь они выводят птенцов, а на зиму улетают в теплые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Картинка 50 из 34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5600" y="1197000"/>
            <a:ext cx="3970440" cy="304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Картинка 75 из 34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05400" y="4408560"/>
            <a:ext cx="3500640" cy="23493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5" descr=""/>
          <p:cNvPicPr/>
          <p:nvPr/>
        </p:nvPicPr>
        <p:blipFill>
          <a:blip r:embed="rId5"/>
          <a:stretch/>
        </p:blipFill>
        <p:spPr>
          <a:xfrm>
            <a:off x="42840" y="231840"/>
            <a:ext cx="91137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50920" y="1413000"/>
            <a:ext cx="504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ядная птица. Летом ее оперение бурое, а зимой – белое. Ноги к зиме покрываются перьями до самых когтей. Это защищает ее от холода и позволяет ходить по снегу, не проваливая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Картинка 1 из 3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25560"/>
            <a:ext cx="3744720" cy="393552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5" descr=""/>
          <p:cNvPicPr/>
          <p:nvPr/>
        </p:nvPicPr>
        <p:blipFill>
          <a:blip r:embed="rId3"/>
          <a:stretch/>
        </p:blipFill>
        <p:spPr>
          <a:xfrm>
            <a:off x="573120" y="304920"/>
            <a:ext cx="7985160" cy="1815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3680" y="1278000"/>
            <a:ext cx="81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ая птица. Оперение круглый год белое. Охотится на куропаток, на леммин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Картинка 14 из 4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708280"/>
            <a:ext cx="5730840" cy="381636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3"/>
          <a:stretch/>
        </p:blipFill>
        <p:spPr>
          <a:xfrm>
            <a:off x="1871640" y="231840"/>
            <a:ext cx="538308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Картинка 4 из 225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63680"/>
            <a:ext cx="3662640" cy="314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артинка 1 из 8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3429000"/>
            <a:ext cx="3960720" cy="3094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4079880" y="620640"/>
            <a:ext cx="494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инги – маленькие зверьки. Зимой не впадают в спячку, выводят потомство под сне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79280" y="4149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ый зверь, жизнь которого во многом зависит от леммин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-360" y="127944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ут стадами, которые кочуют по тундре. К зиме уходят в более южные районы, где легче прокормиться. За стадами оленей следуют волки, которые охотятся на больных и слабых животных. Основной корм – яге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Картинка 43 из 1408"/>
          <p:cNvPicPr/>
          <p:nvPr/>
        </p:nvPicPr>
        <p:blipFill>
          <a:blip r:embed="rId1"/>
          <a:stretch/>
        </p:blipFill>
        <p:spPr>
          <a:xfrm>
            <a:off x="5148360" y="1413000"/>
            <a:ext cx="3673440" cy="381132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2730600" y="92160"/>
            <a:ext cx="331632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03968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– оленевод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 ведутся поиски и добыча полезных ископаемых: нефти и г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охрану взяты редкие живот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Картинка 62 из 452"/>
          <p:cNvPicPr/>
          <p:nvPr/>
        </p:nvPicPr>
        <p:blipFill>
          <a:blip r:embed="rId1"/>
          <a:stretch/>
        </p:blipFill>
        <p:spPr>
          <a:xfrm>
            <a:off x="3059280" y="3357720"/>
            <a:ext cx="4968720" cy="3308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6" descr=""/>
          <p:cNvPicPr/>
          <p:nvPr/>
        </p:nvPicPr>
        <p:blipFill>
          <a:blip r:embed="rId2"/>
          <a:stretch/>
        </p:blipFill>
        <p:spPr>
          <a:xfrm>
            <a:off x="676440" y="85680"/>
            <a:ext cx="79498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6440" y="101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России, на Таймырском полуострове, большой участок тундры в 1979 году взят под охра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Картинка 16 из 839"/>
          <p:cNvPicPr/>
          <p:nvPr/>
        </p:nvPicPr>
        <p:blipFill>
          <a:blip r:embed="rId1"/>
          <a:stretch/>
        </p:blipFill>
        <p:spPr>
          <a:xfrm>
            <a:off x="328680" y="2781360"/>
            <a:ext cx="354312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Картинка 60 из 839"/>
          <p:cNvPicPr/>
          <p:nvPr/>
        </p:nvPicPr>
        <p:blipFill>
          <a:blip r:embed="rId2"/>
          <a:stretch/>
        </p:blipFill>
        <p:spPr>
          <a:xfrm>
            <a:off x="4067280" y="3500280"/>
            <a:ext cx="486720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" descr=""/>
          <p:cNvPicPr/>
          <p:nvPr/>
        </p:nvPicPr>
        <p:blipFill>
          <a:blip r:embed="rId3"/>
          <a:stretch/>
        </p:blipFill>
        <p:spPr>
          <a:xfrm>
            <a:off x="139680" y="212760"/>
            <a:ext cx="911376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она арктических пустынь расположе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на островах Тихого океа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на островах Индийского океа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а островах Северного Ледовитого океа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5"/>
          <p:cNvSpPr/>
          <p:nvPr/>
        </p:nvSpPr>
        <p:spPr>
          <a:xfrm>
            <a:off x="1042920" y="4653000"/>
            <a:ext cx="7201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Картинка 9 из 207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400" y="1341360"/>
            <a:ext cx="8159760" cy="53546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3"/>
          <a:stretch/>
        </p:blipFill>
        <p:spPr>
          <a:xfrm>
            <a:off x="1889280" y="85680"/>
            <a:ext cx="53654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9640" y="5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Территория зон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е имеет коренного насе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густо заселена людь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3"/>
          <p:cNvSpPr/>
          <p:nvPr/>
        </p:nvSpPr>
        <p:spPr>
          <a:xfrm>
            <a:off x="1187280" y="1733400"/>
            <a:ext cx="511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Картинка 92 из 207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5320" y="2276640"/>
            <a:ext cx="669744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Картинка 8 из 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429000"/>
            <a:ext cx="4749840" cy="317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В ледяной зоне расту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едры, березы, черемух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ишайники, мхи, полярные ма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узина, орешник, ай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3"/>
          <p:cNvSpPr/>
          <p:nvPr/>
        </p:nvSpPr>
        <p:spPr>
          <a:xfrm>
            <a:off x="971640" y="2276640"/>
            <a:ext cx="5761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Картинка 6 из 67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3429000"/>
            <a:ext cx="3816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а 57 из 81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4187880"/>
            <a:ext cx="3816360" cy="2670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В Арктике обитают животн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обры, нутрии, хомя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олки, белые медведи, рыс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ржи, тюлени, белые медвед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Картинка 13 из 81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076560"/>
            <a:ext cx="3132000" cy="207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81 из 81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35640" y="2800440"/>
            <a:ext cx="3529080" cy="26416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ая соединительная линия 6"/>
          <p:cNvSpPr/>
          <p:nvPr/>
        </p:nvSpPr>
        <p:spPr>
          <a:xfrm>
            <a:off x="971640" y="2790720"/>
            <a:ext cx="5761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:\Documents and Settings\дом\Мои документы\Крайний Север\КАРТА ПРИРОДНЫХ ЗОН РОССИИ.gif"/>
          <p:cNvPicPr/>
          <p:nvPr/>
        </p:nvPicPr>
        <p:blipFill>
          <a:blip r:embed="rId1"/>
          <a:stretch/>
        </p:blipFill>
        <p:spPr>
          <a:xfrm>
            <a:off x="0" y="1268280"/>
            <a:ext cx="9136080" cy="537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-244440" y="115920"/>
            <a:ext cx="964404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артинка 2 из 155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90520" y="2205000"/>
            <a:ext cx="5832720" cy="4365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-360" y="115920"/>
            <a:ext cx="90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 протянулась с запада на восток почти по всему побережью северных мор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южнее арктических пустынь на материке Евраз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Прямоугольник 4" descr=""/>
          <p:cNvPicPr/>
          <p:nvPr/>
        </p:nvPicPr>
        <p:blipFill>
          <a:blip r:embed="rId3"/>
          <a:stretch/>
        </p:blipFill>
        <p:spPr>
          <a:xfrm>
            <a:off x="5095800" y="1743120"/>
            <a:ext cx="36640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560" y="764640"/>
            <a:ext cx="8281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ая суровая зима (7-8 мес.) и короткое прохладное ле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земля оттаивает на 10-50 см, а ниже – вечная мерзл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 год дуют холодные ветра, а зимой свирепствует вью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Картинка 30 из 69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9920" y="3782880"/>
            <a:ext cx="4392720" cy="2890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Картинка 25 из 74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0840" y="3905280"/>
            <a:ext cx="3674880" cy="2646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5" descr=""/>
          <p:cNvPicPr/>
          <p:nvPr/>
        </p:nvPicPr>
        <p:blipFill>
          <a:blip r:embed="rId5"/>
          <a:stretch/>
        </p:blipFill>
        <p:spPr>
          <a:xfrm>
            <a:off x="901800" y="-96840"/>
            <a:ext cx="735156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79280" y="1074600"/>
            <a:ext cx="88171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рослые, многие из них стелются по зем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Картинка 3 из 1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3320" y="3537000"/>
            <a:ext cx="4170240" cy="2952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Картинка 18 из 3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48240" y="1700280"/>
            <a:ext cx="4448160" cy="3673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395280" y="245916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рлико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295960" y="546084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рлико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ерез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7" descr=""/>
          <p:cNvPicPr/>
          <p:nvPr/>
        </p:nvPicPr>
        <p:blipFill>
          <a:blip r:embed="rId5"/>
          <a:stretch/>
        </p:blipFill>
        <p:spPr>
          <a:xfrm>
            <a:off x="603360" y="85680"/>
            <a:ext cx="804060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5:54:57Z</dcterms:created>
  <dc:creator>Cemenova</dc:creator>
  <dc:description/>
  <dc:language>en-US</dc:language>
  <cp:lastModifiedBy>Светлана</cp:lastModifiedBy>
  <dcterms:modified xsi:type="dcterms:W3CDTF">2014-07-24T14:11:18Z</dcterms:modified>
  <cp:revision>36</cp:revision>
  <dc:subject/>
  <dc:title>Презентация PowerPoint</dc:title>
</cp:coreProperties>
</file>