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3A9-C5D2-443B-A756-88395E72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D87B-9D5C-4BC0-8FD3-1BCDE036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461B-6E25-4E6B-9E50-72EBFB1E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A56-97BE-42EC-AEA9-BE772FB5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9D54-4668-4B2A-A548-EA3B45FD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2667-5399-46EB-A82C-A2B30AF4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C5CE-E53A-4024-9168-7D3E0813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B8C6-7E32-4D1D-857E-63FC4645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D4BF-868E-4CF7-9B05-A722F440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8B26-98A7-443B-AA3C-A6122AF2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46D2-B1C0-4889-985D-BC4961A3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A82-5172-447C-BADF-7E408B34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4AE6-E0D5-4452-BE13-4C62BC44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D5C1-DC07-4066-93F7-33F097D8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DE6F-9505-4797-B505-C2BDC3DB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9689-C3B3-472D-89F9-5640E57A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B9FC-EFD1-4160-807D-EBBA3749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F8987-A473-431D-87B4-18925531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09BFC-4ADB-40EC-A60D-67D9932C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CB74-7393-4C71-B3E5-F2369CE3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16309-ECFD-44C5-9543-462358A2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4B81-0077-4175-ACE0-EB13BCBE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E72-F1E3-4DDB-8059-431F0B1D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77946-2197-4362-8F7E-261C46B4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7A8C6-AB61-4042-AF63-B5B5846F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07F6B-EA2C-416E-A1A8-8F41DF9A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2CF60-FF93-46A5-A450-2584DBA3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73D8E-B539-41AF-A758-9F327D5C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1CDD0-8344-44C7-88EB-1B68E933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8310E-D4EE-49AF-8738-A49BD77A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DD131-BA7B-44E2-9801-D10B6516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5F25E-17E2-4DCF-BF77-B8F261F6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B3B2F-E583-4B4F-B20B-4722A8E2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887-D5DB-4BB5-9A22-2C565E26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41BA0-92E6-4CA6-A0A8-A70D4233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1C6CB-C16D-44CC-A94F-46DF4A4E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BD165-8169-4E20-B065-C7838BA3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D9C57-BD8B-408B-A5DB-FCA56BA3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92A5A-6143-4667-8795-AC34EC0A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60788-A30A-446B-ACC6-A6EFC967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98ED0-CF61-4E66-8EF7-3D583FDD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EAF56-4F80-45B7-8124-162EB9A5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67245-7AE0-4EA6-9D5C-262541B2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99034-9057-4C29-BF01-F35E4D27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15E8-E80D-46A1-9399-3D49096E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9BA83-9693-4DBF-86FF-63037486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58CD0-78AD-4A7E-9C68-7454A601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6A4BB-D9F1-4D81-B92C-200A63B8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4561D-474C-40B1-A810-62B476B1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83C83-21E3-47DA-82FC-A59A9E22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E1FCD-0E24-49B1-A73C-CDCA3598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239AA-10BD-4DEF-9C29-D825A87A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10689-E5B7-4143-9568-6B26D8EC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0724B-0406-437B-B1DB-6A432515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07D91-664F-45C8-B84A-22E2CEFC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F2DE-182D-4BDB-908E-DD549982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384F0-D666-44C9-BA94-4903697C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C9BA0-C4E4-4D3C-8FAA-5EA02A84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72581-3C2F-43C2-A1FB-A681491B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E9489-CB17-4368-8F59-08139FA4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E9CA9-4FC6-463F-89E1-663F835D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A823A-407F-4A85-9587-C60BFEA0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D17C0-8B8F-47D8-B562-9D71C674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00290-9D77-4B81-8D40-E3ED0650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8EFC7-AAF7-496E-850B-690B65C5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86F18-3E52-4FD5-961C-FB2CD8E8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CC2-42D5-48BA-8C5D-28C9E9BD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9B1DB-C9A6-4A67-8BBF-EDD32FC6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000AD-3F89-4EF6-982F-A8287753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AD339-E88D-455F-8E80-22205B60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66AE8-78D8-4400-8961-24E194DF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882F5-2303-4035-84F0-DE2B0B67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C5EA6-1126-49D7-9D06-76756AB3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E556F-AF94-426E-A375-DE65E999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1CE97-4CC8-4A2E-9D59-9F6261CE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F67F9-4047-4D3A-9F31-F066FC2F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01024-2353-4768-8479-694586FA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4A7-B127-4547-A866-FA0AF95C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44BD7-C3BA-4B4D-A6CF-F9A18964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0A500-BFE7-46E9-9A88-253EAA62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5B57B-D7C5-446B-9944-29827B0D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945CA-7D9F-4012-BED3-AA206321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D29EF-EF15-4703-9247-991CF030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766C8-ACD1-4B43-BF72-A99BA184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7659D-8E72-4812-AB48-72C213E0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1E980-6015-439D-ACDC-430F3F4F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1580D-8914-450F-B7FC-006A4F05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403FD-9281-42B9-8917-FC2A6A1B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7B9-1C7B-4B5A-978D-ED3946F9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E5714-C2AA-4E25-AA38-379C219C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42CEB-E0C6-4744-86B4-5FD3697B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3F70C-0A51-478D-B27E-BDD5B365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AB4BD-9882-4DDF-8C28-69CEAFF5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9B3B7-630B-4101-A570-FF682DDF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B3D97-D987-49ED-8D55-03E426E4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CB609-6DA7-4916-BA7E-1EA387DD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CEAD-2710-411D-A597-CBD586223A0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2811-4F8C-46FB-A9A7-FCAE3DC31E3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522C-FB4B-4C4A-8EE7-A76B0DD2ED0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E447-F8A5-43BE-AEE0-5992B46CC12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6F5E-187F-4B0D-9434-E467D9270A2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FFA8-FCCE-48F8-963F-9F7D9CA3230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A4FB-72E6-462A-98E3-F34219E4FC8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E430-9FAC-4ACF-BD92-1FF29A1529E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317520" y="438120"/>
            <a:ext cx="8618400" cy="3316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0324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4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85104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арта царь отрекается в пользу Алексе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марта в пользу брата Михаила ,который в свою очередь отрекается в пользу Учредительного собрания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арта 1917 США признает временное правительств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марта – Англия, Франция, Итал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4"/>
          <p:cNvSpPr/>
          <p:nvPr/>
        </p:nvSpPr>
        <p:spPr>
          <a:xfrm>
            <a:off x="0" y="82908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марта упразднены охранные от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объявлена общая политическая амнистия, а равно сокращены наполовину сроки заключения лицам, содержавшимся под стражей по приговорам судебных мест за общие уголовные преступления. На свободе оказались около 90 тысяч заключённых, среди которых были тысячи воров и налётчиков, прозванных в народе «птенцами Керенс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марта была взята под стражу в Царском Селе бывшая императрица Александра Фёдоров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арта туда же из города Могилёва был доставлен и отрекшийся император Николай II, также лишённый свободы 7 м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840720" cy="514836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5"/>
          <p:cNvSpPr/>
          <p:nvPr/>
        </p:nvSpPr>
        <p:spPr>
          <a:xfrm flipV="1" rot="10800000">
            <a:off x="1042920" y="5589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сылка отрекшегося Николая II в Тоболь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432160" cy="32400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5"/>
          <p:cNvSpPr/>
          <p:nvPr/>
        </p:nvSpPr>
        <p:spPr>
          <a:xfrm>
            <a:off x="3635280" y="333360"/>
            <a:ext cx="496728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Александ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ор Российской имп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ция: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шественник: Николай вто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исповедание: Правосла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дение: 22 ноября (4 декабря) 18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чков дворец, 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ть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июня 1918 (39 лет) Перм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1258920" y="3500280"/>
            <a:ext cx="7742160" cy="32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марта 191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огр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Императорскому Величеству Михаилу Втор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последних дней вынудили меня решиться бесповоротно на этот крайний шаг. Прости меня, если огорчил тебя и что не успел предупред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юсь навсегда верным и преданным братом. Горячо молю Бога помочь тебе и твоей Родине.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178920" y="1197000"/>
            <a:ext cx="8820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о. в стране устанавливается режим двоевластия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159200"/>
          </a:xfrm>
          <a:prstGeom prst="rect">
            <a:avLst/>
          </a:prstGeom>
          <a:ln w="0">
            <a:noFill/>
          </a:ln>
        </p:spPr>
      </p:pic>
      <p:cxnSp>
        <p:nvCxnSpPr>
          <p:cNvPr id="403" name="Прямая со стрелкой 10"/>
          <p:cNvCxnSpPr/>
          <p:nvPr/>
        </p:nvCxnSpPr>
        <p:spPr>
          <a:xfrm>
            <a:off x="7235640" y="1557000"/>
            <a:ext cx="1080" cy="577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4" name="Прямая со стрелкой 14"/>
          <p:cNvCxnSpPr/>
          <p:nvPr/>
        </p:nvCxnSpPr>
        <p:spPr>
          <a:xfrm flipH="1">
            <a:off x="2410920" y="1628280"/>
            <a:ext cx="4825440" cy="577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5" name="TextBox 17"/>
          <p:cNvSpPr/>
          <p:nvPr/>
        </p:nvSpPr>
        <p:spPr>
          <a:xfrm>
            <a:off x="684360" y="2205000"/>
            <a:ext cx="33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ы рабочих, крестьянских и солдатских депу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8"/>
          <p:cNvSpPr/>
          <p:nvPr/>
        </p:nvSpPr>
        <p:spPr>
          <a:xfrm>
            <a:off x="5867280" y="213372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ое прави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69228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оловинчатость, худосочность реформ в начале 20в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адение авторитета власт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кат от политической либерализации третьеиюньской монархии. По словам Столыпина «бесстыжий» закон от 03.06.07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Arial"/>
              </a:rPr>
              <a:t>Неудачно протекавшая для России Первая мировая война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оправданные жертвы – 8млн.730т.- убитыми, ранеными и пленными -  в армии 15.5млн,голод, разруха,инфляци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300% за 3 года , дезертирство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Arial"/>
              </a:rPr>
              <a:t>Крушение основной идеологической формулы российского гос-ва (православие, самодержавие, народность) и идея панславизма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астая сменяемость министров, права –центрическая дума, распутинский период привел к катастрофическому ослаблению власти, не спало даже убийство политического авантюриста в декабре 1916г. «Медийная» война монархией была полностью проиграна. Николай из «белого царя» превратился в «царя-дурачка», «пьяницу», «изменщика» (царица-то  - немка). Не помогали и репрессии против оскорбителей величества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Arial"/>
              </a:rPr>
              <a:t>Сохранялся весь спектр противоречий и нерешенных проблем периода первой русской революции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оссия потеряла своего традиционного торгового партнера(Германию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ерераспределение средств на нужды военной промышленности (милитаризация экономик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оварный голод, свертывание свободной конкуренци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ногочисленные реквизиции продовольствия, а с 30 июня 1916г. Царь издает закон «о четырех мясопунктных днях»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536400" y="-19080"/>
            <a:ext cx="824256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250920" y="593640"/>
          <a:ext cx="8532720" cy="5649840"/>
        </p:xfrm>
        <a:graphic>
          <a:graphicData uri="http://schemas.openxmlformats.org/drawingml/2006/table">
            <a:tbl>
              <a:tblPr/>
              <a:tblGrid>
                <a:gridCol w="1957320"/>
                <a:gridCol w="6575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января 19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ческая стачка в память жертв 9 январ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3 февра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ят массовые митинги, приуроченные к открытию сессии Государственной Дум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лозунг: «Долой самодержавие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05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февра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ает забастовку Путиловский завод (экономические требования не удовлетворен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февра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 объявляет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у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ковой день- Николай из Царского Села, где он находился с семьёй,  отправляется в ставку в Могилёв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февра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чены все предприя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стует 128т.чел.; 24-200т.; 25-300т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450720" y="-237960"/>
            <a:ext cx="8242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79280" y="404640"/>
          <a:ext cx="8785440" cy="4542120"/>
        </p:xfrm>
        <a:graphic>
          <a:graphicData uri="http://schemas.openxmlformats.org/drawingml/2006/table">
            <a:tbl>
              <a:tblPr/>
              <a:tblGrid>
                <a:gridCol w="2016360"/>
                <a:gridCol w="6769080"/>
              </a:tblGrid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февра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о спокойно, но вечером по призыву большевиков на сторону народа переходит Волынский пол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- Преображенский, Литовский, Саперный батальон, ∑70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ры арестованы и отправлены в Таврический дворец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ит воззвание «Ко всем гражданам России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ь распускает Думу -Родзянко формируе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ый ком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февра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ие в Моск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арта 19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совет (председатель - Чхеидзе, товарищ председатель - Керенский, 2-ой зам.Скобелев ) вынес постановление: Временному комитету Государственной Думы избрать временное правительство.(председатель  4 Думы – Родзянко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и принимают декларацию временного правитель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395280" y="3500280"/>
            <a:ext cx="2016000" cy="310356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5"/>
          <p:cNvSpPr/>
          <p:nvPr/>
        </p:nvSpPr>
        <p:spPr>
          <a:xfrm>
            <a:off x="2916360" y="4292640"/>
            <a:ext cx="5508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хаил Владимирович Родзян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-й Председатель Государственной думы Российской импе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 марта 1911 — 6 октября 19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шественник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Иванович Гуч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ти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Союз 17 октябр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жд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 (21) февраля 18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ерть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4 января 1924 (64 г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одра, Королевство СХ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2058840" cy="332424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5"/>
          <p:cNvSpPr/>
          <p:nvPr/>
        </p:nvSpPr>
        <p:spPr>
          <a:xfrm>
            <a:off x="2843280" y="189000"/>
            <a:ext cx="6300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колай Семёнович Чхеид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-й Председатель Всероссийского Ц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юнь 1917 — 27 октября (9 ноября) 19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шественник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 учрежд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емник:Лев Борисович Камен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-й Председатель Петроградского Совета рабочих и солдатских депута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7 февраля (12 марта) 1917 — 6 (19) сентября 19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шественник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 учрежд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емник: Лев Давидович Троц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ти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СДР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е: Харьковский ветеринарный институт (исключё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ждение:1864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ерть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 июня 1926 (застрелилс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виль-сюр-Орж, Иль-де-Франс, Фран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0" y="1052640"/>
            <a:ext cx="5580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Львов – МВ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чков – военный министр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юков – МИ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овалов – торговли и промышленност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ещенко – финансов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енский – юстици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нгарев – земледелия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расов – путей сообщения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уйлов - просвещения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ов – обер-прокурор Святейшего Синод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нев - государственный контролер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-103320" y="-12600"/>
            <a:ext cx="6218280" cy="1555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5508720" y="981000"/>
            <a:ext cx="31734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6372360" y="404640"/>
            <a:ext cx="1874880" cy="28083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5"/>
          <p:cNvSpPr/>
          <p:nvPr/>
        </p:nvSpPr>
        <p:spPr>
          <a:xfrm>
            <a:off x="324000" y="404640"/>
            <a:ext cx="565128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еоргий Евгеньевич Ль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й министр-председ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российского Временного Прав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 марта 1917 — 21 июля 19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шественник: должность учрежд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емник: Александр Фёдорович Кере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ждение: 2 ноября 18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рть: 7 марта 1925 (63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иж, Фра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74296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5040360" cy="37753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5"/>
          <p:cNvSpPr/>
          <p:nvPr/>
        </p:nvSpPr>
        <p:spPr>
          <a:xfrm>
            <a:off x="1401840" y="4076640"/>
            <a:ext cx="77421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 состава Временного правительства, представленного представителями партий «кадетами», «октябристами» и группой членов Государственного Со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ка императора Николая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5113440" cy="64764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был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647640"/>
          </a:xfrm>
          <a:prstGeom prst="rect">
            <a:avLst/>
          </a:prstGeom>
          <a:solidFill>
            <a:srgbClr val="da1f28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го не был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1871280"/>
            <a:ext cx="53640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зглашение республики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нистия всем политзаключенным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демократических свобод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ия на самоуправление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родной милиции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нена всех сословий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на национальных и религиозных ограничений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ыв учредительного собрания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местного самоуправления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64000" y="1844280"/>
            <a:ext cx="360072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го о войне и требования демократического мир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 о передаче земли крестьянам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ведении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часового рабочего дня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463680" y="-85680"/>
            <a:ext cx="82422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21:57:44Z</dcterms:created>
  <dc:creator>Елизавета</dc:creator>
  <dc:description/>
  <dc:language>en-US</dc:language>
  <cp:lastModifiedBy>Дима</cp:lastModifiedBy>
  <dcterms:modified xsi:type="dcterms:W3CDTF">2015-10-11T13:40:16Z</dcterms:modified>
  <cp:revision>36</cp:revision>
  <dc:subject/>
  <dc:title>Февральская революция  1917 г.</dc:title>
</cp:coreProperties>
</file>