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20.png" ContentType="image/png"/>
  <Override PartName="/ppt/media/image3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1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B2FA-1B76-4605-90EE-320B60FC0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96AF-D442-4154-AA81-169BFB6B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751A-B5BB-4929-9A9E-3424A1EEC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F1C7-64EA-4D74-ABDB-9493F1E8A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AABD5-FCD1-4D02-897D-4A0CDE476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A923-17E2-4503-87CD-E4DFD796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54A5-403B-4328-A836-7F9BB19F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039DE-BEC7-461C-8D77-3A0294AA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3DFC-A025-4F09-9BCD-BDB60CBE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AB7A-0B22-4DA7-A1B3-38AAC08C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6058-3B80-415A-9425-33A8D958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5B42-3649-497F-AAB6-F05F57EA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5080-A5E8-4360-A885-AF732F62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F600-C644-43D3-842E-A1D6F973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84EF-5630-4737-A87A-72F90B94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258C5-978F-40A2-8436-4708E1EAE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7A9A-2A6E-47B1-B8C3-01047C194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91674-4DE6-464D-9F4D-1A5320CBB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7DA91-61E8-4472-BB7A-9E4B2FCC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043FF-42A8-4FD6-AE35-6958800A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28ED9-FF0E-4D47-A062-E46700DB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5BA7C-DBBC-427E-9612-525D7825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AA5F-A293-4109-92EE-DEDBC258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CE51C-A89C-4EAA-8236-2A1A86F0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1742F-0647-4E69-8361-A6497DDF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A37DE-425C-4DF6-9443-F104C71A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E56B9-1282-4292-90F7-8E93FA63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34299-BE0E-435A-845A-DE1B6022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00277-F7EE-4EC4-B97E-469D3DDFA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08FF1-748C-4A68-B5E9-9F722434A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77CCE-5D1D-4437-A2B4-8D1BA542A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C3763-C3B4-4A2D-9E67-3B321809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8DEC3-4060-4477-801C-F9138D62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6173-BF0F-4CCA-BF96-4B090788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4F51C-98F8-4AB0-B124-8C90603A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C05F6-6C60-4239-94EB-C881DDC8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411FB-2970-4658-853A-CBDD7600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8CE2B-5A3C-4741-B0E9-93175E4A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02C1A-F426-48BF-BE34-61B31337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8B179-840C-41DC-87B6-FFF9F6E1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85D55-9697-4B1F-A0AD-C5857715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A3421-0E0D-4117-A241-6D7D0D635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EED24-5AB8-44F5-8776-2620103CD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C0183-8676-445F-8F78-74EEC1555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4375-E805-40B2-AC0F-63087CC3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02756-3FD8-4138-A1BD-30E3C66F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75EE9-45DF-43BD-AB5C-F4E39CA1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7EFB9-4209-4DD2-A3C0-A19928F5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4CBC4-F50F-46B6-8D11-A43DE7BF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B3B0C-778D-4B32-A880-21006F42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F2401-D35F-4CA5-B863-1BAE3B0C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CB6A9-7A74-4348-9AD4-F177DDBE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F54E5-30A8-469F-B99B-27DFF0D6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606DE-6FBD-4CA8-82E6-EDD303FAE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8A3B1-4A7E-431D-86A6-84550E122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BC91-FA2A-4B44-958D-82CB8E32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5ED49-6465-4D4D-B603-51C26BEF7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FA5AD-0AE8-4740-A187-CF6F94A73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BD0C9-B07A-47AE-A85E-6124EBB2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8BE22-AF08-4CBC-940A-70798FBD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86EC3-12E0-4BC5-8C1C-FF376CFA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9D998-BDA8-41FC-94A8-4BB858E1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1D342-A620-47DE-95F2-B80CADCC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9ACFF-3DB3-4B48-9916-9B622855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8DCD8-145E-4332-896C-2A60B64B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8F885-690E-4455-BC58-3F0B62E4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0261-7E80-42C4-B8F3-B362CE8B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C537D-C3F2-4DD6-8BDA-A491BC04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72E8D-23BF-4139-80F9-EB2860AA8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B48B7-B77E-486A-A761-5C25F7806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F05DE-290A-4F1C-9729-DB61E5BF6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7B594-D279-4B97-8A96-175FB494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9D91E-050C-409D-931F-08688F17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EB829-06BC-4D33-872F-FDB7B1F2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44A38-4C03-4CB8-B1FB-1EFD726B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D39F8-103E-4857-AB1F-AFE8514B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3D189-B3D4-4474-B79A-FB8FF66C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A16E-F481-4F66-9158-2FE8E595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5C97E-F184-47D4-BF7A-E6BADEF6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D9316-8926-4586-B042-D89FA9C8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9D29F-6585-4D0A-8052-FA19301E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8FE7B-A168-41DD-8FBC-D9AE59471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B7FD4-5EA5-400D-9FA8-0437DCA51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DFD83-F433-4E0A-A789-EAC241413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26164-B667-4F83-97E3-D90874EE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27F74-FF84-4500-92AD-F60BAB2C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1F1BA-F7CF-4076-AC15-28967055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8EABB-4457-4C2E-9805-AB9B9FA4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3350-A8B3-4F77-974E-05251EE1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C1188-6EFA-4D3B-A8AF-98B14D11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54770-718B-417F-B472-173B515C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5856E-B47D-45D0-A6AB-AFB2D19E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0C3F8-FAF3-4965-8B36-4B84D6FA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D7FCA-3A50-4F08-9B84-9B90E242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7E6EA-629D-40FE-ACEF-E50C8C612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9268C-072F-4D0D-B059-F5A158AE8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586B-2264-45B8-8905-C8CE0DAB8770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9F8F-0D60-4916-BED9-9E64E2A970CA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6ADB-462A-4895-803E-786251FA909A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A325-0D87-438D-AB71-27FCAEE83EB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8799-9EC6-45C1-B0D9-65934F67B068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2372-E391-494D-96EB-D4D48FED5429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80C3-4255-4709-9762-3E13F3B5FB23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D5FC-B24D-403A-91EC-F68BCC0FD3F6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317520" y="438120"/>
            <a:ext cx="8618400" cy="33163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90324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4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85104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марта царь отрекается в пользу Алексе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марта в пользу брата Михаила ,который в свою очередь отрекается в пользу Учредительного собрания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марта 1917 США признает временное правительство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марта – Англия, Франция, Итали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4"/>
          <p:cNvSpPr/>
          <p:nvPr/>
        </p:nvSpPr>
        <p:spPr>
          <a:xfrm>
            <a:off x="0" y="82908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марта упразднены охранные отд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и объявлена общая политическая амнистия, а равно сокращены наполовину сроки заключения лицам, содержавшимся под стражей по приговорам судебных мест за общие уголовные преступления. На свободе оказались около 90 тысяч заключённых, среди которых были тысячи воров и налётчиков, прозванных в народе «птенцами Керенског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марта была взята под стражу в Царском Селе бывшая императрица Александра Фёдоров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марта туда же из города Могилёва был доставлен и отрекшийся император Николай II, также лишённый свободы 7 ма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4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6840720" cy="514836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5"/>
          <p:cNvSpPr/>
          <p:nvPr/>
        </p:nvSpPr>
        <p:spPr>
          <a:xfrm flipV="1" rot="10800000">
            <a:off x="1042920" y="5589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сылка отрекшегося Николая II в Тобольс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4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432160" cy="324000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5"/>
          <p:cNvSpPr/>
          <p:nvPr/>
        </p:nvSpPr>
        <p:spPr>
          <a:xfrm>
            <a:off x="3635280" y="333360"/>
            <a:ext cx="496728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хаил Александр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порт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ератор Российской импе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ция: 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шественник: Николай втор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оисповедание: Правосла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ждение: 22 ноября (4 декабря) 18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ичков дворец, Санкт-Петербур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рть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июня 1918 (39 лет) Перм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4"/>
          <p:cNvSpPr/>
          <p:nvPr/>
        </p:nvSpPr>
        <p:spPr>
          <a:xfrm>
            <a:off x="1258920" y="3500280"/>
            <a:ext cx="7742160" cy="32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марта 1917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рогр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Императорскому Величеству Михаилу Второ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ытия последних дней вынудили меня решиться бесповоротно на этот крайний шаг. Прости меня, если огорчил тебя и что не успел предупреди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юсь навсегда верным и преданным братом. Горячо молю Бога помочь тебе и твоей Родине.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178920" y="1197000"/>
            <a:ext cx="88203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о. в стране устанавливается режим двоевластия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Заголовок 2" descr=""/>
          <p:cNvPicPr/>
          <p:nvPr/>
        </p:nvPicPr>
        <p:blipFill>
          <a:blip r:embed="rId1"/>
          <a:stretch/>
        </p:blipFill>
        <p:spPr>
          <a:xfrm>
            <a:off x="450720" y="36360"/>
            <a:ext cx="8242560" cy="1159200"/>
          </a:xfrm>
          <a:prstGeom prst="rect">
            <a:avLst/>
          </a:prstGeom>
          <a:ln w="0">
            <a:noFill/>
          </a:ln>
        </p:spPr>
      </p:pic>
      <p:cxnSp>
        <p:nvCxnSpPr>
          <p:cNvPr id="403" name="Прямая со стрелкой 10"/>
          <p:cNvCxnSpPr/>
          <p:nvPr/>
        </p:nvCxnSpPr>
        <p:spPr>
          <a:xfrm>
            <a:off x="7235640" y="1557000"/>
            <a:ext cx="1080" cy="577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04" name="Прямая со стрелкой 14"/>
          <p:cNvCxnSpPr/>
          <p:nvPr/>
        </p:nvCxnSpPr>
        <p:spPr>
          <a:xfrm flipH="1">
            <a:off x="2410920" y="1628280"/>
            <a:ext cx="4825440" cy="577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05" name="TextBox 17"/>
          <p:cNvSpPr/>
          <p:nvPr/>
        </p:nvSpPr>
        <p:spPr>
          <a:xfrm>
            <a:off x="684360" y="2205000"/>
            <a:ext cx="331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ы рабочих, крестьянских и солдатских депу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18"/>
          <p:cNvSpPr/>
          <p:nvPr/>
        </p:nvSpPr>
        <p:spPr>
          <a:xfrm>
            <a:off x="5867280" y="2133720"/>
            <a:ext cx="26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ное правитель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0" y="69228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Arial"/>
                <a:ea typeface="Arial"/>
              </a:rPr>
              <a:t>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Половинчатость, худосочность реформ в начале 20в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Arial"/>
                <a:ea typeface="Arial"/>
              </a:rPr>
              <a:t>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Падение авторитета власти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ткат от политической либерализации третьеиюньской монархии. По словам Столыпина «бесстыжий» закон от 03.06.07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1700" spc="-1" strike="noStrike">
                <a:solidFill>
                  <a:srgbClr val="ff0000"/>
                </a:solidFill>
                <a:latin typeface="Arial"/>
                <a:ea typeface="Arial"/>
              </a:rPr>
              <a:t>Неудачно протекавшая для России Первая мировая война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еоправданные жертвы – 8млн.730т.- убитыми, ранеными и пленными -  в армии 15.5млн,голод, разруха,инфляция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- 300% за 3 года , дезертирство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1700" spc="-1" strike="noStrike">
                <a:solidFill>
                  <a:srgbClr val="ff0000"/>
                </a:solidFill>
                <a:latin typeface="Arial"/>
                <a:ea typeface="Arial"/>
              </a:rPr>
              <a:t>Крушение основной идеологической формулы российского гос-ва (православие, самодержавие, народность) и идея панславизма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Частая сменяемость министров, права –центрическая дума, распутинский период привел к катастрофическому ослаблению власти, не спало даже убийство политического авантюриста в декабре 1916г. «Медийная» война монархией была полностью проиграна. Николай из «белого царя» превратился в «царя-дурачка», «пьяницу», «изменщика» (царица-то  - немка). Не помогали и репрессии против оскорбителей величества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Arial"/>
                <a:ea typeface="Arial"/>
              </a:rPr>
              <a:t>Сохранялся весь спектр противоречий и нерешенных проблем периода первой русской революции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оссия потеряла своего традиционного торгового партнера(Германию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ерераспределение средств на нужды военной промышленности (милитаризация экономики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Товарный голод, свертывание свободной конкуренции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ногочисленные реквизиции продовольствия, а с 30 июня 1916г. Царь издает закон «о четырех мясопунктных днях»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Заголовок 2" descr=""/>
          <p:cNvPicPr/>
          <p:nvPr/>
        </p:nvPicPr>
        <p:blipFill>
          <a:blip r:embed="rId1"/>
          <a:stretch/>
        </p:blipFill>
        <p:spPr>
          <a:xfrm>
            <a:off x="536400" y="-19080"/>
            <a:ext cx="824256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250920" y="593640"/>
          <a:ext cx="8532720" cy="5649840"/>
        </p:xfrm>
        <a:graphic>
          <a:graphicData uri="http://schemas.openxmlformats.org/drawingml/2006/table">
            <a:tbl>
              <a:tblPr/>
              <a:tblGrid>
                <a:gridCol w="1957320"/>
                <a:gridCol w="65754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января 19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тическая стачка в память жертв 9 январ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13 февра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одят массовые митинги, приуроченные к открытию сессии Государственной Дум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лозунг: «Долой самодержавие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</a:tr>
              <a:tr h="105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февра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инает забастовку Путиловский завод (экономические требования не удовлетворены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февра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ция объявляет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кау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ковой день- Николай из Царского Села, где он находился с семьёй,  отправляется в ставку в Могилёв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 февра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вачены все предприят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стует 128т.чел.; 24-200т.; 25-300т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5" name="Заголовок 2" descr=""/>
          <p:cNvPicPr/>
          <p:nvPr/>
        </p:nvPicPr>
        <p:blipFill>
          <a:blip r:embed="rId1"/>
          <a:stretch/>
        </p:blipFill>
        <p:spPr>
          <a:xfrm>
            <a:off x="450720" y="-237960"/>
            <a:ext cx="82425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179280" y="404640"/>
          <a:ext cx="8785440" cy="4542120"/>
        </p:xfrm>
        <a:graphic>
          <a:graphicData uri="http://schemas.openxmlformats.org/drawingml/2006/table">
            <a:tbl>
              <a:tblPr/>
              <a:tblGrid>
                <a:gridCol w="2016360"/>
                <a:gridCol w="6769080"/>
              </a:tblGrid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февра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ло спокойно, но вечером по призыву большевиков на сторону народа переходит Волынский полк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- Преображенский, Литовский, Саперный батальон, ∑70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стры арестованы и отправлены в Таврический дворец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ходит воззвание «Ко всем гражданам России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арь распускает Думу -Родзянко формируе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енный комит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 февра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стание в Москв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марта 19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совет (председатель - Чхеидзе, товарищ председатель - Керенский, 2-ой зам.Скобелев ) вынес постановление: Временному комитету Государственной Думы избрать временное правительство.(председатель  4 Думы – Родзянко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и принимают декларацию временного правительства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4" descr=""/>
          <p:cNvPicPr/>
          <p:nvPr/>
        </p:nvPicPr>
        <p:blipFill>
          <a:blip r:embed="rId1"/>
          <a:stretch/>
        </p:blipFill>
        <p:spPr>
          <a:xfrm>
            <a:off x="395280" y="3500280"/>
            <a:ext cx="2016000" cy="310356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5"/>
          <p:cNvSpPr/>
          <p:nvPr/>
        </p:nvSpPr>
        <p:spPr>
          <a:xfrm>
            <a:off x="2916360" y="4292640"/>
            <a:ext cx="55083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ихаил Владимирович Родзянк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-й Председатель Государственной думы Российской импе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2 марта 1911 — 6 октября 19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шественник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лександр Иванович Гуч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ртия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Союз 17 октябр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ждение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9 (21) февраля 185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мерть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4 января 1924 (64 год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еодра, Королевство СХ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4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2058840" cy="332424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5"/>
          <p:cNvSpPr/>
          <p:nvPr/>
        </p:nvSpPr>
        <p:spPr>
          <a:xfrm>
            <a:off x="2843280" y="189000"/>
            <a:ext cx="6300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иколай Семёнович Чхеидз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-й Председатель Всероссийского Ц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юнь 1917 — 27 октября (9 ноября) 19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шественник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лжность учрежд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емник:Лев Борисович Камене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-й Председатель Петроградского Совета рабочих и солдатских депута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7 февраля (12 марта) 1917 — 6 (19) сентября 19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шественник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лжность учрежд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емник: Лев Давидович Троц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ртия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СДР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зование: Харьковский ветеринарный институт (исключё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ждение:1864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мерть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 июня 1926 (застрелилс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евиль-сюр-Орж, Иль-де-Франс, Фран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0" y="1052640"/>
            <a:ext cx="5580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язь Львов – МВ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чков – военный министр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люков – МИ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овалов – торговли и промышленности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ещенко – финансов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енский – юстиции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нгарев – земледелия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расов – путей сообщения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уйлов - просвещения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вов – обер-прокурор Святейшего Синод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нев - государственный контролер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Заголовок 2" descr=""/>
          <p:cNvPicPr/>
          <p:nvPr/>
        </p:nvPicPr>
        <p:blipFill>
          <a:blip r:embed="rId1"/>
          <a:stretch/>
        </p:blipFill>
        <p:spPr>
          <a:xfrm>
            <a:off x="-103320" y="-12600"/>
            <a:ext cx="6218280" cy="15555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"/>
          <p:cNvPicPr/>
          <p:nvPr/>
        </p:nvPicPr>
        <p:blipFill>
          <a:blip r:embed="rId2"/>
          <a:stretch/>
        </p:blipFill>
        <p:spPr>
          <a:xfrm>
            <a:off x="5508720" y="981000"/>
            <a:ext cx="317340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4" descr=""/>
          <p:cNvPicPr/>
          <p:nvPr/>
        </p:nvPicPr>
        <p:blipFill>
          <a:blip r:embed="rId1"/>
          <a:stretch/>
        </p:blipFill>
        <p:spPr>
          <a:xfrm>
            <a:off x="6372360" y="404640"/>
            <a:ext cx="1874880" cy="280836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5"/>
          <p:cNvSpPr/>
          <p:nvPr/>
        </p:nvSpPr>
        <p:spPr>
          <a:xfrm>
            <a:off x="324000" y="404640"/>
            <a:ext cx="5651280" cy="36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еоргий Евгеньевич Льв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-й министр-председа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российского Временного Прави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5 марта 1917 — 21 июля 19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шественник: должность учрежд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емник: Александр Фёдорович Кере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ждение: 2 ноября 18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мерть: 7 марта 1925 (63 го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иж, Фра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4" descr=""/>
          <p:cNvPicPr/>
          <p:nvPr/>
        </p:nvPicPr>
        <p:blipFill>
          <a:blip r:embed="rId2"/>
          <a:stretch/>
        </p:blipFill>
        <p:spPr>
          <a:xfrm>
            <a:off x="755640" y="3500280"/>
            <a:ext cx="74296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2268360" y="404640"/>
            <a:ext cx="5040360" cy="377532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5"/>
          <p:cNvSpPr/>
          <p:nvPr/>
        </p:nvSpPr>
        <p:spPr>
          <a:xfrm>
            <a:off x="1401840" y="4076640"/>
            <a:ext cx="774216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 состава Временного правительства, представленного представителями партий «кадетами», «октябристами» и группой членов Государственного Сов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ка императора Николая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179280" y="1196640"/>
            <a:ext cx="5113440" cy="64764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было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364000" y="1196640"/>
            <a:ext cx="3600720" cy="647640"/>
          </a:xfrm>
          <a:prstGeom prst="rect">
            <a:avLst/>
          </a:prstGeom>
          <a:solidFill>
            <a:srgbClr val="da1f28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го не было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0" y="1871280"/>
            <a:ext cx="536400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зглашение республики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нистия всем политзаключенным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демократических свобод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мия на самоуправление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народной милиции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нена всех сословий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на национальных и религиозных ограничений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ыв учредительного собрания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местного самоуправления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5364000" y="1844280"/>
            <a:ext cx="360072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чего о войне и требования демократического мир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 о передаче земли крестьянам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ведении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-часового рабочего дня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Заголовок 2" descr=""/>
          <p:cNvPicPr/>
          <p:nvPr/>
        </p:nvPicPr>
        <p:blipFill>
          <a:blip r:embed="rId1"/>
          <a:stretch/>
        </p:blipFill>
        <p:spPr>
          <a:xfrm>
            <a:off x="463680" y="-85680"/>
            <a:ext cx="824220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21:57:44Z</dcterms:created>
  <dc:creator>Елизавета</dc:creator>
  <dc:description/>
  <dc:language>en-US</dc:language>
  <cp:lastModifiedBy>Дима</cp:lastModifiedBy>
  <dcterms:modified xsi:type="dcterms:W3CDTF">2015-10-11T13:40:16Z</dcterms:modified>
  <cp:revision>36</cp:revision>
  <dc:subject/>
  <dc:title>Февральская революция  1917 г.</dc:title>
</cp:coreProperties>
</file>