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2.png" ContentType="image/png"/>
  <Override PartName="/ppt/media/image33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42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B76-A40E-46D4-8463-22D841E8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48E-9CD9-4987-8810-797756DB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D82-9B3F-4B2A-893E-4EAA5B92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BE3-38AA-4813-9488-30979C25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FAE-A2E7-4D34-A38C-091EBD1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F72-F134-4A95-980B-1F983A6C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6E4-CF74-45B1-B5C6-52923D9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B2C-EED7-405D-8968-66529698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537-4D2D-43BF-8F06-E412B521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F53-6ACD-41B5-A885-4F908B8A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64C-A037-4802-8ABD-663E4B3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FF4-0885-4EDC-98BA-241D1F5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B98-7DFF-4A53-AE54-1E32097C9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роки Кар-кары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кар карыч 2"/>
          <p:cNvPicPr/>
          <p:nvPr/>
        </p:nvPicPr>
        <p:blipFill>
          <a:blip r:embed="rId2"/>
          <a:stretch/>
        </p:blipFill>
        <p:spPr>
          <a:xfrm>
            <a:off x="1143000" y="28195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й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сойка"/>
          <p:cNvPicPr/>
          <p:nvPr/>
        </p:nvPicPr>
        <p:blipFill>
          <a:blip r:embed="rId1"/>
          <a:srcRect l="0" t="0" r="0" b="-80"/>
          <a:stretch/>
        </p:blipFill>
        <p:spPr>
          <a:xfrm>
            <a:off x="684360" y="333360"/>
            <a:ext cx="7829280" cy="54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лёс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57268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всянк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овсянка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530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етере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6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D:\Ксюша\инет\ПРЕЗЕНТАЦИИ\БУКВЫ ЧТЕНИЕ\АЛФАВИТ буква - рисунок\Развивающие карточки АЗБУКА\Фрукты и ягоды\[а] арбуз.JPG"/>
          <p:cNvPicPr/>
          <p:nvPr/>
        </p:nvPicPr>
        <p:blipFill>
          <a:blip r:embed="rId2"/>
          <a:stretch/>
        </p:blipFill>
        <p:spPr>
          <a:xfrm>
            <a:off x="6858000" y="22096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2819520" y="990720"/>
            <a:ext cx="52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умайте и угадайте, какую зимующую птицу я задумал по первым звукам этих с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1" descr="D:\Каталог картинок\С\ANIM1376 G.gif"/>
          <p:cNvPicPr/>
          <p:nvPr/>
        </p:nvPicPr>
        <p:blipFill>
          <a:blip r:embed="rId3"/>
          <a:stretch/>
        </p:blipFill>
        <p:spPr>
          <a:xfrm>
            <a:off x="457200" y="3738600"/>
            <a:ext cx="1600200" cy="1546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6" descr=""/>
          <p:cNvPicPr/>
          <p:nvPr/>
        </p:nvPicPr>
        <p:blipFill>
          <a:blip r:embed="rId4"/>
          <a:stretch/>
        </p:blipFill>
        <p:spPr>
          <a:xfrm>
            <a:off x="3657600" y="4259160"/>
            <a:ext cx="1371600" cy="76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8" descr="farm0007 G"/>
          <p:cNvPicPr/>
          <p:nvPr/>
        </p:nvPicPr>
        <p:blipFill>
          <a:blip r:embed="rId5"/>
          <a:stretch/>
        </p:blipFill>
        <p:spPr>
          <a:xfrm>
            <a:off x="6324480" y="4191120"/>
            <a:ext cx="1219320" cy="1139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D:\Ксюша\инет\ПРЕЗЕНТАЦИИ\БУКВЫ ЧТЕНИЕ\АЛФАВИТ буква - рисунок\Развивающие карточки АЗБУКА\Фрукты и ягоды\[а] апельсин.JPG"/>
          <p:cNvPicPr/>
          <p:nvPr/>
        </p:nvPicPr>
        <p:blipFill>
          <a:blip r:embed="rId6"/>
          <a:srcRect l="0" t="0" r="44" b="0"/>
          <a:stretch/>
        </p:blipFill>
        <p:spPr>
          <a:xfrm>
            <a:off x="7467480" y="4343400"/>
            <a:ext cx="1371600" cy="873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2" descr="D:\Каталог картинок\О\BRACELET п.gif"/>
          <p:cNvPicPr/>
          <p:nvPr/>
        </p:nvPicPr>
        <p:blipFill>
          <a:blip r:embed="rId7"/>
          <a:srcRect l="0" t="0" r="0" b="-86"/>
          <a:stretch/>
        </p:blipFill>
        <p:spPr>
          <a:xfrm>
            <a:off x="4952880" y="4191120"/>
            <a:ext cx="1295640" cy="8492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4" descr="D:\Каталог картинок\О\1DONKEY G 1.gif"/>
          <p:cNvPicPr/>
          <p:nvPr/>
        </p:nvPicPr>
        <p:blipFill>
          <a:blip r:embed="rId8"/>
          <a:srcRect l="0" t="0" r="0" b="145"/>
          <a:stretch/>
        </p:blipFill>
        <p:spPr>
          <a:xfrm>
            <a:off x="2133720" y="3956040"/>
            <a:ext cx="1523880" cy="140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кар карыч1 jpg"/>
          <p:cNvPicPr/>
          <p:nvPr/>
        </p:nvPicPr>
        <p:blipFill>
          <a:blip r:embed="rId9"/>
          <a:stretch/>
        </p:blipFill>
        <p:spPr>
          <a:xfrm>
            <a:off x="609480" y="380880"/>
            <a:ext cx="2514600" cy="200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"/>
          <p:cNvPicPr/>
          <p:nvPr/>
        </p:nvPicPr>
        <p:blipFill>
          <a:blip r:embed="rId10"/>
          <a:stretch/>
        </p:blipFill>
        <p:spPr>
          <a:xfrm>
            <a:off x="10666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"/>
          <p:cNvPicPr/>
          <p:nvPr/>
        </p:nvPicPr>
        <p:blipFill>
          <a:blip r:embed="rId11"/>
          <a:stretch/>
        </p:blipFill>
        <p:spPr>
          <a:xfrm>
            <a:off x="2362320" y="2362320"/>
            <a:ext cx="105228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"/>
          <p:cNvPicPr/>
          <p:nvPr/>
        </p:nvPicPr>
        <p:blipFill>
          <a:blip r:embed="rId12"/>
          <a:stretch/>
        </p:blipFill>
        <p:spPr>
          <a:xfrm>
            <a:off x="4648320" y="2362320"/>
            <a:ext cx="105228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"/>
          <p:cNvPicPr/>
          <p:nvPr/>
        </p:nvPicPr>
        <p:blipFill>
          <a:blip r:embed="rId13"/>
          <a:stretch/>
        </p:blipFill>
        <p:spPr>
          <a:xfrm>
            <a:off x="3581280" y="236232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"/>
          <p:cNvPicPr/>
          <p:nvPr/>
        </p:nvPicPr>
        <p:blipFill>
          <a:blip r:embed="rId14"/>
          <a:stretch/>
        </p:blipFill>
        <p:spPr>
          <a:xfrm>
            <a:off x="5486400" y="2209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вторите правильно чистоговорк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о звуками Р, РЬ отвечайте на вопросы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полняйте задания зимующих пти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кар карыч 2"/>
          <p:cNvPicPr/>
          <p:nvPr/>
        </p:nvPicPr>
        <p:blipFill>
          <a:blip r:embed="rId2"/>
          <a:stretch/>
        </p:blipFill>
        <p:spPr>
          <a:xfrm>
            <a:off x="3505320" y="312408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1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1523880" y="533520"/>
            <a:ext cx="6248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-ра-ра – рама, радуга, 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-ры-ры – рынок, рыба, ком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-ро-ро – роза,  родина, ве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-ру-ру – руки, ручки, 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-ра-ра – Рае нравится ж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-ру-ру – в роще бродит 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-ры-ры – Жора прыгает с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-ро-ро – быстро строится ме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-ар-ар – Роме нравится заг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-ур-ур – у розетки черный шн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р-ир-ир – в кружке с сахаром ке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-ор-ор – красит Верочка з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р-эр-эр – марширует офиц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р-ыр-ыр – у Захара жирный с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-ор-ор – помидор, топор, з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-ур-ур – шнур, контур, абаж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ар карыч 4"/>
          <p:cNvPicPr/>
          <p:nvPr/>
        </p:nvPicPr>
        <p:blipFill>
          <a:blip r:embed="rId2"/>
          <a:stretch/>
        </p:blipFill>
        <p:spPr>
          <a:xfrm>
            <a:off x="1371600" y="12193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3352680" y="1219320"/>
            <a:ext cx="4800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Я что-то устал «рыч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летели к нам вороны,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машем крылья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ели рядышком на клены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клювами кача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али громко каркать, спорить,           (открываем клюв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али дом из веток строить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берем клювом                                                                                          палочки и строим гнезд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04920" y="915840"/>
            <a:ext cx="3352680" cy="2227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886200" y="12949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о что можно с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ый..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хвостик, клюв, клюв..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ая..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спинка, грудка, песенка..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ое..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крыло, перо, гнездо..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ые ..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глазки, крылья, птенцы..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733920" cy="2490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800600" y="1066680"/>
            <a:ext cx="3581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Игра «Один - Мн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а сорока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крыл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гнезд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яйц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ин птенец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пер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ин хвост —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а лапа – м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а птица – м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кар карыч"/>
          <p:cNvPicPr/>
          <p:nvPr/>
        </p:nvPicPr>
        <p:blipFill>
          <a:blip r:embed="rId2"/>
          <a:stretch/>
        </p:blipFill>
        <p:spPr>
          <a:xfrm>
            <a:off x="2971800" y="687240"/>
            <a:ext cx="2895480" cy="2876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447920" y="3048120"/>
            <a:ext cx="601956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дравствуйте ребята, я Кар-Карыч,  ворон - зимующая птица, не боюсь морозов. А каких зимующих птиц вы знаете? Посмотрите, послушайте и запомн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264120" cy="24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3352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5840" y="9140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Игра «Назови ласко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Черное перо – черненькое перы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рая спин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расная грудь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трые когти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инный хвост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лый пух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руглая голов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устрые лапы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ягкие перья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стрые крылья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4572000" y="1219320"/>
            <a:ext cx="380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Почему снегиря называют «красногрудым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А как можно назвать птицу, у ко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короткий хвост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чёрные глаза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розовые щёки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кривые лапы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желтые крылья —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длинный клюв -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2819160" cy="2543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886200" y="144792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Разделите слова на сло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Назовите гласные зв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Выделите ударный 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ИНИЦ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ГЛУХ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К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ВИРИС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ДЯ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ВО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6934320" cy="4146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590920" y="2514600"/>
            <a:ext cx="396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рикает                          Ворк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кает                            Стрек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09880" y="2895480"/>
            <a:ext cx="1447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0988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063800"/>
          <a:ext cx="208080" cy="4456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90720" y="1219320"/>
          <a:ext cx="7010280" cy="507996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AutoShape 60"/>
          <p:cNvSpPr/>
          <p:nvPr/>
        </p:nvSpPr>
        <p:spPr>
          <a:xfrm>
            <a:off x="0" y="152280"/>
            <a:ext cx="8856720" cy="1078200"/>
          </a:xfrm>
          <a:prstGeom prst="triangle">
            <a:avLst>
              <a:gd name="adj" fmla="val 50000"/>
            </a:avLst>
          </a:prstGeom>
          <a:solidFill>
            <a:srgbClr val="f85d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1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133720" cy="1155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image10"/>
          <p:cNvPicPr/>
          <p:nvPr/>
        </p:nvPicPr>
        <p:blipFill>
          <a:blip r:embed="rId3"/>
          <a:stretch/>
        </p:blipFill>
        <p:spPr>
          <a:xfrm>
            <a:off x="3581280" y="1447920"/>
            <a:ext cx="1729080" cy="13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"/>
          <p:cNvPicPr/>
          <p:nvPr/>
        </p:nvPicPr>
        <p:blipFill>
          <a:blip r:embed="rId4"/>
          <a:stretch/>
        </p:blipFill>
        <p:spPr>
          <a:xfrm>
            <a:off x="6248520" y="1600200"/>
            <a:ext cx="1554120" cy="11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4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219320" y="3124080"/>
            <a:ext cx="2004840" cy="12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7" descr=""/>
          <p:cNvPicPr/>
          <p:nvPr/>
        </p:nvPicPr>
        <p:blipFill>
          <a:blip r:embed="rId6"/>
          <a:stretch/>
        </p:blipFill>
        <p:spPr>
          <a:xfrm>
            <a:off x="5867280" y="2895480"/>
            <a:ext cx="1165320" cy="189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0" descr=""/>
          <p:cNvPicPr/>
          <p:nvPr/>
        </p:nvPicPr>
        <p:blipFill>
          <a:blip r:embed="rId7"/>
          <a:stretch/>
        </p:blipFill>
        <p:spPr>
          <a:xfrm>
            <a:off x="6019920" y="4800600"/>
            <a:ext cx="158436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8" descr="image12"/>
          <p:cNvPicPr/>
          <p:nvPr/>
        </p:nvPicPr>
        <p:blipFill>
          <a:blip r:embed="rId8"/>
          <a:stretch/>
        </p:blipFill>
        <p:spPr>
          <a:xfrm>
            <a:off x="1295280" y="4724280"/>
            <a:ext cx="1849680" cy="184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9" descr=""/>
          <p:cNvPicPr/>
          <p:nvPr/>
        </p:nvPicPr>
        <p:blipFill>
          <a:blip r:embed="rId9"/>
          <a:stretch/>
        </p:blipFill>
        <p:spPr>
          <a:xfrm>
            <a:off x="3962520" y="4648320"/>
            <a:ext cx="1190520" cy="18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6" descr=""/>
          <p:cNvPicPr/>
          <p:nvPr/>
        </p:nvPicPr>
        <p:blipFill>
          <a:blip r:embed="rId10"/>
          <a:stretch/>
        </p:blipFill>
        <p:spPr>
          <a:xfrm>
            <a:off x="3505320" y="3048120"/>
            <a:ext cx="2076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838080" y="7606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считай, сколько птиц Ваня увидел около корм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4678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кар карыч 2"/>
          <p:cNvPicPr/>
          <p:nvPr/>
        </p:nvPicPr>
        <p:blipFill>
          <a:blip r:embed="rId2"/>
          <a:stretch/>
        </p:blipFill>
        <p:spPr>
          <a:xfrm>
            <a:off x="3352680" y="12952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743200" y="39625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ДО НОВЫХ ВСТРЕЧ, ДРУЗЬ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и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синица1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о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воробей"/>
          <p:cNvPicPr/>
          <p:nvPr/>
        </p:nvPicPr>
        <p:blipFill>
          <a:blip r:embed="rId1"/>
          <a:stretch/>
        </p:blipFill>
        <p:spPr>
          <a:xfrm>
            <a:off x="395280" y="189000"/>
            <a:ext cx="8410680" cy="55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116000" y="537372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олуб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голубь"/>
          <p:cNvPicPr/>
          <p:nvPr/>
        </p:nvPicPr>
        <p:blipFill>
          <a:blip r:embed="rId1"/>
          <a:stretch/>
        </p:blipFill>
        <p:spPr>
          <a:xfrm>
            <a:off x="1258920" y="333360"/>
            <a:ext cx="6480000" cy="51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яте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дятел3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оро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ворона"/>
          <p:cNvPicPr/>
          <p:nvPr/>
        </p:nvPicPr>
        <p:blipFill>
          <a:blip r:embed="rId1"/>
          <a:stretch/>
        </p:blipFill>
        <p:spPr>
          <a:xfrm>
            <a:off x="612720" y="260280"/>
            <a:ext cx="7920000" cy="557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Сова Болотная"/>
          <p:cNvPicPr/>
          <p:nvPr/>
        </p:nvPicPr>
        <p:blipFill>
          <a:blip r:embed="rId1"/>
          <a:srcRect l="0" t="0" r="-103" b="-77"/>
          <a:stretch/>
        </p:blipFill>
        <p:spPr>
          <a:xfrm>
            <a:off x="403848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2565360"/>
            <a:ext cx="4067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412360" y="554688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неги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снегирь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56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15-10-18T18:04:1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230000000000010250600207f5200358026400</vt:lpwstr>
  </property>
  <property fmtid="{D5CDD505-2E9C-101B-9397-08002B2CF9AE}" pid="3" name="Version">
    <vt:r8>1</vt:r8>
  </property>
</Properties>
</file>