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87B-8774-4BFB-BE39-B75F8632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C1E-5307-4AAD-96FC-024A2652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731-D568-4AD1-919C-1E1C7FF3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536-8956-493F-A0A4-9B0AD357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849-8F90-4B09-AB85-B5B8859E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1976-A589-4EE9-B0F2-6B47DFF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3909-65C2-4ADE-8813-9BDF0E5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0304-CBFA-4008-9F10-FEAF4B6E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B9A6-1850-49E8-800B-2E8E9EB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DA5-B161-4523-83BE-33D9FAD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00BC-BDD5-40EC-BB82-9305F224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3B4-60CA-4430-BFAA-EE3B573B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FB83-038B-4CE5-9552-8E6F117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B05C-7919-41E1-AD4D-FA4B1AE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7EE6-7554-4504-B328-9A472CB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88D0-B546-495D-9713-ACF4874F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D87-E444-486A-84EF-A0492FEF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0B9-EA9F-40E8-80B7-6AE1BDF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ACB-A67D-410C-AEAF-42C02500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0CB-5693-4B01-88B7-69BE487E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09E-F8E6-4859-B09F-9AC1BC1F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9E1-5810-4DA4-BF4B-B149912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8FC-1419-4F99-9679-909CDE9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4F9-AFDC-484E-98AC-A44A6AE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A71B-5917-4AC0-96AA-D781F38C7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CEB7-F85D-4923-A755-A4336CC56AB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аше время года, или Цветовые типы внеш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941360"/>
            <a:ext cx="35607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Осень - «Теплый южный закат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6" descr="осень"/>
          <p:cNvPicPr/>
          <p:nvPr/>
        </p:nvPicPr>
        <p:blipFill>
          <a:blip r:embed="rId1"/>
          <a:srcRect l="28505" t="39643" r="26049" b="2842"/>
          <a:stretch/>
        </p:blipFill>
        <p:spPr>
          <a:xfrm>
            <a:off x="971640" y="1557360"/>
            <a:ext cx="150660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0" y="4076640"/>
          <a:ext cx="9144000" cy="2857680"/>
        </p:xfrm>
        <a:graphic>
          <a:graphicData uri="http://schemas.openxmlformats.org/drawingml/2006/table">
            <a:tbl>
              <a:tblPr/>
              <a:tblGrid>
                <a:gridCol w="2330280"/>
                <a:gridCol w="681372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но-серые, светло-карие, карие или теплого зеленого цвет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штановые, рыжие (темные или светлые), с ярко выраженным теплым оттенк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олотисто-бежевого или персиковог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можны веснуш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36" descr="осень"/>
          <p:cNvPicPr/>
          <p:nvPr/>
        </p:nvPicPr>
        <p:blipFill>
          <a:blip r:embed="rId2"/>
          <a:srcRect l="21343" t="0" r="15229" b="-4094"/>
          <a:stretch/>
        </p:blipFill>
        <p:spPr>
          <a:xfrm>
            <a:off x="3564000" y="1557360"/>
            <a:ext cx="1895400" cy="2527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осень2"/>
          <p:cNvPicPr/>
          <p:nvPr/>
        </p:nvPicPr>
        <p:blipFill>
          <a:blip r:embed="rId3"/>
          <a:srcRect l="14885" t="6822" r="825" b="11367"/>
          <a:stretch/>
        </p:blipFill>
        <p:spPr>
          <a:xfrm>
            <a:off x="6588000" y="1628640"/>
            <a:ext cx="1684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Тип внешности Осень - «Теплый южный закат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4" descr="Осень тип внеѿности"/>
          <p:cNvPicPr/>
          <p:nvPr/>
        </p:nvPicPr>
        <p:blipFill>
          <a:blip r:embed="rId1"/>
          <a:srcRect l="0" t="61872" r="-3987" b="0"/>
          <a:stretch/>
        </p:blipFill>
        <p:spPr>
          <a:xfrm>
            <a:off x="0" y="1700280"/>
            <a:ext cx="19080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Осень тип внеѿности"/>
          <p:cNvPicPr/>
          <p:nvPr/>
        </p:nvPicPr>
        <p:blipFill>
          <a:blip r:embed="rId2"/>
          <a:srcRect l="0" t="45565" r="-1323" b="41486"/>
          <a:stretch/>
        </p:blipFill>
        <p:spPr>
          <a:xfrm>
            <a:off x="2195640" y="2637000"/>
            <a:ext cx="2232000" cy="3384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2124000" y="162864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076720" y="3300840"/>
            <a:ext cx="35164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ые, яркие и нежные тона в одежде и макияже, холодных оттенков Вам лучше избегат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И все у нас получится!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Теории определения типа внешност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63196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ен-шу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езонная теория”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еория 6 типов внеш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оганн Итте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езонная теория”или “времена года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“зима”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 лед и огонь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8" descr="зима"/>
          <p:cNvPicPr/>
          <p:nvPr/>
        </p:nvPicPr>
        <p:blipFill>
          <a:blip r:embed="rId1"/>
          <a:srcRect l="40777" t="11259" r="5529" b="46335"/>
          <a:stretch/>
        </p:blipFill>
        <p:spPr>
          <a:xfrm>
            <a:off x="900000" y="1413000"/>
            <a:ext cx="230832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68360" y="3860640"/>
          <a:ext cx="8229600" cy="2654640"/>
        </p:xfrm>
        <a:graphic>
          <a:graphicData uri="http://schemas.openxmlformats.org/drawingml/2006/table">
            <a:tbl>
              <a:tblPr/>
              <a:tblGrid>
                <a:gridCol w="2519280"/>
                <a:gridCol w="5710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но-карие, черные, серые, зеленые, зеленовато-кар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ные, темные коричневые с холодным оттенком, темно-пепе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чень светлая, белая или смуглая, но с холодноватым оттенк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50" descr="9"/>
          <p:cNvPicPr/>
          <p:nvPr/>
        </p:nvPicPr>
        <p:blipFill>
          <a:blip r:embed="rId2"/>
          <a:srcRect l="0" t="0" r="13279" b="28158"/>
          <a:stretch/>
        </p:blipFill>
        <p:spPr>
          <a:xfrm>
            <a:off x="3635280" y="14130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1" descr="1"/>
          <p:cNvPicPr/>
          <p:nvPr/>
        </p:nvPicPr>
        <p:blipFill>
          <a:blip r:embed="rId3"/>
          <a:srcRect l="8188" t="0" r="-113" b="25229"/>
          <a:stretch/>
        </p:blipFill>
        <p:spPr>
          <a:xfrm>
            <a:off x="6300720" y="1413000"/>
            <a:ext cx="22305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“зима”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 лед и огонь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084720" y="3194640"/>
            <a:ext cx="215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шение теплого и холодного в макияже и одеж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000160" y="3108240"/>
            <a:ext cx="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050920" y="1773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13" descr="Зима тип внеѿности"/>
          <p:cNvPicPr/>
          <p:nvPr/>
        </p:nvPicPr>
        <p:blipFill>
          <a:blip r:embed="rId1"/>
          <a:srcRect l="0" t="57767" r="-3987" b="0"/>
          <a:stretch/>
        </p:blipFill>
        <p:spPr>
          <a:xfrm>
            <a:off x="0" y="1773360"/>
            <a:ext cx="199404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Зима тип внеѿности"/>
          <p:cNvPicPr/>
          <p:nvPr/>
        </p:nvPicPr>
        <p:blipFill>
          <a:blip r:embed="rId2"/>
          <a:srcRect l="0" t="40829" r="-3987" b="45204"/>
          <a:stretch/>
        </p:blipFill>
        <p:spPr>
          <a:xfrm>
            <a:off x="2195640" y="2421000"/>
            <a:ext cx="280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Лето - «Розовая дымк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7" descr="лето"/>
          <p:cNvPicPr/>
          <p:nvPr/>
        </p:nvPicPr>
        <p:blipFill>
          <a:blip r:embed="rId1"/>
          <a:srcRect l="30294" t="45392" r="22200" b="2314"/>
          <a:stretch/>
        </p:blipFill>
        <p:spPr>
          <a:xfrm>
            <a:off x="900000" y="1557360"/>
            <a:ext cx="169236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57200" y="4005360"/>
          <a:ext cx="8229600" cy="285264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о-голубые, серые, синие, карие, отличает особая мягк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ые или темные с холодным пепельным оттен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ая, с холодноватым оттенком, родимые пятнышки и веснушки всегда серые или пеп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51" descr="лето3"/>
          <p:cNvPicPr/>
          <p:nvPr/>
        </p:nvPicPr>
        <p:blipFill>
          <a:blip r:embed="rId2"/>
          <a:srcRect l="0" t="0" r="-1399" b="28750"/>
          <a:stretch/>
        </p:blipFill>
        <p:spPr>
          <a:xfrm>
            <a:off x="3419640" y="1628640"/>
            <a:ext cx="219384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2" descr="лето!"/>
          <p:cNvPicPr/>
          <p:nvPr/>
        </p:nvPicPr>
        <p:blipFill>
          <a:blip r:embed="rId3"/>
          <a:srcRect l="10257" t="0" r="856" b="18815"/>
          <a:stretch/>
        </p:blipFill>
        <p:spPr>
          <a:xfrm>
            <a:off x="6300720" y="1628640"/>
            <a:ext cx="18525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Тип внешности Лето - «Розовая дымка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95640" y="170028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867280" y="3135600"/>
            <a:ext cx="24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шение теплых и холодных оттенков в макияже и одежд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Лето тип внеѿности"/>
          <p:cNvPicPr/>
          <p:nvPr/>
        </p:nvPicPr>
        <p:blipFill>
          <a:blip r:embed="rId1"/>
          <a:srcRect l="0" t="47031" r="4006" b="39399"/>
          <a:stretch/>
        </p:blipFill>
        <p:spPr>
          <a:xfrm>
            <a:off x="2124000" y="227664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Лето тип внеѿности"/>
          <p:cNvPicPr/>
          <p:nvPr/>
        </p:nvPicPr>
        <p:blipFill>
          <a:blip r:embed="rId2"/>
          <a:srcRect l="0" t="63320" r="4006" b="0"/>
          <a:stretch/>
        </p:blipFill>
        <p:spPr>
          <a:xfrm>
            <a:off x="0" y="1916280"/>
            <a:ext cx="195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Весна - «солнечные блики на молодой листве»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6" descr="весна"/>
          <p:cNvPicPr/>
          <p:nvPr/>
        </p:nvPicPr>
        <p:blipFill>
          <a:blip r:embed="rId1"/>
          <a:srcRect l="34588" t="13422" r="25150" b="40021"/>
          <a:stretch/>
        </p:blipFill>
        <p:spPr>
          <a:xfrm>
            <a:off x="900000" y="1844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Весна тип внеѿности"/>
          <p:cNvPicPr/>
          <p:nvPr/>
        </p:nvPicPr>
        <p:blipFill>
          <a:blip r:embed="rId2"/>
          <a:srcRect l="0" t="9180" r="-3987" b="64542"/>
          <a:stretch/>
        </p:blipFill>
        <p:spPr>
          <a:xfrm>
            <a:off x="3492360" y="1844640"/>
            <a:ext cx="196848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4508640"/>
          <a:ext cx="8229600" cy="2307960"/>
        </p:xfrm>
        <a:graphic>
          <a:graphicData uri="http://schemas.openxmlformats.org/drawingml/2006/table">
            <a:tbl>
              <a:tblPr/>
              <a:tblGrid>
                <a:gridCol w="1942920"/>
                <a:gridCol w="6286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ти всегда светлые, голубые, бирюзовые, зеле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ос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ые с желтоватым оттенк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ж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тлая с нежно-золотистым оттенком, возможны веснуш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36" descr="весна"/>
          <p:cNvPicPr/>
          <p:nvPr/>
        </p:nvPicPr>
        <p:blipFill>
          <a:blip r:embed="rId3"/>
          <a:srcRect l="0" t="0" r="11716" b="37353"/>
          <a:stretch/>
        </p:blipFill>
        <p:spPr>
          <a:xfrm>
            <a:off x="6012000" y="1838160"/>
            <a:ext cx="2592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Тип внешности Весна - «солнечные блики на молодой листве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4" descr="Весна тип внеѿности"/>
          <p:cNvPicPr/>
          <p:nvPr/>
        </p:nvPicPr>
        <p:blipFill>
          <a:blip r:embed="rId1"/>
          <a:srcRect l="0" t="52928" r="-8522" b="0"/>
          <a:stretch/>
        </p:blipFill>
        <p:spPr>
          <a:xfrm>
            <a:off x="0" y="1844640"/>
            <a:ext cx="205092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Весна тип внеѿности"/>
          <p:cNvPicPr/>
          <p:nvPr/>
        </p:nvPicPr>
        <p:blipFill>
          <a:blip r:embed="rId2"/>
          <a:srcRect l="0" t="36496" r="-22430" b="50366"/>
          <a:stretch/>
        </p:blipFill>
        <p:spPr>
          <a:xfrm>
            <a:off x="2124000" y="2492280"/>
            <a:ext cx="2879640" cy="3529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1908000" y="170028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ие рекомендац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867280" y="312444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асят теплые цвета и в одежде, и в макияже, холодных оттенков вам лучше избега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8:28:11Z</dcterms:created>
  <dc:creator>USER</dc:creator>
  <dc:description/>
  <dc:language>en-US</dc:language>
  <cp:lastModifiedBy>rna</cp:lastModifiedBy>
  <dcterms:modified xsi:type="dcterms:W3CDTF">2011-03-04T10:24:07Z</dcterms:modified>
  <cp:revision>10</cp:revision>
  <dc:subject/>
  <dc:title> Ваше время года, или Цветовые типы внешности </dc:title>
</cp:coreProperties>
</file>