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3F4-0203-477B-BE86-0F6383F0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814-8A8E-407C-85FC-B95DDB36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377-B80D-4B56-8A51-D9A07FF0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395-7F9C-4379-8A74-27184315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5ED3-8354-48CA-8FF5-65BC8EE3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665F-C0C1-4D3D-8BCC-DEE1B037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0E46-C94E-4E46-929B-213876CA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309F-84FD-4C78-A7B3-E65B832F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3D02-AF24-4ECF-A579-348CF48A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98E1-AAD1-4E55-A69F-A8D6CC27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48AD-45D9-4CB3-B898-6348E1D6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4A6-6336-4DC5-BB47-B42074A3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158F-8E38-4A2D-BECD-DBE6F366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3912-045D-4B13-8F1B-297BCDAE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3B0C-8EBA-4041-AAC5-831B628C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05B8-83A1-42F5-8781-59F38EB6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697E-E381-4660-A0F9-7EDBF695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A2D-963A-4A72-BEB3-ADF1C329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EF3-C439-4E7C-BD23-AF5F713A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F0D-E56F-4B72-83FB-735918FB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C73-DF6F-4D1A-96D5-A0E88E6E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B96-42AF-4BD7-9EA1-F8C88048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909-95C6-4224-99DB-073D73FB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2B9-5526-4024-B1B0-5E62D895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BF91-E9E5-4518-8FD8-50E5AA4BCE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9BA3-3DBB-4B95-B6C3-CCDEC406392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Ваше время года, или Цветовые типы внешност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63640" y="4941360"/>
            <a:ext cx="35607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Тип внешности Осень - «Теплый южный закат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6" descr="осень"/>
          <p:cNvPicPr/>
          <p:nvPr/>
        </p:nvPicPr>
        <p:blipFill>
          <a:blip r:embed="rId1"/>
          <a:srcRect l="28505" t="39643" r="26049" b="2842"/>
          <a:stretch/>
        </p:blipFill>
        <p:spPr>
          <a:xfrm>
            <a:off x="971640" y="1557360"/>
            <a:ext cx="150660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0" y="4076640"/>
          <a:ext cx="9144000" cy="2857680"/>
        </p:xfrm>
        <a:graphic>
          <a:graphicData uri="http://schemas.openxmlformats.org/drawingml/2006/table">
            <a:tbl>
              <a:tblPr/>
              <a:tblGrid>
                <a:gridCol w="2330280"/>
                <a:gridCol w="681372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з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мно-серые, светло-карие, карие или теплого зеленого цвет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лос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штановые, рыжие (темные или светлые), с ярко выраженным теплым оттенко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ж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олотисто-бежевого или персиковог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н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можны веснуш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36" descr="осень"/>
          <p:cNvPicPr/>
          <p:nvPr/>
        </p:nvPicPr>
        <p:blipFill>
          <a:blip r:embed="rId2"/>
          <a:srcRect l="21343" t="0" r="15229" b="-4094"/>
          <a:stretch/>
        </p:blipFill>
        <p:spPr>
          <a:xfrm>
            <a:off x="3564000" y="1557360"/>
            <a:ext cx="1895400" cy="2527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8" descr="осень2"/>
          <p:cNvPicPr/>
          <p:nvPr/>
        </p:nvPicPr>
        <p:blipFill>
          <a:blip r:embed="rId3"/>
          <a:srcRect l="14885" t="6822" r="825" b="11367"/>
          <a:stretch/>
        </p:blipFill>
        <p:spPr>
          <a:xfrm>
            <a:off x="6588000" y="1628640"/>
            <a:ext cx="1684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Тип внешности Осень - «Теплый южный закат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4" descr="Осень тип внеѿности"/>
          <p:cNvPicPr/>
          <p:nvPr/>
        </p:nvPicPr>
        <p:blipFill>
          <a:blip r:embed="rId1"/>
          <a:srcRect l="0" t="61872" r="-3987" b="0"/>
          <a:stretch/>
        </p:blipFill>
        <p:spPr>
          <a:xfrm>
            <a:off x="0" y="1700280"/>
            <a:ext cx="19080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Осень тип внеѿности"/>
          <p:cNvPicPr/>
          <p:nvPr/>
        </p:nvPicPr>
        <p:blipFill>
          <a:blip r:embed="rId2"/>
          <a:srcRect l="0" t="45565" r="-1323" b="41486"/>
          <a:stretch/>
        </p:blipFill>
        <p:spPr>
          <a:xfrm>
            <a:off x="2195640" y="2637000"/>
            <a:ext cx="2232000" cy="33843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2124000" y="1628640"/>
            <a:ext cx="50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ие рекомендаци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076720" y="3300840"/>
            <a:ext cx="35164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лые, яркие и нежные тона в одежде и макияже, холодных оттенков Вам лучше избегать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И все у нас получится!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Теории определения типа внешност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63196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фен-шуй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езонная теория”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еория 6 типов внеш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оганн Итте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езонная теория”или “времена года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Тип внешности “зима”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 лед и огонь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Picture 8" descr="зима"/>
          <p:cNvPicPr/>
          <p:nvPr/>
        </p:nvPicPr>
        <p:blipFill>
          <a:blip r:embed="rId1"/>
          <a:srcRect l="40777" t="11259" r="5529" b="46335"/>
          <a:stretch/>
        </p:blipFill>
        <p:spPr>
          <a:xfrm>
            <a:off x="900000" y="1413000"/>
            <a:ext cx="2308320" cy="23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68360" y="3860640"/>
          <a:ext cx="8229600" cy="2654640"/>
        </p:xfrm>
        <a:graphic>
          <a:graphicData uri="http://schemas.openxmlformats.org/drawingml/2006/table">
            <a:tbl>
              <a:tblPr/>
              <a:tblGrid>
                <a:gridCol w="2519280"/>
                <a:gridCol w="5710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з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мно-карие, черные, серые, зеленые, зеленовато-кар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лос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ные, темные коричневые с холодным оттенком, темно-пепель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ж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чень светлая, белая или смуглая, но с холодноватым оттенко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50" descr="9"/>
          <p:cNvPicPr/>
          <p:nvPr/>
        </p:nvPicPr>
        <p:blipFill>
          <a:blip r:embed="rId2"/>
          <a:srcRect l="0" t="0" r="13279" b="28158"/>
          <a:stretch/>
        </p:blipFill>
        <p:spPr>
          <a:xfrm>
            <a:off x="3635280" y="141300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1" descr="1"/>
          <p:cNvPicPr/>
          <p:nvPr/>
        </p:nvPicPr>
        <p:blipFill>
          <a:blip r:embed="rId3"/>
          <a:srcRect l="8188" t="0" r="-113" b="25229"/>
          <a:stretch/>
        </p:blipFill>
        <p:spPr>
          <a:xfrm>
            <a:off x="6300720" y="1413000"/>
            <a:ext cx="22305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Тип внешности “зима”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 лед и огонь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084720" y="3194640"/>
            <a:ext cx="2159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шение теплого и холодного в макияже и одеж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000160" y="3108240"/>
            <a:ext cx="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050920" y="1773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ие рекомендаци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13" descr="Зима тип внеѿности"/>
          <p:cNvPicPr/>
          <p:nvPr/>
        </p:nvPicPr>
        <p:blipFill>
          <a:blip r:embed="rId1"/>
          <a:srcRect l="0" t="57767" r="-3987" b="0"/>
          <a:stretch/>
        </p:blipFill>
        <p:spPr>
          <a:xfrm>
            <a:off x="0" y="1773360"/>
            <a:ext cx="199404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Зима тип внеѿности"/>
          <p:cNvPicPr/>
          <p:nvPr/>
        </p:nvPicPr>
        <p:blipFill>
          <a:blip r:embed="rId2"/>
          <a:srcRect l="0" t="40829" r="-3987" b="45204"/>
          <a:stretch/>
        </p:blipFill>
        <p:spPr>
          <a:xfrm>
            <a:off x="2195640" y="2421000"/>
            <a:ext cx="2808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Тип внешности Лето - «Розовая дымка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7" descr="лето"/>
          <p:cNvPicPr/>
          <p:nvPr/>
        </p:nvPicPr>
        <p:blipFill>
          <a:blip r:embed="rId1"/>
          <a:srcRect l="30294" t="45392" r="22200" b="2314"/>
          <a:stretch/>
        </p:blipFill>
        <p:spPr>
          <a:xfrm>
            <a:off x="900000" y="1557360"/>
            <a:ext cx="1692360" cy="23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457200" y="4005360"/>
          <a:ext cx="8229600" cy="285264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з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ро-голубые, серые, синие, карие, отличает особая мягк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лос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тлые или темные с холодным пепельным оттенк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ж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тлая, с холодноватым оттенком, родимые пятнышки и веснушки всегда серые или пеп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51" descr="лето3"/>
          <p:cNvPicPr/>
          <p:nvPr/>
        </p:nvPicPr>
        <p:blipFill>
          <a:blip r:embed="rId2"/>
          <a:srcRect l="0" t="0" r="-1399" b="28750"/>
          <a:stretch/>
        </p:blipFill>
        <p:spPr>
          <a:xfrm>
            <a:off x="3419640" y="1628640"/>
            <a:ext cx="2193840" cy="231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2" descr="лето!"/>
          <p:cNvPicPr/>
          <p:nvPr/>
        </p:nvPicPr>
        <p:blipFill>
          <a:blip r:embed="rId3"/>
          <a:srcRect l="10257" t="0" r="856" b="18815"/>
          <a:stretch/>
        </p:blipFill>
        <p:spPr>
          <a:xfrm>
            <a:off x="6300720" y="1628640"/>
            <a:ext cx="18525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Тип внешности Лето - «Розовая дымка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195640" y="1700280"/>
            <a:ext cx="50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ие рекомендац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867280" y="3135600"/>
            <a:ext cx="24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шение теплых и холодных оттенков в макияже и одежд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Лето тип внеѿности"/>
          <p:cNvPicPr/>
          <p:nvPr/>
        </p:nvPicPr>
        <p:blipFill>
          <a:blip r:embed="rId1"/>
          <a:srcRect l="0" t="47031" r="4006" b="39399"/>
          <a:stretch/>
        </p:blipFill>
        <p:spPr>
          <a:xfrm>
            <a:off x="2124000" y="2276640"/>
            <a:ext cx="3095640" cy="381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Лето тип внеѿности"/>
          <p:cNvPicPr/>
          <p:nvPr/>
        </p:nvPicPr>
        <p:blipFill>
          <a:blip r:embed="rId2"/>
          <a:srcRect l="0" t="63320" r="4006" b="0"/>
          <a:stretch/>
        </p:blipFill>
        <p:spPr>
          <a:xfrm>
            <a:off x="0" y="1916280"/>
            <a:ext cx="1955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Тип внешности Весна - «солнечные блики на молодой листве»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6" descr="весна"/>
          <p:cNvPicPr/>
          <p:nvPr/>
        </p:nvPicPr>
        <p:blipFill>
          <a:blip r:embed="rId1"/>
          <a:srcRect l="34588" t="13422" r="25150" b="40021"/>
          <a:stretch/>
        </p:blipFill>
        <p:spPr>
          <a:xfrm>
            <a:off x="900000" y="1844640"/>
            <a:ext cx="1735200" cy="259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Весна тип внеѿности"/>
          <p:cNvPicPr/>
          <p:nvPr/>
        </p:nvPicPr>
        <p:blipFill>
          <a:blip r:embed="rId2"/>
          <a:srcRect l="0" t="9180" r="-3987" b="64542"/>
          <a:stretch/>
        </p:blipFill>
        <p:spPr>
          <a:xfrm>
            <a:off x="3492360" y="1844640"/>
            <a:ext cx="196848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68360" y="4508640"/>
          <a:ext cx="8229600" cy="2307960"/>
        </p:xfrm>
        <a:graphic>
          <a:graphicData uri="http://schemas.openxmlformats.org/drawingml/2006/table">
            <a:tbl>
              <a:tblPr/>
              <a:tblGrid>
                <a:gridCol w="1942920"/>
                <a:gridCol w="6286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з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ти всегда светлые, голубые, бирюзовые, зеле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лос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тлые с желтоватым оттенк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ж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тлая с нежно-золотистым оттенком, возможны веснуш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36" descr="весна"/>
          <p:cNvPicPr/>
          <p:nvPr/>
        </p:nvPicPr>
        <p:blipFill>
          <a:blip r:embed="rId3"/>
          <a:srcRect l="0" t="0" r="11716" b="37353"/>
          <a:stretch/>
        </p:blipFill>
        <p:spPr>
          <a:xfrm>
            <a:off x="6012000" y="1838160"/>
            <a:ext cx="2592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Тип внешности Весна - «солнечные блики на молодой листве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Picture 4" descr="Весна тип внеѿности"/>
          <p:cNvPicPr/>
          <p:nvPr/>
        </p:nvPicPr>
        <p:blipFill>
          <a:blip r:embed="rId1"/>
          <a:srcRect l="0" t="52928" r="-8522" b="0"/>
          <a:stretch/>
        </p:blipFill>
        <p:spPr>
          <a:xfrm>
            <a:off x="0" y="1844640"/>
            <a:ext cx="205092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Весна тип внеѿности"/>
          <p:cNvPicPr/>
          <p:nvPr/>
        </p:nvPicPr>
        <p:blipFill>
          <a:blip r:embed="rId2"/>
          <a:srcRect l="0" t="36496" r="-22430" b="50366"/>
          <a:stretch/>
        </p:blipFill>
        <p:spPr>
          <a:xfrm>
            <a:off x="2124000" y="2492280"/>
            <a:ext cx="2879640" cy="3529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1908000" y="1700280"/>
            <a:ext cx="50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ие рекомендаци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867280" y="312444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расят теплые цвета и в одежде, и в макияже, холодных оттенков вам лучше избега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8:28:11Z</dcterms:created>
  <dc:creator>USER</dc:creator>
  <dc:description/>
  <dc:language>en-US</dc:language>
  <cp:lastModifiedBy>rna</cp:lastModifiedBy>
  <dcterms:modified xsi:type="dcterms:W3CDTF">2011-03-04T10:24:07Z</dcterms:modified>
  <cp:revision>10</cp:revision>
  <dc:subject/>
  <dc:title> Ваше время года, или Цветовые типы внешности </dc:title>
</cp:coreProperties>
</file>