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C922-8941-4E6B-A652-F1323AB7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06C2-7A47-45A8-919F-F5427332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10A5-F2C3-4191-A859-5E4EA131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EB9-CBE7-4461-BDDC-2F59D73B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6587-0A7F-41E4-A349-449DD1B4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12EA-26A2-41E3-9F8D-3D11320F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B344-B9D9-4F34-AF7F-A264DEA4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BC58-0FF6-497F-B1B7-1688B3D0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3039-F932-4087-ADFF-33D41EA9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D8D9-6278-4A8D-A6C2-420F0A15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7CDC-D0C9-4051-BD92-7598C5A4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4D3-1ED0-4DD1-8DE6-0DF4E4FF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CA8C-7EA2-4290-80D7-4F9003E0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01AE-0B4A-4B42-B5EE-BA31C022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B193-156D-4689-9A24-7AA26D8A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700F-F58E-4F2F-9F92-834A9AD5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3FCB-C4E6-4107-BFBA-1DC3B891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5DDEA-5509-4FEC-92A8-DCA6DD18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45A23-4B26-425F-8D9F-CDC4D2CE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C126C-BFC9-4BE6-824C-EB6D1D2E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5C096-B0DB-4283-B399-5B5C7F51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1BD50-6AE0-4F8E-809C-46656744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53E9-CD2B-4C32-A096-5370637C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0DCAE-5BCF-42DD-B9EA-1F23BB15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ED99B-DDE8-4FC0-B377-EEA04975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EE43D-F779-4613-B9E2-7F53D581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F393A-EE90-4E63-8EB7-556961BE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9B668-F7AB-4031-99E7-9A8EC183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64700-F52D-4C4A-89C9-494F20BF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19937-3FAE-4DB5-BFA9-EB7E3DFD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7211B-ADB1-45B7-ABED-BDE8C540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01210-2677-43D8-B832-5E6D1ADB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F376F-B0F7-4A4D-BDB2-164757AD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5A7-3C02-4309-8F54-B3A56A5C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16297-FA2C-4DC7-B8B4-C5FCB9BC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5195D-1352-4059-946F-D8F2ED9B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6DE07-4B1F-4E8C-BF2C-B38A8D38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00238-DF1B-40CF-B3E1-4957A242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E57BD-16F6-4482-9E23-548F8463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8A576-ACBB-4FE9-9E02-0CB3F9D0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B7787-165C-43BB-9EB0-810E72E0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186C5-3462-418B-8BEC-93253D9A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B1237-6CF4-4D24-A593-E4BBC04C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0C37-AC19-4671-9EE0-3BBB1662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3178-4E3E-4025-B3F6-F1464866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5086-DCEA-424E-BE8B-CCC545D2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81E1-043F-4FCF-B77E-79CA5FD9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330-6AB4-4996-ADA5-5F31E33D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88E9-13AA-4AF7-9ED5-B5FD3802152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959A-F9C3-490E-8485-D3283423D3A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E908-8AC4-44E1-A5F4-503AD629F79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0BFE-BAA0-4D6C-92BA-A04D1412598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682560" y="182520"/>
            <a:ext cx="7785000" cy="3322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4508640"/>
            <a:ext cx="64008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Автор: Жур Юл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7»А» класс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357120" y="164304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ой волшебный крюч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ак начать вязать по кругу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СХЕМЫ ВЯЗАНИЯ ПО КРУГ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7" descr="File0002"/>
          <p:cNvPicPr/>
          <p:nvPr/>
        </p:nvPicPr>
        <p:blipFill>
          <a:blip r:embed="rId1"/>
          <a:srcRect l="60267" t="19584" r="0" b="12704"/>
          <a:stretch/>
        </p:blipFill>
        <p:spPr>
          <a:xfrm>
            <a:off x="4859280" y="2492280"/>
            <a:ext cx="3625920" cy="3529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File0002"/>
          <p:cNvPicPr/>
          <p:nvPr/>
        </p:nvPicPr>
        <p:blipFill>
          <a:blip r:embed="rId2"/>
          <a:srcRect l="18444" t="22361" r="50783" b="19619"/>
          <a:stretch/>
        </p:blipFill>
        <p:spPr>
          <a:xfrm>
            <a:off x="1042920" y="2781360"/>
            <a:ext cx="2808360" cy="3024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ЯЗАНИЕ ПО КРУГУ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спира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меняется при плотном вязан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924000" y="1600200"/>
            <a:ext cx="4762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ядам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Можно вязать изделия плотной и ажурной вязко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язание каждого круга заканчивается соединительными столбиком, а перед провязыванием следующего ряда выполняют петлю поворота из соответствующего количества воздушных петель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Line 7"/>
          <p:cNvSpPr/>
          <p:nvPr/>
        </p:nvSpPr>
        <p:spPr>
          <a:xfrm flipH="1">
            <a:off x="2556000" y="1197000"/>
            <a:ext cx="151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5076720" y="1125360"/>
            <a:ext cx="1727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" descr="Копия File0001"/>
          <p:cNvPicPr/>
          <p:nvPr/>
        </p:nvPicPr>
        <p:blipFill>
          <a:blip r:embed="rId1"/>
          <a:srcRect l="29587" t="31881" r="40833" b="25098"/>
          <a:stretch/>
        </p:blipFill>
        <p:spPr>
          <a:xfrm>
            <a:off x="395280" y="2349360"/>
            <a:ext cx="3024360" cy="2880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Копия File0001"/>
          <p:cNvPicPr/>
          <p:nvPr/>
        </p:nvPicPr>
        <p:blipFill>
          <a:blip r:embed="rId2"/>
          <a:srcRect l="69719" t="31714" r="0" b="24173"/>
          <a:stretch/>
        </p:blipFill>
        <p:spPr>
          <a:xfrm>
            <a:off x="5003640" y="1916280"/>
            <a:ext cx="3095640" cy="2952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собенности вязания по круг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Без прибавок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Если же прибавок не делать, то изделие получится в форме стакана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ного прибавок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Если прибавок много – то изделие будет с волнистыми краям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7" descr="DSC00028"/>
          <p:cNvPicPr/>
          <p:nvPr/>
        </p:nvPicPr>
        <p:blipFill>
          <a:blip r:embed="rId1"/>
          <a:stretch/>
        </p:blipFill>
        <p:spPr>
          <a:xfrm>
            <a:off x="324000" y="1844640"/>
            <a:ext cx="4032000" cy="3672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3743280" cy="364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768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768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1" dur="768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3" dur="768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язание должно приносить только пользу, поэтому важно помнить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ядьте удобнее, откиньтесь на спинку дивана, кресла, стул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вяжите лёжа – это навредит вашему зрени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вяжите долго. Работайте с перерыв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о время работы нельзя махать руками – можно пораниться или поранить рядом сидящего человек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бросайте крючки после работы, а убирайте в определённое мест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казатели качества выполненной работы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делие должно быть плоски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ответствие рисунка и схем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ккуратность выполненной рабо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мы уже знаем и умеем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   Какие способы вывязывания петель вы знаете? Расскажите, пользуясь схем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   Покажите на образце, как закрепить нить после окончания вяз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   Для чего нужна петля поворота? Покажите на образце как её выполни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.   Что такое проба на плотность вязания? Для чего она нужна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лшебный крючок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2071800" y="2000160"/>
            <a:ext cx="4824360" cy="426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68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68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лшебный крючок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68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68" fill="hold"/>
                                        <p:tgtEl>
                                          <p:spTgt spid="2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68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лшебный крючок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DSC00030"/>
          <p:cNvPicPr/>
          <p:nvPr/>
        </p:nvPicPr>
        <p:blipFill>
          <a:blip r:embed="rId2"/>
          <a:stretch/>
        </p:blipFill>
        <p:spPr>
          <a:xfrm>
            <a:off x="468360" y="1844640"/>
            <a:ext cx="3168720" cy="4267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DSC00033"/>
          <p:cNvPicPr/>
          <p:nvPr/>
        </p:nvPicPr>
        <p:blipFill>
          <a:blip r:embed="rId3"/>
          <a:stretch/>
        </p:blipFill>
        <p:spPr>
          <a:xfrm>
            <a:off x="3924360" y="1844640"/>
            <a:ext cx="4753080" cy="426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68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68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6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6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лшебный крючок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DSC00036"/>
          <p:cNvPicPr/>
          <p:nvPr/>
        </p:nvPicPr>
        <p:blipFill>
          <a:blip r:embed="rId2"/>
          <a:stretch/>
        </p:blipFill>
        <p:spPr>
          <a:xfrm>
            <a:off x="4500720" y="1773360"/>
            <a:ext cx="4174920" cy="4267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DSC00037"/>
          <p:cNvPicPr/>
          <p:nvPr/>
        </p:nvPicPr>
        <p:blipFill>
          <a:blip r:embed="rId3"/>
          <a:stretch/>
        </p:blipFill>
        <p:spPr>
          <a:xfrm>
            <a:off x="324000" y="1700280"/>
            <a:ext cx="3960720" cy="426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68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68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68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68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астя – искусница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Фильм1.wmv" descr=""/>
          <p:cNvPicPr/>
          <p:nvPr/>
        </p:nvPicPr>
        <p:blipFill>
          <a:blip r:embed="rId1"/>
          <a:stretch/>
        </p:blipFill>
        <p:spPr>
          <a:xfrm>
            <a:off x="1317600" y="16765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ак вы думаете, все ли эти изделия вяжутся по одинаковому принципу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DSC00038"/>
          <p:cNvPicPr/>
          <p:nvPr/>
        </p:nvPicPr>
        <p:blipFill>
          <a:blip r:embed="rId1"/>
          <a:stretch/>
        </p:blipFill>
        <p:spPr>
          <a:xfrm>
            <a:off x="179280" y="692280"/>
            <a:ext cx="4105440" cy="3743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DSC00044"/>
          <p:cNvPicPr/>
          <p:nvPr/>
        </p:nvPicPr>
        <p:blipFill>
          <a:blip r:embed="rId2"/>
          <a:stretch/>
        </p:blipFill>
        <p:spPr>
          <a:xfrm>
            <a:off x="4356000" y="476280"/>
            <a:ext cx="4608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ы хотите связать красивую прихватку в подарок маме или бабушке, но вы не умеете ещё вязать по кругу. Как же тогда быть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Фильм2.mpg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472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296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1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8T21:22:02Z</dcterms:created>
  <dc:creator>XTreme</dc:creator>
  <dc:description/>
  <dc:language>en-US</dc:language>
  <cp:lastModifiedBy>Андрей</cp:lastModifiedBy>
  <dcterms:modified xsi:type="dcterms:W3CDTF">2015-10-18T18:40:35Z</dcterms:modified>
  <cp:revision>35</cp:revision>
  <dc:subject/>
  <dc:title>МОУ СОЛОНЕЧНО –ТАЛИНСКАЯ ООШ Урок технологии: 7 класс (девочки) По программе В. Д. Симоненко</dc:title>
</cp:coreProperties>
</file>