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2AE-EB30-4652-95EE-EDC5FAE9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3AF-19B9-4FEB-8E15-A711C96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A3B-156D-447F-A1F5-595CEB6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C41-0A9B-4027-BA89-036D3F11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B960-2B0B-4DCF-A7FD-B27FBC7A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8FFB-F933-4498-87BC-3C69D8D4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161-6AFA-4334-B8FB-43A0D11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078-985E-4870-B4B7-E093810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F9B-B9FB-4502-8815-CF7365F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6ED-B62A-4176-857B-4EFE6EC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525-C36B-4F18-B557-F279C46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8DD-0BE6-4552-A2B4-E4108D9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4840-D55E-45A5-9EBB-FD3F0804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9A09-9766-48FE-A909-340CD5F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9F4-CC36-437E-AC9B-0019ABE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F109-E41E-469F-B8FD-1EF6541E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2BD-D70F-4FCF-B4D6-4262A35C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8B66-A97D-44EF-8EAC-90D668FD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C15F-7C16-4D46-B549-8D6BFAA4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AB18-30EF-4F67-A4DF-FF57CEFA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0D2D-247E-458C-839F-E131557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55E9-D21A-474B-9EDA-EC145A30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B8C-C331-41D0-8425-1FAFF683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185A-3712-403B-83EB-351E463C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2B63-01C2-44CC-9458-BBEDEC6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CF59-2746-48D1-B044-46C7C70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FBFE-CF58-4DB2-88B7-812CAC5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D3B0-4735-4195-ADB2-E0BD43A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2D4F-A991-4C7B-9CD7-3A4F2697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ACBF-0B21-4777-B452-98006B0C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0B52-97DD-4F3A-A291-A145BA8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203B-F54F-429B-AEF3-25775D8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A3C0-AE5C-4489-B63E-8233835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6CF-B892-435E-ADE1-F717368E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9A3C-AE0C-4A42-842D-72432F7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ADE5-7A8E-49C9-9F8B-3F5B4C8E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9B50-26A2-4E2B-ACE2-0C43585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9103-3968-4056-AD84-234B37B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8164-BB74-4313-BF3F-8F9EDB8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4939-EFE5-4AEA-8335-3D61B46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DDBD-935D-42AD-BC80-2B55F63F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64049-BEF2-4177-A721-D04EBBEB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ECF9-1BBF-47E6-88E0-379B38CE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500-3B76-4838-B419-46602FD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161-A3A0-48C1-9298-366A5943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DE2-50D3-4A9A-A3D6-30A00D0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A9A-FD62-4B46-AA20-DD98D0B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71C-8C04-46E5-84F5-09B69BE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CE6-D82A-4DFF-931B-936A01B84E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8D2-2FEE-49BF-8392-E2BA365AF0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DC8-0582-4469-914D-CFAACE86396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89A-886B-403B-8640-40C9B3B836E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3322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Жур Юл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»А» клас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357120" y="16430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й волшебный крюч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 начать вязать по кругу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ХЕМЫ ВЯЗАНИЯ ПО КРУГ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7" descr="File0002"/>
          <p:cNvPicPr/>
          <p:nvPr/>
        </p:nvPicPr>
        <p:blipFill>
          <a:blip r:embed="rId1"/>
          <a:srcRect l="60267" t="19584" r="0" b="12704"/>
          <a:stretch/>
        </p:blipFill>
        <p:spPr>
          <a:xfrm>
            <a:off x="4859280" y="2492280"/>
            <a:ext cx="3625920" cy="3529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File0002"/>
          <p:cNvPicPr/>
          <p:nvPr/>
        </p:nvPicPr>
        <p:blipFill>
          <a:blip r:embed="rId2"/>
          <a:srcRect l="18444" t="22361" r="50783" b="19619"/>
          <a:stretch/>
        </p:blipFill>
        <p:spPr>
          <a:xfrm>
            <a:off x="1042920" y="2781360"/>
            <a:ext cx="2808360" cy="302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ЗАНИЕ ПО КРУГУ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пира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няется при плотном вяз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24000" y="1600200"/>
            <a:ext cx="4762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яд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ожно вязать изделия плотной и ажурной вязк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язание каждого круга заканчивается соединительными столбиком, а перед провязыванием следующего ряда выполняют петлю поворота из соответствующего количества воздушных петел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2556000" y="1197000"/>
            <a:ext cx="151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5076720" y="1125360"/>
            <a:ext cx="172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Копия File0001"/>
          <p:cNvPicPr/>
          <p:nvPr/>
        </p:nvPicPr>
        <p:blipFill>
          <a:blip r:embed="rId1"/>
          <a:srcRect l="29587" t="31881" r="40833" b="25098"/>
          <a:stretch/>
        </p:blipFill>
        <p:spPr>
          <a:xfrm>
            <a:off x="395280" y="2349360"/>
            <a:ext cx="3024360" cy="28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Копия File0001"/>
          <p:cNvPicPr/>
          <p:nvPr/>
        </p:nvPicPr>
        <p:blipFill>
          <a:blip r:embed="rId2"/>
          <a:srcRect l="69719" t="31714" r="0" b="24173"/>
          <a:stretch/>
        </p:blipFill>
        <p:spPr>
          <a:xfrm>
            <a:off x="5003640" y="1916280"/>
            <a:ext cx="3095640" cy="295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обенности вязания по круг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Без прибавок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Если же прибавок не делать, то изделие получится в форме стакан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ного прибаво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прибавок много – то изделие будет с волнистыми края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7" descr="DSC00028"/>
          <p:cNvPicPr/>
          <p:nvPr/>
        </p:nvPicPr>
        <p:blipFill>
          <a:blip r:embed="rId1"/>
          <a:stretch/>
        </p:blipFill>
        <p:spPr>
          <a:xfrm>
            <a:off x="324000" y="1844640"/>
            <a:ext cx="4032000" cy="3672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743280" cy="36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68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68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зание должно приносить только пользу, поэтому важно помни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ядьте удобнее, откиньтесь на спинку дивана, кресла, сту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яжите лёжа – это навредит вашему зрен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яжите долго. Работайте с переры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 время работы нельзя махать руками – можно пораниться или поранить рядом сидящего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бросайте крючки после работы, а убирайте в определённое мест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атели качества выполненной работ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плоск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тветствие рисунка и сх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куратность выполненной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мы уже знаем и умеем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   Какие способы вывязывания петель вы знаете? Расскажите, пользуясь схе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   Покажите на образце, как закрепить нить после окончания вяз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   Для чего нужна петля поворота? Покажите на образце как её выполн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  Что такое проба на плотность вязания? Для чего она нужн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82436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DSC00030"/>
          <p:cNvPicPr/>
          <p:nvPr/>
        </p:nvPicPr>
        <p:blipFill>
          <a:blip r:embed="rId2"/>
          <a:stretch/>
        </p:blipFill>
        <p:spPr>
          <a:xfrm>
            <a:off x="468360" y="1844640"/>
            <a:ext cx="3168720" cy="4267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DSC00033"/>
          <p:cNvPicPr/>
          <p:nvPr/>
        </p:nvPicPr>
        <p:blipFill>
          <a:blip r:embed="rId3"/>
          <a:stretch/>
        </p:blipFill>
        <p:spPr>
          <a:xfrm>
            <a:off x="3924360" y="1844640"/>
            <a:ext cx="475308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SC00036"/>
          <p:cNvPicPr/>
          <p:nvPr/>
        </p:nvPicPr>
        <p:blipFill>
          <a:blip r:embed="rId2"/>
          <a:stretch/>
        </p:blipFill>
        <p:spPr>
          <a:xfrm>
            <a:off x="4500720" y="1773360"/>
            <a:ext cx="4174920" cy="4267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DSC00037"/>
          <p:cNvPicPr/>
          <p:nvPr/>
        </p:nvPicPr>
        <p:blipFill>
          <a:blip r:embed="rId3"/>
          <a:stretch/>
        </p:blipFill>
        <p:spPr>
          <a:xfrm>
            <a:off x="324000" y="1700280"/>
            <a:ext cx="396072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стя – искусница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Фильм1.wmv" descr=""/>
          <p:cNvPicPr/>
          <p:nvPr/>
        </p:nvPicPr>
        <p:blipFill>
          <a:blip r:embed="rId1"/>
          <a:stretch/>
        </p:blipFill>
        <p:spPr>
          <a:xfrm>
            <a:off x="13176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 вы думаете, все ли эти изделия вяжутся по одинаковому принципу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DSC00038"/>
          <p:cNvPicPr/>
          <p:nvPr/>
        </p:nvPicPr>
        <p:blipFill>
          <a:blip r:embed="rId1"/>
          <a:stretch/>
        </p:blipFill>
        <p:spPr>
          <a:xfrm>
            <a:off x="179280" y="69228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00044"/>
          <p:cNvPicPr/>
          <p:nvPr/>
        </p:nvPicPr>
        <p:blipFill>
          <a:blip r:embed="rId2"/>
          <a:stretch/>
        </p:blipFill>
        <p:spPr>
          <a:xfrm>
            <a:off x="4356000" y="476280"/>
            <a:ext cx="460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 хотите связать красивую прихватку в подарок маме или бабушке, но вы не умеете ещё вязать по кругу. Как же тогда быть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Фильм2.mpg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296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21:22:02Z</dcterms:created>
  <dc:creator>XTreme</dc:creator>
  <dc:description/>
  <dc:language>en-US</dc:language>
  <cp:lastModifiedBy>Андрей</cp:lastModifiedBy>
  <dcterms:modified xsi:type="dcterms:W3CDTF">2015-10-18T18:40:35Z</dcterms:modified>
  <cp:revision>35</cp:revision>
  <dc:subject/>
  <dc:title>МОУ СОЛОНЕЧНО –ТАЛИНСКАЯ ООШ Урок технологии: 7 класс (девочки) По программе В. Д. Симоненко</dc:title>
</cp:coreProperties>
</file>