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E30-A255-4BE1-B5D8-58358356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4C7-5C73-4520-B5A7-82F0D426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7A1-24D5-4CA0-8DA2-A2292F93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E26-E85C-4761-A44E-4193E2F7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07E4-6B40-45C6-9C44-6B70F685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DD82-6BD0-45C7-B08F-1FBDA57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C2F9-9EE2-40B8-962F-AD26C719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3F6F-2C25-429B-9F72-96ADBB3A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2F5-B78C-44B2-98D1-46D54286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67B8-E420-443D-B00E-6E9831E0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D1F4-3B2C-4F2C-B0F9-1C42991E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6CE-413D-478A-B62F-82DB17B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1C16-7170-4C69-98F3-52BCE96F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5135-FBC7-4F1D-861D-DD1820C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D8AE-0C7C-40BF-A01A-19A3C75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6359-8E97-45EF-B1F0-A5B733A7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9A2A-B1CD-4C1E-AF15-E77BC444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718-2702-4EE6-9CD5-22B1605A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2C8-FFAC-4FD7-B7F2-A6D6B9E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7B4-FDA1-46C8-999F-3A138165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8B5-4C54-448F-A114-0EDCE784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674-6D3A-4861-8007-9BEFBA9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E04-315F-46CF-A95B-53A9E28D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603-F142-46C7-8134-7234CD36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675-5BCF-4568-A658-7537D97303E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17E9-D713-46C5-876A-E344D1BA0FD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838080"/>
            <a:ext cx="51814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Вышивка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шелковыми лентам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c164"/>
                </a:solidFill>
                <a:latin typeface="Times New Roman"/>
              </a:rPr>
              <a:t>Урок первы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87280" y="3068640"/>
            <a:ext cx="4267440" cy="321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443640" y="907920"/>
            <a:ext cx="24861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600200"/>
            <a:ext cx="4648320" cy="3124080"/>
          </a:xfrm>
          <a:prstGeom prst="rect">
            <a:avLst/>
          </a:prstGeom>
          <a:solidFill>
            <a:srgbClr val="cbfac0"/>
          </a:solidFill>
          <a:ln w="9360">
            <a:solidFill>
              <a:srgbClr val="cbfa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800600"/>
            <a:ext cx="8381880" cy="1905120"/>
          </a:xfrm>
          <a:prstGeom prst="rect">
            <a:avLst/>
          </a:prstGeom>
          <a:solidFill>
            <a:srgbClr val="cbfac0"/>
          </a:solidFill>
          <a:ln w="9360">
            <a:solidFill>
              <a:srgbClr val="cbfac0"/>
            </a:solidFill>
            <a:miter/>
          </a:ln>
          <a:effectLst>
            <a:outerShdw dist="17819" dir="2700000" blurRad="0" rotWithShape="0">
              <a:srgbClr val="80f7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762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c60c"/>
                </a:solidFill>
                <a:latin typeface="Times New Roman"/>
              </a:rPr>
              <a:t>Шов «петля вприкреп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495680" cy="2867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4869000"/>
            <a:ext cx="4114800" cy="1771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16360" y="4869000"/>
            <a:ext cx="4095720" cy="1771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378400" y="234936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3657600"/>
            <a:ext cx="4419360" cy="297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8580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99"/>
                </a:solidFill>
                <a:latin typeface="Times New Roman"/>
              </a:rPr>
              <a:t>Шов «вытянутый стежок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99"/>
                </a:solidFill>
                <a:latin typeface="Times New Roman"/>
              </a:rPr>
              <a:t>с завитком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4067280" cy="1666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4267440" cy="279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438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1280" y="3276720"/>
            <a:ext cx="4724640" cy="327636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99"/>
                </a:solidFill>
                <a:latin typeface="Times New Roman"/>
              </a:rPr>
              <a:t>Роза, сплетенная «паутинкой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133360" cy="5638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08360" y="3357720"/>
            <a:ext cx="4419720" cy="3095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564000" y="1628640"/>
            <a:ext cx="47242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1752480"/>
            <a:ext cx="43434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352680"/>
            <a:ext cx="4343400" cy="2971800"/>
          </a:xfrm>
          <a:prstGeom prst="rect">
            <a:avLst/>
          </a:pr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762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0ae6a"/>
                </a:solidFill>
                <a:latin typeface="Times New Roman"/>
              </a:rPr>
              <a:t>Шов «Узелки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4191120" cy="1200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64000" y="1197000"/>
            <a:ext cx="3581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762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c60c"/>
                </a:solidFill>
                <a:latin typeface="Times New Roman"/>
              </a:rPr>
              <a:t>Декорирование издел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1790640" cy="4686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340000" y="14130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924360" y="3284640"/>
            <a:ext cx="1838160" cy="2133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16360" y="148428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979640" y="49528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308720" y="1197000"/>
            <a:ext cx="1791000" cy="4686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5292720" y="5010120"/>
            <a:ext cx="2133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85800"/>
            <a:ext cx="8686800" cy="6172200"/>
          </a:xfrm>
          <a:prstGeom prst="rect">
            <a:avLst/>
          </a:prstGeom>
          <a:solidFill>
            <a:srgbClr val="c3e684"/>
          </a:solidFill>
          <a:ln w="9360">
            <a:solidFill>
              <a:srgbClr val="c3e6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8076960" cy="285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С давних времен узкие полоски ткани применялись в повседневной жизни людей.Уже в Древней Греции женщины украшали прически и одежду узкими полосками ткани. В средние века лентами уже декорировали спинки стульев и балдахины, а также подвязывали тяжелые занавес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 14 веке начало расширяться бытовое применение шелковых лент. Ими украшали не только одежду, но и обувь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0560" y="90792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68920" y="907920"/>
            <a:ext cx="4267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4120"/>
            <a:ext cx="8534520" cy="1371600"/>
          </a:xfrm>
          <a:prstGeom prst="rect">
            <a:avLst/>
          </a:pr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990720"/>
            <a:ext cx="541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b5249"/>
                </a:solidFill>
                <a:latin typeface="Times New Roman"/>
              </a:rPr>
              <a:t>В эпоху Рококо стилем французского двора стало легкомыслие. Король Людовик </a:t>
            </a: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XV</a:t>
            </a:r>
            <a:r>
              <a:rPr b="1" i="1" lang="ru-RU" sz="1800" spc="-1" strike="noStrike">
                <a:solidFill>
                  <a:srgbClr val="5b5249"/>
                </a:solidFill>
                <a:latin typeface="Times New Roman"/>
              </a:rPr>
              <a:t> любил вышивать и часто дарил придворным дамам милые безделушки, изготовленные им самим. Платья и костюмы богато украшались лентами. Именно в это время появилась вышивка шелковыми лентами. Сначала знатные дамы стали украшать свои платья мелкими розочками «а ля рококо», множеством разбросанных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505320"/>
            <a:ext cx="8381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b5249"/>
                </a:solidFill>
                <a:latin typeface="Times New Roman"/>
              </a:rPr>
              <a:t>листьев с жемчужинами и хрусталиками.  «Поставщики королевского двора» с помощью простой иглы и лент создавали настоящие шедевры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b5249"/>
                </a:solidFill>
                <a:latin typeface="Times New Roman"/>
              </a:rPr>
              <a:t>Потом этот вид рукоделия перекочевал в Англию, а оттуда разошелся по всему миру. Наибольшую популярность вышивка шелковыми лентами получила в 70 – е годы  19 столетия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281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76720" y="5373720"/>
            <a:ext cx="2819160" cy="120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084720" y="5373720"/>
            <a:ext cx="28195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7621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f773"/>
                </a:solidFill>
                <a:latin typeface="Times New Roman"/>
              </a:rPr>
              <a:t>Инструменты и материал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1447920"/>
            <a:ext cx="54864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ля вышивания применяются разные иглы: тонкие – для легких тканей, толстые – для плотных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и шитье шелковой лентой используются острые иглы с удлиненным ушком для легкого вдевания ленты. Для лент шириной 7, 9, 12 миллиметров подбирают иглы для вышивания № 18, 20 и 22. Для лент шириной 3 миллиметра рекомендуется выбрать иглу № 24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695320" cy="508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4508640"/>
            <a:ext cx="2610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29000" y="838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f773"/>
                </a:solidFill>
                <a:latin typeface="Times New Roman"/>
              </a:rPr>
              <a:t>Ленты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676520"/>
            <a:ext cx="57909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екоративные ленты выпускаются из органзы, капрона, искусственного шелка. Атласные ленты прекрасно подходят для вышивки. В продажу поступают ленты различной ширины и цветов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енты ярко – красные, бордовые, темно – зеленые перед работой желательно намочить в теплой воде, так как они при стирке могут полинят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ышитые изделия стираются в теплой воде с мылом и гладятся с изнанки, чтобы вышивка не стала плоско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588000" y="1484280"/>
            <a:ext cx="2343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05320" y="762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f773"/>
                </a:solidFill>
                <a:latin typeface="Times New Roman"/>
              </a:rPr>
              <a:t>Ткани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295280"/>
            <a:ext cx="60199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ля основы при вышивке шелковыми лентами можно использовать самые разнообразные ткани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Хлопчатобумажные ткани : рогожка, двунитка, батист, мадапалам, бяз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ьняные ткани: суровое полотно, холстина, мешковина, тонкое полотно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Шерстяные ткани: креп, твид, шерстяная рогожк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ышивать можно по любой поверхности, лишь бы ткань была прочной и удерживала стежк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907920"/>
            <a:ext cx="2428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bfa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838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ec60c"/>
                </a:solidFill>
                <a:latin typeface="Times New Roman"/>
              </a:rPr>
              <a:t>Виды вышитых фрагменто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371484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51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9880" y="762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ae6a"/>
                </a:solidFill>
                <a:latin typeface="Times New Roman"/>
              </a:rPr>
              <a:t>С чего начать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137160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Чтобы начать работу, возьмите ленту длиной 50 сантиметров, вставьте её в иголку, подогните кончик на несколько миллиметров и вколите иголку по центр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ридерживая ленту одной рукой и подтягивая другой, завяжите узелок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Завязанный таким образом узел называется плоским. В отличие от традиционного, он не увеличивает толщину вышивк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8573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762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f773"/>
                </a:solidFill>
                <a:latin typeface="Times New Roman"/>
              </a:rPr>
              <a:t>Приемы работ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ля начала мы научимся выполнять следующие швы: </a:t>
            </a:r>
            <a:r>
              <a:rPr b="0" lang="ru-RU" sz="2000" spc="-1" strike="noStrike">
                <a:solidFill>
                  <a:srgbClr val="1ec60c"/>
                </a:solidFill>
                <a:latin typeface="Times New Roman"/>
              </a:rPr>
              <a:t>«петля вприкреп» -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для вышивки больших листьев, </a:t>
            </a:r>
            <a:r>
              <a:rPr b="0" lang="ru-RU" sz="2000" spc="-1" strike="noStrike">
                <a:solidFill>
                  <a:srgbClr val="1ec60c"/>
                </a:solidFill>
                <a:latin typeface="Times New Roman"/>
              </a:rPr>
              <a:t>шов «узелки»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для выполнения мелких розочек, </a:t>
            </a:r>
            <a:r>
              <a:rPr b="0" lang="ru-RU" sz="2000" spc="-1" strike="noStrike">
                <a:solidFill>
                  <a:srgbClr val="1ec60c"/>
                </a:solidFill>
                <a:latin typeface="Times New Roman"/>
              </a:rPr>
              <a:t>шов «вытянутый стежок с завитком»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- для листиков, специальный </a:t>
            </a:r>
            <a:r>
              <a:rPr b="0" lang="ru-RU" sz="2000" spc="-1" strike="noStrike">
                <a:solidFill>
                  <a:srgbClr val="1ec60c"/>
                </a:solidFill>
                <a:latin typeface="Times New Roman"/>
              </a:rPr>
              <a:t>шов «паутинка»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для вышивки роз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87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886200"/>
            <a:ext cx="304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ля работы  потребуются пяльцы. Ткань должна быть равномерно натянута.                       Это гарантирует равномерность стежк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2562120" cy="1724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4941720"/>
            <a:ext cx="2562120" cy="1686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227640" y="2924280"/>
            <a:ext cx="2562480" cy="1685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2562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41Z</dcterms:created>
  <dc:creator>ANDREY</dc:creator>
  <dc:description/>
  <dc:language>en-US</dc:language>
  <cp:lastModifiedBy>Саша и Света</cp:lastModifiedBy>
  <dcterms:modified xsi:type="dcterms:W3CDTF">2006-12-21T12:19:24Z</dcterms:modified>
  <cp:revision>72</cp:revision>
  <dc:subject/>
  <dc:title>Презентация PowerPoint</dc:title>
</cp:coreProperties>
</file>