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4FD-A43D-4EE1-8D3E-451BB2C7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939-CDF2-4B6E-BA2C-34E6222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078-D444-4750-A72D-42A7A667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736-F0B9-432D-A3E2-5A6073C9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D22E-8F6E-4BD7-AD07-67F77E2C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E315-48D3-4E2E-B6A7-D3A467B4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BDA8-5E48-49A1-A9EB-7ABBE49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E1F-E1A8-4038-93EA-9164E8A2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C41B-6F92-4C23-9ABA-F2195672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A0B-7AEC-4C33-81E5-D85A66D5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EECD-3403-49BE-877A-4E8089C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445-81E1-4E9C-BC4C-8B6D97C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4525-5383-4C6D-8101-00BE4A7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13F-3E5B-43BF-9BBD-2092A42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648-B1CC-4472-A3E8-D471354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EDD5-3EC8-44EA-9D94-910B32BB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B13-FC60-4D2D-8CAE-01ECF5D3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5AE-1B4D-4479-B125-FFD9C5C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3FE-7484-4E33-8BE7-489CB40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6E6-396A-4067-AC0F-364C8336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8FE-5EC4-4193-AB36-F489E83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2E-83C1-46A0-BDEF-6155EA7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253-FE0F-449C-8EF1-C8B92AA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42E-4405-4ACD-8A18-017CF98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EE4-60AD-4013-B1EE-64D894B8CCA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9A71-D69F-4F11-B5CF-9CD6035DB5F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838080"/>
            <a:ext cx="5181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Вышивка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шелковыми лентам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c164"/>
                </a:solidFill>
                <a:latin typeface="Times New Roman"/>
              </a:rPr>
              <a:t>Урок перв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4267440" cy="321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486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600200"/>
            <a:ext cx="4648320" cy="3124080"/>
          </a:xfrm>
          <a:prstGeom prst="rect">
            <a:avLst/>
          </a:prstGeom>
          <a:solidFill>
            <a:srgbClr val="cbfac0"/>
          </a:solid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800600"/>
            <a:ext cx="8381880" cy="1905120"/>
          </a:xfrm>
          <a:prstGeom prst="rect">
            <a:avLst/>
          </a:prstGeom>
          <a:solidFill>
            <a:srgbClr val="cbfac0"/>
          </a:solidFill>
          <a:ln w="9360">
            <a:solidFill>
              <a:srgbClr val="cbfac0"/>
            </a:solidFill>
            <a:miter/>
          </a:ln>
          <a:effectLst>
            <a:outerShdw dist="17819" dir="2700000" blurRad="0" rotWithShape="0">
              <a:srgbClr val="80f7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762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Шов «петля вприкреп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495680" cy="2867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4869000"/>
            <a:ext cx="4114800" cy="1771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4095720" cy="177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78400" y="234936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3657600"/>
            <a:ext cx="4419360" cy="297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8580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99"/>
                </a:solidFill>
                <a:latin typeface="Times New Roman"/>
              </a:rPr>
              <a:t>Шов «вытянутый стежо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99"/>
                </a:solidFill>
                <a:latin typeface="Times New Roman"/>
              </a:rPr>
              <a:t>с завитк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4067280" cy="1666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4267440" cy="27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438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1280" y="3276720"/>
            <a:ext cx="4724640" cy="3276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99"/>
                </a:solidFill>
                <a:latin typeface="Times New Roman"/>
              </a:rPr>
              <a:t>Роза, сплетенная «паутинкой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133360" cy="5638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08360" y="3357720"/>
            <a:ext cx="4419720" cy="3095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564000" y="1628640"/>
            <a:ext cx="47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1752480"/>
            <a:ext cx="43434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352680"/>
            <a:ext cx="4343400" cy="2971800"/>
          </a:xfrm>
          <a:prstGeom prst="rect">
            <a:avLst/>
          </a:pr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0ae6a"/>
                </a:solidFill>
                <a:latin typeface="Times New Roman"/>
              </a:rPr>
              <a:t>Шов «Узелки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4191120" cy="1200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64000" y="1197000"/>
            <a:ext cx="3581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Декорирование издел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1790640" cy="4686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340000" y="14130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1838160" cy="213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16360" y="148428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979640" y="49528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1791000" cy="4686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292720" y="5010120"/>
            <a:ext cx="2133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85800"/>
            <a:ext cx="8686800" cy="6172200"/>
          </a:xfrm>
          <a:prstGeom prst="rect">
            <a:avLst/>
          </a:prstGeom>
          <a:solidFill>
            <a:srgbClr val="c3e684"/>
          </a:solidFill>
          <a:ln w="9360">
            <a:solidFill>
              <a:srgbClr val="c3e6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8076960" cy="285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 давних времен узкие полоски ткани применялись в повседневной жизни людей.Уже в Древней Греции женщины украшали прически и одежду узкими полосками ткани. В средние века лентами уже декорировали спинки стульев и балдахины, а также подвязывали тяжелые занавес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 14 веке начало расширяться бытовое применение шелковых лент. Ими украшали не только одежду, но и обувь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0560" y="90792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68920" y="907920"/>
            <a:ext cx="426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4120"/>
            <a:ext cx="8534520" cy="1371600"/>
          </a:xfrm>
          <a:prstGeom prst="rect">
            <a:avLst/>
          </a:pr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990720"/>
            <a:ext cx="541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В эпоху Рококо стилем французского двора стало легкомыслие. Король Людовик </a:t>
            </a: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XV</a:t>
            </a: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 любил вышивать и часто дарил придворным дамам милые безделушки, изготовленные им самим. Платья и костюмы богато украшались лентами. Именно в это время появилась вышивка шелковыми лентами. Сначала знатные дамы стали украшать свои платья мелкими розочками «а ля рококо», множеством разбросанных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05320"/>
            <a:ext cx="8381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листьев с жемчужинами и хрусталиками.  «Поставщики королевского двора» с помощью простой иглы и лент создавали настоящие шедевры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Потом этот вид рукоделия перекочевал в Англию, а оттуда разошелся по всему миру. Наибольшую популярность вышивка шелковыми лентами получила в 70 – е годы  19 столетия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281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5373720"/>
            <a:ext cx="2819160" cy="120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84720" y="5373720"/>
            <a:ext cx="28195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762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f773"/>
                </a:solidFill>
                <a:latin typeface="Times New Roman"/>
              </a:rPr>
              <a:t>Инструменты и материал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447920"/>
            <a:ext cx="54864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вышивания применяются разные иглы: тонкие – для легких тканей, толстые – для плотных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и шитье шелковой лентой используются острые иглы с удлиненным ушком для легкого вдевания ленты. Для лент шириной 7, 9, 12 миллиметров подбирают иглы для вышивания № 18, 20 и 22. Для лент шириной 3 миллиметра рекомендуется выбрать иглу № 24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695320" cy="50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261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f773"/>
                </a:solidFill>
                <a:latin typeface="Times New Roman"/>
              </a:rPr>
              <a:t>Лент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76520"/>
            <a:ext cx="5790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екоративные ленты выпускаются из органзы, капрона, искусственного шелка. Атласные ленты прекрасно подходят для вышивки. В продажу поступают ленты различной ширины и цвет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енты ярко – красные, бордовые, темно – зеленые перед работой желательно намочить в теплой воде, так как они при стирке могут полинят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шитые изделия стираются в теплой воде с мылом и гладятся с изнанки, чтобы вышивка не стала плоско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88000" y="1484280"/>
            <a:ext cx="2343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05320" y="762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f773"/>
                </a:solidFill>
                <a:latin typeface="Times New Roman"/>
              </a:rPr>
              <a:t>Ткан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95280"/>
            <a:ext cx="60199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ля основы при вышивке шелковыми лентами можно использовать самые разнообразные ткани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Хлопчатобумажные ткани : рогожка, двунитка, батист, мадапалам, бяз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ьняные ткани: суровое полотно, холстина, мешковина, тонкое полотно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Шерстяные ткани: креп, твид, шерстяная рогож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шивать можно по любой поверхности, лишь бы ткань была прочной и удерживала стежк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907920"/>
            <a:ext cx="2428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838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c60c"/>
                </a:solidFill>
                <a:latin typeface="Times New Roman"/>
              </a:rPr>
              <a:t>Виды вышитых фрагмент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371484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51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9880" y="762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ae6a"/>
                </a:solidFill>
                <a:latin typeface="Times New Roman"/>
              </a:rPr>
              <a:t>С чего начать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13716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Чтобы начать работу, возьмите ленту длиной 50 сантиметров, вставьте её в иголку, подогните кончик на несколько миллиметров и вколите иголку по центр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ридерживая ленту одной рукой и подтягивая другой, завяжите узелок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вязанный таким образом узел называется плоским. В отличие от традиционного, он не увеличивает толщину вышивк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857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f773"/>
                </a:solidFill>
                <a:latin typeface="Times New Roman"/>
              </a:rPr>
              <a:t>Приемы работ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начала мы научимся выполнять следующие швы: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«петля вприкреп» -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шивки больших листьев,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узелки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полнения мелких розочек,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вытянутый стежок с завитком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- для листиков, специальный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паутинка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шивки роз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87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88620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работы  потребуются пяльцы. Ткань должна быть равномерно натянута.                       Это гарантирует равномерность стежк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562120" cy="1724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4941720"/>
            <a:ext cx="2562120" cy="1686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562480" cy="168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2562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41Z</dcterms:created>
  <dc:creator>ANDREY</dc:creator>
  <dc:description/>
  <dc:language>en-US</dc:language>
  <cp:lastModifiedBy>Саша и Света</cp:lastModifiedBy>
  <dcterms:modified xsi:type="dcterms:W3CDTF">2006-12-21T12:19:24Z</dcterms:modified>
  <cp:revision>72</cp:revision>
  <dc:subject/>
  <dc:title>Презентация PowerPoint</dc:title>
</cp:coreProperties>
</file>