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1352-439F-4854-9449-916D1052DFD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C5E3-71EB-4DFA-8C17-89A3A2F94FC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BC98-CC89-481E-945F-7DD757D2F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BE23-02A9-4193-AD6A-FB025B0D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4BE0-E0CD-4F29-AB48-8027508FA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710F-FB10-4CC2-ABAB-F5D685B3C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492E-7048-44F9-ACAD-D4CF59B9E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C3E3-F1D7-484C-AA46-A5BEE420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4904-C152-468A-8725-0E179F24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B9E8-9B28-43C8-815F-01AA3D3B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7150-4479-4D10-8B54-946831D8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47D6-BBC4-4426-9D68-BC0FC29B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D2B7-F3EB-4E87-A7B3-77B7473D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E7D4-54EB-4C90-B03A-0A655AD8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B46C-DA4B-4469-A5E8-43571B3E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A051-B547-4E54-A74D-5B9521C0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0E3E-FE9F-4243-B354-C9F419E9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4004-0A58-4BDF-814E-68EC7899B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5767-C7FE-4B53-971A-D75AA4E16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CF31-DEC4-41ED-818D-2D650133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65F3-FA99-4F0F-B8A3-B88EFC28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5ABB-1BA0-496D-A2CD-CBE576F7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FEE3-67FC-46B3-8175-0239F641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3BF8-BAD5-46DB-9A6D-CFE12872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00AB-6E55-4014-9B41-E8D4CCEF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CE72-D07F-449F-AA1B-463F73A7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B904-70F3-4BB6-B98C-7820D95B481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6B4E-624A-4F4B-8F84-F3ACD24DD257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811692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Муниципальное автономное общеобразовательное учреждение </a:t>
            </a:r>
            <a:br>
              <a:rPr sz="2000"/>
            </a:br>
            <a:r>
              <a:rPr b="1" lang="ru-RU" sz="20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средняя общеобразовательная школа №1 г. Немана          </a:t>
            </a:r>
            <a:br>
              <a:rPr sz="2000"/>
            </a:br>
            <a:r>
              <a:rPr b="1" lang="ru-RU" sz="20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  ступень ДОО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1773000"/>
            <a:ext cx="896472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c1c1c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 по тем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семьи и ДОО по формированию у детей духовно-нравственных ценностей, воспитание нравственно-патриотических чувств, уважения к старшему поколению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Н. Бразлаускене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высшей категори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н 2015 год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7280" y="476280"/>
            <a:ext cx="777744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– маленький мир в жизни малыша, ступень, новый этап, к которому важно подготовиться как ребенку, так и родителям. Придя в детский сад, первыми знакомятся с воспитателями именно родители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3500280"/>
          <a:ext cx="8640720" cy="1895760"/>
        </p:xfrm>
        <a:graphic>
          <a:graphicData uri="http://schemas.openxmlformats.org/drawingml/2006/table">
            <a:tbl>
              <a:tblPr/>
              <a:tblGrid>
                <a:gridCol w="1439640"/>
                <a:gridCol w="1513080"/>
                <a:gridCol w="1008000"/>
                <a:gridCol w="976320"/>
                <a:gridCol w="1235160"/>
                <a:gridCol w="1028520"/>
                <a:gridCol w="1440000"/>
              </a:tblGrid>
              <a:tr h="189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 роди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 роди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детей в се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семь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ы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ейные увле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</a:tbl>
          </a:graphicData>
        </a:graphic>
      </p:graphicFrame>
      <p:sp>
        <p:nvSpPr>
          <p:cNvPr id="127" name="Прямоугольник 6"/>
          <p:cNvSpPr/>
          <p:nvPr/>
        </p:nvSpPr>
        <p:spPr>
          <a:xfrm>
            <a:off x="2150640" y="2349360"/>
            <a:ext cx="450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й паспорт (образец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755280" y="189000"/>
            <a:ext cx="83883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нициативе родителей нами были организованы экскурсии в  городской краеведческий музе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3" descr="E:\фотографии\IMG_0378.JPG"/>
          <p:cNvPicPr/>
          <p:nvPr/>
        </p:nvPicPr>
        <p:blipFill>
          <a:blip r:embed="rId1"/>
          <a:stretch/>
        </p:blipFill>
        <p:spPr>
          <a:xfrm>
            <a:off x="1258920" y="1844640"/>
            <a:ext cx="608472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83628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стоянн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ма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уховно-нравственному воспитанию дошкольников, на основе сотрудничества семьи и детского сада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 положительный результа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79440" y="1484280"/>
            <a:ext cx="8764560" cy="33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ложно изменить мир, но если ты хочешь этого – начни меняться сам»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82600" y="1628280"/>
            <a:ext cx="7772400" cy="3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Users\Public\Pictures\Sample Pictures\687094274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-243360"/>
            <a:ext cx="77040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Россия переживает один из непростых исторических периодов. И самая большая опасность, подстерегающая наше общество сегодня, - не в кризисе экономики, не в смене политической системы, а в разрушении личности.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Picture 3" descr="E:\фотографии\IMG_0379.JPG"/>
          <p:cNvPicPr/>
          <p:nvPr/>
        </p:nvPicPr>
        <p:blipFill>
          <a:blip r:embed="rId1"/>
          <a:stretch/>
        </p:blipFill>
        <p:spPr>
          <a:xfrm>
            <a:off x="3419640" y="2565360"/>
            <a:ext cx="54370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971280" y="836640"/>
            <a:ext cx="8172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ошкольное детство - это период усвоения норм морали и социальных способов повед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3" descr="E:\фотографии\IMG_0282.JPG"/>
          <p:cNvPicPr/>
          <p:nvPr/>
        </p:nvPicPr>
        <p:blipFill>
          <a:blip r:embed="rId1"/>
          <a:stretch/>
        </p:blipFill>
        <p:spPr>
          <a:xfrm>
            <a:off x="395280" y="1844640"/>
            <a:ext cx="85215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26560" y="189000"/>
            <a:ext cx="8055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должны всецело поддержать институты, которые являются носителями традиционных ценностей, которые исторически доказали свою способность передавать их из поколения в поколени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ршем дошкольном возрасте  происходит начало осознанного восприятия мир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3" descr="E:\фотографии\IMG_0287.JPG"/>
          <p:cNvPicPr/>
          <p:nvPr/>
        </p:nvPicPr>
        <p:blipFill>
          <a:blip r:embed="rId1"/>
          <a:stretch/>
        </p:blipFill>
        <p:spPr>
          <a:xfrm>
            <a:off x="1116000" y="2637000"/>
            <a:ext cx="69073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1280" y="0"/>
            <a:ext cx="8712360" cy="112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мы подразумеваем под духовно - нравственным воспитанием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360" y="1915920"/>
            <a:ext cx="320364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16" name="Picture 4" descr="E:\фотографии\IMG_0383.JPG"/>
          <p:cNvPicPr/>
          <p:nvPr/>
        </p:nvPicPr>
        <p:blipFill>
          <a:blip r:embed="rId1"/>
          <a:stretch/>
        </p:blipFill>
        <p:spPr>
          <a:xfrm>
            <a:off x="1258920" y="1125360"/>
            <a:ext cx="72738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810108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щение детей к традиционным для России духовно-нравственным ценностям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ытие духовной одаренности ребенка и его личностных дарований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ация позитивных, гармоничных, отношений ребенка к социальному миру взрослых и сверстников, к окружающей среде, к семье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гражданского самосознания, любви к Родине и русскому народу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а и укрепление душевного, духовного и физического здоровья детей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одухотворенного игрового и образовательного пространства жизнедеятельности ребен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3653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mbria"/>
              <a:ea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6560" y="476280"/>
            <a:ext cx="8137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ление личности ребенка происходит изначально в семье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2" descr="C:\Users\админ\Desktop\МАМА\Новая папка\images (2).jpg"/>
          <p:cNvPicPr/>
          <p:nvPr/>
        </p:nvPicPr>
        <p:blipFill>
          <a:blip r:embed="rId1"/>
          <a:stretch/>
        </p:blipFill>
        <p:spPr>
          <a:xfrm>
            <a:off x="1908000" y="1341360"/>
            <a:ext cx="6480360" cy="52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работы с родителям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ы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ые конкурсы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ые творческие работы детей и родителей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ная проектная деятельнос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уги, праздник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учения родителя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476360" y="259920"/>
            <a:ext cx="7083360" cy="587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нципы работы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опыта родителе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направлен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специфики каждой семь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желатель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ос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6T08:49:32Z</dcterms:created>
  <dc:creator>Бухгалтер</dc:creator>
  <dc:description/>
  <dc:language>en-US</dc:language>
  <cp:lastModifiedBy>л</cp:lastModifiedBy>
  <dcterms:modified xsi:type="dcterms:W3CDTF">2015-10-18T07:25:30Z</dcterms:modified>
  <cp:revision>71</cp:revision>
  <dc:subject/>
  <dc:title>Муниципальное автономное общеобразовательное учреждение средняя общеобразовательная школа №1 г. Немана ступень ДОО</dc:title>
</cp:coreProperties>
</file>