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C88-686C-4965-93C7-6DE7EC40A25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FCF-D9AA-4237-AD6B-6345241658A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AE6-6870-4412-8B4D-E68D21C1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A73-7769-4975-B64C-88D8A40E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D33-5C77-426C-A873-EE6D2C0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A19-EC31-4EC1-9EC8-FC6910B4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A3B-048B-46CB-9B73-8B140BB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237A-EA40-4DF7-9A03-53E8F97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6CC3-BFC8-4E64-B366-211B625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248-2847-411A-B8E5-7374C01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DE6-49E0-4D99-A79F-58A12C1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1222-4DDF-4CF0-9A14-AE30CBF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DAD2-30D4-4364-8BC9-2AE365B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B25-2442-425F-974B-140DC3A5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952-E8C8-465B-97A2-A21FE3F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46AC-60C1-4A05-A14F-CC120DB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61B0-2799-4238-86AB-83606B0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B2F0-A35E-46D6-A9E4-64067D29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BBD1-4751-4F15-9A1C-BFCB22BD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9B2-550F-4DF3-9AA9-A6B3E356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A25-06AF-4793-BFE0-972B424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5BD-284E-460C-BD04-A4E0EFC4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513-4DFF-463E-894B-882C509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981-3C1D-4DCE-BB0E-F08542A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EB7-0BE6-46DC-8C53-0A018BF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B88-D61F-4CDB-AB8A-8AE7ED8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060-CFE0-4616-BB28-C27578E7E52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FCC-8B38-4071-A715-189CA95F6A4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1169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редняя общеобразовательная школа №1 г. Немана          </a:t>
            </a:r>
            <a:br>
              <a:rPr sz="2000"/>
            </a:b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ступень ДОО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773000"/>
            <a:ext cx="8964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тем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емьи и ДОО по формированию у детей духовно-нравственных ценностей, воспитание нравственно-патриотических чувств, уважения к старшему поколению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Н. Бразлауске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высшей категор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н 2015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7744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– маленький мир в жизни малыша, ступень, новый этап, к которому важно подготовиться как ребенку, так и родителям. Придя в детский сад, первыми знакомятся с воспитателями именно родител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3500280"/>
          <a:ext cx="8640720" cy="1895760"/>
        </p:xfrm>
        <a:graphic>
          <a:graphicData uri="http://schemas.openxmlformats.org/drawingml/2006/table">
            <a:tbl>
              <a:tblPr/>
              <a:tblGrid>
                <a:gridCol w="1439640"/>
                <a:gridCol w="1513080"/>
                <a:gridCol w="1008000"/>
                <a:gridCol w="976320"/>
                <a:gridCol w="1235160"/>
                <a:gridCol w="1028520"/>
                <a:gridCol w="1440000"/>
              </a:tblGrid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в се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увле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ик 6"/>
          <p:cNvSpPr/>
          <p:nvPr/>
        </p:nvSpPr>
        <p:spPr>
          <a:xfrm>
            <a:off x="2150640" y="234936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аспорт (образец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55280" y="18900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ициативе родителей нами были организованы экскурсии в  городской краеведческий муз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3" descr="E:\фотографии\IMG_0378.JPG"/>
          <p:cNvPicPr/>
          <p:nvPr/>
        </p:nvPicPr>
        <p:blipFill>
          <a:blip r:embed="rId1"/>
          <a:stretch/>
        </p:blipFill>
        <p:spPr>
          <a:xfrm>
            <a:off x="1258920" y="1844640"/>
            <a:ext cx="60847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836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оян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уховно-нравственному воспитанию дошкольников, на основе сотрудничества семьи и детского сад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положительный результ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9440" y="1484280"/>
            <a:ext cx="876456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но изменить мир, но если ты хочешь этого – начни меняться сам»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2600" y="1628280"/>
            <a:ext cx="777240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Public\Pictures\Sample Pictures\68709427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Россия переживает один из непростых исторических периодов. И самая большая опасность, подстерегающая наше общество сегодня, - не в кризисе экономики, не в смене политической системы, а в разрушении личности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3" descr="E:\фотографии\IMG_0379.JPG"/>
          <p:cNvPicPr/>
          <p:nvPr/>
        </p:nvPicPr>
        <p:blipFill>
          <a:blip r:embed="rId1"/>
          <a:stretch/>
        </p:blipFill>
        <p:spPr>
          <a:xfrm>
            <a:off x="3419640" y="2565360"/>
            <a:ext cx="543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71280" y="836640"/>
            <a:ext cx="817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школьное детство - это период усвоения норм морали и социальных способов повед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3" descr="E:\фотографии\IMG_0282.JPG"/>
          <p:cNvPicPr/>
          <p:nvPr/>
        </p:nvPicPr>
        <p:blipFill>
          <a:blip r:embed="rId1"/>
          <a:stretch/>
        </p:blipFill>
        <p:spPr>
          <a:xfrm>
            <a:off x="395280" y="1844640"/>
            <a:ext cx="8521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560" y="189000"/>
            <a:ext cx="8055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лжны всецело поддержать институты, которые являются носителями традиционных ценностей, которые исторически доказали свою способность передавать их из поколения в покол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шем дошкольном возрасте  происходит начало осознанного восприятия ми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3" descr="E:\фотографии\IMG_0287.JPG"/>
          <p:cNvPicPr/>
          <p:nvPr/>
        </p:nvPicPr>
        <p:blipFill>
          <a:blip r:embed="rId1"/>
          <a:stretch/>
        </p:blipFill>
        <p:spPr>
          <a:xfrm>
            <a:off x="1116000" y="2637000"/>
            <a:ext cx="69073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0"/>
            <a:ext cx="8712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мы подразумеваем под духовно - нравственным воспитанием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32036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4" descr="E:\фотографии\IMG_0383.JPG"/>
          <p:cNvPicPr/>
          <p:nvPr/>
        </p:nvPicPr>
        <p:blipFill>
          <a:blip r:embed="rId1"/>
          <a:stretch/>
        </p:blipFill>
        <p:spPr>
          <a:xfrm>
            <a:off x="1258920" y="1125360"/>
            <a:ext cx="727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810108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к традиционным для России духовно-нравственным ценностя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духовной одаренности ребенка и его личностных даровани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позитивных, гармоничных, отношений ребенка к социальному миру взрослых и сверстников, к окружающей среде, к семь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ражданского самосознания, любви к Родине и русскому народ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душевного, духовного и физического здоровья дете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духотворенного игрового и образовательного пространства жизне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365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mbria"/>
              <a:ea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476280"/>
            <a:ext cx="81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личности ребенка происходит изначально в семь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C:\Users\админ\Desktop\МАМА\Новая папка\images (2).jpg"/>
          <p:cNvPicPr/>
          <p:nvPr/>
        </p:nvPicPr>
        <p:blipFill>
          <a:blip r:embed="rId1"/>
          <a:stretch/>
        </p:blipFill>
        <p:spPr>
          <a:xfrm>
            <a:off x="1908000" y="1341360"/>
            <a:ext cx="648036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конкурс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творческие работы детей и родител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ая 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и, праздни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ения родител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476360" y="259920"/>
            <a:ext cx="7083360" cy="58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нципы работ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пыта род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пецифики каждой семь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8:49:32Z</dcterms:created>
  <dc:creator>Бухгалтер</dc:creator>
  <dc:description/>
  <dc:language>en-US</dc:language>
  <cp:lastModifiedBy>л</cp:lastModifiedBy>
  <dcterms:modified xsi:type="dcterms:W3CDTF">2015-10-18T07:25:30Z</dcterms:modified>
  <cp:revision>71</cp:revision>
  <dc:subject/>
  <dc:title>Муниципальное автономное общеобразовательное учреждение средняя общеобразовательная школа №1 г. Немана ступень ДОО</dc:title>
</cp:coreProperties>
</file>