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9FD-637E-415A-8097-7348942A9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494-F269-4764-917D-A45998598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549-D489-4944-8D00-62B193AFB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8D7-3717-4FDE-9E17-97E736E36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AD8-70BF-4E54-AC8E-D41579D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32F-005D-424F-A59A-9876720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3F2-47D0-4A9F-97D6-7828211C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6C8-B2BC-434A-BEDB-6BB0C568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5E58-FB16-4406-8294-A52BD06D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FF2-1486-4277-B40E-C23E56F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3B0-8CFC-4FFF-A186-73B092E0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C95D-2B1F-42AD-A60E-B6099432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05FC-690D-45D6-87F3-C2B35203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21B-EEF5-43CF-8D70-19E7EC6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CEB6-6C3C-40FB-9010-1759671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000-6D92-4266-B6E4-0201A50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4D4-4DCE-4944-884C-C557B4D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EEA-61C2-4D4E-A336-C92CB35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F436-0C5B-4AAC-AD51-A660930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D5EB-9D59-488D-8DAB-4D1C6BC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AF5A-23FE-4FC0-9EF0-2CCBC1B9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43F-E96F-4DD3-B91D-9A051FF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AE2-32EB-479B-9D08-5E38F08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B7D-07D4-4CDC-AF9E-D0B3F15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32A-F2D5-42FB-853B-4312ECD8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14-2E39-48A1-857D-F1703F7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9D2-B184-4402-946C-CCC33A8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4CD-FC3B-45C2-B80B-8606D69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0DEA-2785-4500-8986-9C8E1C79D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530B-0FB0-4615-B153-178FA28A9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90600" y="1189080"/>
            <a:ext cx="827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одержимое 3"/>
          <p:cNvSpPr/>
          <p:nvPr/>
        </p:nvSpPr>
        <p:spPr>
          <a:xfrm>
            <a:off x="468360" y="0"/>
            <a:ext cx="86756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я прочитала две книги. В одной книге 150 страниц, а в другой 240 страниц. Вторую книгу она читала на 3 дня дольше. Сколько дней Таня читала каждую книгу, если ежедневно прочитывала одинаковое количеств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0 – 15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.) – за 3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584360"/>
                <a:gridCol w="1728720"/>
                <a:gridCol w="3024360"/>
                <a:gridCol w="2411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 1 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д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 ст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378000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3 дн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26836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6588000" y="2852640"/>
            <a:ext cx="2089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0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.) – в 1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0 : 3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н.) – одну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3 = 8 (дн.) – втор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одержимое 2"/>
          <p:cNvSpPr/>
          <p:nvPr/>
        </p:nvSpPr>
        <p:spPr>
          <a:xfrm>
            <a:off x="6804000" y="393372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одержимое 2"/>
          <p:cNvSpPr/>
          <p:nvPr/>
        </p:nvSpPr>
        <p:spPr>
          <a:xfrm>
            <a:off x="399564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резал из бумаги 2 прямоугольника. Длина первого 16 см, ширина 9 см. Чему равна ширина другого прямоугольника с такой же площадью, если его длина на 2 см больше длины перв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одержимое 3"/>
          <p:cNvSpPr/>
          <p:nvPr/>
        </p:nvSpPr>
        <p:spPr>
          <a:xfrm>
            <a:off x="-252360" y="4869000"/>
            <a:ext cx="90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)  16 ∙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4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м²) – площадь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2349360"/>
          <a:ext cx="8424720" cy="2365560"/>
        </p:xfrm>
        <a:graphic>
          <a:graphicData uri="http://schemas.openxmlformats.org/drawingml/2006/table">
            <a:tbl>
              <a:tblPr/>
              <a:tblGrid>
                <a:gridCol w="1525680"/>
                <a:gridCol w="2496960"/>
                <a:gridCol w="1801800"/>
                <a:gridCol w="2600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Шир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Содержимое 2"/>
          <p:cNvSpPr/>
          <p:nvPr/>
        </p:nvSpPr>
        <p:spPr>
          <a:xfrm>
            <a:off x="4932360" y="3933720"/>
            <a:ext cx="185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183528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см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2556000" y="2997360"/>
            <a:ext cx="185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516720" y="342900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4427640" y="2997360"/>
            <a:ext cx="180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3"/>
          <p:cNvSpPr/>
          <p:nvPr/>
        </p:nvSpPr>
        <p:spPr>
          <a:xfrm>
            <a:off x="179280" y="5373720"/>
            <a:ext cx="896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)  16 + 2 = 18 (см) – длина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3"/>
          <p:cNvSpPr/>
          <p:nvPr/>
        </p:nvSpPr>
        <p:spPr>
          <a:xfrm>
            <a:off x="-396720" y="5877000"/>
            <a:ext cx="95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)  144 : 18 =  8 (см) – шир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659640" y="2924280"/>
            <a:ext cx="185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6588000" y="4005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3"/>
          <p:cNvSpPr/>
          <p:nvPr/>
        </p:nvSpPr>
        <p:spPr>
          <a:xfrm>
            <a:off x="-181080" y="1268280"/>
            <a:ext cx="590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00 –    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–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+ 68 =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+ 1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шифруйте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3"/>
          <p:cNvSpPr/>
          <p:nvPr/>
        </p:nvSpPr>
        <p:spPr>
          <a:xfrm>
            <a:off x="2268360" y="2997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5292720" y="5013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12"/>
          <p:cNvSpPr/>
          <p:nvPr/>
        </p:nvSpPr>
        <p:spPr>
          <a:xfrm>
            <a:off x="1908000" y="1268280"/>
            <a:ext cx="576360" cy="648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3276720" y="1341360"/>
            <a:ext cx="57456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611280" y="2276640"/>
            <a:ext cx="5760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5"/>
          <p:cNvSpPr/>
          <p:nvPr/>
        </p:nvSpPr>
        <p:spPr>
          <a:xfrm>
            <a:off x="3203640" y="2133720"/>
            <a:ext cx="647640" cy="57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16"/>
          <p:cNvSpPr/>
          <p:nvPr/>
        </p:nvSpPr>
        <p:spPr>
          <a:xfrm>
            <a:off x="3203640" y="3068640"/>
            <a:ext cx="647640" cy="64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7"/>
          <p:cNvSpPr/>
          <p:nvPr/>
        </p:nvSpPr>
        <p:spPr>
          <a:xfrm>
            <a:off x="611280" y="3933720"/>
            <a:ext cx="647640" cy="57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Шестиугольник 18"/>
          <p:cNvSpPr/>
          <p:nvPr/>
        </p:nvSpPr>
        <p:spPr>
          <a:xfrm>
            <a:off x="3059280" y="4005360"/>
            <a:ext cx="649080" cy="576000"/>
          </a:xfrm>
          <a:prstGeom prst="hexagon">
            <a:avLst>
              <a:gd name="adj" fmla="val 25005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3"/>
          <p:cNvSpPr/>
          <p:nvPr/>
        </p:nvSpPr>
        <p:spPr>
          <a:xfrm>
            <a:off x="900000" y="126828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3"/>
          <p:cNvSpPr/>
          <p:nvPr/>
        </p:nvSpPr>
        <p:spPr>
          <a:xfrm>
            <a:off x="2340000" y="1197000"/>
            <a:ext cx="230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3"/>
          <p:cNvSpPr/>
          <p:nvPr/>
        </p:nvSpPr>
        <p:spPr>
          <a:xfrm>
            <a:off x="-324000" y="2133720"/>
            <a:ext cx="194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3"/>
          <p:cNvSpPr/>
          <p:nvPr/>
        </p:nvSpPr>
        <p:spPr>
          <a:xfrm>
            <a:off x="2484360" y="213372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3"/>
          <p:cNvSpPr/>
          <p:nvPr/>
        </p:nvSpPr>
        <p:spPr>
          <a:xfrm>
            <a:off x="-541440" y="3860640"/>
            <a:ext cx="208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3"/>
          <p:cNvSpPr/>
          <p:nvPr/>
        </p:nvSpPr>
        <p:spPr>
          <a:xfrm>
            <a:off x="2050920" y="3860640"/>
            <a:ext cx="26654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3"/>
          <p:cNvSpPr/>
          <p:nvPr/>
        </p:nvSpPr>
        <p:spPr>
          <a:xfrm>
            <a:off x="0" y="1484280"/>
            <a:ext cx="4140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3  (84) 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 (45) 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3  (    )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3"/>
          <p:cNvSpPr/>
          <p:nvPr/>
        </p:nvSpPr>
        <p:spPr>
          <a:xfrm>
            <a:off x="971640" y="3068640"/>
            <a:ext cx="1728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 неизвест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3"/>
          <p:cNvSpPr/>
          <p:nvPr/>
        </p:nvSpPr>
        <p:spPr>
          <a:xfrm>
            <a:off x="971640" y="3068640"/>
            <a:ext cx="1728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одержимое 3"/>
          <p:cNvSpPr/>
          <p:nvPr/>
        </p:nvSpPr>
        <p:spPr>
          <a:xfrm>
            <a:off x="4284720" y="3357720"/>
            <a:ext cx="3995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 (15)  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0  (24)  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5  (    )  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3"/>
          <p:cNvSpPr/>
          <p:nvPr/>
        </p:nvSpPr>
        <p:spPr>
          <a:xfrm>
            <a:off x="6084720" y="4941720"/>
            <a:ext cx="172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держимое 3"/>
          <p:cNvSpPr/>
          <p:nvPr/>
        </p:nvSpPr>
        <p:spPr>
          <a:xfrm>
            <a:off x="5364000" y="5013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одержимое 3"/>
          <p:cNvSpPr/>
          <p:nvPr/>
        </p:nvSpPr>
        <p:spPr>
          <a:xfrm>
            <a:off x="1042920" y="3333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льва бежали с одинаковой скоростью. Первый пробежал 100м, другой 160м. Второй лев бежал на 3с дольше. Какое время был в пути каждый л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60 – 10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) – бежал 3 секу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2349360"/>
          <a:ext cx="8497800" cy="2446560"/>
        </p:xfrm>
        <a:graphic>
          <a:graphicData uri="http://schemas.openxmlformats.org/drawingml/2006/table">
            <a:tbl>
              <a:tblPr/>
              <a:tblGrid>
                <a:gridCol w="1538280"/>
                <a:gridCol w="2028960"/>
                <a:gridCol w="2770200"/>
                <a:gridCol w="216036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/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399564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3 с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/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659640" y="299736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3"/>
          <p:cNvSpPr/>
          <p:nvPr/>
        </p:nvSpPr>
        <p:spPr>
          <a:xfrm>
            <a:off x="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/с) –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0 : 2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) – бежал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60 : 20 = 8 (с) – бежал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659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4284720" y="292428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одержимое 3"/>
          <p:cNvSpPr/>
          <p:nvPr/>
        </p:nvSpPr>
        <p:spPr>
          <a:xfrm>
            <a:off x="1042920" y="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шофёр сделал за день 5 рейсов, другой 3 рейса. В каждый рейс перевозили зерна поровну. Первый шофёр перевёз на 20 т больше, чем второй. Сколько зерна перевёз каждый шофё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–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перевезено 20 тон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 1 рей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то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6084720" y="2924280"/>
            <a:ext cx="3313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0 т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) – за 1 р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∙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) – перевёз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+ 20 = 80 (т) – перевёз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516720" y="3860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одержимое 3"/>
          <p:cNvSpPr/>
          <p:nvPr/>
        </p:nvSpPr>
        <p:spPr>
          <a:xfrm>
            <a:off x="1042920" y="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зоопарке 9 гадюк, во втором 12 гадюк. У каждой из них одинаковое количество детёнышей, но во втором зоопарке их на 15 больше. Сколько детёнышей гадюк в каждом зоопа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–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.) – имеют 15 детёны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297080"/>
                <a:gridCol w="237492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 1 гадю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г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д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156360" y="386064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15 д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.) – у 1 гадю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∙ 9 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.) – в 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5 + 15 = 60 (г.) –во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6372360" y="292428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день туристы прошли 54 км, во второй 36 км. В первый день они были в пути на 2 ч больше, чем во второй. Сколько часов туристы были  в пути каждый день, если они шли с одинаковой скорост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4 – 36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м) – за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349360"/>
          <a:ext cx="8353440" cy="2446560"/>
        </p:xfrm>
        <a:graphic>
          <a:graphicData uri="http://schemas.openxmlformats.org/drawingml/2006/table">
            <a:tbl>
              <a:tblPr/>
              <a:tblGrid>
                <a:gridCol w="1998720"/>
                <a:gridCol w="1601640"/>
                <a:gridCol w="2664000"/>
                <a:gridCol w="20890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/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4067280" y="306864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 ч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241128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/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6659640" y="306864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8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м/ч) –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6 :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ч) – во второ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-252360" y="6021360"/>
            <a:ext cx="705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 + 2 = 6 (ч) – в пер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6732720" y="4076640"/>
            <a:ext cx="2087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4356000" y="4005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3"/>
          <p:cNvSpPr/>
          <p:nvPr/>
        </p:nvSpPr>
        <p:spPr>
          <a:xfrm>
            <a:off x="0" y="785880"/>
            <a:ext cx="8964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4 кг капусты и 9 кг картошки по одинаковой цене. За картошку она заплатила на 15 руб. больше. Сколько стоила вся покуп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3"/>
          <p:cNvSpPr/>
          <p:nvPr/>
        </p:nvSpPr>
        <p:spPr>
          <a:xfrm>
            <a:off x="-46836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– 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г) – стоят 15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2349360"/>
          <a:ext cx="8569440" cy="2424240"/>
        </p:xfrm>
        <a:graphic>
          <a:graphicData uri="http://schemas.openxmlformats.org/drawingml/2006/table">
            <a:tbl>
              <a:tblPr/>
              <a:tblGrid>
                <a:gridCol w="2050920"/>
                <a:gridCol w="1765440"/>
                <a:gridCol w="1728720"/>
                <a:gridCol w="3024360"/>
              </a:tblGrid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Ц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Содержимое 2"/>
          <p:cNvSpPr/>
          <p:nvPr/>
        </p:nvSpPr>
        <p:spPr>
          <a:xfrm>
            <a:off x="2627280" y="407664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867280" y="3789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15р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572000" y="386064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одержимое 2"/>
          <p:cNvSpPr/>
          <p:nvPr/>
        </p:nvSpPr>
        <p:spPr>
          <a:xfrm>
            <a:off x="262728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4572000" y="306864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6156360" y="306864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авая фигурная скобка 19"/>
          <p:cNvSpPr/>
          <p:nvPr/>
        </p:nvSpPr>
        <p:spPr>
          <a:xfrm>
            <a:off x="8317080" y="2997360"/>
            <a:ext cx="571320" cy="180000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800000"/>
              <a:gd name="textAreaBottom" fmla="*/ 1785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6"/>
                  <a:pt x="10800" y="571"/>
                </a:cubicBezTo>
                <a:lnTo>
                  <a:pt x="10800" y="10229"/>
                </a:lnTo>
                <a:cubicBezTo>
                  <a:pt x="10800" y="10515"/>
                  <a:pt x="16200" y="10800"/>
                  <a:pt x="21600" y="10800"/>
                </a:cubicBezTo>
                <a:cubicBezTo>
                  <a:pt x="16200" y="10800"/>
                  <a:pt x="10800" y="11086"/>
                  <a:pt x="10800" y="11371"/>
                </a:cubicBezTo>
                <a:lnTo>
                  <a:pt x="10800" y="21029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3"/>
          <p:cNvSpPr/>
          <p:nvPr/>
        </p:nvSpPr>
        <p:spPr>
          <a:xfrm>
            <a:off x="-468360" y="5229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: 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цена 1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3"/>
          <p:cNvSpPr/>
          <p:nvPr/>
        </p:nvSpPr>
        <p:spPr>
          <a:xfrm>
            <a:off x="-541440" y="5732640"/>
            <a:ext cx="868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∙ 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стоит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3"/>
          <p:cNvSpPr/>
          <p:nvPr/>
        </p:nvSpPr>
        <p:spPr>
          <a:xfrm>
            <a:off x="5076720" y="4797360"/>
            <a:ext cx="40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∙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7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3"/>
          <p:cNvSpPr/>
          <p:nvPr/>
        </p:nvSpPr>
        <p:spPr>
          <a:xfrm>
            <a:off x="5076720" y="5300640"/>
            <a:ext cx="4067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 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+ 27 </a:t>
            </a:r>
            <a:r>
              <a:rPr b="1" lang="en-US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9 </a:t>
            </a:r>
            <a:r>
              <a:rPr b="1" lang="en-US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7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87768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1330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ух книжных шкафах на каждой полке одинаковое количество книг. В первом шк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олок, во втором – 10 полок  и на 50 книг больше, чем в первом шкафу. Сколько книг в каждом шкаф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– 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) – вмещают 50 кн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а 1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к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одержимое 2"/>
          <p:cNvSpPr/>
          <p:nvPr/>
        </p:nvSpPr>
        <p:spPr>
          <a:xfrm>
            <a:off x="601200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50 кн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одержимое 2"/>
          <p:cNvSpPr/>
          <p:nvPr/>
        </p:nvSpPr>
        <p:spPr>
          <a:xfrm>
            <a:off x="226836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0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н.) – одна п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5 ∙ 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н.) – в первом шк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0 + 50 = 250 (кн.) – во втором шк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300720" y="2997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Светлана</cp:lastModifiedBy>
  <dcterms:modified xsi:type="dcterms:W3CDTF">2014-07-28T09:25:03Z</dcterms:modified>
  <cp:revision>114</cp:revision>
  <dc:subject/>
  <dc:title>Слайд 1</dc:title>
</cp:coreProperties>
</file>