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7FBC-96B5-415E-A659-654B86E1F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ED8-C23D-4575-9F27-3C17C43E9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709-B235-4B2A-9326-61BE5A1F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D72-5E85-4F36-A2D6-E470D817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ECF-D474-4F83-973D-9EDC3138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BB1-7766-4BD5-9397-9D967C26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FFB5-51EF-4F60-8521-330C03C7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4940-B903-48E7-B6D0-320DC62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078-552A-4505-8A27-579E4A9B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224-A86E-4AFA-842C-003E071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DBF-7F4D-46A4-8E4A-8C125CE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D35-B346-40CF-B675-222622BD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522-BD82-4232-BDF5-DCFEF25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9A1-7F9F-441D-BB32-090353A8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A821-47C4-476F-91BD-8F81726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DE85-FB1C-45CB-A4D2-139C8B39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8ECB-583C-4AC9-9EC8-CDFC9B1A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C8E6-6DA0-4166-B2E5-ECE60DFD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C8B8-E2EE-47F2-986F-3DFBEEF2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F4F-F110-428B-A9DA-33653BDB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5F0-6E6E-422B-B2C4-FE5849D7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D1D-2CF1-4D0C-BF8E-E364051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CC3-18ED-419E-961A-FA5C69A2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A7C-3E50-442B-B838-4F62E2B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2F5-00FB-45FF-97B3-80DA13F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EF7-FA46-4C21-9B51-B27206E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B4D-BBF7-4FBB-B057-7921065A2110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6320"/>
                <a:ext cx="7542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360" y="1545120"/>
                <a:ext cx="5760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9600" y="1983960"/>
                <a:ext cx="41796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8040"/>
              <a:chOff x="5411880" y="1791360"/>
              <a:chExt cx="508320" cy="51804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280" y="188640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2520" y="211932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408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8320" y="192636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520" y="111132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2FC-6167-4FA0-8ABC-1682546DC4E0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108000" y="18900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«Зеленый лучок на подоконни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rebuchet MS"/>
              </a:rPr>
              <a:t>средняя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&amp;Mcy;&amp;acy;&amp;scy;&amp;tcy;&amp;iecy;&amp;rcy; &amp;khcy;&amp;iecy;&amp;ncy;&amp;dcy; &amp;mcy;&amp;iecy;&amp;jcy;&amp;dcy; &amp;IEcy;&amp;vcy;&amp;gcy;&amp;iecy;&amp;ncy;&amp;icy;&amp;yacy; &amp;Gcy;&amp;rcy;&amp;ocy;&amp;mcy;&amp;ycy;&amp;kcy;&amp;ocy;. &amp;Icy;&amp;zcy;&amp;yacy;&amp;shchcy;&amp;ncy;&amp;ycy;&amp;iecy; &amp;zcy;&amp;ocy;&amp;ncy;&amp;tcy;&amp;icy;&amp;kcy;&amp;icy; &amp;icy; &amp;ncy;&amp;iecy; &amp;tcy;&amp;ocy;&amp;lcy;&amp;softcy;&amp;kcy;&amp;ocy;. &amp;Bcy;&amp;lcy;&amp;ocy;&amp;gcy; &amp;Icy;&amp;rcy;&amp;icy;&amp;ncy;&amp;ycy; &amp;Zcy;&amp;acy;&amp;jcy;&amp;tscy;&amp;iecy;&amp;vcy;&amp;ocy;&amp;jcy;"/>
          <p:cNvPicPr/>
          <p:nvPr/>
        </p:nvPicPr>
        <p:blipFill>
          <a:blip r:embed="rId1"/>
          <a:stretch/>
        </p:blipFill>
        <p:spPr>
          <a:xfrm>
            <a:off x="755640" y="2506680"/>
            <a:ext cx="380988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3357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садка лука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1" name="Рисунок 4" descr="C:\Users\User\Desktop\детский сад\АДЕЛЯ\фотографии\104SSCAM\SDC10200.JPG"/>
          <p:cNvPicPr/>
          <p:nvPr/>
        </p:nvPicPr>
        <p:blipFill>
          <a:blip r:embed="rId1"/>
          <a:stretch/>
        </p:blipFill>
        <p:spPr>
          <a:xfrm>
            <a:off x="208080" y="853920"/>
            <a:ext cx="3936960" cy="2151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5293080" y="35712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rebuchet MS"/>
              </a:rPr>
              <a:t>Наблюдение за ростом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C:\Users\User\Desktop\детский сад\АДЕЛЯ\фотографии\104SSCAM\SDC10198.JPG"/>
          <p:cNvPicPr/>
          <p:nvPr/>
        </p:nvPicPr>
        <p:blipFill>
          <a:blip r:embed="rId2"/>
          <a:stretch/>
        </p:blipFill>
        <p:spPr>
          <a:xfrm>
            <a:off x="4749840" y="785880"/>
            <a:ext cx="3763800" cy="2428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3435480" y="3429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rebuchet MS"/>
              </a:rPr>
              <a:t>Поливка л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4" descr="D:\DCIM\104SSCAM\SDC10417.JPG"/>
          <p:cNvPicPr/>
          <p:nvPr/>
        </p:nvPicPr>
        <p:blipFill>
          <a:blip r:embed="rId3"/>
          <a:stretch/>
        </p:blipFill>
        <p:spPr>
          <a:xfrm>
            <a:off x="1643040" y="4000680"/>
            <a:ext cx="5643720" cy="2571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 нам в гости пришел Чиполлино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7" name="Рисунок 4" descr="D:\DCIM\104SSCAM\SDC10419.JPG"/>
          <p:cNvPicPr/>
          <p:nvPr/>
        </p:nvPicPr>
        <p:blipFill>
          <a:blip r:embed="rId1"/>
          <a:stretch/>
        </p:blipFill>
        <p:spPr>
          <a:xfrm>
            <a:off x="1547640" y="1628640"/>
            <a:ext cx="6283440" cy="425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920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накомство с луком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9" name="Рисунок 4" descr="D:\DCIM\104SSCAM\SDC10421.JPG"/>
          <p:cNvPicPr/>
          <p:nvPr/>
        </p:nvPicPr>
        <p:blipFill>
          <a:blip r:embed="rId1"/>
          <a:stretch/>
        </p:blipFill>
        <p:spPr>
          <a:xfrm>
            <a:off x="250920" y="928800"/>
            <a:ext cx="4176720" cy="2881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D:\DCIM\104SSCAM\SDC10423.JPG"/>
          <p:cNvPicPr/>
          <p:nvPr/>
        </p:nvPicPr>
        <p:blipFill>
          <a:blip r:embed="rId2"/>
          <a:stretch/>
        </p:blipFill>
        <p:spPr>
          <a:xfrm>
            <a:off x="4284720" y="3500280"/>
            <a:ext cx="47498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кусный и полезный лук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2" name="Рисунок 4" descr="D:\DCIM\104SSCAM\SDC10465.JPG"/>
          <p:cNvPicPr/>
          <p:nvPr/>
        </p:nvPicPr>
        <p:blipFill>
          <a:blip r:embed="rId1"/>
          <a:stretch/>
        </p:blipFill>
        <p:spPr>
          <a:xfrm>
            <a:off x="179280" y="106992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D:\DCIM\104SSCAM\SDC10469.JPG"/>
          <p:cNvPicPr/>
          <p:nvPr/>
        </p:nvPicPr>
        <p:blipFill>
          <a:blip r:embed="rId2"/>
          <a:stretch/>
        </p:blipFill>
        <p:spPr>
          <a:xfrm>
            <a:off x="4379760" y="3141720"/>
            <a:ext cx="4751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&amp;Dcy;&amp;ncy;&amp;iecy;&amp;vcy;&amp;ncy;&amp;icy;&amp;kcy; &amp;ocy;&amp;lcy;&amp;softcy;&amp;gcy;&amp;acy;_&amp;khcy;&amp;ocy;&amp;rcy;&amp;ocy;&amp;shcy;&amp;acy;&amp;yacy; : LiveInternet - &amp;Rcy;&amp;ocy;&amp;scy;&amp;scy;&amp;icy;&amp;jcy;&amp;scy;&amp;kcy;&amp;icy;&amp;jcy; &amp;Scy;&amp;iecy;&amp;rcy;&amp;vcy;&amp;icy;&amp;scy; &amp;Ocy;&amp;ncy;&amp;lcy;…"/>
          <p:cNvPicPr/>
          <p:nvPr/>
        </p:nvPicPr>
        <p:blipFill>
          <a:blip r:embed="rId1"/>
          <a:stretch/>
        </p:blipFill>
        <p:spPr>
          <a:xfrm>
            <a:off x="4716360" y="3537000"/>
            <a:ext cx="4330800" cy="3247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егустация пирожков с луком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6" name="Picture 4" descr="&amp;Pcy;&amp;icy;&amp;rcy;&amp;ocy;&amp;zhcy;&amp;kcy;&amp;icy; &amp;scy; &amp;lcy;&amp;ucy;&amp;kcy;&amp;ocy;&amp;mcy; &amp;icy; &amp;yacy;&amp;jcy;&amp;tscy;&amp;ocy;&amp;mcy; - &amp;rcy;&amp;iecy;&amp;tscy;&amp;iecy;&amp;pcy;&amp;tcy;"/>
          <p:cNvPicPr/>
          <p:nvPr/>
        </p:nvPicPr>
        <p:blipFill>
          <a:blip r:embed="rId2"/>
          <a:stretch/>
        </p:blipFill>
        <p:spPr>
          <a:xfrm>
            <a:off x="250920" y="1268280"/>
            <a:ext cx="468144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569880" y="1268280"/>
            <a:ext cx="8004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авлова Л.М. Воспитание и обучение детей раннего возраста: Книга для воспитателя детского сада. – М.: Просвещение, 198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ванова А.И. Методика организации экологических наблюдений и экспериментов. – М.: Творческий центр Сфера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нщикова Л.Н. Экспериментальная деятельность детей. – Волгоград: Учитель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горенков Л.И. Экологическое воспитание дошкольников и младших школьников. – М.: Издательство «Аркти»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орыгина Т.А. Зеленые сказки. Экология для малышей. – М.: «Книголюб»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писок использованной литературы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395280" y="785880"/>
            <a:ext cx="842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крет, что дети дошкольного возраста по природе своей исследователи. Неутолимая жажда новых впечатлений, любознательность, постоянное стремление экспериментировать, самостоятельно искать новые сведения о мире, традиционно рассматриваются как важнейшие черты детского поведения. Исследовательская, поисковая активность – естественное состояние ребенка, он настроен на познание мира. Исследовать, открывать, изучать – значит сделать шаг в неизведанное и непозна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азработанного проекта выбрана с учетом возрастных особенностей детей среднего дошкольного возраста и объема информации, которая может быть ими воспринята. Этот детский исследовательский проект ориентирован на приобретение детьми опыта собственной опытно-исследовательской деятельности, осознание детьми своих интересов, формирование умений их реализовывать, приобретение и применение детьми новых знаний в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Заголовок 1"/>
          <p:cNvSpPr/>
          <p:nvPr/>
        </p:nvSpPr>
        <p:spPr>
          <a:xfrm>
            <a:off x="684360" y="71280"/>
            <a:ext cx="784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rebuchet MS"/>
              </a:rPr>
              <a:t>Актуальность проек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9280" y="105228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ение знания детей о том, как создать грядку на подоконнике и ухаживать за луковицами; активизировать у ребенка инициативу, внимание и память, обогащение словарного запаса ребенка, привлечь к работе в проекте детей, воспитателей, и родителей.</a:t>
            </a: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19664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ежедневно ухаживать за луком зимой в комнатных условиях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Формировать представление детей о необходимости света, тепла, влаги почвы для роста луковиц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Фиксировать представление детей об изменениях роста луковиц в стакане воды и в контейнере с почвой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овторение правильного и бережного отношения к природ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ить выполнять индивидуальные и коллективные поручения, научить детей видеть результат своего труда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0560" y="404280"/>
            <a:ext cx="850716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 проекта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периментальный;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есрочный (4 недели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оспитатели, родители, дети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Дети научатся сажать и ухаживать за луком и познакомятся с условиями  его содержания, будут учиться подмечать пользу и красоту зеленого лука зимой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У детей сформируются знания и представления о росте зеленого лука в комнатных условиях, как в контейнере с почвой, так и в стакане с водой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Овал 1"/>
          <p:cNvSpPr/>
          <p:nvPr/>
        </p:nvSpPr>
        <p:spPr>
          <a:xfrm>
            <a:off x="3381480" y="3025800"/>
            <a:ext cx="1989000" cy="712800"/>
          </a:xfrm>
          <a:prstGeom prst="ellipse">
            <a:avLst/>
          </a:prstGeom>
          <a:solidFill>
            <a:srgbClr val="f489cf"/>
          </a:solidFill>
          <a:ln cap="rnd" w="19080">
            <a:solidFill>
              <a:srgbClr val="b363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4310"/>
                </a:solidFill>
                <a:latin typeface="Verdana"/>
              </a:rPr>
              <a:t>Зеленый лучок на подокон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5"/>
          <p:cNvSpPr/>
          <p:nvPr/>
        </p:nvSpPr>
        <p:spPr>
          <a:xfrm>
            <a:off x="61920" y="1779480"/>
            <a:ext cx="220500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позна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Прямая со стрелкой 18"/>
          <p:cNvCxnSpPr>
            <a:stCxn id="180" idx="2"/>
            <a:endCxn id="178" idx="0"/>
          </p:cNvCxnSpPr>
          <p:nvPr/>
        </p:nvCxnSpPr>
        <p:spPr>
          <a:xfrm>
            <a:off x="1153800" y="1569960"/>
            <a:ext cx="11880" cy="2102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81" name="Прямая со стрелкой 21"/>
          <p:cNvCxnSpPr>
            <a:stCxn id="178" idx="4"/>
            <a:endCxn id="177" idx="0"/>
          </p:cNvCxnSpPr>
          <p:nvPr/>
        </p:nvCxnSpPr>
        <p:spPr>
          <a:xfrm>
            <a:off x="1164960" y="2428920"/>
            <a:ext cx="3212280" cy="59760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82" name="Овал 24"/>
          <p:cNvSpPr/>
          <p:nvPr/>
        </p:nvSpPr>
        <p:spPr>
          <a:xfrm>
            <a:off x="4640400" y="4440240"/>
            <a:ext cx="216036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чтение худ.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25"/>
          <p:cNvCxnSpPr>
            <a:stCxn id="182" idx="0"/>
            <a:endCxn id="177" idx="4"/>
          </p:cNvCxnSpPr>
          <p:nvPr/>
        </p:nvCxnSpPr>
        <p:spPr>
          <a:xfrm flipH="1" flipV="1">
            <a:off x="4376160" y="3737880"/>
            <a:ext cx="1345320" cy="7023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84" name="Прямая со стрелкой 30"/>
          <p:cNvCxnSpPr>
            <a:stCxn id="185" idx="0"/>
            <a:endCxn id="182" idx="4"/>
          </p:cNvCxnSpPr>
          <p:nvPr/>
        </p:nvCxnSpPr>
        <p:spPr>
          <a:xfrm flipV="1">
            <a:off x="5715360" y="5088960"/>
            <a:ext cx="3960" cy="3560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86" name="Овал 35"/>
          <p:cNvSpPr/>
          <p:nvPr/>
        </p:nvSpPr>
        <p:spPr>
          <a:xfrm>
            <a:off x="6742080" y="3102120"/>
            <a:ext cx="2158920" cy="6476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рассматривание рису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36"/>
          <p:cNvCxnSpPr>
            <a:stCxn id="186" idx="2"/>
            <a:endCxn id="177" idx="6"/>
          </p:cNvCxnSpPr>
          <p:nvPr/>
        </p:nvCxnSpPr>
        <p:spPr>
          <a:xfrm flipH="1" flipV="1">
            <a:off x="5370120" y="3380760"/>
            <a:ext cx="1372320" cy="4500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88" name="Прямая со стрелкой 40"/>
          <p:cNvCxnSpPr>
            <a:stCxn id="189" idx="2"/>
            <a:endCxn id="186" idx="0"/>
          </p:cNvCxnSpPr>
          <p:nvPr/>
        </p:nvCxnSpPr>
        <p:spPr>
          <a:xfrm>
            <a:off x="7811640" y="2803320"/>
            <a:ext cx="10440" cy="2991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0" name="Овал 44"/>
          <p:cNvSpPr/>
          <p:nvPr/>
        </p:nvSpPr>
        <p:spPr>
          <a:xfrm>
            <a:off x="6904080" y="4440240"/>
            <a:ext cx="216072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твор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45"/>
          <p:cNvCxnSpPr>
            <a:stCxn id="190" idx="0"/>
            <a:endCxn id="177" idx="6"/>
          </p:cNvCxnSpPr>
          <p:nvPr/>
        </p:nvCxnSpPr>
        <p:spPr>
          <a:xfrm flipH="1" flipV="1">
            <a:off x="5369760" y="3380760"/>
            <a:ext cx="2615400" cy="10594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2" name="Прямоугольник 50"/>
          <p:cNvSpPr/>
          <p:nvPr/>
        </p:nvSpPr>
        <p:spPr>
          <a:xfrm>
            <a:off x="6913440" y="5459400"/>
            <a:ext cx="2143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ликация, ри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луч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 стрелкой 51"/>
          <p:cNvCxnSpPr>
            <a:stCxn id="192" idx="0"/>
            <a:endCxn id="190" idx="4"/>
          </p:cNvCxnSpPr>
          <p:nvPr/>
        </p:nvCxnSpPr>
        <p:spPr>
          <a:xfrm flipV="1">
            <a:off x="7984800" y="5088960"/>
            <a:ext cx="1080" cy="3704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4" name="Овал 54"/>
          <p:cNvSpPr/>
          <p:nvPr/>
        </p:nvSpPr>
        <p:spPr>
          <a:xfrm>
            <a:off x="6523200" y="1549440"/>
            <a:ext cx="2124000" cy="6476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55"/>
          <p:cNvCxnSpPr>
            <a:stCxn id="194" idx="2"/>
            <a:endCxn id="177" idx="0"/>
          </p:cNvCxnSpPr>
          <p:nvPr/>
        </p:nvCxnSpPr>
        <p:spPr>
          <a:xfrm flipH="1">
            <a:off x="4376520" y="1873080"/>
            <a:ext cx="2147040" cy="11534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6" name="Прямоугольник 60"/>
          <p:cNvSpPr/>
          <p:nvPr/>
        </p:nvSpPr>
        <p:spPr>
          <a:xfrm>
            <a:off x="6505560" y="469800"/>
            <a:ext cx="2141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сти контейнеры, землю, луковицы для посадки и просмотр м/ф «Чиполли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 стрелкой 61"/>
          <p:cNvCxnSpPr>
            <a:stCxn id="196" idx="2"/>
            <a:endCxn id="194" idx="0"/>
          </p:cNvCxnSpPr>
          <p:nvPr/>
        </p:nvCxnSpPr>
        <p:spPr>
          <a:xfrm>
            <a:off x="7575120" y="1300320"/>
            <a:ext cx="10440" cy="2498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98" name="Овал 66"/>
          <p:cNvSpPr/>
          <p:nvPr/>
        </p:nvSpPr>
        <p:spPr>
          <a:xfrm>
            <a:off x="106200" y="3425760"/>
            <a:ext cx="2159280" cy="6476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прак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67"/>
          <p:cNvSpPr/>
          <p:nvPr/>
        </p:nvSpPr>
        <p:spPr>
          <a:xfrm>
            <a:off x="3193920" y="1616040"/>
            <a:ext cx="238932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Совместное мероприятие детей и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8"/>
          <p:cNvSpPr/>
          <p:nvPr/>
        </p:nvSpPr>
        <p:spPr>
          <a:xfrm>
            <a:off x="214200" y="4429080"/>
            <a:ext cx="2071800" cy="64944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дидактическ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9"/>
          <p:cNvSpPr/>
          <p:nvPr/>
        </p:nvSpPr>
        <p:spPr>
          <a:xfrm>
            <a:off x="112680" y="2760840"/>
            <a:ext cx="2141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адка, уход, ежедневный пол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0"/>
          <p:cNvSpPr/>
          <p:nvPr/>
        </p:nvSpPr>
        <p:spPr>
          <a:xfrm>
            <a:off x="146160" y="5442120"/>
            <a:ext cx="21412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гадай на ощупь», развлечение «В гостях у Чиполли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71"/>
          <p:cNvSpPr/>
          <p:nvPr/>
        </p:nvSpPr>
        <p:spPr>
          <a:xfrm>
            <a:off x="3292560" y="455760"/>
            <a:ext cx="21762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ценировка и показ сказки «Репка», «Вершки и корешки». Дегустация блюд с луком. Выставка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72"/>
          <p:cNvCxnSpPr>
            <a:stCxn id="199" idx="4"/>
            <a:endCxn id="177" idx="0"/>
          </p:cNvCxnSpPr>
          <p:nvPr/>
        </p:nvCxnSpPr>
        <p:spPr>
          <a:xfrm flipH="1">
            <a:off x="4376520" y="2265480"/>
            <a:ext cx="11520" cy="7610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05" name="Прямая со стрелкой 73"/>
          <p:cNvCxnSpPr>
            <a:stCxn id="201" idx="2"/>
            <a:endCxn id="198" idx="0"/>
          </p:cNvCxnSpPr>
          <p:nvPr/>
        </p:nvCxnSpPr>
        <p:spPr>
          <a:xfrm>
            <a:off x="1184400" y="3222720"/>
            <a:ext cx="2160" cy="2037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06" name="Прямая со стрелкой 74"/>
          <p:cNvCxnSpPr>
            <a:stCxn id="198" idx="6"/>
            <a:endCxn id="177" idx="2"/>
          </p:cNvCxnSpPr>
          <p:nvPr/>
        </p:nvCxnSpPr>
        <p:spPr>
          <a:xfrm flipV="1">
            <a:off x="2265480" y="3380760"/>
            <a:ext cx="1116720" cy="36900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07" name="Прямая со стрелкой 81"/>
          <p:cNvCxnSpPr>
            <a:stCxn id="208" idx="0"/>
            <a:endCxn id="209" idx="4"/>
          </p:cNvCxnSpPr>
          <p:nvPr/>
        </p:nvCxnSpPr>
        <p:spPr>
          <a:xfrm flipV="1">
            <a:off x="3447720" y="5001840"/>
            <a:ext cx="1080" cy="4579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0" name="Прямая со стрелкой 82"/>
          <p:cNvCxnSpPr>
            <a:stCxn id="202" idx="0"/>
            <a:endCxn id="200" idx="4"/>
          </p:cNvCxnSpPr>
          <p:nvPr/>
        </p:nvCxnSpPr>
        <p:spPr>
          <a:xfrm flipV="1">
            <a:off x="1217520" y="5078160"/>
            <a:ext cx="32400" cy="3643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1" name="Прямая со стрелкой 83"/>
          <p:cNvCxnSpPr/>
          <p:nvPr/>
        </p:nvCxnSpPr>
        <p:spPr>
          <a:xfrm flipV="1">
            <a:off x="2286000" y="3357360"/>
            <a:ext cx="1117800" cy="13831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2" name="Прямая со стрелкой 84"/>
          <p:cNvCxnSpPr>
            <a:stCxn id="203" idx="2"/>
            <a:endCxn id="199" idx="0"/>
          </p:cNvCxnSpPr>
          <p:nvPr/>
        </p:nvCxnSpPr>
        <p:spPr>
          <a:xfrm>
            <a:off x="4379760" y="1287000"/>
            <a:ext cx="8640" cy="3290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13" name="Прямая со стрелкой 93"/>
          <p:cNvCxnSpPr>
            <a:stCxn id="209" idx="0"/>
            <a:endCxn id="177" idx="4"/>
          </p:cNvCxnSpPr>
          <p:nvPr/>
        </p:nvCxnSpPr>
        <p:spPr>
          <a:xfrm flipV="1">
            <a:off x="3448080" y="3738240"/>
            <a:ext cx="929520" cy="7898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209" name="Овал 110"/>
          <p:cNvSpPr/>
          <p:nvPr/>
        </p:nvSpPr>
        <p:spPr>
          <a:xfrm>
            <a:off x="2720880" y="4527720"/>
            <a:ext cx="1454400" cy="47448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Verdana"/>
              </a:rPr>
              <a:t>бес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11"/>
          <p:cNvSpPr/>
          <p:nvPr/>
        </p:nvSpPr>
        <p:spPr>
          <a:xfrm>
            <a:off x="2376360" y="5459400"/>
            <a:ext cx="21430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об овощах, о пользе лука, как он произраст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1"/>
          <p:cNvSpPr/>
          <p:nvPr/>
        </p:nvSpPr>
        <p:spPr>
          <a:xfrm>
            <a:off x="82440" y="0"/>
            <a:ext cx="2143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Вода и растение» обобщ. Н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Солнце и лучок» обобщ. Н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Человек и лук» бес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лнце и вода влияет на рост лука. Роль воды и солнца в жизни л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54"/>
          <p:cNvSpPr/>
          <p:nvPr/>
        </p:nvSpPr>
        <p:spPr>
          <a:xfrm>
            <a:off x="4645080" y="5445000"/>
            <a:ext cx="214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казки «Чиполлино». Отгадывание загадок об овощ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2"/>
          <p:cNvSpPr/>
          <p:nvPr/>
        </p:nvSpPr>
        <p:spPr>
          <a:xfrm>
            <a:off x="6742080" y="2341440"/>
            <a:ext cx="2141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ние картинок «Овощи нашей мест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апный план реализаци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571680" y="928800"/>
            <a:ext cx="7858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й этап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бор художественной литературы: стихи, загадки, пословицы, рассказы, сказки про овощи, экологические сказки. Воспитатели группы-1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ьское собрание :участвуем в проекте  «Зеленый лучок на подоконнике» Воспитатели-1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ие необходимого оборудования (контейнеры, стаканы, земля, луковица).Родители-1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ивка грядок на подоконнике. Дети,воспитатели-2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готовление табличек-указателей с названиями лука. Воспитатели,дети-2 нед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124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следовательский этап.(2 неделя)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7120" y="4996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атривание  луковиц и семян лука и других овощей, посадка лука. Дети, воспитатели-2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ытно-экспериментальная деятельность: «Строение лука», «Условия необходимые для роста лука», « Размножение, рост, развитие зеленого лука». Воспитатели группы-3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ятия с детьми: «Растительный мир», «Посадка лука», «Первая зелень», «Витамины для детей», «Полезная пища». Воспитатели– в течении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дидактических игр «Где растет?», «Что лишнее?», «Узнай на ощупь», «Узнай на вкус», «От какого овоща эта часть?». Воспитатели -3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учивание с детьми стихов, загадок, поговорок об овощах, фруктах и ягодах, чтение сказок об овощах. Воспитатели- в течении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атривание иллюстраций, картин с изображением овощей (сравнить их по цвету, форме, размеру, вкусу). Воспитатели группы- в течении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седы о том, как выращивают другие овощи на огороде, в теплице и оранжереях. Воспитатели- 3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9800" y="428760"/>
            <a:ext cx="7124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ительный этап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2600" y="1071360"/>
            <a:ext cx="800100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ведение итогов реализации проекта. Дети, воспитатели, родители- 4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формление выставки рисунков детей «Зеленый лучок». Дети,воспитатели-4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здник «Лучок с нашей грядки», инсценирование сказки «Репка», «Вершки и корешки». Воспитатели, дети, родители- в конце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конкурса «Угадай название овоща». Воспитатели- в конце проекта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местное чаепитие детей, родителей и воспитателей группы. Воспитатели группы- 4 неделя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8:51:38Z</dcterms:created>
  <dc:creator>Admin</dc:creator>
  <dc:description/>
  <dc:language>en-US</dc:language>
  <cp:lastModifiedBy>Комп</cp:lastModifiedBy>
  <dcterms:modified xsi:type="dcterms:W3CDTF">2015-10-18T18:32:53Z</dcterms:modified>
  <cp:revision>104</cp:revision>
  <dc:subject/>
  <dc:title>Воображение. Виды и свойства.</dc:title>
</cp:coreProperties>
</file>