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30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13.png" ContentType="image/png"/>
  <Override PartName="/ppt/media/image37.jpeg" ContentType="image/jpeg"/>
  <Override PartName="/ppt/media/image8.png" ContentType="image/png"/>
  <Override PartName="/ppt/media/image39.jpeg" ContentType="image/jpeg"/>
  <Override PartName="/ppt/media/image9.png" ContentType="image/png"/>
  <Override PartName="/ppt/media/image40.jpeg" ContentType="image/jpeg"/>
  <Override PartName="/ppt/media/image5.png" ContentType="image/png"/>
  <Override PartName="/ppt/media/image38.jpeg" ContentType="image/jpeg"/>
  <Override PartName="/ppt/media/image28.png" ContentType="image/png"/>
  <Override PartName="/ppt/media/image35.jpeg" ContentType="image/jpeg"/>
  <Override PartName="/ppt/media/image10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B005-C7FB-47DF-A73A-B9D83ACE13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4F11-F876-4E3B-8EAB-8710F3B7E0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89EB-622A-41C7-B775-56AC075C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4E9F-E7C2-4C1B-AB9C-CC089928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3B96-87E7-4E86-AAED-656377E1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87EE-8CA7-48A9-85F9-427D63C0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CEDF-5225-42B6-972D-816378AA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7DFF-2929-46E7-8200-5A8F40BF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0958-1007-4399-8D4D-C0BF63C6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495E-900C-461D-932F-E9F79039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A572-16EF-4367-9360-21910F59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8FF9-B3FD-4009-BD22-278E47E3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3B7B-0298-4D3F-BFE6-27959BE2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6D4F-D78D-40E5-8DF7-DD708A22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3F90-9989-48C6-8D25-3F7F125F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FFA4-7CE7-4EC6-A358-6E01B952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6E1B-9D8A-463B-9C1F-46B1BB7F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B7DD-FC3D-4D15-B06B-076EDC41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59C7-2AD2-43A2-944B-84C37329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3051-1B64-44C1-9735-110E1BC4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3E53-FA34-4501-90AF-C1BC1820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7A0D-7664-4341-85FF-818C1C0E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D50A-CF42-4C48-9309-5A1FD721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788B-6483-4CA6-96A7-98EC950D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FD88-FCA5-4BFB-B16E-9A288D4B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A4F7-B674-407F-BCF8-D21A067F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prstGeom prst="pie">
                <a:avLst/>
              </a:pr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FEDF-1E3C-4495-B191-6CCB4A96D228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prstGeom prst="pie">
                <a:avLst/>
              </a:pr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59760" y="1428120"/>
              <a:ext cx="1106280" cy="1095840"/>
              <a:chOff x="5459760" y="1428120"/>
              <a:chExt cx="1106280" cy="109584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59760" y="1428120"/>
                <a:ext cx="1106280" cy="109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8320" y="1606320"/>
                <a:ext cx="75420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7160" y="1404360"/>
              <a:ext cx="855000" cy="845640"/>
              <a:chOff x="5627160" y="1404360"/>
              <a:chExt cx="855000" cy="84564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4360"/>
                <a:ext cx="855000" cy="84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9360" y="1545120"/>
                <a:ext cx="57600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4480" y="1874880"/>
              <a:ext cx="621720" cy="631080"/>
              <a:chOff x="5244480" y="1874880"/>
              <a:chExt cx="621720" cy="63108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4480" y="1874880"/>
                <a:ext cx="621720" cy="63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49600" y="1983960"/>
                <a:ext cx="417960" cy="41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11880" y="1791360"/>
              <a:ext cx="508320" cy="518040"/>
              <a:chOff x="5411880" y="1791360"/>
              <a:chExt cx="508320" cy="51804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11880" y="1791360"/>
                <a:ext cx="508320" cy="51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8280" y="1886400"/>
                <a:ext cx="3398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65680"/>
              <a:ext cx="280800" cy="279720"/>
              <a:chOff x="4718160" y="2065680"/>
              <a:chExt cx="280800" cy="27972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65680"/>
                <a:ext cx="280800" cy="2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2520" y="2119320"/>
                <a:ext cx="177840" cy="17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105600" y="993600"/>
              <a:ext cx="280800" cy="285840"/>
              <a:chOff x="6105600" y="993600"/>
              <a:chExt cx="280800" cy="28584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105600" y="993600"/>
                <a:ext cx="280800" cy="28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9600" y="1054080"/>
                <a:ext cx="177840" cy="17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2960" y="1881000"/>
              <a:ext cx="221040" cy="220320"/>
              <a:chOff x="5052960" y="1881000"/>
              <a:chExt cx="221040" cy="22032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2960" y="1881000"/>
                <a:ext cx="221040" cy="22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098320" y="1926360"/>
                <a:ext cx="1368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23600" y="1064880"/>
              <a:ext cx="221040" cy="220320"/>
              <a:chOff x="6123600" y="1064880"/>
              <a:chExt cx="221040" cy="22032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23600" y="1064880"/>
                <a:ext cx="221040" cy="22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7520" y="1111320"/>
                <a:ext cx="1368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2097-AA6E-45DC-88CA-3FCDAB7D8D48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Заголовок 1"/>
          <p:cNvSpPr/>
          <p:nvPr/>
        </p:nvSpPr>
        <p:spPr>
          <a:xfrm>
            <a:off x="108000" y="189000"/>
            <a:ext cx="86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rebuchet MS"/>
              </a:rPr>
              <a:t>«Зеленый лучок на подоконник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rebuchet MS"/>
              </a:rPr>
              <a:t>средняя груп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&amp;Mcy;&amp;acy;&amp;scy;&amp;tcy;&amp;iecy;&amp;rcy; &amp;khcy;&amp;iecy;&amp;ncy;&amp;dcy; &amp;mcy;&amp;iecy;&amp;jcy;&amp;dcy; &amp;IEcy;&amp;vcy;&amp;gcy;&amp;iecy;&amp;ncy;&amp;icy;&amp;yacy; &amp;Gcy;&amp;rcy;&amp;ocy;&amp;mcy;&amp;ycy;&amp;kcy;&amp;ocy;. &amp;Icy;&amp;zcy;&amp;yacy;&amp;shchcy;&amp;ncy;&amp;ycy;&amp;iecy; &amp;zcy;&amp;ocy;&amp;ncy;&amp;tcy;&amp;icy;&amp;kcy;&amp;icy; &amp;icy; &amp;ncy;&amp;iecy; &amp;tcy;&amp;ocy;&amp;lcy;&amp;softcy;&amp;kcy;&amp;ocy;. &amp;Bcy;&amp;lcy;&amp;ocy;&amp;gcy; &amp;Icy;&amp;rcy;&amp;icy;&amp;ncy;&amp;ycy; &amp;Zcy;&amp;acy;&amp;jcy;&amp;tscy;&amp;iecy;&amp;vcy;&amp;ocy;&amp;jcy;"/>
          <p:cNvPicPr/>
          <p:nvPr/>
        </p:nvPicPr>
        <p:blipFill>
          <a:blip r:embed="rId1"/>
          <a:stretch/>
        </p:blipFill>
        <p:spPr>
          <a:xfrm>
            <a:off x="755640" y="2506680"/>
            <a:ext cx="3809880" cy="3619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6760" y="428760"/>
            <a:ext cx="335772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Посадка лука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21" name="Рисунок 4" descr="C:\Users\User\Desktop\детский сад\АДЕЛЯ\фотографии\104SSCAM\SDC10200.JPG"/>
          <p:cNvPicPr/>
          <p:nvPr/>
        </p:nvPicPr>
        <p:blipFill>
          <a:blip r:embed="rId1"/>
          <a:stretch/>
        </p:blipFill>
        <p:spPr>
          <a:xfrm>
            <a:off x="208080" y="853920"/>
            <a:ext cx="3936960" cy="215136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3"/>
          <p:cNvSpPr/>
          <p:nvPr/>
        </p:nvSpPr>
        <p:spPr>
          <a:xfrm>
            <a:off x="5293080" y="357120"/>
            <a:ext cx="34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rebuchet MS"/>
              </a:rPr>
              <a:t>Наблюдение за ростом 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4" descr="C:\Users\User\Desktop\детский сад\АДЕЛЯ\фотографии\104SSCAM\SDC10198.JPG"/>
          <p:cNvPicPr/>
          <p:nvPr/>
        </p:nvPicPr>
        <p:blipFill>
          <a:blip r:embed="rId2"/>
          <a:stretch/>
        </p:blipFill>
        <p:spPr>
          <a:xfrm>
            <a:off x="4749840" y="785880"/>
            <a:ext cx="3763800" cy="242892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5"/>
          <p:cNvSpPr/>
          <p:nvPr/>
        </p:nvSpPr>
        <p:spPr>
          <a:xfrm>
            <a:off x="3435480" y="342900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rebuchet MS"/>
              </a:rPr>
              <a:t>Поливка л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Рисунок 4" descr="D:\DCIM\104SSCAM\SDC10417.JPG"/>
          <p:cNvPicPr/>
          <p:nvPr/>
        </p:nvPicPr>
        <p:blipFill>
          <a:blip r:embed="rId3"/>
          <a:stretch/>
        </p:blipFill>
        <p:spPr>
          <a:xfrm>
            <a:off x="1643040" y="4000680"/>
            <a:ext cx="5643720" cy="2571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К нам в гости пришел Чиполлино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27" name="Рисунок 4" descr="D:\DCIM\104SSCAM\SDC10419.JPG"/>
          <p:cNvPicPr/>
          <p:nvPr/>
        </p:nvPicPr>
        <p:blipFill>
          <a:blip r:embed="rId1"/>
          <a:stretch/>
        </p:blipFill>
        <p:spPr>
          <a:xfrm>
            <a:off x="1547640" y="1628640"/>
            <a:ext cx="6283440" cy="4251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920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Знакомство с луком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29" name="Рисунок 4" descr="D:\DCIM\104SSCAM\SDC10421.JPG"/>
          <p:cNvPicPr/>
          <p:nvPr/>
        </p:nvPicPr>
        <p:blipFill>
          <a:blip r:embed="rId1"/>
          <a:stretch/>
        </p:blipFill>
        <p:spPr>
          <a:xfrm>
            <a:off x="250920" y="928800"/>
            <a:ext cx="4176720" cy="28810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5" descr="D:\DCIM\104SSCAM\SDC10423.JPG"/>
          <p:cNvPicPr/>
          <p:nvPr/>
        </p:nvPicPr>
        <p:blipFill>
          <a:blip r:embed="rId2"/>
          <a:stretch/>
        </p:blipFill>
        <p:spPr>
          <a:xfrm>
            <a:off x="4284720" y="3500280"/>
            <a:ext cx="474984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Вкусный и полезный лук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32" name="Рисунок 4" descr="D:\DCIM\104SSCAM\SDC10465.JPG"/>
          <p:cNvPicPr/>
          <p:nvPr/>
        </p:nvPicPr>
        <p:blipFill>
          <a:blip r:embed="rId1"/>
          <a:stretch/>
        </p:blipFill>
        <p:spPr>
          <a:xfrm>
            <a:off x="179280" y="1069920"/>
            <a:ext cx="4537080" cy="295272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5" descr="D:\DCIM\104SSCAM\SDC10469.JPG"/>
          <p:cNvPicPr/>
          <p:nvPr/>
        </p:nvPicPr>
        <p:blipFill>
          <a:blip r:embed="rId2"/>
          <a:stretch/>
        </p:blipFill>
        <p:spPr>
          <a:xfrm>
            <a:off x="4379760" y="3141720"/>
            <a:ext cx="475164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6" descr="&amp;Dcy;&amp;ncy;&amp;iecy;&amp;vcy;&amp;ncy;&amp;icy;&amp;kcy; &amp;ocy;&amp;lcy;&amp;softcy;&amp;gcy;&amp;acy;_&amp;khcy;&amp;ocy;&amp;rcy;&amp;ocy;&amp;shcy;&amp;acy;&amp;yacy; : LiveInternet - &amp;Rcy;&amp;ocy;&amp;scy;&amp;scy;&amp;icy;&amp;jcy;&amp;scy;&amp;kcy;&amp;icy;&amp;jcy; &amp;Scy;&amp;iecy;&amp;rcy;&amp;vcy;&amp;icy;&amp;scy; &amp;Ocy;&amp;ncy;&amp;lcy;…"/>
          <p:cNvPicPr/>
          <p:nvPr/>
        </p:nvPicPr>
        <p:blipFill>
          <a:blip r:embed="rId1"/>
          <a:stretch/>
        </p:blipFill>
        <p:spPr>
          <a:xfrm>
            <a:off x="4716360" y="3537000"/>
            <a:ext cx="4330800" cy="32479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Дегустация пирожков с луком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36" name="Picture 4" descr="&amp;Pcy;&amp;icy;&amp;rcy;&amp;ocy;&amp;zhcy;&amp;kcy;&amp;icy; &amp;scy; &amp;lcy;&amp;ucy;&amp;kcy;&amp;ocy;&amp;mcy; &amp;icy; &amp;yacy;&amp;jcy;&amp;tscy;&amp;ocy;&amp;mcy; - &amp;rcy;&amp;iecy;&amp;tscy;&amp;iecy;&amp;pcy;&amp;tcy;"/>
          <p:cNvPicPr/>
          <p:nvPr/>
        </p:nvPicPr>
        <p:blipFill>
          <a:blip r:embed="rId2"/>
          <a:stretch/>
        </p:blipFill>
        <p:spPr>
          <a:xfrm>
            <a:off x="250920" y="1268280"/>
            <a:ext cx="4681440" cy="351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3"/>
          <p:cNvSpPr/>
          <p:nvPr/>
        </p:nvSpPr>
        <p:spPr>
          <a:xfrm>
            <a:off x="569880" y="1268280"/>
            <a:ext cx="80042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авлова Л.М. Воспитание и обучение детей раннего возраста: Книга для воспитателя детского сада. – М.: Просвещение, 198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ванова А.И. Методика организации экологических наблюдений и экспериментов. – М.: Творческий центр Сфера,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енщикова Л.Н. Экспериментальная деятельность детей. – Волгоград: Учитель, 2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Егоренков Л.И. Экологическое воспитание дошкольников и младших школьников. – М.: Издательство «Аркти»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Шорыгина Т.А. Зеленые сказки. Экология для малышей. – М.: «Книголюб»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писок использованной литературы: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"/>
          <p:cNvSpPr/>
          <p:nvPr/>
        </p:nvSpPr>
        <p:spPr>
          <a:xfrm>
            <a:off x="395280" y="785880"/>
            <a:ext cx="842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екрет, что дети дошкольного возраста по природе своей исследователи. Неутолимая жажда новых впечатлений, любознательность, постоянное стремление экспериментировать, самостоятельно искать новые сведения о мире, традиционно рассматриваются как важнейшие черты детского поведения. Исследовательская, поисковая активность – естественное состояние ребенка, он настроен на познание мира. Исследовать, открывать, изучать – значит сделать шаг в неизведанное и непознан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разработанного проекта выбрана с учетом возрастных особенностей детей среднего дошкольного возраста и объема информации, которая может быть ими воспринята. Этот детский исследовательский проект ориентирован на приобретение детьми опыта собственной опытно-исследовательской деятельности, осознание детьми своих интересов, формирование умений их реализовывать, приобретение и применение детьми новых знаний в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Заголовок 1"/>
          <p:cNvSpPr/>
          <p:nvPr/>
        </p:nvSpPr>
        <p:spPr>
          <a:xfrm>
            <a:off x="684360" y="71280"/>
            <a:ext cx="78483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Times New Roman"/>
                <a:ea typeface="Trebuchet MS"/>
              </a:rPr>
              <a:t>Актуальность проект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79280" y="1052280"/>
            <a:ext cx="850752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ширение знания детей о том, как создать грядку на подоконнике и ухаживать за луковицами; активизировать у ребенка инициативу, внимание и память, обогащение словарного запаса ребенка, привлечь к работе в проекте детей, воспитателей, и родителей.</a:t>
            </a:r>
            <a:endParaRPr b="0" lang="en-US" sz="3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24000" y="119664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ь детей ежедневно ухаживать за луком зимой в комнатных условиях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Формировать представление детей о необходимости света, тепла, влаги почвы для роста луковиц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Фиксировать представление детей об изменениях роста луковиц в стакане воды и в контейнере с почвой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Повторение правильного и бережного отношения к природе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Учить выполнять индивидуальные и коллективные поручения, научить детей видеть результат своего труда.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50560" y="404280"/>
            <a:ext cx="8507160" cy="568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рактер проекта: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кспериментальный;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еднесрочный (4 недели)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стники проекта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оспитатели, родители, дети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жидаемый результат: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Дети научатся сажать и ухаживать за луком и познакомятся с условиями  его содержания, будут учиться подмечать пользу и красоту зеленого лука зимой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 У детей сформируются знания и представления о росте зеленого лука в комнатных условиях, как в контейнере с почвой, так и в стакане с водой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Овал 1"/>
          <p:cNvSpPr/>
          <p:nvPr/>
        </p:nvSpPr>
        <p:spPr>
          <a:xfrm>
            <a:off x="3381480" y="3025800"/>
            <a:ext cx="1989000" cy="712800"/>
          </a:xfrm>
          <a:prstGeom prst="ellipse">
            <a:avLst/>
          </a:prstGeom>
          <a:solidFill>
            <a:srgbClr val="f489cf"/>
          </a:solidFill>
          <a:ln cap="rnd" w="19080">
            <a:solidFill>
              <a:srgbClr val="b363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4310"/>
                </a:solidFill>
                <a:latin typeface="Verdana"/>
              </a:rPr>
              <a:t>Зеленый лучок на подоконни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15"/>
          <p:cNvSpPr/>
          <p:nvPr/>
        </p:nvSpPr>
        <p:spPr>
          <a:xfrm>
            <a:off x="61920" y="1779480"/>
            <a:ext cx="2205000" cy="649440"/>
          </a:xfrm>
          <a:prstGeom prst="ellipse">
            <a:avLst/>
          </a:prstGeom>
          <a:solidFill>
            <a:srgbClr val="ffff00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Verdana"/>
              </a:rPr>
              <a:t>познавате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Прямая со стрелкой 18"/>
          <p:cNvCxnSpPr>
            <a:stCxn id="180" idx="2"/>
            <a:endCxn id="178" idx="0"/>
          </p:cNvCxnSpPr>
          <p:nvPr/>
        </p:nvCxnSpPr>
        <p:spPr>
          <a:xfrm>
            <a:off x="1153800" y="1569960"/>
            <a:ext cx="11880" cy="21024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181" name="Прямая со стрелкой 21"/>
          <p:cNvCxnSpPr>
            <a:stCxn id="178" idx="4"/>
            <a:endCxn id="177" idx="0"/>
          </p:cNvCxnSpPr>
          <p:nvPr/>
        </p:nvCxnSpPr>
        <p:spPr>
          <a:xfrm>
            <a:off x="1164960" y="2428920"/>
            <a:ext cx="3212280" cy="59760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182" name="Овал 24"/>
          <p:cNvSpPr/>
          <p:nvPr/>
        </p:nvSpPr>
        <p:spPr>
          <a:xfrm>
            <a:off x="4640400" y="4440240"/>
            <a:ext cx="2160360" cy="649440"/>
          </a:xfrm>
          <a:prstGeom prst="ellipse">
            <a:avLst/>
          </a:prstGeom>
          <a:solidFill>
            <a:srgbClr val="ffff00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Verdana"/>
              </a:rPr>
              <a:t>чтение худ.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Прямая со стрелкой 25"/>
          <p:cNvCxnSpPr>
            <a:stCxn id="182" idx="0"/>
            <a:endCxn id="177" idx="4"/>
          </p:cNvCxnSpPr>
          <p:nvPr/>
        </p:nvCxnSpPr>
        <p:spPr>
          <a:xfrm flipH="1" flipV="1">
            <a:off x="4376160" y="3737880"/>
            <a:ext cx="1345320" cy="70236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184" name="Прямая со стрелкой 30"/>
          <p:cNvCxnSpPr>
            <a:stCxn id="185" idx="0"/>
            <a:endCxn id="182" idx="4"/>
          </p:cNvCxnSpPr>
          <p:nvPr/>
        </p:nvCxnSpPr>
        <p:spPr>
          <a:xfrm flipV="1">
            <a:off x="5715360" y="5088960"/>
            <a:ext cx="3960" cy="35604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186" name="Овал 35"/>
          <p:cNvSpPr/>
          <p:nvPr/>
        </p:nvSpPr>
        <p:spPr>
          <a:xfrm>
            <a:off x="6742080" y="3102120"/>
            <a:ext cx="2158920" cy="647640"/>
          </a:xfrm>
          <a:prstGeom prst="ellipse">
            <a:avLst/>
          </a:prstGeom>
          <a:solidFill>
            <a:srgbClr val="ffff00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Verdana"/>
              </a:rPr>
              <a:t>рассматривание рису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Прямая со стрелкой 36"/>
          <p:cNvCxnSpPr>
            <a:stCxn id="186" idx="2"/>
            <a:endCxn id="177" idx="6"/>
          </p:cNvCxnSpPr>
          <p:nvPr/>
        </p:nvCxnSpPr>
        <p:spPr>
          <a:xfrm flipH="1" flipV="1">
            <a:off x="5370120" y="3380760"/>
            <a:ext cx="1372320" cy="4500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188" name="Прямая со стрелкой 40"/>
          <p:cNvCxnSpPr>
            <a:stCxn id="189" idx="2"/>
            <a:endCxn id="186" idx="0"/>
          </p:cNvCxnSpPr>
          <p:nvPr/>
        </p:nvCxnSpPr>
        <p:spPr>
          <a:xfrm>
            <a:off x="7811640" y="2803320"/>
            <a:ext cx="10440" cy="29916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190" name="Овал 44"/>
          <p:cNvSpPr/>
          <p:nvPr/>
        </p:nvSpPr>
        <p:spPr>
          <a:xfrm>
            <a:off x="6904080" y="4440240"/>
            <a:ext cx="2160720" cy="649440"/>
          </a:xfrm>
          <a:prstGeom prst="ellipse">
            <a:avLst/>
          </a:prstGeom>
          <a:solidFill>
            <a:srgbClr val="ffff00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Verdana"/>
              </a:rPr>
              <a:t>твор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Прямая со стрелкой 45"/>
          <p:cNvCxnSpPr>
            <a:stCxn id="190" idx="0"/>
            <a:endCxn id="177" idx="6"/>
          </p:cNvCxnSpPr>
          <p:nvPr/>
        </p:nvCxnSpPr>
        <p:spPr>
          <a:xfrm flipH="1" flipV="1">
            <a:off x="5369760" y="3380760"/>
            <a:ext cx="2615400" cy="105948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192" name="Прямоугольник 50"/>
          <p:cNvSpPr/>
          <p:nvPr/>
        </p:nvSpPr>
        <p:spPr>
          <a:xfrm>
            <a:off x="6913440" y="5459400"/>
            <a:ext cx="214308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пликация, рис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еленый луч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Прямая со стрелкой 51"/>
          <p:cNvCxnSpPr>
            <a:stCxn id="192" idx="0"/>
            <a:endCxn id="190" idx="4"/>
          </p:cNvCxnSpPr>
          <p:nvPr/>
        </p:nvCxnSpPr>
        <p:spPr>
          <a:xfrm flipV="1">
            <a:off x="7984800" y="5088960"/>
            <a:ext cx="1080" cy="37044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194" name="Овал 54"/>
          <p:cNvSpPr/>
          <p:nvPr/>
        </p:nvSpPr>
        <p:spPr>
          <a:xfrm>
            <a:off x="6523200" y="1549440"/>
            <a:ext cx="2124000" cy="647640"/>
          </a:xfrm>
          <a:prstGeom prst="ellipse">
            <a:avLst/>
          </a:prstGeom>
          <a:solidFill>
            <a:srgbClr val="ffff00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Verdana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Прямая со стрелкой 55"/>
          <p:cNvCxnSpPr>
            <a:stCxn id="194" idx="2"/>
            <a:endCxn id="177" idx="0"/>
          </p:cNvCxnSpPr>
          <p:nvPr/>
        </p:nvCxnSpPr>
        <p:spPr>
          <a:xfrm flipH="1">
            <a:off x="4376520" y="1873080"/>
            <a:ext cx="2147040" cy="115344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196" name="Прямоугольник 60"/>
          <p:cNvSpPr/>
          <p:nvPr/>
        </p:nvSpPr>
        <p:spPr>
          <a:xfrm>
            <a:off x="6505560" y="469800"/>
            <a:ext cx="21416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сти контейнеры, землю, луковицы для посадки и просмотр м/ф «Чиполлин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Прямая со стрелкой 61"/>
          <p:cNvCxnSpPr>
            <a:stCxn id="196" idx="2"/>
            <a:endCxn id="194" idx="0"/>
          </p:cNvCxnSpPr>
          <p:nvPr/>
        </p:nvCxnSpPr>
        <p:spPr>
          <a:xfrm>
            <a:off x="7575120" y="1300320"/>
            <a:ext cx="10440" cy="24984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198" name="Овал 66"/>
          <p:cNvSpPr/>
          <p:nvPr/>
        </p:nvSpPr>
        <p:spPr>
          <a:xfrm>
            <a:off x="106200" y="3425760"/>
            <a:ext cx="2159280" cy="647640"/>
          </a:xfrm>
          <a:prstGeom prst="ellipse">
            <a:avLst/>
          </a:prstGeom>
          <a:solidFill>
            <a:srgbClr val="ffff00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Verdana"/>
              </a:rPr>
              <a:t>практическое 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Овал 67"/>
          <p:cNvSpPr/>
          <p:nvPr/>
        </p:nvSpPr>
        <p:spPr>
          <a:xfrm>
            <a:off x="3193920" y="1616040"/>
            <a:ext cx="2389320" cy="649440"/>
          </a:xfrm>
          <a:prstGeom prst="ellipse">
            <a:avLst/>
          </a:prstGeom>
          <a:solidFill>
            <a:srgbClr val="ffff00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Verdana"/>
              </a:rPr>
              <a:t>Совместное мероприятие детей и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Овал 68"/>
          <p:cNvSpPr/>
          <p:nvPr/>
        </p:nvSpPr>
        <p:spPr>
          <a:xfrm>
            <a:off x="214200" y="4429080"/>
            <a:ext cx="2071800" cy="649440"/>
          </a:xfrm>
          <a:prstGeom prst="ellipse">
            <a:avLst/>
          </a:prstGeom>
          <a:solidFill>
            <a:srgbClr val="ffff00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Verdana"/>
              </a:rPr>
              <a:t>дидактическая иг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69"/>
          <p:cNvSpPr/>
          <p:nvPr/>
        </p:nvSpPr>
        <p:spPr>
          <a:xfrm>
            <a:off x="112680" y="2760840"/>
            <a:ext cx="214164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адка, уход, ежедневный пол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70"/>
          <p:cNvSpPr/>
          <p:nvPr/>
        </p:nvSpPr>
        <p:spPr>
          <a:xfrm>
            <a:off x="146160" y="5442120"/>
            <a:ext cx="214128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Угадай на ощупь», развлечение «В гостях у Чиполлин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71"/>
          <p:cNvSpPr/>
          <p:nvPr/>
        </p:nvSpPr>
        <p:spPr>
          <a:xfrm>
            <a:off x="3292560" y="455760"/>
            <a:ext cx="217620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ценировка и показ сказки «Репка», «Вершки и корешки». Дегустация блюд с луком. Выставка раб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Прямая со стрелкой 72"/>
          <p:cNvCxnSpPr>
            <a:stCxn id="199" idx="4"/>
            <a:endCxn id="177" idx="0"/>
          </p:cNvCxnSpPr>
          <p:nvPr/>
        </p:nvCxnSpPr>
        <p:spPr>
          <a:xfrm flipH="1">
            <a:off x="4376520" y="2265480"/>
            <a:ext cx="11520" cy="76104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205" name="Прямая со стрелкой 73"/>
          <p:cNvCxnSpPr>
            <a:stCxn id="201" idx="2"/>
            <a:endCxn id="198" idx="0"/>
          </p:cNvCxnSpPr>
          <p:nvPr/>
        </p:nvCxnSpPr>
        <p:spPr>
          <a:xfrm>
            <a:off x="1184400" y="3222720"/>
            <a:ext cx="2160" cy="20376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206" name="Прямая со стрелкой 74"/>
          <p:cNvCxnSpPr>
            <a:stCxn id="198" idx="6"/>
            <a:endCxn id="177" idx="2"/>
          </p:cNvCxnSpPr>
          <p:nvPr/>
        </p:nvCxnSpPr>
        <p:spPr>
          <a:xfrm flipV="1">
            <a:off x="2265480" y="3380760"/>
            <a:ext cx="1116720" cy="36900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207" name="Прямая со стрелкой 81"/>
          <p:cNvCxnSpPr>
            <a:stCxn id="208" idx="0"/>
            <a:endCxn id="209" idx="4"/>
          </p:cNvCxnSpPr>
          <p:nvPr/>
        </p:nvCxnSpPr>
        <p:spPr>
          <a:xfrm flipV="1">
            <a:off x="3447720" y="5001840"/>
            <a:ext cx="1080" cy="45792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210" name="Прямая со стрелкой 82"/>
          <p:cNvCxnSpPr>
            <a:stCxn id="202" idx="0"/>
            <a:endCxn id="200" idx="4"/>
          </p:cNvCxnSpPr>
          <p:nvPr/>
        </p:nvCxnSpPr>
        <p:spPr>
          <a:xfrm flipV="1">
            <a:off x="1217520" y="5078160"/>
            <a:ext cx="32400" cy="36432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211" name="Прямая со стрелкой 83"/>
          <p:cNvCxnSpPr/>
          <p:nvPr/>
        </p:nvCxnSpPr>
        <p:spPr>
          <a:xfrm flipV="1">
            <a:off x="2286000" y="3357360"/>
            <a:ext cx="1117800" cy="138312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212" name="Прямая со стрелкой 84"/>
          <p:cNvCxnSpPr>
            <a:stCxn id="203" idx="2"/>
            <a:endCxn id="199" idx="0"/>
          </p:cNvCxnSpPr>
          <p:nvPr/>
        </p:nvCxnSpPr>
        <p:spPr>
          <a:xfrm>
            <a:off x="4379760" y="1287000"/>
            <a:ext cx="8640" cy="32904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213" name="Прямая со стрелкой 93"/>
          <p:cNvCxnSpPr>
            <a:stCxn id="209" idx="0"/>
            <a:endCxn id="177" idx="4"/>
          </p:cNvCxnSpPr>
          <p:nvPr/>
        </p:nvCxnSpPr>
        <p:spPr>
          <a:xfrm flipV="1">
            <a:off x="3448080" y="3738240"/>
            <a:ext cx="929520" cy="78984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209" name="Овал 110"/>
          <p:cNvSpPr/>
          <p:nvPr/>
        </p:nvSpPr>
        <p:spPr>
          <a:xfrm>
            <a:off x="2720880" y="4527720"/>
            <a:ext cx="1454400" cy="474480"/>
          </a:xfrm>
          <a:prstGeom prst="ellipse">
            <a:avLst/>
          </a:prstGeom>
          <a:solidFill>
            <a:srgbClr val="ffff00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Verdana"/>
              </a:rPr>
              <a:t>бес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111"/>
          <p:cNvSpPr/>
          <p:nvPr/>
        </p:nvSpPr>
        <p:spPr>
          <a:xfrm>
            <a:off x="2376360" y="5459400"/>
            <a:ext cx="214308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еда об овощах, о пользе лука, как он произраст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21"/>
          <p:cNvSpPr/>
          <p:nvPr/>
        </p:nvSpPr>
        <p:spPr>
          <a:xfrm>
            <a:off x="82440" y="0"/>
            <a:ext cx="214308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«Вода и растение» обобщ. Н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«Солнце и лучок» обобщ. Н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«Человек и лук» бес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лнце и вода влияет на рост лука. Роль воды и солнца в жизни лу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54"/>
          <p:cNvSpPr/>
          <p:nvPr/>
        </p:nvSpPr>
        <p:spPr>
          <a:xfrm>
            <a:off x="4645080" y="5445000"/>
            <a:ext cx="21430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ение сказки «Чиполлино». Отгадывание загадок об овощ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82"/>
          <p:cNvSpPr/>
          <p:nvPr/>
        </p:nvSpPr>
        <p:spPr>
          <a:xfrm>
            <a:off x="6742080" y="2341440"/>
            <a:ext cx="214164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атривание картинок «Овощи нашей мест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этапный план реализации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5" name="Прямоугольник 7"/>
          <p:cNvSpPr/>
          <p:nvPr/>
        </p:nvSpPr>
        <p:spPr>
          <a:xfrm>
            <a:off x="571680" y="928800"/>
            <a:ext cx="785808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тельный этап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бор художественной литературы: стихи, загадки, пословицы, рассказы, сказки про овощи, экологические сказки. Воспитатели группы-1 нед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дительское собрание :участвуем в проекте  «Зеленый лучок на подоконнике» Воспитатели-1 нед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обретение необходимого оборудования (контейнеры, стаканы, земля, луковица).Родители-1нед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бивка грядок на подоконнике. Дети,воспитатели-2 нед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готовление табличек-указателей с названиями лука. Воспитатели,дети-2 нед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2600" y="-360"/>
            <a:ext cx="71247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следовательский этап.(2 неделя)</a:t>
            </a: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7120" y="499680"/>
            <a:ext cx="850104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315360" indent="-315360" algn="just">
              <a:lnSpc>
                <a:spcPct val="15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сматривание  луковиц и семян лука и других овощей, посадка лука. Дети, воспитатели-2 неделя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ытно-экспериментальная деятельность: «Строение лука», «Условия необходимые для роста лука», « Размножение, рост, развитие зеленого лука». Воспитатели группы-3 неделя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нятия с детьми: «Растительный мир», «Посадка лука», «Первая зелень», «Витамины для детей», «Полезная пища». Воспитатели– в течении проекта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ведение дидактических игр «Где растет?», «Что лишнее?», «Узнай на ощупь», «Узнай на вкус», «От какого овоща эта часть?». Воспитатели -3 неделя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учивание с детьми стихов, загадок, поговорок об овощах, фруктах и ягодах, чтение сказок об овощах. Воспитатели- в течении проекта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сматривание иллюстраций, картин с изображением овощей (сравнить их по цвету, форме, размеру, вкусу). Воспитатели группы- в течении проекта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седы о том, как выращивают другие овощи на огороде, в теплице и оранжереях. Воспитатели- 3 неделя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09800" y="428760"/>
            <a:ext cx="71244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ключительный этап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42600" y="1071360"/>
            <a:ext cx="8001000" cy="48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ведение итогов реализации проекта. Дети, воспитатели, родители- 4 неделя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формление выставки рисунков детей «Зеленый лучок». Дети,воспитатели-4 неделя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аздник «Лучок с нашей грядки», инсценирование сказки «Репка», «Вершки и корешки». Воспитатели, дети, родители- в конце проекта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ведение конкурса «Угадай название овоща». Воспитатели- в конце проекта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вместное чаепитие детей, родителей и воспитателей группы. Воспитатели группы- 4 неделя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6T18:51:38Z</dcterms:created>
  <dc:creator>Admin</dc:creator>
  <dc:description/>
  <dc:language>en-US</dc:language>
  <cp:lastModifiedBy>Комп</cp:lastModifiedBy>
  <dcterms:modified xsi:type="dcterms:W3CDTF">2015-10-18T18:32:53Z</dcterms:modified>
  <cp:revision>104</cp:revision>
  <dc:subject/>
  <dc:title>Воображение. Виды и свойства.</dc:title>
</cp:coreProperties>
</file>