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64D2-908C-4263-9F26-BF1482BF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C303-6D0A-42AD-93DB-41327C5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567D1-796D-495D-86C4-CC85742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59232-1D07-4A1C-82DE-908F4A9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D913C-D56D-44DF-8BC3-501922FE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67517-461C-48D8-B63C-80012BF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32FE6-58A9-4B02-AB47-FBD36B1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B100-FBB6-4297-AAA8-F63BFE6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A4A20-16D9-435D-BE64-BB19945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D11C6-589A-4C0D-BB41-80E7CD3E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07001-AB54-4B71-A2B0-C1469F18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E8BC9-56A3-4ED6-AC20-67097B0A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8A2B-328C-4F73-A9AC-8CE3813F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731B5-D104-4D19-AA17-5980A954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74618-F9DD-4721-B0F4-B4E2ECC8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E6D58-D011-46C7-AE05-0C306FFA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5CCC5-AAC1-4AF6-B07C-A5A14359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262CB-52EE-4878-A118-AEE48D3B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E181B-4286-4F49-9B4B-D3DA96F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806D1-4E8F-449C-B3B0-D294E27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76667-9701-4149-886A-1C6CC166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CF96A-F0FD-4279-8D23-7AA0483C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CDDD2-2C8E-4042-BC72-06B67F5A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FA93-0253-4CC8-8EC2-45524CED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BC3E1-6785-4E8E-8135-32C6FE82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3FE3A-7A4F-4ABF-9C04-00536456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708B1-431F-4260-A87F-8A911E9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994E3-CCB4-4B41-8B23-CBF25EE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C3A1F-AE06-4220-8AC1-5C99F828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3374D-6669-481B-803A-0993C3EC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28E37-4077-4B38-B4E1-CBAC4F1D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41656-0B13-47A4-8F13-583060C6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D11CE-324A-4C4A-B8E2-4C1FCB86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D400-1F9D-4555-9D1D-415DE79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344A-F8D8-447F-A872-DE2C2CD4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7D66-C2A5-4642-8692-8E767712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FC8DF-3D05-46A1-9C91-942E21E5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77CD4-C1FA-44B1-8E65-5575C1C4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3526-EBCF-420D-A7CC-F232D8A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E535-BFB3-4A14-ACDE-E779DEF5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EEB-583C-44E3-B264-1A025075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B344-07ED-4B17-8210-45176A7A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6BAC-1B4F-454F-AD39-A9B9E6AF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3539-D2F5-4293-92C8-3FB7CC83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D517-B2E2-4753-AD51-5F7D3059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470E-1B77-4D1C-A731-040D01F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6A19-4A78-4926-B95E-EDC07A5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EEE4-D1DA-4CCD-BFC8-7C5DBBE5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51A0-D2AB-41E7-8B08-442CE499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2EC1-8219-4823-A0E1-CAED8439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F507-F601-4413-A0F2-6A96F79C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909B-4C41-4F64-A8CA-2C012295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15A9-A84D-4853-B701-8A5DE1F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C375-1DD1-4F16-85AD-84861B00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89B7-97B3-4276-A440-4841FEAE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6B37-0ECA-47A7-97D5-B7251011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6D5B-5BC7-4894-A490-6AAD475B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F9A1-C55F-4424-8650-CF129F6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D0F2-6934-455D-9294-B8A0C7E0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C65B-82D8-4957-BA86-116F933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0B87-2E84-47E2-952B-6FE5B5A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5D92-71CA-4EAB-A166-21831894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2F12-C499-4FD6-B3B5-BC12D43C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EB99-318C-4F09-9409-D1030E68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5904-0392-4C49-A95B-7C6AA7B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566D-DE5E-4A73-B366-DEDDF9F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B4FE-E96A-48FE-9C50-8A811032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86D1-0E2B-45DA-85AC-21A28232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D17E-3192-44DC-B559-4494693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60D7-6102-4B35-A641-7EA7C7E5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ABD6-C201-447B-9872-4671C08C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479B-47EE-44FC-9D2F-887A164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DA1F-2F0D-481C-B243-36200BA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C21C-132E-46DE-8DCF-B31F345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3A30-D1F1-4FA8-B704-FFD751B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6E68-9DA0-432C-9E44-A7873752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6460-D476-4604-9298-FEE3FE6B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E483-3A59-45ED-8411-E59FD3F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8CD5-12A3-4199-AA32-276F35B0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A44B-8A37-4E5F-957E-BC0F602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721C-13F2-40E4-9F74-0FF122D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9CED-6035-45EF-9443-7358237A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9D04-00D5-4F46-AF03-B47D6ECA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9487C-8391-4584-B08B-2DF8AED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07FE-4A9C-4FA4-8C12-4DDD62D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FAE6-AEA9-4166-AFDA-C36E8017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E3DB-71CD-43BB-91E5-A28F247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0108-944E-4B18-95E5-257C585C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464A-22D3-46F0-B151-75DF36EF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E0713-8EE4-4C0C-AD65-B05D18AE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AF01A-2A68-4836-9254-E18FB1A0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99310-6934-4AF6-9C57-9A9E6D0F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659E0-0D59-4E3D-8FA8-AEBD4E29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DA2ED-4AD7-4080-8156-762DFBCF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48C8-B8E0-493D-A26D-8FFBDBE0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9B53B-2A6D-4E5A-8D53-4C627DB1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440A0-7FFC-46C2-809F-53DD548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B1D93-5D31-4DA6-A547-AFABA14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88D7-5BF7-4893-B81D-8417B64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E8F8-6157-45BF-827C-C53FA06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CD90-61E6-4D86-926E-F0AB6C1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48E16-E33D-47B3-AE92-D44BD33A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1A39-9F03-4D4D-BE3F-783C28D0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46E3-2676-4721-B056-1A000153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41E3-B83D-4F14-8EE4-6B77FB2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57E7-CD89-4FAB-A335-F8D8D93A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780BB-639E-4E66-AC43-893F5B7E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0D40-69DC-4188-B358-8F36F3F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F914-783E-4D06-89EE-0291964A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DB12D-5240-4383-A799-8A3997E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3065-5F55-4479-A18B-BC15863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25246-7260-4E3F-B12C-3FDFBD07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DDE2-A134-415C-A26A-47A3EA2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8040-0D8B-41A8-B07E-C1A91579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9F74-99B5-48F3-8ED2-18E490A7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815F-860C-47F6-9069-346DE1B2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FF3DF-23BF-4878-AE8E-B6EC9B41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8B67-B6FB-49B6-A25D-50A15232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F9F59-89E6-4727-9DA7-7E477CD8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1F209-318D-4959-AFE6-323C359A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C53E7-6004-431F-8D41-9020445E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A5B9-F92A-4344-B3EF-321D47DE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EB587-1479-41EB-89D4-CE82CDC2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1D587-C45D-4FB9-B2BD-48A5EA3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A7B52-E976-4DDD-9577-6523C74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492FD-4B3A-4BC1-AF17-463B500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F8249-14F6-479C-B0FB-1EBBDF8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A7AC5-7CCE-4BC3-8B86-BA30DB87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9A3C8-9960-4E64-9052-3161D2A4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5119A-030E-4903-93AE-30B9D721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F90B2-455B-4D2D-ADCB-7519E761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FF78A-D1A0-420E-8B35-2D6FA0E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4DA2-1D9B-488D-8D13-E88C924202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8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E0C-96B1-47FF-BB79-5D22BD51A4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42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43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0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6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7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8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9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60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61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2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3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64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5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6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7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68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9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0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1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72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73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76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840E-FA8D-4D4E-9802-5F93CFA1C09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AFF-477E-43A7-98DF-BC04E25FF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2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2BA-F1A1-4740-A567-83F70F6FCC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520C-952D-4CA9-A095-423142F543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3738-27AF-4F43-9975-09A3E9FCF6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5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5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6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5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62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463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4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5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66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467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7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7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3522-8517-4E4A-9B75-6289FE6249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733D-F032-4336-BC80-275FEA76E1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6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D588-547C-4A06-910C-A1FEE59782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D461-D4AF-47B3-A8A8-BCEAAF77EB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Железы внутренней секре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AutoShape 4"/>
          <p:cNvSpPr/>
          <p:nvPr/>
        </p:nvSpPr>
        <p:spPr>
          <a:xfrm>
            <a:off x="2843280" y="1916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AutoShape 5"/>
          <p:cNvSpPr/>
          <p:nvPr/>
        </p:nvSpPr>
        <p:spPr>
          <a:xfrm>
            <a:off x="4572000" y="1916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Text Box 6"/>
          <p:cNvSpPr/>
          <p:nvPr/>
        </p:nvSpPr>
        <p:spPr>
          <a:xfrm>
            <a:off x="2627280" y="2924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рв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Text Box 7"/>
          <p:cNvSpPr/>
          <p:nvPr/>
        </p:nvSpPr>
        <p:spPr>
          <a:xfrm>
            <a:off x="4427640" y="2924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мораль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Text Box 8"/>
          <p:cNvSpPr/>
          <p:nvPr/>
        </p:nvSpPr>
        <p:spPr>
          <a:xfrm>
            <a:off x="468360" y="3573360"/>
            <a:ext cx="86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моральная регуляция характеризуется следующими особенностя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точного адреса, по которому направляется химическое веще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е вещество распространяется относительно медле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ество действует в ничтожных количествах и обычно быстро разрушается или выводится из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4" descr="Микседема"/>
          <p:cNvPicPr/>
          <p:nvPr/>
        </p:nvPicPr>
        <p:blipFill>
          <a:blip r:embed="rId1"/>
          <a:stretch/>
        </p:blipFill>
        <p:spPr>
          <a:xfrm>
            <a:off x="826920" y="1484280"/>
            <a:ext cx="2743200" cy="3301920"/>
          </a:xfrm>
          <a:prstGeom prst="rect">
            <a:avLst/>
          </a:prstGeom>
          <a:ln w="0">
            <a:noFill/>
          </a:ln>
        </p:spPr>
      </p:pic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к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рокс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взрослых людей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СЕД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-за недостатка й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щитовидная железа э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щины сильно увелич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4" name="Picture 4" descr="зоб"/>
          <p:cNvPicPr/>
          <p:nvPr/>
        </p:nvPicPr>
        <p:blipFill>
          <a:blip r:embed="rId1"/>
          <a:stretch/>
        </p:blipFill>
        <p:spPr>
          <a:xfrm>
            <a:off x="5867280" y="1773360"/>
            <a:ext cx="2381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6" name="Picture 4" descr="7[1]"/>
          <p:cNvPicPr/>
          <p:nvPr/>
        </p:nvPicPr>
        <p:blipFill>
          <a:blip r:embed="rId1"/>
          <a:stretch/>
        </p:blipFill>
        <p:spPr>
          <a:xfrm>
            <a:off x="1042920" y="1052640"/>
            <a:ext cx="6791400" cy="4530600"/>
          </a:xfrm>
          <a:prstGeom prst="rect">
            <a:avLst/>
          </a:prstGeom>
          <a:ln w="0">
            <a:noFill/>
          </a:ln>
        </p:spPr>
      </p:pic>
      <p:sp>
        <p:nvSpPr>
          <p:cNvPr id="1057" name="Text Box 6"/>
          <p:cNvSpPr/>
          <p:nvPr/>
        </p:nvSpPr>
        <p:spPr>
          <a:xfrm>
            <a:off x="324000" y="5877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сулин. Сахарный диабет.   Глюкаго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9" name="Picture 4" descr="1[1]"/>
          <p:cNvPicPr/>
          <p:nvPr/>
        </p:nvPicPr>
        <p:blipFill>
          <a:blip r:embed="rId1"/>
          <a:stretch/>
        </p:blipFill>
        <p:spPr>
          <a:xfrm>
            <a:off x="1476360" y="907920"/>
            <a:ext cx="5861160" cy="4530960"/>
          </a:xfrm>
          <a:prstGeom prst="rect">
            <a:avLst/>
          </a:prstGeom>
          <a:ln w="0">
            <a:noFill/>
          </a:ln>
        </p:spPr>
      </p:pic>
      <p:sp>
        <p:nvSpPr>
          <p:cNvPr id="1060" name="Text Box 6"/>
          <p:cNvSpPr/>
          <p:nvPr/>
        </p:nvSpPr>
        <p:spPr>
          <a:xfrm>
            <a:off x="324000" y="537372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мон роста – соматотропин. Меланофорный гормон – окраска кож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зопрессин – обратное всасывание воды из первичной мочи, влияние на солевой состав кров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антизм. Карликовость. Акромег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акромегал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2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083200" cy="381312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4" descr="464px-Thomas_Dilward_-_Brady-Handy[1]"/>
          <p:cNvPicPr/>
          <p:nvPr/>
        </p:nvPicPr>
        <p:blipFill>
          <a:blip r:embed="rId1"/>
          <a:stretch/>
        </p:blipFill>
        <p:spPr>
          <a:xfrm>
            <a:off x="250920" y="1628640"/>
            <a:ext cx="3678120" cy="4869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83_2"/>
          <p:cNvPicPr/>
          <p:nvPr/>
        </p:nvPicPr>
        <p:blipFill>
          <a:blip r:embed="rId2"/>
          <a:stretch/>
        </p:blipFill>
        <p:spPr>
          <a:xfrm>
            <a:off x="4427640" y="765000"/>
            <a:ext cx="41385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ловые желез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067" name="Picture 4" descr="11[1]"/>
          <p:cNvPicPr/>
          <p:nvPr/>
        </p:nvPicPr>
        <p:blipFill>
          <a:blip r:embed="rId1"/>
          <a:stretch/>
        </p:blipFill>
        <p:spPr>
          <a:xfrm>
            <a:off x="324000" y="1341360"/>
            <a:ext cx="4038480" cy="3240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6" descr="12[1]"/>
          <p:cNvPicPr/>
          <p:nvPr/>
        </p:nvPicPr>
        <p:blipFill>
          <a:blip r:embed="rId2"/>
          <a:stretch/>
        </p:blipFill>
        <p:spPr>
          <a:xfrm>
            <a:off x="4572000" y="148428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8"/>
          <p:cNvSpPr/>
          <p:nvPr/>
        </p:nvSpPr>
        <p:spPr>
          <a:xfrm>
            <a:off x="1619280" y="4724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ен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Text Box 9"/>
          <p:cNvSpPr/>
          <p:nvPr/>
        </p:nvSpPr>
        <p:spPr>
          <a:xfrm>
            <a:off x="5940360" y="472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ич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539640" y="515772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разование половых клет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деление гормо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4" descr="м и ж"/>
          <p:cNvPicPr/>
          <p:nvPr/>
        </p:nvPicPr>
        <p:blipFill>
          <a:blip r:embed="rId1"/>
          <a:stretch/>
        </p:blipFill>
        <p:spPr>
          <a:xfrm>
            <a:off x="2700360" y="189000"/>
            <a:ext cx="3809880" cy="554364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5"/>
          <p:cNvSpPr/>
          <p:nvPr/>
        </p:nvSpPr>
        <p:spPr>
          <a:xfrm>
            <a:off x="539640" y="476280"/>
            <a:ext cx="1871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ужчин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стостеро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дростер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6"/>
          <p:cNvSpPr/>
          <p:nvPr/>
        </p:nvSpPr>
        <p:spPr>
          <a:xfrm>
            <a:off x="6877080" y="404640"/>
            <a:ext cx="17985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женщин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строг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09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органов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4" descr="20"/>
          <p:cNvPicPr/>
          <p:nvPr/>
        </p:nvPicPr>
        <p:blipFill>
          <a:blip r:embed="rId1"/>
          <a:stretch/>
        </p:blipFill>
        <p:spPr>
          <a:xfrm>
            <a:off x="-108000" y="620640"/>
            <a:ext cx="94392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800"/>
          <p:cNvPicPr/>
          <p:nvPr/>
        </p:nvPicPr>
        <p:blipFill>
          <a:blip r:embed="rId1"/>
          <a:stretch/>
        </p:blipFill>
        <p:spPr>
          <a:xfrm>
            <a:off x="395280" y="404640"/>
            <a:ext cx="332100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4" name=""/>
          <p:cNvGraphicFramePr/>
          <p:nvPr/>
        </p:nvGraphicFramePr>
        <p:xfrm>
          <a:off x="3708360" y="189000"/>
          <a:ext cx="5230800" cy="5883120"/>
        </p:xfrm>
        <a:graphic>
          <a:graphicData uri="http://schemas.openxmlformats.org/drawingml/2006/table">
            <a:tbl>
              <a:tblPr/>
              <a:tblGrid>
                <a:gridCol w="1655640"/>
                <a:gridCol w="1872000"/>
                <a:gridCol w="1703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ы внешней секре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ы смешанной секре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ы внутренней секре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ю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желудоч 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пи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удоч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ь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итовид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лочк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почеч 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4"/>
          <p:cNvSpPr/>
          <p:nvPr/>
        </p:nvSpPr>
        <p:spPr>
          <a:xfrm>
            <a:off x="324000" y="476280"/>
            <a:ext cx="6984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лезы внутренней секреции (эндокринные железы) – железы, не имеющие выводных протоков, выделяющие образующиеся в них вещества прямо в кров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ы желез внутренней секреции называют гормон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моны – специфические, физиологически активные вещества, вырабатываемые железами внутренней секреции. Они оказывают влияние на рост и развитие организма, на процессы полового созревания, участвуют в регуляции деятельности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AutoShape 5"/>
          <p:cNvSpPr/>
          <p:nvPr/>
        </p:nvSpPr>
        <p:spPr>
          <a:xfrm>
            <a:off x="324000" y="62064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войства гормонов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) гормоны обладают высокой специфической активностью. Так, 1 г адреналина (гормон надпочечников) достаточно, чтобы усилить работ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00 000 000 изолированных сердец лягуше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 г инсулина (гормон поджелудочной железы) способен понизить уровень сахара в крови 125000 кролика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) Размер молекул гормонов сравнительно небольш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) Гормоны быстро разрушаютс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) обладают относительной специфичность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4"/>
          <p:cNvSpPr/>
          <p:nvPr/>
        </p:nvSpPr>
        <p:spPr>
          <a:xfrm>
            <a:off x="539640" y="1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цессе лекции заполняйте таблиц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539640" y="1268280"/>
          <a:ext cx="8136000" cy="4683240"/>
        </p:xfrm>
        <a:graphic>
          <a:graphicData uri="http://schemas.openxmlformats.org/drawingml/2006/table">
            <a:tbl>
              <a:tblPr/>
              <a:tblGrid>
                <a:gridCol w="1871640"/>
                <a:gridCol w="2400480"/>
                <a:gridCol w="2208240"/>
                <a:gridCol w="165564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еза внутренней секре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рмон, выделяемый желез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чение горм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болевания при недостатке или избы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дпочечн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2" name="Picture 4" descr="8[2]"/>
          <p:cNvPicPr/>
          <p:nvPr/>
        </p:nvPicPr>
        <p:blipFill>
          <a:blip r:embed="rId1"/>
          <a:stretch/>
        </p:blipFill>
        <p:spPr>
          <a:xfrm>
            <a:off x="1763640" y="1268280"/>
            <a:ext cx="5542200" cy="4499280"/>
          </a:xfrm>
          <a:prstGeom prst="rect">
            <a:avLst/>
          </a:prstGeom>
          <a:ln w="0">
            <a:noFill/>
          </a:ln>
        </p:spPr>
      </p:pic>
      <p:sp>
        <p:nvSpPr>
          <p:cNvPr id="1043" name="Text Box 6"/>
          <p:cNvSpPr/>
          <p:nvPr/>
        </p:nvSpPr>
        <p:spPr>
          <a:xfrm>
            <a:off x="611280" y="609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реналин. Аддисонова болезнь (бронзовая болезн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Щитовидная желе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5" name="Picture 4" descr="3[2]"/>
          <p:cNvPicPr/>
          <p:nvPr/>
        </p:nvPicPr>
        <p:blipFill>
          <a:blip r:embed="rId1"/>
          <a:stretch/>
        </p:blipFill>
        <p:spPr>
          <a:xfrm>
            <a:off x="1835280" y="1197000"/>
            <a:ext cx="5495760" cy="4498920"/>
          </a:xfrm>
          <a:prstGeom prst="rect">
            <a:avLst/>
          </a:prstGeom>
          <a:ln w="0">
            <a:noFill/>
          </a:ln>
        </p:spPr>
      </p:pic>
      <p:sp>
        <p:nvSpPr>
          <p:cNvPr id="1046" name="Text Box 6"/>
          <p:cNvSpPr/>
          <p:nvPr/>
        </p:nvSpPr>
        <p:spPr>
          <a:xfrm>
            <a:off x="250920" y="602136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роксин. Базедова болез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достаточность функции щитовидной желез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етском возраст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тин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ндемический зоб – заболевание, распространенное в определенной местности у большого числа ж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Йодированная соль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27:02Z</dcterms:created>
  <dc:creator>leh</dc:creator>
  <dc:description/>
  <dc:language>en-US</dc:language>
  <cp:lastModifiedBy>User</cp:lastModifiedBy>
  <dcterms:modified xsi:type="dcterms:W3CDTF">2015-04-22T10:33:12Z</dcterms:modified>
  <cp:revision>12</cp:revision>
  <dc:subject/>
  <dc:title>Железы внутренней секреции</dc:title>
</cp:coreProperties>
</file>