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AE479-336C-4051-A819-C8BA3617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15081-8E77-4C25-8F9E-A3E2EF93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908FF-BCA8-4E6D-995E-3452BD16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2F862-ADFE-4FE0-A1E4-434D50E0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34496-D145-4FED-815D-02B031EB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BEE0A-3BEA-4821-B2FE-C6F91E21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3914A-667A-4B10-8CDA-9E206A32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C9374-2AB3-4492-ABCF-940A00DA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F980A-2D3F-49FF-BEDC-7E4817A8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D5E6F-EB9E-46AC-A862-91DDEF67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AB856-1399-40C9-A99D-D8349368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D79F5-AF35-46C5-9EED-FD2B8343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E0048-B892-43A3-9497-3CC92F99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AE650-6D80-41F5-8816-152DFAC0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43ECE-CA63-4183-B6C3-8491FB28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9DE48-30C6-4EA6-8FE9-D6EBF413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AC2B2-9322-419F-AABB-38235B87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9E5E1-0CFA-4A1E-B531-9AB1C9BA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87E42-9549-499D-B83A-7D2D87EC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67E2E-FE64-4A31-A5F8-2E06F3D4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8461A-443B-4C6B-B90F-2C726376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E8648-6827-4F56-9888-3134AE29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3147C-35E9-40A5-AB69-3BA086A4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C6FF7-E46E-4865-8078-065E9964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8C5A4-4800-4D52-B62C-AA3C7D9A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FF362-0A48-4788-A432-595A3CB3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B768A-2996-4C66-B2EE-90101DBA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2233D-60EF-40F8-BF5E-5D17738E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F6828-DE64-440D-AEAA-C95E759A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68393-4D4B-4BE6-B4C6-9BDED2DF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B7F77-D952-42CC-8DC9-F9246B45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2A4FC-76AE-4E49-B429-FF2714F6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9791F-C5D0-4EF7-ABC1-E8A307F0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5DFC4-036D-4142-8B57-FA0B64FD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DFB1-E458-44D2-8BB1-E64C2268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366DF-DDB5-4863-A494-4D7B7F23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B22D0-BEBD-46D3-A0DE-106EDAFD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0350A-0356-4747-BF1B-57EDCDA9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316C-406B-4BFC-9E38-7FF1F78F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D5B7-8DFC-40C9-A60D-68738B4F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DB35-B907-4495-AF91-D8603D15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9EAE-FDD5-41D8-9E68-9CC33DEA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59C5-C067-459C-8F82-BEBE6BD5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DAFA-1AE3-4452-9377-B4F71191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CCFE5-9324-4BB3-8EFC-86D7B51D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F49C-99C3-463B-A6A3-0143C720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946C-9599-4F9E-AD01-BEBA5EC4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EC20-E2E5-4D7F-BBA2-046D46FD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8A3E-38D3-4329-A2E9-1F873113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7C16-A0C9-475A-92C5-3131FB6B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20249-1C00-4F3B-AFF5-66E9774B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78025-9201-42F3-8514-CB91671B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13072-862C-4489-BC30-FFCB82CA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BD394-B5A1-404B-8FB2-9E2724A1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CBFEC-8477-4E60-B746-DA563313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C8E3F-870E-4BE9-B403-B3A26FA8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74B9F-8431-4F79-9D42-3B09513F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605F1-D6D7-42F4-8C7E-6FFD5025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C44B4-9BFF-418D-BFDE-944E0CC6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53E9B-6A83-4416-B327-7135B669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605A3-1343-4A7C-AC6D-DE3F9234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F1AE3-9A13-4FF6-B024-524746F8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DC201-6AE9-429E-AFAB-200BAEA5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C3275-2D73-46C8-BAC0-694FBA42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15442-F366-4E91-87BC-7A2F6F4D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36CBB-5A4C-443E-85A3-341220EE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CE476-C0DB-4002-8FD3-D2AC259F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62DD4-D7F6-4FFA-9BE4-85A8D61D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45DEE-9506-4B8B-9CEA-8909EF84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CEB8A-D580-47AE-A51D-37D8AAA6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A336B-40F0-4518-A4FD-4C702A65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57D68-8ECE-401C-BD22-7029BAD6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F74AB-DB44-4A88-9117-A2960C84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74EC6-D7C0-4F48-A64A-4E67A12C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CA0F9-C4C9-4933-BA06-0E969995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7E27E-33AE-456B-BC0D-4535EFB0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E5A83-0BBC-4E7A-8521-B21EE3C2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2E6CD-45B1-47DD-BA01-27E2BFE9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AB914-6208-4608-A3A9-99F68057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0474C-B6A2-4A9B-971E-89EC0FF0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31A6F-971F-40BB-AEA2-4E8728AC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7A863-B60A-4E0B-9367-477017B0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34689-CD00-41AB-BA08-831FCBAE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1D8DF-135C-477C-942B-B01B73E4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D34B3-9025-4992-A048-792CB5D9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303F8-348C-40F4-8F4A-89D09C89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81E05-02D1-4138-AA94-0302C5A0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619B9-98E8-4EE3-9575-D06AE40B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B596F-004A-4B09-A6C8-F02F38E6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95411-5B88-4012-A203-C1F454FF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02AC0-464D-4960-B88D-DB34DB0F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0DC87-971F-4D51-9192-8005C304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C3AFB-651B-4906-B619-8C019D76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D4764-0BA6-4432-AC9B-48DFF4A5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A7AA4-F104-4E5B-931D-85A136F2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1413D-F207-4E31-ABCA-6A4DF7BA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9E9CC-4812-46E9-A670-ADB56D60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44E21-C322-4EA9-ACB1-C2E30438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58465-E773-48B6-8298-35B3903A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1CE23-AB86-4246-A555-1A7D1B49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63E15-B522-46D6-B5B1-916338E0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051A2-07D0-4B30-A398-39A2F161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DEB72-C20F-4FE4-AE06-33945357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6E72E-D922-47FC-B1EC-B3E9C9CE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1638B-6FAE-477C-8350-82AA2932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FA0C0-505B-4948-AE51-CC86927E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66F0D-6B82-46D6-893D-2ED08119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9C127-B089-49A0-8130-B49CC7A8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7AD54-560B-4DF6-800A-F8B81494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694E5-1639-49F3-90A4-1097F0DA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82E9B-3096-4168-A0AA-D62278E2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63EEB-4C49-47D2-9EDF-5EC0167B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5112D-7973-43DF-888D-42879FAC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2AB2E-FC25-4F52-81DC-DE1EAF5A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3B12A-58E7-46E2-B120-998D43B3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AC43E-CA62-421A-AC54-56437404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85B1D-070A-4E54-ABE3-A67E16E6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31F78-D4E5-45DB-BC7A-38C60417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BED0A-C345-488E-81EB-948139F9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F510B-AA50-4DFD-AF06-9C73B86B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3F649-D613-412B-8BD4-04E44BAF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8637E-7E8E-42C0-964E-571029C0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0EA5F-CDFC-4B12-B0A1-3C21C24A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221C1-5C64-4EEA-B53F-5A4CD987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DE8A9-B425-49A7-9FBF-E677B3C9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58339-F1BB-4EBE-BCD7-CD16D3A0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B2000-E066-40FA-A9AE-D268D7C8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584A9-1D4A-4859-9245-31FA44B0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130C2-4E88-4832-9613-B9CBDAA5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662E8-DF45-4E69-B160-ED592D07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1019D-E8AD-477B-9B80-629F481B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27C42-36DF-4128-B025-E9E15C7D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85.xml"/><Relationship Id="rId35" Type="http://schemas.openxmlformats.org/officeDocument/2006/relationships/slideLayout" Target="../slideLayouts/slideLayout86.xml"/><Relationship Id="rId36" Type="http://schemas.openxmlformats.org/officeDocument/2006/relationships/slideLayout" Target="../slideLayouts/slideLayout87.xml"/><Relationship Id="rId37" Type="http://schemas.openxmlformats.org/officeDocument/2006/relationships/slideLayout" Target="../slideLayouts/slideLayout88.xml"/><Relationship Id="rId38" Type="http://schemas.openxmlformats.org/officeDocument/2006/relationships/slideLayout" Target="../slideLayouts/slideLayout89.xml"/><Relationship Id="rId39" Type="http://schemas.openxmlformats.org/officeDocument/2006/relationships/slideLayout" Target="../slideLayouts/slideLayout90.xml"/><Relationship Id="rId40" Type="http://schemas.openxmlformats.org/officeDocument/2006/relationships/slideLayout" Target="../slideLayouts/slideLayout91.xml"/><Relationship Id="rId41" Type="http://schemas.openxmlformats.org/officeDocument/2006/relationships/slideLayout" Target="../slideLayouts/slideLayout92.xml"/><Relationship Id="rId42" Type="http://schemas.openxmlformats.org/officeDocument/2006/relationships/slideLayout" Target="../slideLayouts/slideLayout93.xml"/><Relationship Id="rId43" Type="http://schemas.openxmlformats.org/officeDocument/2006/relationships/slideLayout" Target="../slideLayouts/slideLayout94.xml"/><Relationship Id="rId44" Type="http://schemas.openxmlformats.org/officeDocument/2006/relationships/slideLayout" Target="../slideLayouts/slideLayout95.xml"/><Relationship Id="rId4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3B89-4490-4D84-BFDB-004638A314D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8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6E9A-524D-49EF-B7CA-2B0943A9161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1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942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943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4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5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6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7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8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9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50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1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2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3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4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5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56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57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8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9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60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961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2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3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64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965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6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7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68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969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0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1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72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973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4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5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76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7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8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9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0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1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2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AF94-2B4F-496D-BA27-890668287083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6067-4392-47E2-8ED6-FF4442AFDE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05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8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9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10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11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12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3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14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5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6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7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8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9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pic>
              <p:nvPicPr>
                <p:cNvPr id="120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8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9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8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8649-76AE-423A-9B0B-6633E8A61A5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0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0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A09C-DEA7-4F27-A3EE-694FE0C7F77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93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0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5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7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A04E-EA8B-4F74-8E50-DB94663DB48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50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1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52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55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6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57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462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463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4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5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466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467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8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9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70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471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2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3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74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475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78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9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1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4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5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0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1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4FDD-A28F-46C2-9540-D24E4372927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3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8F79-7B76-4EE2-A2B7-230F8F8E11C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6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pic>
              <p:nvPicPr>
                <p:cNvPr id="6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1EB3-9D0E-4C3A-8CB6-BBFDC2EFA07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4"/>
    <p:sldLayoutId id="2147483741" r:id="rId35"/>
    <p:sldLayoutId id="2147483742" r:id="rId36"/>
    <p:sldLayoutId id="2147483743" r:id="rId37"/>
    <p:sldLayoutId id="2147483744" r:id="rId38"/>
    <p:sldLayoutId id="2147483745" r:id="rId39"/>
    <p:sldLayoutId id="2147483746" r:id="rId40"/>
    <p:sldLayoutId id="2147483747" r:id="rId41"/>
    <p:sldLayoutId id="2147483748" r:id="rId42"/>
    <p:sldLayoutId id="2147483749" r:id="rId43"/>
    <p:sldLayoutId id="2147483750" r:id="rId44"/>
    <p:sldLayoutId id="2147483751" r:id="rId4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dt" idx="25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17FF-7AA3-48E5-ADCC-A2A1584EDAD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Железы внутренней секреци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уля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AutoShape 4"/>
          <p:cNvSpPr/>
          <p:nvPr/>
        </p:nvSpPr>
        <p:spPr>
          <a:xfrm>
            <a:off x="2843280" y="1916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AutoShape 5"/>
          <p:cNvSpPr/>
          <p:nvPr/>
        </p:nvSpPr>
        <p:spPr>
          <a:xfrm>
            <a:off x="4572000" y="1916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Text Box 6"/>
          <p:cNvSpPr/>
          <p:nvPr/>
        </p:nvSpPr>
        <p:spPr>
          <a:xfrm>
            <a:off x="2627280" y="29242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рв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Text Box 7"/>
          <p:cNvSpPr/>
          <p:nvPr/>
        </p:nvSpPr>
        <p:spPr>
          <a:xfrm>
            <a:off x="4427640" y="292428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умораль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Text Box 8"/>
          <p:cNvSpPr/>
          <p:nvPr/>
        </p:nvSpPr>
        <p:spPr>
          <a:xfrm>
            <a:off x="468360" y="3573360"/>
            <a:ext cx="8675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уморальная регуляция характеризуется следующими особенностям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сутствие точного адреса, по которому направляется химическое веще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имическое вещество распространяется относительно медлен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щество действует в ничтожных количествах и обычно быстро разрушается или выводится из организ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4" descr="Микседема"/>
          <p:cNvPicPr/>
          <p:nvPr/>
        </p:nvPicPr>
        <p:blipFill>
          <a:blip r:embed="rId1"/>
          <a:stretch/>
        </p:blipFill>
        <p:spPr>
          <a:xfrm>
            <a:off x="826920" y="1484280"/>
            <a:ext cx="2743200" cy="3301920"/>
          </a:xfrm>
          <a:prstGeom prst="rect">
            <a:avLst/>
          </a:prstGeom>
          <a:ln w="0">
            <a:noFill/>
          </a:ln>
        </p:spPr>
      </p:pic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385128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недостатк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ирокс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взрослых людей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КСЕД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-за недостатка й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щитовидная железа эт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енщины сильно увеличе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4" name="Picture 4" descr="зоб"/>
          <p:cNvPicPr/>
          <p:nvPr/>
        </p:nvPicPr>
        <p:blipFill>
          <a:blip r:embed="rId1"/>
          <a:stretch/>
        </p:blipFill>
        <p:spPr>
          <a:xfrm>
            <a:off x="5867280" y="1773360"/>
            <a:ext cx="23814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оджелудочная желез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6" name="Picture 4" descr="7[1]"/>
          <p:cNvPicPr/>
          <p:nvPr/>
        </p:nvPicPr>
        <p:blipFill>
          <a:blip r:embed="rId1"/>
          <a:stretch/>
        </p:blipFill>
        <p:spPr>
          <a:xfrm>
            <a:off x="1042920" y="1052640"/>
            <a:ext cx="6791400" cy="4530600"/>
          </a:xfrm>
          <a:prstGeom prst="rect">
            <a:avLst/>
          </a:prstGeom>
          <a:ln w="0">
            <a:noFill/>
          </a:ln>
        </p:spPr>
      </p:pic>
      <p:sp>
        <p:nvSpPr>
          <p:cNvPr id="1057" name="Text Box 6"/>
          <p:cNvSpPr/>
          <p:nvPr/>
        </p:nvSpPr>
        <p:spPr>
          <a:xfrm>
            <a:off x="324000" y="5877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сулин. Сахарный диабет.   Глюкаго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ипофиз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9" name="Picture 4" descr="1[1]"/>
          <p:cNvPicPr/>
          <p:nvPr/>
        </p:nvPicPr>
        <p:blipFill>
          <a:blip r:embed="rId1"/>
          <a:stretch/>
        </p:blipFill>
        <p:spPr>
          <a:xfrm>
            <a:off x="1476360" y="907920"/>
            <a:ext cx="5861160" cy="4530960"/>
          </a:xfrm>
          <a:prstGeom prst="rect">
            <a:avLst/>
          </a:prstGeom>
          <a:ln w="0">
            <a:noFill/>
          </a:ln>
        </p:spPr>
      </p:pic>
      <p:sp>
        <p:nvSpPr>
          <p:cNvPr id="1060" name="Text Box 6"/>
          <p:cNvSpPr/>
          <p:nvPr/>
        </p:nvSpPr>
        <p:spPr>
          <a:xfrm>
            <a:off x="324000" y="5373720"/>
            <a:ext cx="85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рмон роста – соматотропин. Меланофорный гормон – окраска кож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зопрессин – обратное всасывание воды из первичной мочи, влияние на солевой состав кров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игантизм. Карликовость. Акромегал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акромегалия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62" name="Рисунок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083200" cy="3813120"/>
          </a:xfrm>
          <a:prstGeom prst="rect">
            <a:avLst/>
          </a:prstGeom>
          <a:ln w="0">
            <a:noFill/>
          </a:ln>
        </p:spPr>
      </p:pic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4" descr="464px-Thomas_Dilward_-_Brady-Handy[1]"/>
          <p:cNvPicPr/>
          <p:nvPr/>
        </p:nvPicPr>
        <p:blipFill>
          <a:blip r:embed="rId1"/>
          <a:stretch/>
        </p:blipFill>
        <p:spPr>
          <a:xfrm>
            <a:off x="250920" y="1628640"/>
            <a:ext cx="3678120" cy="48690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5" descr="83_2"/>
          <p:cNvPicPr/>
          <p:nvPr/>
        </p:nvPicPr>
        <p:blipFill>
          <a:blip r:embed="rId2"/>
          <a:stretch/>
        </p:blipFill>
        <p:spPr>
          <a:xfrm>
            <a:off x="4427640" y="765000"/>
            <a:ext cx="413856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оловые желез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067" name="Picture 4" descr="11[1]"/>
          <p:cNvPicPr/>
          <p:nvPr/>
        </p:nvPicPr>
        <p:blipFill>
          <a:blip r:embed="rId1"/>
          <a:stretch/>
        </p:blipFill>
        <p:spPr>
          <a:xfrm>
            <a:off x="324000" y="1341360"/>
            <a:ext cx="4038480" cy="32400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6" descr="12[1]"/>
          <p:cNvPicPr/>
          <p:nvPr/>
        </p:nvPicPr>
        <p:blipFill>
          <a:blip r:embed="rId2"/>
          <a:stretch/>
        </p:blipFill>
        <p:spPr>
          <a:xfrm>
            <a:off x="4572000" y="1484280"/>
            <a:ext cx="4038480" cy="2855880"/>
          </a:xfrm>
          <a:prstGeom prst="rect">
            <a:avLst/>
          </a:prstGeom>
          <a:ln w="0">
            <a:noFill/>
          </a:ln>
        </p:spPr>
      </p:pic>
      <p:sp>
        <p:nvSpPr>
          <p:cNvPr id="1069" name="Text Box 8"/>
          <p:cNvSpPr/>
          <p:nvPr/>
        </p:nvSpPr>
        <p:spPr>
          <a:xfrm>
            <a:off x="1619280" y="4724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мен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Text Box 9"/>
          <p:cNvSpPr/>
          <p:nvPr/>
        </p:nvSpPr>
        <p:spPr>
          <a:xfrm>
            <a:off x="5940360" y="4724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ич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Text Box 10"/>
          <p:cNvSpPr/>
          <p:nvPr/>
        </p:nvSpPr>
        <p:spPr>
          <a:xfrm>
            <a:off x="539640" y="515772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разование половых клето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деление гормон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Picture 4" descr="м и ж"/>
          <p:cNvPicPr/>
          <p:nvPr/>
        </p:nvPicPr>
        <p:blipFill>
          <a:blip r:embed="rId1"/>
          <a:stretch/>
        </p:blipFill>
        <p:spPr>
          <a:xfrm>
            <a:off x="2700360" y="189000"/>
            <a:ext cx="3809880" cy="5543640"/>
          </a:xfrm>
          <a:prstGeom prst="rect">
            <a:avLst/>
          </a:prstGeom>
          <a:ln w="0">
            <a:noFill/>
          </a:ln>
        </p:spPr>
      </p:pic>
      <p:sp>
        <p:nvSpPr>
          <p:cNvPr id="1073" name="Text Box 5"/>
          <p:cNvSpPr/>
          <p:nvPr/>
        </p:nvSpPr>
        <p:spPr>
          <a:xfrm>
            <a:off x="539640" y="476280"/>
            <a:ext cx="1871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 мужчин 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стостерон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дростеро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Text Box 6"/>
          <p:cNvSpPr/>
          <p:nvPr/>
        </p:nvSpPr>
        <p:spPr>
          <a:xfrm>
            <a:off x="6877080" y="404640"/>
            <a:ext cx="17985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 женщин 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строге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092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ы органов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Picture 4" descr="20"/>
          <p:cNvPicPr/>
          <p:nvPr/>
        </p:nvPicPr>
        <p:blipFill>
          <a:blip r:embed="rId1"/>
          <a:stretch/>
        </p:blipFill>
        <p:spPr>
          <a:xfrm>
            <a:off x="-108000" y="620640"/>
            <a:ext cx="94392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4" descr="800"/>
          <p:cNvPicPr/>
          <p:nvPr/>
        </p:nvPicPr>
        <p:blipFill>
          <a:blip r:embed="rId1"/>
          <a:stretch/>
        </p:blipFill>
        <p:spPr>
          <a:xfrm>
            <a:off x="395280" y="404640"/>
            <a:ext cx="3321000" cy="525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4" name=""/>
          <p:cNvGraphicFramePr/>
          <p:nvPr/>
        </p:nvGraphicFramePr>
        <p:xfrm>
          <a:off x="3708360" y="189000"/>
          <a:ext cx="5230800" cy="5883120"/>
        </p:xfrm>
        <a:graphic>
          <a:graphicData uri="http://schemas.openxmlformats.org/drawingml/2006/table">
            <a:tbl>
              <a:tblPr/>
              <a:tblGrid>
                <a:gridCol w="1655640"/>
                <a:gridCol w="1872000"/>
                <a:gridCol w="17031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лезы внешней секре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лезы смешанной секре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лезы внутренней секре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юн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желудоч 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пифи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лудоч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ов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пофи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льны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итовид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тов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лочков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почеч ни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Text Box 4"/>
          <p:cNvSpPr/>
          <p:nvPr/>
        </p:nvSpPr>
        <p:spPr>
          <a:xfrm>
            <a:off x="324000" y="476280"/>
            <a:ext cx="69847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елезы внутренней секреции (эндокринные железы) – железы, не имеющие выводных протоков, выделяющие образующиеся в них вещества прямо в кров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дукты желез внутренней секреции называют гормон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рмоны – специфические, физиологически активные вещества, вырабатываемые железами внутренней секреции. Они оказывают влияние на рост и развитие организма, на процессы полового созревания, участвуют в регуляции деятельности организ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AutoShape 5"/>
          <p:cNvSpPr/>
          <p:nvPr/>
        </p:nvSpPr>
        <p:spPr>
          <a:xfrm>
            <a:off x="324000" y="620640"/>
            <a:ext cx="71280" cy="71640"/>
          </a:xfrm>
          <a:custGeom>
            <a:avLst/>
            <a:gdLst>
              <a:gd name="textAreaLeft" fmla="*/ 29160 w 71280"/>
              <a:gd name="textAreaRight" fmla="*/ 42120 w 71280"/>
              <a:gd name="textAreaTop" fmla="*/ 29520 h 71640"/>
              <a:gd name="textAreaBottom" fmla="*/ 42120 h 7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войства гормонов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1) гормоны обладают высокой специфической активностью. Так, 1 г адреналина (гормон надпочечников) достаточно, чтобы усилить работу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100 000 000 изолированных сердец лягушек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1 г инсулина (гормон поджелудочной железы) способен понизить уровень сахара в крови 125000 кролика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2) Размер молекул гормонов сравнительно небольш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3) Гормоны быстро разрушаютс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4) обладают относительной специфичностью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Text Box 4"/>
          <p:cNvSpPr/>
          <p:nvPr/>
        </p:nvSpPr>
        <p:spPr>
          <a:xfrm>
            <a:off x="539640" y="1890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процессе лекции заполняйте таблицу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0" name=""/>
          <p:cNvGraphicFramePr/>
          <p:nvPr/>
        </p:nvGraphicFramePr>
        <p:xfrm>
          <a:off x="539640" y="1268280"/>
          <a:ext cx="8136000" cy="4683240"/>
        </p:xfrm>
        <a:graphic>
          <a:graphicData uri="http://schemas.openxmlformats.org/drawingml/2006/table">
            <a:tbl>
              <a:tblPr/>
              <a:tblGrid>
                <a:gridCol w="1871640"/>
                <a:gridCol w="2400480"/>
                <a:gridCol w="2208240"/>
                <a:gridCol w="1655640"/>
              </a:tblGrid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елеза внутренней секре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ормон, выделяемый желез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начение гормо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болевания при недостатке или избытк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2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дпочечни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2" name="Picture 4" descr="8[2]"/>
          <p:cNvPicPr/>
          <p:nvPr/>
        </p:nvPicPr>
        <p:blipFill>
          <a:blip r:embed="rId1"/>
          <a:stretch/>
        </p:blipFill>
        <p:spPr>
          <a:xfrm>
            <a:off x="1763640" y="1268280"/>
            <a:ext cx="5542200" cy="4499280"/>
          </a:xfrm>
          <a:prstGeom prst="rect">
            <a:avLst/>
          </a:prstGeom>
          <a:ln w="0">
            <a:noFill/>
          </a:ln>
        </p:spPr>
      </p:pic>
      <p:sp>
        <p:nvSpPr>
          <p:cNvPr id="1043" name="Text Box 6"/>
          <p:cNvSpPr/>
          <p:nvPr/>
        </p:nvSpPr>
        <p:spPr>
          <a:xfrm>
            <a:off x="611280" y="6093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дреналин. Аддисонова болезнь (бронзовая болезнь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Щитовидная желе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5" name="Picture 4" descr="3[2]"/>
          <p:cNvPicPr/>
          <p:nvPr/>
        </p:nvPicPr>
        <p:blipFill>
          <a:blip r:embed="rId1"/>
          <a:stretch/>
        </p:blipFill>
        <p:spPr>
          <a:xfrm>
            <a:off x="1835280" y="1197000"/>
            <a:ext cx="5495760" cy="4498920"/>
          </a:xfrm>
          <a:prstGeom prst="rect">
            <a:avLst/>
          </a:prstGeom>
          <a:ln w="0">
            <a:noFill/>
          </a:ln>
        </p:spPr>
      </p:pic>
      <p:sp>
        <p:nvSpPr>
          <p:cNvPr id="1046" name="Text Box 6"/>
          <p:cNvSpPr/>
          <p:nvPr/>
        </p:nvSpPr>
        <p:spPr>
          <a:xfrm>
            <a:off x="250920" y="6021360"/>
            <a:ext cx="856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ироксин. Базедова болез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достаточность функции щитовидной желез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етском возраст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етиниз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ндемический зоб – заболевание, распространенное в определенной местности у большого числа жи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Йодированная соль!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7:27:02Z</dcterms:created>
  <dc:creator>leh</dc:creator>
  <dc:description/>
  <dc:language>en-US</dc:language>
  <cp:lastModifiedBy>User</cp:lastModifiedBy>
  <dcterms:modified xsi:type="dcterms:W3CDTF">2015-04-22T10:33:12Z</dcterms:modified>
  <cp:revision>12</cp:revision>
  <dc:subject/>
  <dc:title>Железы внутренней секреции</dc:title>
</cp:coreProperties>
</file>