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B1F6-9C1F-4013-9632-0D813644A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2C26-3326-479E-ACC6-C5461BF36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CDE-DC1B-4E08-9DCC-51EE605B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13D-637A-4F05-A5E4-28975FF3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52B-251F-49AC-BA43-275AFFEB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686-21F6-4770-89AB-672EBB4C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30C-8F30-4EBF-B34E-8407530D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32C-7E5E-42F2-B8A9-D3F1B53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BEA-5885-4445-9E59-AB318E75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120-BE53-4773-9B55-89E8EDAC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084-DF58-401B-8B5F-3B0837B5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53E-1AFA-403C-9E24-3D50A8E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BBA-08B8-4283-949E-964A9F8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160-EAC5-4F3C-9846-7E4EFA52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FDBE-B75D-49A8-9420-C9EDFCBB0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Существовала некогда послов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Что дети не живут, а жить готовя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Но вряд ли в жизни преуспеет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Кто жить готовясь, в детстве не жив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С.Я.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03. Белые кораблики.mp3" descr=""/>
          <p:cNvPicPr/>
          <p:nvPr/>
        </p:nvPicPr>
        <p:blipFill>
          <a:blip r:embed="rId1"/>
          <a:stretch/>
        </p:blipFill>
        <p:spPr>
          <a:xfrm>
            <a:off x="64296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Из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Упоминания о жестокостях к детям в различных литературных источниках встречаются до II в. н.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тей убивали в ритуальных целях: считалось, что убитый ребенок может помочь бесплодным женщинам справиться с болезнями, обеспечить здоровье и молод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х хоронили под фундаментом здания, чтобы сделать его прочне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тей продавали и покуп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Научными исследованиями установлено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силие в той или иной форме совершается в каждой четвертой российской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жегодно около 2 млн. детей в возрасте до 14 лет избиваются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10% этих детей исходом становится смерть, а для 2 тыс.- самоубий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ее 50 тыс. детей в течение года уходят из дома, спасаясь от собственных родителей, а 25 тыс. несовершеннолетних находятся в розы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41934889_bit"/>
          <p:cNvPicPr/>
          <p:nvPr/>
        </p:nvPicPr>
        <p:blipFill>
          <a:blip r:embed="rId1"/>
          <a:stretch/>
        </p:blipFill>
        <p:spPr>
          <a:xfrm>
            <a:off x="4932360" y="476280"/>
            <a:ext cx="4108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60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2008 году от жестокого обращения с детьми погибло 1914 детей, искалечено 2330 детей (по данным из Совета Федерац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оло 10 тыс. родителей лишаются судами родительских прав и более 2,5 тыс. детей забираются у родителей без такого лишения, поскольку нахождение ребенка в семье представляет угрозу его жизни и здор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504_37"/>
          <p:cNvPicPr/>
          <p:nvPr/>
        </p:nvPicPr>
        <p:blipFill>
          <a:blip r:embed="rId1"/>
          <a:stretch/>
        </p:blipFill>
        <p:spPr>
          <a:xfrm>
            <a:off x="4932360" y="404640"/>
            <a:ext cx="4021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g_157_44_2"/>
          <p:cNvPicPr/>
          <p:nvPr/>
        </p:nvPicPr>
        <p:blipFill>
          <a:blip r:embed="rId1"/>
          <a:stretch/>
        </p:blipFill>
        <p:spPr>
          <a:xfrm>
            <a:off x="250920" y="260280"/>
            <a:ext cx="4249800" cy="324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df446"/>
          <p:cNvPicPr/>
          <p:nvPr/>
        </p:nvPicPr>
        <p:blipFill>
          <a:blip r:embed="rId2"/>
          <a:stretch/>
        </p:blipFill>
        <p:spPr>
          <a:xfrm>
            <a:off x="4356000" y="3597120"/>
            <a:ext cx="4618080" cy="307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716360" y="260280"/>
            <a:ext cx="410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2000 г. зарегистрировано 2557 преступлений (в 1998 г. - 1969, в 1999 г. - 2116), предусмотренных ст. 156 УК РФ (неисполнение обязанностей по воспитанию несовершеннолетних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79280" y="3645000"/>
            <a:ext cx="42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80% случаев дети попадают в приюты и детские дома из-за невыполнения родителями своих прямых обязанностей по воспитанию, что создает реальную угрозу их жизни и здоров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сновная причина жестокого обращения с детьми -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нутренняя агрессивность – эмоциональное состояние, возникающее как реакция на переживание непреодолимости каких-то барьеров или недоступность чего-то желанног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p2008_10_23_571"/>
          <p:cNvPicPr/>
          <p:nvPr/>
        </p:nvPicPr>
        <p:blipFill>
          <a:blip r:embed="rId1"/>
          <a:stretch/>
        </p:blipFill>
        <p:spPr>
          <a:xfrm>
            <a:off x="2340000" y="3284640"/>
            <a:ext cx="4680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032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мериканский врач С. Кемп и его сотрудники в 1962 г. описали </a:t>
            </a: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«синдром избиваемого ребенка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манные к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ровот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сад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иня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345994"/>
          <p:cNvPicPr/>
          <p:nvPr/>
        </p:nvPicPr>
        <p:blipFill>
          <a:blip r:embed="rId1"/>
          <a:stretch/>
        </p:blipFill>
        <p:spPr>
          <a:xfrm>
            <a:off x="179280" y="692280"/>
            <a:ext cx="4753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68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еный-психолог Д. Гилл разделил детей - жертв жестокого обращения на несколько возрастных групп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вая - от 1 года до 2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торая - от 3 до 9 лет (число случаев удваивает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етья - с 9 до 15 лет (частота снова понижается, пока не достигается исходный уровень, а после 16 лет постепенно совсем исчеза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4ildren_sized"/>
          <p:cNvPicPr/>
          <p:nvPr/>
        </p:nvPicPr>
        <p:blipFill>
          <a:blip r:embed="rId1"/>
          <a:stretch/>
        </p:blipFill>
        <p:spPr>
          <a:xfrm>
            <a:off x="4932360" y="549360"/>
            <a:ext cx="4044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Виды насилия над детьми в сем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6360" y="1341000"/>
            <a:ext cx="38163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физическое наси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енебре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ексуальное наси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сихологическое жестокое обра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-4-2"/>
          <p:cNvPicPr/>
          <p:nvPr/>
        </p:nvPicPr>
        <p:blipFill>
          <a:blip r:embed="rId1"/>
          <a:stretch/>
        </p:blipFill>
        <p:spPr>
          <a:xfrm>
            <a:off x="179280" y="1484280"/>
            <a:ext cx="4751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Пренебре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511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небрежение  основными нуждами ребенка (моральная жестокость) -это   отсутствие   со   стороны  родителей  или  лиц,  их  заменяющих, элементарной   заботы  о  нем,  а  также  недобросовестное  выполнение обязанностей  по  воспитанию ребенка, в результате чего его здоровье и развитие нарушаю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lach_1"/>
          <p:cNvPicPr/>
          <p:nvPr/>
        </p:nvPicPr>
        <p:blipFill>
          <a:blip r:embed="rId1"/>
          <a:stretch/>
        </p:blipFill>
        <p:spPr>
          <a:xfrm>
            <a:off x="5292720" y="162864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50920" y="25992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аще  всего  пренебрегают  основными  нуждами  детей родители или лица,  их  заменяющие:  алкоголики,  наркоманы;  лица  с  психическими расстройствами;   юные   родители,   не   имеющие   опыта   и  навыков родительства;  с низким социально-экономическим уровнем жизни; имеющие хронические    заболевания,   инвалидность,   умственную   отсталость; перенесшие жестокое обращение в детстве; социально изолирован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213617112_11111"/>
          <p:cNvPicPr/>
          <p:nvPr/>
        </p:nvPicPr>
        <p:blipFill>
          <a:blip r:embed="rId1"/>
          <a:stretch/>
        </p:blipFill>
        <p:spPr>
          <a:xfrm>
            <a:off x="250920" y="105264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id6"/>
          <p:cNvPicPr/>
          <p:nvPr/>
        </p:nvPicPr>
        <p:blipFill>
          <a:blip r:embed="rId1"/>
          <a:stretch/>
        </p:blipFill>
        <p:spPr>
          <a:xfrm>
            <a:off x="1835280" y="290520"/>
            <a:ext cx="590544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Georgia"/>
              </a:rPr>
              <a:t>Последствия пренебре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Внешние проявл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мленный сонный вид, бледное лицо, опухшие ве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грудных детей обезвоженность, опрелости, сып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ежда неряшливая, не соответствует сезону и размеру ребен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чистоплотность, несвежий зап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Физические признак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тавание в весе и росте от сверст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икулез, чесотка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ые  "несчастные случаи", гнойные и хронические инфекционные заболе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щенный кариес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надлежащих привив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ержка речевого и психического разви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Особенности поведени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оянный  голод и жажда: может красть пищу, рыться в отбросах и т.п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игра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оянный поиск внимания/участ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ые пропуски школьных занятий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йности  поведения: инфантилен или принимает роль взрослого и ведет   себя   в  "псевдовзрослой"  манере;  агрессивен  или  замкнут, апатичен;  гиперактивен  или  подавлен; неразборчиво дружелюбен или не желает и не умеет общаться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лонность к поджогам, жестокость к животным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турбация, раскачивание, сосание пальцев и п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Georgia"/>
              </a:rPr>
              <a:t>Психологическое наси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114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моциональным (психологическим) насилием является однократное или хроническое  психическое  воздействие на ребенка или его отвержение со стороны  родителей  и  других  взрослых,  вследствие  чего  у  ребенка нарушаются   эмоциональное   развитие,   поведение   и  способность  к социал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40390603_1"/>
          <p:cNvPicPr/>
          <p:nvPr/>
        </p:nvPicPr>
        <p:blipFill>
          <a:blip r:embed="rId1"/>
          <a:stretch/>
        </p:blipFill>
        <p:spPr>
          <a:xfrm>
            <a:off x="4859280" y="1268280"/>
            <a:ext cx="3816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Georgia"/>
              </a:rPr>
              <a:t>К психологическому насилию относ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грозы  в  адрес  ребенка,  проявляющиеся в словесной форме без применения  физической  си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корбление и унижение его достоин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рытое неприятие и постоянная кри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ишение   ребенка  необходимой  стимуляции,  игнорирование  его основных нужд в безопасном окружении, родительской люб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ъявление к  ребенку  чрезмерных требований, не соответствующих его возрасту или возможнос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нократное грубое психическое воздействие, вызвавшее у ребенка психическую травм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намеренная   изоляция   ребенка,   лишение  его  социальных контак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влечение   ребенка   или   поощрение  к  антисоциальному  или деструктивному поведению (алкоголизм, наркомания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Georgia"/>
              </a:rPr>
              <a:t>Особенности       детей,       подвергающихся      эмоциональному (психологическому) насил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держка психическ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возможность сконцентрироваться, плохая успеваем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изкая самооцен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эмоциональные   нарушения   в   виде   агрессии,  гнева  (часто обращенных против самого себя), подавленное состояни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збыточная потребность во вним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епрессия, попытки суицида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умение  общаться  со  сверстниками  (заискивающее  поведение, чрезмерная уступчивость или агрессивность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ожь,  воровство, девиантное (или "отклоняющееся", асоциальное)поведени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рвно-психические  и  психосоматические  заболевания: неврозы, энурез,  тики,  расстройства сна, нарушения аппетита, ожирение, кожные заболевания, астма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Georgia"/>
              </a:rPr>
              <a:t>Группы риска детей по эмоциональному насили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 от   нежеланной   беременности,   похожие  на  нелюбимых родственников жены или мужа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раннего возраста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-инвалиды, дети с наследственными заболеваниями или другими особенност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из  семей  с  деспотичным,  авторитарным,  контролирующим стилем воспитания и взаимоотношений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из  семей,  где  внутрисемейное  насилие  является стилем жи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,  родители  (или  один  из  родителей) которых употребляют алкоголь, наркотики, страдают депрессией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,   в   семье   которых   много  социально-экономических  и психологически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Особенности   поведения   взрослых,   совершающих   эмоциональное насил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 утешают ребенка, когда тот в этом нуждается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ублично оскорбляют, бранят, унижают, осмеивают ребе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равнивают   с  другими  детьми  не  в  его  пользу,  постоянно сверхкритично относятся к нему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виняют  его  во всех своих неудачах, делают из ребенка "козла отпущения" и п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mage004"/>
          <p:cNvPicPr/>
          <p:nvPr/>
        </p:nvPicPr>
        <p:blipFill>
          <a:blip r:embed="rId1"/>
          <a:stretch/>
        </p:blipFill>
        <p:spPr>
          <a:xfrm>
            <a:off x="7236000" y="1989000"/>
            <a:ext cx="1438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Georgia"/>
              </a:rPr>
              <a:t>Сексуальное насилие над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ксуальное насилие над детьми американские исследователи определяют как любой сексуальный опыт между ребенком до 16 лет (по отдельным источникам - до 18 лет) и человеком, который старше его по крайней мере на 5 лет. Данный вид насилия характеризуется или как вовлечение зависимых, психически и физиологически незрелых детей и подростков в сексуальные действия, нарушающие общественные табу семейных ролей, которые они еще не могут полностью понять и на которые не в состоянии дать осмысленного согласия. Сексуальное насилие рассматривается как вариант 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особо жестокого обращения с детьми.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ексуальное насилие чаще всего происходит в семьях, где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атриархально-авторитарный укла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охие   взаимоотношения   ребенка  с  родителями,  особенно  с матер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фликтные отношения между родител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ребенка чрезмерно занята на рабо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бенок долгое время жил без родного от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место родного отца - отчим или сожитель матери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 имеет  хроническое заболевание или инвалидность и подолгу лежит в больн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(или один из них) являются алкоголиками, наркоманами, токсикоман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(или один из них) имеют психические заболе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в детстве подвергалась сексуальному насилию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Физическое наси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0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зическое  насилие  -  это  преднамеренное нанесение травм и/или повреждений ребенку, которые вызывают серьезные (требующие медицинской помощи)  нарушения  физического,  психического  здоровья, отставание в развит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lip-image00151"/>
          <p:cNvPicPr/>
          <p:nvPr/>
        </p:nvPicPr>
        <p:blipFill>
          <a:blip r:embed="rId1"/>
          <a:stretch/>
        </p:blipFill>
        <p:spPr>
          <a:xfrm>
            <a:off x="4643280" y="126828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Чаще всего это происходит в семьях, гд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беждены,  что физическое наказание является методом выбора для воспитания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(или один из них) являются алкоголиками, наркоманами, токсикоман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(или один из них) имеют психические заболе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рушен   эмоционально-психологический  климат  (частые  ссоры, скандалы, отсутствие уважения друг к другу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находятся  в  состоянии  стресса  в  связи со смертью близких, болезнью, потерей работы, экономическим кризисом и др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 предъявляют   чрезмерные   требования  к  детям,  несоответствующие их возрасту и уровню развит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имеют  особенности:  недоношенность  в  анамнезе, наличие соматических    или   психических   заболеваний;   они   гиперактивны, неусидчив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ands"/>
          <p:cNvPicPr/>
          <p:nvPr/>
        </p:nvPicPr>
        <p:blipFill>
          <a:blip r:embed="rId1"/>
          <a:stretch/>
        </p:blipFill>
        <p:spPr>
          <a:xfrm>
            <a:off x="1042920" y="0"/>
            <a:ext cx="7020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708000" y="260280"/>
            <a:ext cx="5111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Физическое насилие проявляется к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ары по лиц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яски, тол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трещ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уш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ин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лючение в запертом помещении, где они удерживаются сил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биение ремнем, верев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несение увечий тяжелыми предметами, даже нож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01722"/>
          <p:cNvPicPr/>
          <p:nvPr/>
        </p:nvPicPr>
        <p:blipFill>
          <a:blip r:embed="rId1"/>
          <a:stretch/>
        </p:blipFill>
        <p:spPr>
          <a:xfrm>
            <a:off x="179280" y="476280"/>
            <a:ext cx="331308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052719_1208418460"/>
          <p:cNvPicPr/>
          <p:nvPr/>
        </p:nvPicPr>
        <p:blipFill>
          <a:blip r:embed="rId2"/>
          <a:stretch/>
        </p:blipFill>
        <p:spPr>
          <a:xfrm>
            <a:off x="179280" y="350028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иболее часто физическому насилию в семье подвергаются дети, имеющие физические или психические отклонения, недоношенные, с малым весом при рождении, так как обычно они более раздражительны, больше плачут, менее привлекательны внешн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217"/>
          <p:cNvPicPr/>
          <p:nvPr/>
        </p:nvPicPr>
        <p:blipFill>
          <a:blip r:embed="rId1"/>
          <a:stretch/>
        </p:blipFill>
        <p:spPr>
          <a:xfrm>
            <a:off x="2556000" y="3789360"/>
            <a:ext cx="43066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Georgia"/>
              </a:rPr>
              <a:t>Распознание факта физического насилия над ребен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арактер поврежд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яки,   ссадины,   раны,  следы  от  ударов  ремнем,  укусов, прижигания  горячими  предметами, сигаретами, располагающиеся на лице, теле, конечност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жоги  горячими  жидкостями  кистей  и  ног в виде перчатки или носка (от погружения в горячую воду), а также на ягодиц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реждения  и  переломы  костей,  припухлость  и болезненность сустав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битые  и  расшатанные  зубы,  разрывы  или  порезы во рту, на губ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стки облысения, кровоподтеки на голо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реждения внутренних органов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74b52c83e8d4"/>
          <p:cNvPicPr/>
          <p:nvPr/>
        </p:nvPicPr>
        <p:blipFill>
          <a:blip r:embed="rId1"/>
          <a:stretch/>
        </p:blipFill>
        <p:spPr>
          <a:xfrm>
            <a:off x="7164360" y="5157720"/>
            <a:ext cx="1776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собенности психического состояния и поведения ребенка, позволяющие заподозрить физическое насилие, в зависимости от возраста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eorgia"/>
              </a:rPr>
              <a:t>Возраст 0-6 месяц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алоподвиж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зразличие к окружающему мир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тсутствие или слабая реакция на внешние стиму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едкая улыбка в возрасте 3-6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4762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Возраст 6 месяцев – 1,5 г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язнь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язнь физического контакта со взросл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тоянная беспричинная настороже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лаксивость, постоянное хныканье, замкнутость, печ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спуг или подавленность при попытке взрослых взять на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Возраст 1,5 – 3 г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язнь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дкие проявления радости, плаксив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акция испуга на плач други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райности в поведении – от чрезмерной агрессивности до безуча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hild_abuse_2_pre"/>
          <p:cNvPicPr/>
          <p:nvPr/>
        </p:nvPicPr>
        <p:blipFill>
          <a:blip r:embed="rId1"/>
          <a:stretch/>
        </p:blipFill>
        <p:spPr>
          <a:xfrm>
            <a:off x="5076720" y="549360"/>
            <a:ext cx="38577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Возраст 3 года – 6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мирение со случившимся, отсутствие сопроти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ассивная реакция на б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езненное отношение к замечаниям, кри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искивающее поведение, чрезмерная уступчив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севдовзрослое поведение (внешне копирует поведение взросл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гативизм, агресс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живость, воров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стокость по отношению к живот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050711212136_6-koshka3"/>
          <p:cNvPicPr/>
          <p:nvPr/>
        </p:nvPicPr>
        <p:blipFill>
          <a:blip r:embed="rId1"/>
          <a:stretch/>
        </p:blipFill>
        <p:spPr>
          <a:xfrm>
            <a:off x="5364000" y="1557360"/>
            <a:ext cx="36720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eorgia"/>
              </a:rPr>
              <a:t>Младший школьный возр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тремление скрыть причину повреждений и трав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очество, отсутствие друз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оязнь идти домой после шко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eorgia"/>
              </a:rPr>
              <a:t>Подростковый возр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беги из до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уицидальные попы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линквентное повед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потребления алкоголя, нарко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26-937"/>
          <p:cNvPicPr/>
          <p:nvPr/>
        </p:nvPicPr>
        <p:blipFill>
          <a:blip r:embed="rId1"/>
          <a:stretch/>
        </p:blipFill>
        <p:spPr>
          <a:xfrm>
            <a:off x="6659640" y="3141720"/>
            <a:ext cx="2165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634920" y="404640"/>
            <a:ext cx="525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сновными  особенностями  поведения  родителей или опекунов, если они избивают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тиворечивые, путаные объяснения причин травм у де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винение в травмах самого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зднее обращение или не обращение за медицинской помощь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тсутствие  эмоциональной  поддержки  и  ласки  в  обращении  с ребен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спровоцированная агрессия по отношению к персонал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большее  внимание  собственным  проблемам,  нежели  имеющимся у ребенка поврежд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cf51131_jpg"/>
          <p:cNvPicPr/>
          <p:nvPr/>
        </p:nvPicPr>
        <p:blipFill>
          <a:blip r:embed="rId1"/>
          <a:stretch/>
        </p:blipFill>
        <p:spPr>
          <a:xfrm>
            <a:off x="250920" y="620640"/>
            <a:ext cx="3311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Georgia"/>
              </a:rPr>
              <a:t>Последствия жестокого обращения с детьми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32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ход в религиозные с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единения в неформальные группы с криминальной и фашисткой направлен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грессивное, преступное поведение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бежавшие из дома дети умирают от голода и холода, становятся жертвами других детей, также сбежавших от домашнего насил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97007"/>
          <p:cNvPicPr/>
          <p:nvPr/>
        </p:nvPicPr>
        <p:blipFill>
          <a:blip r:embed="rId1"/>
          <a:stretch/>
        </p:blipFill>
        <p:spPr>
          <a:xfrm>
            <a:off x="5611680" y="1197000"/>
            <a:ext cx="3110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Защита детей государ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венция о правах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"Об основах системы профилактики безнадзорности и правонарушений несовершеннолетних«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кон "Об основных гарантиях прав ребенка в Российской Федерации«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а депутатов внесла в Государственную думу законопроект, предусматривающий усиление гарантий прав детей на надлежащее духовно-нравственное воспитание, а также ответственности за жестокое обращение с несовершеннолет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9951fbe0933748cf813f4c908e081d4"/>
          <p:cNvPicPr/>
          <p:nvPr/>
        </p:nvPicPr>
        <p:blipFill>
          <a:blip r:embed="rId1"/>
          <a:stretch/>
        </p:blipFill>
        <p:spPr>
          <a:xfrm>
            <a:off x="611280" y="0"/>
            <a:ext cx="7812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86421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оме того, авторы законопроекта обращают внимание на то, что в ныне действующем законодательстве предусмотрено более строгое наказание за жестокое обращение с животными - лишение свободы на срок до двух лет, чем за жестокое обращение с несовершеннолетними - лишь ограничение свободы на срок до трех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сенным законопроектом предлагается усилить ответственность родителей и должностных лиц образовательных и воспитательных учреждений за ненадлежащее духовно-нравственное воспитание несовершеннолетних. В частности, предлагается увеличить в таких случаях с двух до трех лет срок лишения должностного лица права занимать определенную должность, либо это лицо может быть наказано исправительными работами, продолжительность которых предлагается увеличить со 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180 до 240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 жестокое обращение с несовершеннолетними предлагается ввести уголовную ответственность - 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лишение свободы до трех лет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3640" y="115560"/>
            <a:ext cx="532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ети – главный подарок для мир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 ними чудесней земная карти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сё понимают, берутся за всё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учшее с ними людское житьё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астенько слабы, неумелы их ру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некогда думать ребятам о скук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движеньях, заботах их время проход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дача к усердным с годами приход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детские годы мечты расцветаю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зрослые часто об этом не знаю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до детишкам права объясни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ногому надо их обучи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ир станет лучше на нашей планет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сли счастливыми будут все дет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иктор Пав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87267"/>
          <p:cNvPicPr/>
          <p:nvPr/>
        </p:nvPicPr>
        <p:blipFill>
          <a:blip r:embed="rId1"/>
          <a:stretch/>
        </p:blipFill>
        <p:spPr>
          <a:xfrm>
            <a:off x="179280" y="404640"/>
            <a:ext cx="345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id110834_w300_h200"/>
          <p:cNvPicPr/>
          <p:nvPr/>
        </p:nvPicPr>
        <p:blipFill>
          <a:blip r:embed="rId1"/>
          <a:stretch/>
        </p:blipFill>
        <p:spPr>
          <a:xfrm>
            <a:off x="179280" y="1844640"/>
            <a:ext cx="4753080" cy="316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untitled"/>
          <p:cNvPicPr/>
          <p:nvPr/>
        </p:nvPicPr>
        <p:blipFill>
          <a:blip r:embed="rId2"/>
          <a:stretch/>
        </p:blipFill>
        <p:spPr>
          <a:xfrm>
            <a:off x="5076720" y="620640"/>
            <a:ext cx="3811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128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view"/>
          <p:cNvPicPr/>
          <p:nvPr/>
        </p:nvPicPr>
        <p:blipFill>
          <a:blip r:embed="rId1"/>
          <a:stretch/>
        </p:blipFill>
        <p:spPr>
          <a:xfrm>
            <a:off x="0" y="0"/>
            <a:ext cx="4187880" cy="429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89417_fc160020"/>
          <p:cNvPicPr/>
          <p:nvPr/>
        </p:nvPicPr>
        <p:blipFill>
          <a:blip r:embed="rId2"/>
          <a:stretch/>
        </p:blipFill>
        <p:spPr>
          <a:xfrm>
            <a:off x="611280" y="4221000"/>
            <a:ext cx="2857320" cy="24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at2"/>
          <p:cNvPicPr/>
          <p:nvPr/>
        </p:nvPicPr>
        <p:blipFill>
          <a:blip r:embed="rId3"/>
          <a:stretch/>
        </p:blipFill>
        <p:spPr>
          <a:xfrm>
            <a:off x="4284720" y="907920"/>
            <a:ext cx="46735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j7266_12318389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07"/>
          <p:cNvPicPr/>
          <p:nvPr/>
        </p:nvPicPr>
        <p:blipFill>
          <a:blip r:embed="rId1"/>
          <a:stretch/>
        </p:blipFill>
        <p:spPr>
          <a:xfrm>
            <a:off x="1692360" y="1197000"/>
            <a:ext cx="64609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16-1-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nasilnik-2"/>
          <p:cNvPicPr/>
          <p:nvPr/>
        </p:nvPicPr>
        <p:blipFill>
          <a:blip r:embed="rId1"/>
          <a:stretch/>
        </p:blipFill>
        <p:spPr>
          <a:xfrm>
            <a:off x="2050920" y="33336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0920" y="450864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Жестокое обращение с ребенком в сем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2:55:34Z</dcterms:created>
  <dc:creator>Майоровы</dc:creator>
  <dc:description/>
  <dc:language>en-US</dc:language>
  <cp:lastModifiedBy>Валерия</cp:lastModifiedBy>
  <dcterms:modified xsi:type="dcterms:W3CDTF">2012-04-07T16:45:51Z</dcterms:modified>
  <cp:revision>32</cp:revision>
  <dc:subject/>
  <dc:title>Слайд 1</dc:title>
</cp:coreProperties>
</file>