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3.png" ContentType="image/png"/>
  <Override PartName="/ppt/media/image13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38.png" ContentType="image/pn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2.jpeg" ContentType="image/jpe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4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EC3D-B3DD-4128-8194-FB65D6DD16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E84C-8705-4F63-86E7-AB8287FA2C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0715-5DFA-4798-8A3B-518F49EC9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7AAC-4811-4690-B916-39E66C79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9007-5C91-4C5B-97A1-79ACCC8A1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B05D-D490-4D19-AA71-B5BCE5BA6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E1C7-DF0E-445F-A959-F7A5AC90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9D29-CD00-4A70-AA9A-73C73FED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9DDD-5B3B-4248-B6A2-47AB132B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302D-4E3F-45AE-9860-4BEF32E8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AE5B-93DA-4923-AA7C-093462B3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76F1-1C64-430A-B30E-B48D4E28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3207-52BC-4282-A5B6-45E524D0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A8C6-6A6F-4B78-AAA1-3D0F20FE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480C-8FBA-4145-BBD9-7C7A782DD4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03280" y="1268280"/>
            <a:ext cx="6400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Существовала некогда послови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Что дети не живут, а жить готовя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Но вряд ли в жизни преуспеет то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Кто жить готовясь, в детстве не жив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          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С.Я. Марш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003. Белые кораблики.mp3" descr=""/>
          <p:cNvPicPr/>
          <p:nvPr/>
        </p:nvPicPr>
        <p:blipFill>
          <a:blip r:embed="rId1"/>
          <a:stretch/>
        </p:blipFill>
        <p:spPr>
          <a:xfrm>
            <a:off x="642960" y="61437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Georgia"/>
              </a:rPr>
              <a:t>Из истор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569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Georgia"/>
              </a:rPr>
              <a:t>Упоминания о жестокостях к детям в различных литературных источниках встречаются до II в. н.э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детей убивали в ритуальных целях: считалось, что убитый ребенок может помочь бесплодным женщинам справиться с болезнями, обеспечить здоровье и молод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их хоронили под фундаментом здания, чтобы сделать его прочне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детей продавали и покупа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08000" y="260280"/>
            <a:ext cx="4680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Georgia"/>
              </a:rPr>
              <a:t>Научными исследованиями установлено, ч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асилие в той или иной форме совершается в каждой четвертой российской семь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ежегодно около 2 млн. детей в возрасте до 14 лет избиваются родителя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ля 10% этих детей исходом становится смерть, а для 2 тыс.- самоубийст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более 50 тыс. детей в течение года уходят из дома, спасаясь от собственных родителей, а 25 тыс. несовершеннолетних находятся в розыс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41934889_bit"/>
          <p:cNvPicPr/>
          <p:nvPr/>
        </p:nvPicPr>
        <p:blipFill>
          <a:blip r:embed="rId1"/>
          <a:stretch/>
        </p:blipFill>
        <p:spPr>
          <a:xfrm>
            <a:off x="4932360" y="476280"/>
            <a:ext cx="4108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4608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2008 году от жестокого обращения с детьми погибло 1914 детей, искалечено 2330 детей (по данным из Совета Федераций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коло 10 тыс. родителей лишаются судами родительских прав и более 2,5 тыс. детей забираются у родителей без такого лишения, поскольку нахождение ребенка в семье представляет угрозу его жизни и здоров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504_37"/>
          <p:cNvPicPr/>
          <p:nvPr/>
        </p:nvPicPr>
        <p:blipFill>
          <a:blip r:embed="rId1"/>
          <a:stretch/>
        </p:blipFill>
        <p:spPr>
          <a:xfrm>
            <a:off x="4932360" y="404640"/>
            <a:ext cx="40212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img_157_44_2"/>
          <p:cNvPicPr/>
          <p:nvPr/>
        </p:nvPicPr>
        <p:blipFill>
          <a:blip r:embed="rId1"/>
          <a:stretch/>
        </p:blipFill>
        <p:spPr>
          <a:xfrm>
            <a:off x="250920" y="260280"/>
            <a:ext cx="4249800" cy="3249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df446"/>
          <p:cNvPicPr/>
          <p:nvPr/>
        </p:nvPicPr>
        <p:blipFill>
          <a:blip r:embed="rId2"/>
          <a:stretch/>
        </p:blipFill>
        <p:spPr>
          <a:xfrm>
            <a:off x="4356000" y="3597120"/>
            <a:ext cx="4618080" cy="30751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4716360" y="260280"/>
            <a:ext cx="4103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2000 г. зарегистрировано 2557 преступлений (в 1998 г. - 1969, в 1999 г. - 2116), предусмотренных ст. 156 УК РФ (неисполнение обязанностей по воспитанию несовершеннолетних)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79280" y="3645000"/>
            <a:ext cx="42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80% случаев дети попадают в приюты и детские дома из-за невыполнения родителями своих прямых обязанностей по воспитанию, что создает реальную угрозу их жизни и здоров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496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Основная причина жестокого обращения с детьми -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внутренняя агрессивность – эмоциональное состояние, возникающее как реакция на переживание непреодолимости каких-то барьеров или недоступность чего-то желанного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ep2008_10_23_571"/>
          <p:cNvPicPr/>
          <p:nvPr/>
        </p:nvPicPr>
        <p:blipFill>
          <a:blip r:embed="rId1"/>
          <a:stretch/>
        </p:blipFill>
        <p:spPr>
          <a:xfrm>
            <a:off x="2340000" y="3284640"/>
            <a:ext cx="468000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932000" y="333000"/>
            <a:ext cx="40323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мериканский врач С. Кемп и его сотрудники в 1962 г. описали </a:t>
            </a:r>
            <a:r>
              <a:rPr b="1" i="1" lang="ru-RU" sz="2800" spc="-1" strike="noStrike">
                <a:solidFill>
                  <a:srgbClr val="a50021"/>
                </a:solidFill>
                <a:latin typeface="Georgia"/>
              </a:rPr>
              <a:t>«синдром избиваемого ребенка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ломанные к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ровоте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сади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иня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345994"/>
          <p:cNvPicPr/>
          <p:nvPr/>
        </p:nvPicPr>
        <p:blipFill>
          <a:blip r:embed="rId1"/>
          <a:stretch/>
        </p:blipFill>
        <p:spPr>
          <a:xfrm>
            <a:off x="179280" y="692280"/>
            <a:ext cx="47530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4680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ченый-психолог Д. Гилл разделил детей - жертв жестокого обращения на несколько возрастных групп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ервая - от 1 года до 2 л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торая - от 3 до 9 лет (число случаев удваивается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ретья - с 9 до 15 лет (частота снова понижается, пока не достигается исходный уровень, а после 16 лет постепенно совсем исчезает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4ildren_sized"/>
          <p:cNvPicPr/>
          <p:nvPr/>
        </p:nvPicPr>
        <p:blipFill>
          <a:blip r:embed="rId1"/>
          <a:stretch/>
        </p:blipFill>
        <p:spPr>
          <a:xfrm>
            <a:off x="4932360" y="549360"/>
            <a:ext cx="4044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Georgia"/>
              </a:rPr>
              <a:t>Виды насилия над детьми в сем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76360" y="1341000"/>
            <a:ext cx="38163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физическое насил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ренебреж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ексуальное насил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сихологическое жестокое обращ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p-4-2"/>
          <p:cNvPicPr/>
          <p:nvPr/>
        </p:nvPicPr>
        <p:blipFill>
          <a:blip r:embed="rId1"/>
          <a:stretch/>
        </p:blipFill>
        <p:spPr>
          <a:xfrm>
            <a:off x="179280" y="1484280"/>
            <a:ext cx="475164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Georgia"/>
              </a:rPr>
              <a:t>Пренебре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5113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енебрежение  основными нуждами ребенка (моральная жестокость) -это   отсутствие   со   стороны  родителей  или  лиц,  их  заменяющих, элементарной   заботы  о  нем,  а  также  недобросовестное  выполнение обязанностей  по  воспитанию ребенка, в результате чего его здоровье и развитие нарушаютс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plach_1"/>
          <p:cNvPicPr/>
          <p:nvPr/>
        </p:nvPicPr>
        <p:blipFill>
          <a:blip r:embed="rId1"/>
          <a:stretch/>
        </p:blipFill>
        <p:spPr>
          <a:xfrm>
            <a:off x="5292720" y="1628640"/>
            <a:ext cx="36003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850920" y="259920"/>
            <a:ext cx="5041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Чаще  всего  пренебрегают  основными  нуждами  детей родители или лица,  их  заменяющие:  алкоголики,  наркоманы;  лица  с  психическими расстройствами;   юные   родители,   не   имеющие   опыта   и  навыков родительства;  с низким социально-экономическим уровнем жизни; имеющие хронические    заболевания,   инвалидность,   умственную   отсталость; перенесшие жестокое обращение в детстве; социально изолированн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1213617112_11111"/>
          <p:cNvPicPr/>
          <p:nvPr/>
        </p:nvPicPr>
        <p:blipFill>
          <a:blip r:embed="rId1"/>
          <a:stretch/>
        </p:blipFill>
        <p:spPr>
          <a:xfrm>
            <a:off x="250920" y="1052640"/>
            <a:ext cx="3744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kid6"/>
          <p:cNvPicPr/>
          <p:nvPr/>
        </p:nvPicPr>
        <p:blipFill>
          <a:blip r:embed="rId1"/>
          <a:stretch/>
        </p:blipFill>
        <p:spPr>
          <a:xfrm>
            <a:off x="1835280" y="290520"/>
            <a:ext cx="5905440" cy="595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Georgia"/>
              </a:rPr>
              <a:t>Последствия пренебре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8920" y="69228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Внешние проявле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томленный сонный вид, бледное лицо, опухшие век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грудных детей обезвоженность, опрелости, сып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ежда неряшливая, не соответствует сезону и размеру ребенк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чистоплотность, несвежий зап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Физические признаки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тавание в весе и росте от сверстников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дикулез, чесотка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астые  "несчастные случаи", гнойные и хронические инфекционные заболев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пущенный кариес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надлежащих прививок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ержка речевого и психического развит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Особенности поведения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тоянный  голод и жажда: может красть пищу, рыться в отбросах и т.п.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умение играт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тоянный поиск внимания/участ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астые пропуски школьных занятий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айности  поведения: инфантилен или принимает роль взрослого и ведет   себя   в  "псевдовзрослой"  манере;  агрессивен  или  замкнут, апатичен;  гиперактивен  или  подавлен; неразборчиво дружелюбен или не желает и не умеет общаться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лонность к поджогам, жестокость к животным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стурбация, раскачивание, сосание пальцев и п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Georgia"/>
              </a:rPr>
              <a:t>Психологическое насил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114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моциональным (психологическим) насилием является однократное или хроническое  психическое  воздействие на ребенка или его отвержение со стороны  родителей  и  других  взрослых,  вследствие  чего  у  ребенка нарушаются   эмоциональное   развитие,   поведение   и  способность  к социализ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1240390603_1"/>
          <p:cNvPicPr/>
          <p:nvPr/>
        </p:nvPicPr>
        <p:blipFill>
          <a:blip r:embed="rId1"/>
          <a:stretch/>
        </p:blipFill>
        <p:spPr>
          <a:xfrm>
            <a:off x="4859280" y="1268280"/>
            <a:ext cx="381636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Georgia"/>
              </a:rPr>
              <a:t>К психологическому насилию относ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грозы  в  адрес  ребенка,  проявляющиеся в словесной форме без применения  физической  сил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скорбление и унижение его достоин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ткрытое неприятие и постоянная крити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лишение   ребенка  необходимой  стимуляции,  игнорирование  его основных нужд в безопасном окружении, родительской любв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едъявление к  ребенку  чрезмерных требований, не соответствующих его возрасту или возможностя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днократное грубое психическое воздействие, вызвавшее у ребенка психическую травм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еднамеренная   изоляция   ребенка,   лишение  его  социальных контакт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овлечение   ребенка   или   поощрение  к  антисоциальному  или деструктивному поведению (алкоголизм, наркомания и др.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999"/>
                </a:solidFill>
                <a:latin typeface="Georgia"/>
              </a:rPr>
              <a:t>Особенности       детей,       подвергающихся      эмоциональному (психологическому) насили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задержка психического развит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невозможность сконцентрироваться, плохая успеваемост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низкая самооценк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эмоциональные   нарушения   в   виде   агрессии,  гнева  (часто обращенных против самого себя), подавленное состояние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избыточная потребность во внима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депрессия, попытки суицида;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неумение  общаться  со  сверстниками  (заискивающее  поведение, чрезмерная уступчивость или агрессивность)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ложь,  воровство, девиантное (или "отклоняющееся", асоциальное)поведение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нервно-психические  и  психосоматические  заболевания: неврозы, энурез,  тики,  расстройства сна, нарушения аппетита, ожирение, кожные заболевания, астма и др.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Georgia"/>
              </a:rPr>
              <a:t>Группы риска детей по эмоциональному насилию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ети   от   нежеланной   беременности,   похожие  на  нелюбимых родственников жены или мужа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ети раннего возраста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ети-инвалиды, дети с наследственными заболеваниями или другими особенностям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ети  из  семей  с  деспотичным,  авторитарным,  контролирующим стилем воспитания и взаимоотношений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ети  из  семей,  где  внутрисемейное  насилие  является стилем жизн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ети,  родители  (или  один  из  родителей) которых употребляют алкоголь, наркотики, страдают депрессией;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ети,   в   семье   которых   много  социально-экономических  и психологических пробл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Georgia"/>
              </a:rPr>
              <a:t>Особенности   поведения   взрослых,   совершающих   эмоциональное насили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не утешают ребенка, когда тот в этом нуждается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ублично оскорбляют, бранят, унижают, осмеивают ребенк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равнивают   с  другими  детьми  не  в  его  пользу,  постоянно сверхкритично относятся к нему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бвиняют  его  во всех своих неудачах, делают из ребенка "козла отпущения" и пр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image004"/>
          <p:cNvPicPr/>
          <p:nvPr/>
        </p:nvPicPr>
        <p:blipFill>
          <a:blip r:embed="rId1"/>
          <a:stretch/>
        </p:blipFill>
        <p:spPr>
          <a:xfrm>
            <a:off x="7236000" y="1989000"/>
            <a:ext cx="1438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Georgia"/>
              </a:rPr>
              <a:t>Сексуальное насилие над деть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569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ексуальное насилие над детьми американские исследователи определяют как любой сексуальный опыт между ребенком до 16 лет (по отдельным источникам - до 18 лет) и человеком, который старше его по крайней мере на 5 лет. Данный вид насилия характеризуется или как вовлечение зависимых, психически и физиологически незрелых детей и подростков в сексуальные действия, нарушающие общественные табу семейных ролей, которые они еще не могут полностью понять и на которые не в состоянии дать осмысленного согласия. Сексуальное насилие рассматривается как вариант </a:t>
            </a:r>
            <a:r>
              <a:rPr b="1" lang="ru-RU" sz="2800" spc="-1" strike="noStrike">
                <a:solidFill>
                  <a:srgbClr val="a50021"/>
                </a:solidFill>
                <a:latin typeface="Georgia"/>
              </a:rPr>
              <a:t>особо жестокого обращения с детьми.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569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Georgia"/>
              </a:rPr>
              <a:t>Сексуальное насилие чаще всего происходит в семьях, где: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атриархально-авторитарный уклад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лохие   взаимоотношения   ребенка  с  родителями,  особенно  с матерь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онфликтные отношения между родителям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ать ребенка чрезмерно занята на работ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ебенок долгое время жил без родного отц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место родного отца - отчим или сожитель матери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ать  имеет  хроническое заболевание или инвалидность и подолгу лежит в больниц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одители  (или один из них) являются алкоголиками, наркоманами, токсикоманам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одители (или один из них) имеют психические заболева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ать в детстве подвергалась сексуальному насилию и т.п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Georgia"/>
              </a:rPr>
              <a:t>Физическое насил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05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Физическое  насилие  -  это  преднамеренное нанесение травм и/или повреждений ребенку, которые вызывают серьезные (требующие медицинской помощи)  нарушения  физического,  психического  здоровья, отставание в развити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clip-image00151"/>
          <p:cNvPicPr/>
          <p:nvPr/>
        </p:nvPicPr>
        <p:blipFill>
          <a:blip r:embed="rId1"/>
          <a:stretch/>
        </p:blipFill>
        <p:spPr>
          <a:xfrm>
            <a:off x="4643280" y="1268280"/>
            <a:ext cx="4176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Georgia"/>
              </a:rPr>
              <a:t>Чаще всего это происходит в семьях, где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беждены,  что физическое наказание является методом выбора для воспитания дете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одители  (или один из них) являются алкоголиками, наркоманами, токсикоманам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одители (или один из них) имеют психические заболева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арушен   эмоционально-психологический  климат  (частые  ссоры, скандалы, отсутствие уважения друг к другу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одители  находятся  в  состоянии  стресса  в  связи со смертью близких, болезнью, потерей работы, экономическим кризисом и др.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одители   предъявляют   чрезмерные   требования  к  детям,  несоответствующие их возрасту и уровню развит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ети  имеют  особенности:  недоношенность  в  анамнезе, наличие соматических    или   психических   заболеваний;   они   гиперактивны, неусидчивы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hands"/>
          <p:cNvPicPr/>
          <p:nvPr/>
        </p:nvPicPr>
        <p:blipFill>
          <a:blip r:embed="rId1"/>
          <a:stretch/>
        </p:blipFill>
        <p:spPr>
          <a:xfrm>
            <a:off x="1042920" y="0"/>
            <a:ext cx="7020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708000" y="260280"/>
            <a:ext cx="51116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Georgia"/>
              </a:rPr>
              <a:t>Физическое насилие проявляется ка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дары по лиц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ряски, толч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атрещин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душе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ин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аключение в запертом помещении, где они удерживаются сил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збиение ремнем, веревк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несение увечий тяжелыми предметами, даже нож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101722"/>
          <p:cNvPicPr/>
          <p:nvPr/>
        </p:nvPicPr>
        <p:blipFill>
          <a:blip r:embed="rId1"/>
          <a:stretch/>
        </p:blipFill>
        <p:spPr>
          <a:xfrm>
            <a:off x="179280" y="476280"/>
            <a:ext cx="3313080" cy="2440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1052719_1208418460"/>
          <p:cNvPicPr/>
          <p:nvPr/>
        </p:nvPicPr>
        <p:blipFill>
          <a:blip r:embed="rId2"/>
          <a:stretch/>
        </p:blipFill>
        <p:spPr>
          <a:xfrm>
            <a:off x="179280" y="3500280"/>
            <a:ext cx="3384720" cy="25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Наиболее часто физическому насилию в семье подвергаются дети, имеющие физические или психические отклонения, недоношенные, с малым весом при рождении, так как обычно они более раздражительны, больше плачут, менее привлекательны внешне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217"/>
          <p:cNvPicPr/>
          <p:nvPr/>
        </p:nvPicPr>
        <p:blipFill>
          <a:blip r:embed="rId1"/>
          <a:stretch/>
        </p:blipFill>
        <p:spPr>
          <a:xfrm>
            <a:off x="2556000" y="3789360"/>
            <a:ext cx="430668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50021"/>
                </a:solidFill>
                <a:latin typeface="Georgia"/>
              </a:rPr>
              <a:t>Распознание факта физического насилия над ребенко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Характер поврежден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иняки,   ссадины,   раны,  следы  от  ударов  ремнем,  укусов, прижигания  горячими  предметами, сигаретами, располагающиеся на лице, теле, конечностя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жоги  горячими  жидкостями  кистей  и  ног в виде перчатки или носка (от погружения в горячую воду), а также на ягодица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вреждения  и  переломы  костей,  припухлость  и болезненность сустав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ыбитые  и  расшатанные  зубы,  разрывы  или  порезы во рту, на губа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частки облысения, кровоподтеки на голов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вреждения внутренних органов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74b52c83e8d4"/>
          <p:cNvPicPr/>
          <p:nvPr/>
        </p:nvPicPr>
        <p:blipFill>
          <a:blip r:embed="rId1"/>
          <a:stretch/>
        </p:blipFill>
        <p:spPr>
          <a:xfrm>
            <a:off x="7164360" y="5157720"/>
            <a:ext cx="17766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Особенности психического состояния и поведения ребенка, позволяющие заподозрить физическое насилие, в зависимости от возраста ребе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Georgia"/>
              </a:rPr>
              <a:t>Возраст 0-6 месяце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малоподвиж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безразличие к окружающему мир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тсутствие или слабая реакция на внешние стимул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редкая улыбка в возрасте 3-6 месяц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6840" y="333360"/>
            <a:ext cx="4762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Georgia"/>
              </a:rPr>
              <a:t>Возраст 6 месяцев – 1,5 год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боязнь родит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боязнь физического контакта со взрослы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стоянная беспричинная насторожен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лаксивость, постоянное хныканье, замкнутость, печал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спуг или подавленность при попытке взрослых взять на р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Georgia"/>
              </a:rPr>
              <a:t>Возраст 1,5 – 3 го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боязнь взрослы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едкие проявления радости, плаксивост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еакция испуга на плач других де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райности в поведении – от чрезмерной агрессивности до безучас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child_abuse_2_pre"/>
          <p:cNvPicPr/>
          <p:nvPr/>
        </p:nvPicPr>
        <p:blipFill>
          <a:blip r:embed="rId1"/>
          <a:stretch/>
        </p:blipFill>
        <p:spPr>
          <a:xfrm>
            <a:off x="5076720" y="549360"/>
            <a:ext cx="385776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5122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Georgia"/>
              </a:rPr>
              <a:t>Возраст 3 года – 6 л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имирение со случившимся, отсутствие сопротив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ассивная реакция на бол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болезненное отношение к замечаниям, крити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искивающее поведение, чрезмерная уступчив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севдовзрослое поведение (внешне копирует поведение взрослых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егативизм, агрессив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лживость, воровст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жестокость по отношению к животны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20050711212136_6-koshka3"/>
          <p:cNvPicPr/>
          <p:nvPr/>
        </p:nvPicPr>
        <p:blipFill>
          <a:blip r:embed="rId1"/>
          <a:stretch/>
        </p:blipFill>
        <p:spPr>
          <a:xfrm>
            <a:off x="5364000" y="1557360"/>
            <a:ext cx="3672000" cy="30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Georgia"/>
              </a:rPr>
              <a:t>Младший школьный возрас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тремление скрыть причину повреждений и трав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диночество, отсутствие друз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боязнь идти домой после школ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Georgia"/>
              </a:rPr>
              <a:t>Подростковый возрас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обеги из дом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уицидальные попыт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делинквентное повед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употребления алкоголя, наркот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26-937"/>
          <p:cNvPicPr/>
          <p:nvPr/>
        </p:nvPicPr>
        <p:blipFill>
          <a:blip r:embed="rId1"/>
          <a:stretch/>
        </p:blipFill>
        <p:spPr>
          <a:xfrm>
            <a:off x="6659640" y="3141720"/>
            <a:ext cx="21654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634920" y="404640"/>
            <a:ext cx="5257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Основными  особенностями  поведения  родителей или опекунов, если они избивают детей, яв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ротиворечивые, путаные объяснения причин травм у дете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обвинение в травмах самого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озднее обращение или не обращение за медицинской помощью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отсутствие  эмоциональной  поддержки  и  ласки  в  обращении  с ребенк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неспровоцированная агрессия по отношению к персоналу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большее  внимание  собственным  проблемам,  нежели  имеющимся у ребенка повреждения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cf51131_jpg"/>
          <p:cNvPicPr/>
          <p:nvPr/>
        </p:nvPicPr>
        <p:blipFill>
          <a:blip r:embed="rId1"/>
          <a:stretch/>
        </p:blipFill>
        <p:spPr>
          <a:xfrm>
            <a:off x="250920" y="620640"/>
            <a:ext cx="33112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Georgia"/>
              </a:rPr>
              <a:t>Последствия жестокого обращения с детьми в сем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532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ход в религиозные сек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ъединения в неформальные группы с криминальной и фашисткой направленность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грессивное, преступное поведение де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бежавшие из дома дети умирают от голода и холода, становятся жертвами других детей, также сбежавших от домашнего насилия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197007"/>
          <p:cNvPicPr/>
          <p:nvPr/>
        </p:nvPicPr>
        <p:blipFill>
          <a:blip r:embed="rId1"/>
          <a:stretch/>
        </p:blipFill>
        <p:spPr>
          <a:xfrm>
            <a:off x="5611680" y="1197000"/>
            <a:ext cx="31100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Georgia"/>
              </a:rPr>
              <a:t>Защита детей государств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642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нвенция о правах ребен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акон "Об основах системы профилактики безнадзорности и правонарушений несовершеннолетних«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кон "Об основных гарантиях прав ребенка в Российской Федерации«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Группа депутатов внесла в Государственную думу законопроект, предусматривающий усиление гарантий прав детей на надлежащее духовно-нравственное воспитание, а также ответственности за жестокое обращение с несовершеннолетни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a9951fbe0933748cf813f4c908e081d4"/>
          <p:cNvPicPr/>
          <p:nvPr/>
        </p:nvPicPr>
        <p:blipFill>
          <a:blip r:embed="rId1"/>
          <a:stretch/>
        </p:blipFill>
        <p:spPr>
          <a:xfrm>
            <a:off x="611280" y="0"/>
            <a:ext cx="7812000" cy="687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50920" y="115920"/>
            <a:ext cx="864216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роме того, авторы законопроекта обращают внимание на то, что в ныне действующем законодательстве предусмотрено более строгое наказание за жестокое обращение с животными - лишение свободы на срок до двух лет, чем за жестокое обращение с несовершеннолетними - лишь ограничение свободы на срок до трех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несенным законопроектом предлагается усилить ответственность родителей и должностных лиц образовательных и воспитательных учреждений за ненадлежащее духовно-нравственное воспитание несовершеннолетних. В частности, предлагается увеличить в таких случаях с двух до трех лет срок лишения должностного лица права занимать определенную должность, либо это лицо может быть наказано исправительными работами, продолжительность которых предлагается увеличить со </a:t>
            </a:r>
            <a:r>
              <a:rPr b="1" lang="ru-RU" sz="2400" spc="-1" strike="noStrike">
                <a:solidFill>
                  <a:srgbClr val="a50021"/>
                </a:solidFill>
                <a:latin typeface="Georgia"/>
              </a:rPr>
              <a:t>180 до 240 ча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 жестокое обращение с несовершеннолетними предлагается ввести уголовную ответственность - </a:t>
            </a:r>
            <a:r>
              <a:rPr b="1" lang="ru-RU" sz="2400" spc="-1" strike="noStrike">
                <a:solidFill>
                  <a:srgbClr val="a50021"/>
                </a:solidFill>
                <a:latin typeface="Georgia"/>
              </a:rPr>
              <a:t>лишение свободы до трех лет.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563640" y="115560"/>
            <a:ext cx="53290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Дети – главный подарок для мира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С ними чудесней земная картин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Всё понимают, берутся за всё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Лучшее с ними людское житьё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Частенько слабы, неумелы их руки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Но некогда думать ребятам о скуке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В движеньях, заботах их время проходит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Удача к усердным с годами приходит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В детские годы мечты расцветают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Взрослые часто об этом не знают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Надо детишкам права объяснить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Многому надо их обучить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Мир станет лучше на нашей планете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Если счастливыми будут все дети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Виктор Пав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87267"/>
          <p:cNvPicPr/>
          <p:nvPr/>
        </p:nvPicPr>
        <p:blipFill>
          <a:blip r:embed="rId1"/>
          <a:stretch/>
        </p:blipFill>
        <p:spPr>
          <a:xfrm>
            <a:off x="179280" y="404640"/>
            <a:ext cx="34560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id110834_w300_h200"/>
          <p:cNvPicPr/>
          <p:nvPr/>
        </p:nvPicPr>
        <p:blipFill>
          <a:blip r:embed="rId1"/>
          <a:stretch/>
        </p:blipFill>
        <p:spPr>
          <a:xfrm>
            <a:off x="179280" y="1844640"/>
            <a:ext cx="4753080" cy="3168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untitled"/>
          <p:cNvPicPr/>
          <p:nvPr/>
        </p:nvPicPr>
        <p:blipFill>
          <a:blip r:embed="rId2"/>
          <a:stretch/>
        </p:blipFill>
        <p:spPr>
          <a:xfrm>
            <a:off x="5076720" y="620640"/>
            <a:ext cx="38116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12800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view"/>
          <p:cNvPicPr/>
          <p:nvPr/>
        </p:nvPicPr>
        <p:blipFill>
          <a:blip r:embed="rId1"/>
          <a:stretch/>
        </p:blipFill>
        <p:spPr>
          <a:xfrm>
            <a:off x="0" y="0"/>
            <a:ext cx="4187880" cy="4297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289417_fc160020"/>
          <p:cNvPicPr/>
          <p:nvPr/>
        </p:nvPicPr>
        <p:blipFill>
          <a:blip r:embed="rId2"/>
          <a:stretch/>
        </p:blipFill>
        <p:spPr>
          <a:xfrm>
            <a:off x="611280" y="4221000"/>
            <a:ext cx="2857320" cy="2457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cat2"/>
          <p:cNvPicPr/>
          <p:nvPr/>
        </p:nvPicPr>
        <p:blipFill>
          <a:blip r:embed="rId3"/>
          <a:stretch/>
        </p:blipFill>
        <p:spPr>
          <a:xfrm>
            <a:off x="4284720" y="907920"/>
            <a:ext cx="4673520" cy="482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j7266_12318389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07"/>
          <p:cNvPicPr/>
          <p:nvPr/>
        </p:nvPicPr>
        <p:blipFill>
          <a:blip r:embed="rId1"/>
          <a:stretch/>
        </p:blipFill>
        <p:spPr>
          <a:xfrm>
            <a:off x="1692360" y="1197000"/>
            <a:ext cx="646092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216-1-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nasilnik-2"/>
          <p:cNvPicPr/>
          <p:nvPr/>
        </p:nvPicPr>
        <p:blipFill>
          <a:blip r:embed="rId1"/>
          <a:stretch/>
        </p:blipFill>
        <p:spPr>
          <a:xfrm>
            <a:off x="2050920" y="333360"/>
            <a:ext cx="5040360" cy="3780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250920" y="450864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Georgia"/>
              </a:rPr>
              <a:t>Жестокое обращение с ребенком в семь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7T12:55:34Z</dcterms:created>
  <dc:creator>Майоровы</dc:creator>
  <dc:description/>
  <dc:language>en-US</dc:language>
  <cp:lastModifiedBy>Валерия</cp:lastModifiedBy>
  <dcterms:modified xsi:type="dcterms:W3CDTF">2012-04-07T16:45:51Z</dcterms:modified>
  <cp:revision>32</cp:revision>
  <dc:subject/>
  <dc:title>Слайд 1</dc:title>
</cp:coreProperties>
</file>