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375-B264-4C74-A52B-D56BCDFF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D11-0096-4200-8925-BDF73F28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A0B-5B26-41DF-A343-F4F48382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2D4-CDA1-4ED5-A447-4649A749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B80-BE49-4F76-8629-B7019758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C5E-02B5-4E72-9033-215125D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AF8-24BE-454B-8816-95CF7ACD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CB59-93C2-4E72-9EDB-7CC83B1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0735-1877-4D18-B72A-4E747109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16CA-7512-4EED-AC63-431DCBA2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C3A0-5F75-4F61-BF5D-CFF6DD7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07F-6413-4B53-9ACA-67E925CE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DFB6-8C8B-454D-8A52-FA0835C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2EC-9C9F-411F-83DA-2B978764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2D27-951E-44D2-9BB0-677F0A78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4845-8161-4846-B5D7-E35B2E21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6444-B624-427D-91E5-43382470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189-2E9E-48BE-BB1E-613F8B86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AD5-6B06-4FEC-9327-792A7F9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770-B3DD-4E68-8B34-9BC29FD3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3F8-4E9A-4E01-839D-80B168B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0E8-BFCB-40E5-A8C2-8C0AB1B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BFB-7B07-49CA-85E9-954B9C1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1B5-7D1F-4194-B0EA-EF794F4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307-B4EE-48EE-9FCB-E99B1CE538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9E86-D246-48A3-B2D0-4BFCE9415B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Живое вещество и его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ункции живого 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Энергетическая – зеленые растения в процессе фотосинтеза аккумулируют солнечную энергию, благодаря чему протекают все жизненные явления на Зем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2. Газовая -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уславливает миграцию газов и их превращение, обеспечивает газовый состав биосф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381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Концентрационная – организмы накапливают в своих телах многие химические элементы ( углерод, фосфор, кальций, иод и мн.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Окислительно – восстановите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Деструктивная – обуславливает процессы, связанные с разложением организмов после их гиб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Средообразующая – преобразование среды в процессе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3333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Транспортная – перенос вещества против силы тяжести и в горизонт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044960" cy="269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земно-воздушная ср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033720" cy="226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098880" cy="344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01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чвенная ср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2903760" cy="323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71640" y="486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аф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нутриорганизменная ср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191280" cy="190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4941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д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дная среда - гидробион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ста об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1912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0360" y="6021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с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191280" cy="381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458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191280" cy="3810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08360" y="465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476440"/>
            <a:ext cx="619128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08360" y="47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войства живого 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ладает огромным запасом энер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еакции в живом веществе идут в тысячи, миллионы раз быстрее, чем в неживой приро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стойчиво только в живых организм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ставлено в виде дисперсных тел – организм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Живое вещество никогда не находится в виде организмов одного вида, всегда находится в виде сообщ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39:18Z</dcterms:created>
  <dc:creator>User</dc:creator>
  <dc:description/>
  <dc:language>en-US</dc:language>
  <cp:lastModifiedBy>User</cp:lastModifiedBy>
  <dcterms:modified xsi:type="dcterms:W3CDTF">2009-10-01T11:40:50Z</dcterms:modified>
  <cp:revision>2</cp:revision>
  <dc:subject/>
  <dc:title>Живое вещество и его функции</dc:title>
</cp:coreProperties>
</file>