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EF6-EC90-456C-90E9-2F174ECF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177-47B2-4633-87FB-682C0EAC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D1B-BF40-4675-8DFC-F8110664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8FC-153C-40D0-A6E4-5A7AD01D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2459-4C0E-49E3-8A1C-F1B923B9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B618-DD87-4E09-9AA2-24D59CEE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FC62-4C6F-4FB4-B07B-ADCDEE5A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D17E-DE62-42EF-B1EC-CFF43719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E954-9AC0-4C1C-A90F-A65E2E05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0AC9-5A25-45CB-ACC1-1816E62C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7203-2FA4-4953-A13B-56605F8D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B925-BA72-4BDF-B026-4CCB6C7F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3842-CA63-4AD6-9F78-F41FF1ED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DE60-6A16-4FBB-9CA2-0C55777A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AC62-2C6E-4479-BB7D-B3676959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71D6-4996-4EAA-A690-DFE27B17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D5AC-CFB4-44A3-8BAB-51309CC5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5A9-BD59-43DB-BC1B-BF29F9EB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E01-CF82-4840-9AC1-5C6AE253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9859-B112-4C1C-82F2-E69747F9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8259-6461-421C-A9D1-37B7D2BE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E48-35E5-4566-8CC8-2A570849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1D6-244D-4951-B975-9C624935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CCB-3436-4000-80FF-026D7CF1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756D-B923-4D99-8A5E-69946C2518E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7C4B-1E42-4832-A57E-4C10E60033B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Живое вещество и его функции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Функции живого веще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Энергетическая – зеленые растения в процессе фотосинтеза аккумулируют солнечную энергию, благодаря чему протекают все жизненные явления на Земл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2. Газовая -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буславливает миграцию газов и их превращение, обеспечивает газовый состав биосфе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23810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 Концентрационная – организмы накапливают в своих телах многие химические элементы ( углерод, фосфор, кальций, иод и мн.др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 Окислительно – восстановительн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. Деструктивная – обуславливает процессы, связанные с разложением организмов после их гибе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. Средообразующая – преобразование среды в процессе жизне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1280" y="33336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Транспортная – перенос вещества против силы тяжести и в горизонтальном напр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4044960" cy="2697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43280" y="32130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Наземно-воздушная сред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3033720" cy="226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3098880" cy="3448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55640" y="5013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эробио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чвенная сред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2903760" cy="3232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71640" y="4869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дафобио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нутриорганизменная сред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6191280" cy="1905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71640" y="4941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добио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одная среда - гидробионт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ста обит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191280" cy="3809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700360" y="6021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йс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191280" cy="3810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916360" y="4581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к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6191280" cy="3810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708360" y="4653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к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6360" y="2476440"/>
            <a:ext cx="6191280" cy="1905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708360" y="4724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нт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войства живого веще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бладает огромным запасом энерг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еакции в живом веществе идут в тысячи, миллионы раз быстрее, чем в неживой природ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стойчиво только в живых организм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едставлено в виде дисперсных тел – организм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Живое вещество никогда не находится в виде организмов одного вида, всегда находится в виде сообщест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0:39:18Z</dcterms:created>
  <dc:creator>User</dc:creator>
  <dc:description/>
  <dc:language>en-US</dc:language>
  <cp:lastModifiedBy>User</cp:lastModifiedBy>
  <dcterms:modified xsi:type="dcterms:W3CDTF">2009-10-01T11:40:50Z</dcterms:modified>
  <cp:revision>2</cp:revision>
  <dc:subject/>
  <dc:title>Живое вещество и его функции</dc:title>
</cp:coreProperties>
</file>