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6C6-C2A4-4AF3-93BC-135CC18B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392-9DE7-4D57-A1EF-8833A862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D42-45F8-45DE-8449-80433645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CFB-1AF9-4DCF-A285-0375398F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7531-3CAD-42F2-8EDB-EAB72E24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B67F-BF06-4E4F-BB4D-6974AF6C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B981-2563-40A9-AEED-841A240D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15F1-35E3-4580-8B5E-EA3B7C39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4967-B56E-485D-AB08-2CD833B8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9B60-034A-4254-8B49-A6C4ECFF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9E06-9416-4D3A-81A7-01896DF0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38F-8C2E-4556-A285-7B14DFFE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132D-7A51-4BDF-BF84-B221EA8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378E-37E6-4A16-9CC4-1CA52EDE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7D4C-7886-4002-9E39-ADE8A64C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87FB-AEF1-4647-B63E-9AAD07B8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22DB-5FAA-4D76-B4BB-6E16B1B1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12D-20CB-4962-BA28-C2A1449D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7E1-32B6-4CED-BC09-7BEC4452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0D0-2AAC-40DF-8BD0-83127232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EA4-8230-42FB-B022-34A0CC0F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264-725E-4871-B6B6-D71FB15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6ED-1C12-4685-B1AF-67E6736A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647-46FA-4D14-91B7-0820A17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17A1-9B5B-48B1-8E80-98261EE6B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393A-2410-46F0-AF68-07B88B496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338 из 169655"/>
          <p:cNvPicPr/>
          <p:nvPr/>
        </p:nvPicPr>
        <p:blipFill>
          <a:blip r:embed="rId1"/>
          <a:stretch/>
        </p:blipFill>
        <p:spPr>
          <a:xfrm rot="18986400">
            <a:off x="1956960" y="738000"/>
            <a:ext cx="5775480" cy="5775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12.jpg"/>
          <p:cNvPicPr/>
          <p:nvPr/>
        </p:nvPicPr>
        <p:blipFill>
          <a:blip r:embed="rId2"/>
          <a:stretch/>
        </p:blipFill>
        <p:spPr>
          <a:xfrm>
            <a:off x="1981080" y="137160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4856896_743e1ef.jpg"/>
          <p:cNvPicPr/>
          <p:nvPr/>
        </p:nvPicPr>
        <p:blipFill>
          <a:blip r:embed="rId3"/>
          <a:stretch/>
        </p:blipFill>
        <p:spPr>
          <a:xfrm>
            <a:off x="1981080" y="1338120"/>
            <a:ext cx="6172200" cy="4983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LP08-12_008.jpg"/>
          <p:cNvPicPr/>
          <p:nvPr/>
        </p:nvPicPr>
        <p:blipFill>
          <a:blip r:embed="rId4"/>
          <a:stretch/>
        </p:blipFill>
        <p:spPr>
          <a:xfrm>
            <a:off x="1600200" y="1143000"/>
            <a:ext cx="66294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00023y7x.jpg"/>
          <p:cNvPicPr/>
          <p:nvPr/>
        </p:nvPicPr>
        <p:blipFill>
          <a:blip r:embed="rId1"/>
          <a:stretch/>
        </p:blipFill>
        <p:spPr>
          <a:xfrm>
            <a:off x="2133720" y="2362320"/>
            <a:ext cx="5238720" cy="3609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Картинка 4 из 596"/>
          <p:cNvPicPr/>
          <p:nvPr/>
        </p:nvPicPr>
        <p:blipFill>
          <a:blip r:embed="rId2"/>
          <a:stretch/>
        </p:blipFill>
        <p:spPr>
          <a:xfrm>
            <a:off x="1219320" y="106668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Картинка 86 из 105735"/>
          <p:cNvPicPr/>
          <p:nvPr/>
        </p:nvPicPr>
        <p:blipFill>
          <a:blip r:embed="rId3"/>
          <a:stretch/>
        </p:blipFill>
        <p:spPr>
          <a:xfrm>
            <a:off x="1523880" y="1066680"/>
            <a:ext cx="5734080" cy="5372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ч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7" descr="111.jpg"/>
          <p:cNvPicPr/>
          <p:nvPr/>
        </p:nvPicPr>
        <p:blipFill>
          <a:blip r:embed="rId4"/>
          <a:stretch/>
        </p:blipFill>
        <p:spPr>
          <a:xfrm>
            <a:off x="228600" y="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look.com.ua-1228.jpg"/>
          <p:cNvPicPr/>
          <p:nvPr/>
        </p:nvPicPr>
        <p:blipFill>
          <a:blip r:embed="rId5"/>
          <a:stretch/>
        </p:blipFill>
        <p:spPr>
          <a:xfrm>
            <a:off x="4495680" y="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Картинка 21 из 65326"/>
          <p:cNvPicPr/>
          <p:nvPr/>
        </p:nvPicPr>
        <p:blipFill>
          <a:blip r:embed="rId6"/>
          <a:stretch/>
        </p:blipFill>
        <p:spPr>
          <a:xfrm>
            <a:off x="-228600" y="3200400"/>
            <a:ext cx="482112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Картинка 32 из 65326"/>
          <p:cNvPicPr/>
          <p:nvPr/>
        </p:nvPicPr>
        <p:blipFill>
          <a:blip r:embed="rId7"/>
          <a:stretch/>
        </p:blipFill>
        <p:spPr>
          <a:xfrm>
            <a:off x="4495680" y="3124080"/>
            <a:ext cx="44960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Картинка 9 из 9491"/>
          <p:cNvPicPr/>
          <p:nvPr/>
        </p:nvPicPr>
        <p:blipFill>
          <a:blip r:embed="rId1"/>
          <a:stretch/>
        </p:blipFill>
        <p:spPr>
          <a:xfrm>
            <a:off x="2438280" y="13716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Картинка 66 из 9490"/>
          <p:cNvPicPr/>
          <p:nvPr/>
        </p:nvPicPr>
        <p:blipFill>
          <a:blip r:embed="rId2"/>
          <a:stretch/>
        </p:blipFill>
        <p:spPr>
          <a:xfrm>
            <a:off x="609480" y="16765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14 из 2080"/>
          <p:cNvPicPr/>
          <p:nvPr/>
        </p:nvPicPr>
        <p:blipFill>
          <a:blip r:embed="rId3"/>
          <a:stretch/>
        </p:blipFill>
        <p:spPr>
          <a:xfrm>
            <a:off x="3276720" y="2057400"/>
            <a:ext cx="5715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Ольга</cp:lastModifiedBy>
  <dcterms:modified xsi:type="dcterms:W3CDTF">2015-10-19T17:00:35Z</dcterms:modified>
  <cp:revision>60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