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51C-C848-4BF2-B38D-D1DAA7F0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8E8-76EE-4FAD-9D9E-EF579C4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408-80A2-4A2F-AFB7-054031BA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1CE-4091-42FD-95C3-9DB36650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052-45F1-4699-A0B7-20DD6B6D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CDF-08C5-4022-84B2-5A2E9C5B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2A5-C2C5-4F32-BA14-94CA3BB1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65A-868F-49C1-9096-4BEAB6D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1A8-0C40-40BA-B594-190DBA82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0B1-F15A-4CEE-B5CA-F74AB5C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669-2C32-459C-BB78-BC0BA2D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537-A107-4F8F-9417-82E5ABF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66ff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7EF72-3DC1-415F-ABEF-4A915442E29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720" y="2581200"/>
            <a:ext cx="2340000" cy="59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апо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17600" y="5111640"/>
            <a:ext cx="46227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, 5-й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«Бактерии.Грибы.Растения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В.Пасеч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619280" y="2340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ИБЫ — ГЕТЕРОТРОФ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49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м пробл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26036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ош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 видел сделанную с помощью микроскопа фотографию плесневых грибов, поселившихся на лимоне. Эти грибы выглядят как ни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260000"/>
            <a:ext cx="432936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лог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, многие грибы выглядят как длинные нити, такая форма даёт им много возможностей в сравнении с бактер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60360" y="4927680"/>
            <a:ext cx="8640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, по-твоему, следует обсудить на этом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98480" y="5400720"/>
            <a:ext cx="5861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вы преимущества гриб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 сравнению с бактери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 то, что знае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8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клет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берут энергию живые сущест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условия жизни в толще воды отличаются от условий на плотной поверх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жи, как выглядели грибы, которые тебе доводилось виде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, как пахнут грибы и в каких обстоятельствах тебе приходилось ощущать этот запах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8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м план дей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899640"/>
            <a:ext cx="899964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м бактерии с гриб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та в парах по каждому вопросу и последующее фронтальное обсуждение результатов работы с учебником с записью ответов в таблицу на доск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встре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состоит из … ? (Строение клето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грибы питаются? (Рис. 15.1 на с. 8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грибы растут? (Рис. 15.4 на с. 8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 их раз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31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аем проблему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крываем новые зн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0" y="1619280"/>
          <a:ext cx="899964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9280"/>
                    <a:ext cx="899964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606600" y="1979640"/>
            <a:ext cx="2814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чве и на почв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де и на древесин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верхности тел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 расте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427040" y="357120"/>
            <a:ext cx="2113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Lucida Grande"/>
              </a:rPr>
              <a:t>Е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39720" y="4140360"/>
            <a:ext cx="296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жидкостях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чной воде, слюн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якоти растений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, крови, 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пельк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идкости в почв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59200" y="2340000"/>
            <a:ext cx="226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КАРИ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КЛЕТ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41760" y="3959280"/>
            <a:ext cx="26589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ло грибов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зован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ифами. Гифы могу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уго или рыхл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еплетаться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етвиться, срастатьс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руг с другом, образу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ёнки или жгуты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укариот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119640" y="4086360"/>
            <a:ext cx="304992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ибы всасываю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щества вс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ерхность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19640" y="1996920"/>
            <a:ext cx="238284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ктери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питывают из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дкост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ы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9640" y="255240"/>
            <a:ext cx="822816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аборатор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Мои биологические иссле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фы плесневых грибо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4130640" cy="347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00720" y="2879640"/>
            <a:ext cx="4500360" cy="3841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549760" y="2057400"/>
            <a:ext cx="2189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ангии с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6838920" y="2519280"/>
            <a:ext cx="542880" cy="16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700360" y="5994360"/>
            <a:ext cx="1098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ф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V="1">
            <a:off x="3780000" y="5758920"/>
            <a:ext cx="1979280" cy="5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аем вывод по проблем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8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бы – царство ядерных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бы могут впитывать растворённые органически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не могут создавать орган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98400"/>
                <a:tab algn="l" pos="1054080"/>
                <a:tab algn="l" pos="1407960"/>
                <a:tab algn="l" pos="1763640"/>
                <a:tab algn="l" pos="2120760"/>
                <a:tab algn="l" pos="2476440"/>
                <a:tab algn="l" pos="2830680"/>
                <a:tab algn="l" pos="3186000"/>
                <a:tab algn="l" pos="3543480"/>
                <a:tab algn="l" pos="3898800"/>
                <a:tab algn="l" pos="4254480"/>
                <a:tab algn="l" pos="460836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щества из неорганическ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8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§1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вопрос 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дача 15.1 из задачника-практику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6:50Z</dcterms:created>
  <dc:creator>Lena</dc:creator>
  <dc:description/>
  <dc:language>en-US</dc:language>
  <cp:lastModifiedBy>School62</cp:lastModifiedBy>
  <dcterms:modified xsi:type="dcterms:W3CDTF">2014-02-05T19:26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