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1C4-2F11-42AB-9181-670E17C5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B79-B835-4D8F-9B4D-55848BAA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5C2-7800-4933-8312-4D1A8C5C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23C-41D6-4AE7-88FC-2BA9CAB1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2D3-B725-471F-93DB-2FE73C4D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D6D-E04B-4159-8087-1FFB13D5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733-755D-4C7C-9212-5F5D7A18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59F-D047-44DE-813F-ECB447D1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0D6-89AA-4C11-897D-BD064FBA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BA0-C843-4466-AA93-513BC736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7C4-BACD-4EC9-9050-EF056372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75D-257D-4211-832E-02B2245D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66ff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96292-8CF2-4F82-B1C9-0E4E7DB75F7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72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720" y="2581200"/>
            <a:ext cx="2340000" cy="59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апо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17600" y="5111640"/>
            <a:ext cx="46227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, 5-й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ик «Бактерии.Грибы.Растения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В.Пасеч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619280" y="2340000"/>
            <a:ext cx="7020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ИБЫ — ГЕТЕРОТРОФ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81000"/>
            <a:ext cx="822492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яем пробл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26036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ош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 видел сделанную с помощью микроскопа фотографию плесневых грибов, поселившихся на лимоне. Эти грибы выглядят как ни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280" y="1260000"/>
            <a:ext cx="432936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лог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, многие грибы выглядят как длинные нити, такая форма даёт им много возможностей в сравнении с бактер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60360" y="4927680"/>
            <a:ext cx="8640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, по-твоему, следует обсудить на этом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98480" y="5400720"/>
            <a:ext cx="5861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овы преимущества гриб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 сравнению с бактери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помни то, что знае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81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клет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уда берут энергию живые сущест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условия жизни в толще воды отличаются от условий на плотной поверх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жи, как выглядели грибы, которые тебе доводилось виде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, как пахнут грибы и в каких обстоятельствах тебе приходилось ощущать этот запах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040"/>
            <a:ext cx="8228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яем план дейст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899640"/>
            <a:ext cx="899964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м бактерии с гриб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бота в парах по каждому вопросу и последующее фронтальное обсуждение результатов работы с учебником с записью ответов в таблицу на доск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встреч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состоит из … ? (Строение клеток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грибы питаются? (Рис. 15.1 на с. 89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грибы растут? (Рис. 15.4 на с. 89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 их раз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312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аем проблему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крываем новые зн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0" y="1619280"/>
          <a:ext cx="899964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9280"/>
                    <a:ext cx="899964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3"/>
          <p:cNvSpPr/>
          <p:nvPr/>
        </p:nvSpPr>
        <p:spPr>
          <a:xfrm>
            <a:off x="606600" y="1979640"/>
            <a:ext cx="28144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чве и на почв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де и на древесин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верхности тел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 растений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427040" y="357120"/>
            <a:ext cx="2113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Lucida Grande"/>
              </a:rPr>
              <a:t>Е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39720" y="4140360"/>
            <a:ext cx="2960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жидкостях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чной воде, слюн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якоти растений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, крови, 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пельк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идкости в почв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859200" y="2340000"/>
            <a:ext cx="226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КАРИ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КЛЕТО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41760" y="3959280"/>
            <a:ext cx="265896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ло грибов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зовано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ифами. Гифы могут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уго или рыхло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еплетаться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етвиться, срастаться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руг с другом, образуя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лёнки или жгуты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укариот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119640" y="4086360"/>
            <a:ext cx="304992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ибы всасываю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щества все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ерхность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119640" y="1996920"/>
            <a:ext cx="238284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ктери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питывают из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дкосте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ы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9640" y="255240"/>
            <a:ext cx="8228160" cy="15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аборатор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Мои биологические исслед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ифы плесневых грибо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79280" y="1979640"/>
            <a:ext cx="4130640" cy="347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4500360" cy="3841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549760" y="2057400"/>
            <a:ext cx="2189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ангии с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6838920" y="2519280"/>
            <a:ext cx="542880" cy="16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700360" y="5994360"/>
            <a:ext cx="1098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ф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V="1">
            <a:off x="3780000" y="5758920"/>
            <a:ext cx="1979280" cy="5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аем вывод по проблем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81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ибы – царство ядерных организ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ибы могут впитывать растворённые органические вещ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 не могут создавать орган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щества из неорганически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81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§15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вопрос 7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дача 15.1 из задачника-практику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46:50Z</dcterms:created>
  <dc:creator>Lena</dc:creator>
  <dc:description/>
  <dc:language>en-US</dc:language>
  <cp:lastModifiedBy>School62</cp:lastModifiedBy>
  <dcterms:modified xsi:type="dcterms:W3CDTF">2014-02-05T19:26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