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chimes.wav" ContentType="audio/x-wav"/>
  <Override PartName="/ppt/media/image24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1.png" ContentType="image/png"/>
  <Override PartName="/ppt/media/image25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40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8.gif" ContentType="image/gif"/>
  <Override PartName="/ppt/media/click.wav" ContentType="audio/x-wav"/>
  <Override PartName="/ppt/media/applause.wav" ContentType="audio/x-wav"/>
  <Override PartName="/ppt/media/image5.png" ContentType="image/png"/>
  <Override PartName="/ppt/media/image35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34.png" ContentType="image/png"/>
  <Override PartName="/ppt/media/image41.gif" ContentType="image/gif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272-E449-423B-8B47-0DBB8D65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B17-9B55-40A0-B3C3-23AFF5C0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1D3-F2B1-4584-9756-EA3BE407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5E7-5D18-4561-989E-8BB4C4F9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5CC7-EF3A-4511-8FA4-E91D252D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BBFF-A563-4D78-B736-D807D016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79B0-8445-4DF7-B3BD-0FBFDD0B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30F4-F47C-4488-9FB2-522BF919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D546-236F-42FB-9786-30021D95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D6CF-AED2-45E7-AFBD-59B0AF8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719E-4E57-4DA2-83CD-03556B5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F1C-37ED-4ACA-B1C5-477EBBC6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B3D1-80B3-4147-91A9-097ED4E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CA31-4E4F-4CD4-B06B-098E853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8E2D-6FD9-4B48-8E47-F43A454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3D17-4A85-45F7-BE85-A71326EF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CDAC-94C6-4FFF-B869-B0F33179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BE5-FD08-4492-A0ED-114118F5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156-009C-4D1C-9BA2-45697358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B73-70D6-42DF-B0D4-4E7A4236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DDB-E24D-4BE1-94C3-B715B5B8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B9A-D83E-46F0-8EFA-F701A82B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AB1-F04C-43EA-B0A2-565E9E65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081-4EA9-47A2-A608-5560483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29F8-8A04-4F8D-A6DD-3DDEF2788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38C-C7B0-4862-B08E-4650E94A4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audio" Target="file:///tmp/home/.config/libreoffice/4/user/gallery/click.wav" TargetMode="External"/><Relationship Id="rId7" Type="http://schemas.microsoft.com/office/2007/relationships/media" Target="file:///tmp/home/.config/libreoffice/4/user/gallery/click.wav" TargetMode="External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27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29.png"/><Relationship Id="rId14" Type="http://schemas.openxmlformats.org/officeDocument/2006/relationships/image" Target="../media/image34.png"/><Relationship Id="rId15" Type="http://schemas.openxmlformats.org/officeDocument/2006/relationships/image" Target="../media/image25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audio" Target="../media/click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Картинка 33 из 153296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468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81 из 153531"/>
          <p:cNvPicPr/>
          <p:nvPr/>
        </p:nvPicPr>
        <p:blipFill>
          <a:blip r:embed="rId2"/>
          <a:stretch/>
        </p:blipFill>
        <p:spPr>
          <a:xfrm>
            <a:off x="1371600" y="106668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Картинка 110 из 153531"/>
          <p:cNvPicPr/>
          <p:nvPr/>
        </p:nvPicPr>
        <p:blipFill>
          <a:blip r:embed="rId3"/>
          <a:stretch/>
        </p:blipFill>
        <p:spPr>
          <a:xfrm>
            <a:off x="914400" y="1447920"/>
            <a:ext cx="7620120" cy="50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Картинка 70 из 153531"/>
          <p:cNvPicPr/>
          <p:nvPr/>
        </p:nvPicPr>
        <p:blipFill>
          <a:blip r:embed="rId4"/>
          <a:stretch/>
        </p:blipFill>
        <p:spPr>
          <a:xfrm>
            <a:off x="1066680" y="106668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Картинка 1 из 82332"/>
          <p:cNvPicPr/>
          <p:nvPr/>
        </p:nvPicPr>
        <p:blipFill>
          <a:blip r:embed="rId1"/>
          <a:stretch/>
        </p:blipFill>
        <p:spPr>
          <a:xfrm>
            <a:off x="1752480" y="1523880"/>
            <a:ext cx="5857920" cy="457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Картинка 93 из 82332"/>
          <p:cNvPicPr/>
          <p:nvPr/>
        </p:nvPicPr>
        <p:blipFill>
          <a:blip r:embed="rId2"/>
          <a:stretch/>
        </p:blipFill>
        <p:spPr>
          <a:xfrm>
            <a:off x="1143000" y="1219320"/>
            <a:ext cx="7407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Картинка 93 из 2667"/>
          <p:cNvPicPr/>
          <p:nvPr/>
        </p:nvPicPr>
        <p:blipFill>
          <a:blip r:embed="rId1"/>
          <a:stretch/>
        </p:blipFill>
        <p:spPr>
          <a:xfrm>
            <a:off x="7315200" y="533520"/>
            <a:ext cx="1143000" cy="125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Картинка 95 из 2667"/>
          <p:cNvPicPr/>
          <p:nvPr/>
        </p:nvPicPr>
        <p:blipFill>
          <a:blip r:embed="rId2"/>
          <a:stretch/>
        </p:blipFill>
        <p:spPr>
          <a:xfrm>
            <a:off x="1752480" y="4343400"/>
            <a:ext cx="1905120" cy="206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ртинка 122 из 2667"/>
          <p:cNvPicPr/>
          <p:nvPr/>
        </p:nvPicPr>
        <p:blipFill>
          <a:blip r:embed="rId3"/>
          <a:stretch/>
        </p:blipFill>
        <p:spPr>
          <a:xfrm>
            <a:off x="7162920" y="2362320"/>
            <a:ext cx="1276200" cy="1193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9" descr="cricket_jumping_lg_nwm.gif"/>
          <p:cNvPicPr/>
          <p:nvPr/>
        </p:nvPicPr>
        <p:blipFill>
          <a:blip r:embed="rId4"/>
          <a:stretch/>
        </p:blipFill>
        <p:spPr>
          <a:xfrm>
            <a:off x="609588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www.welldes.com/images/ant_dumbbells_lg_nwm.gif"/>
          <p:cNvPicPr/>
          <p:nvPr/>
        </p:nvPicPr>
        <p:blipFill>
          <a:blip r:embed="rId5"/>
          <a:stretch/>
        </p:blipFill>
        <p:spPr>
          <a:xfrm>
            <a:off x="45720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cricket_playing_violin_lg_nwm.gif"/>
          <p:cNvPicPr/>
          <p:nvPr/>
        </p:nvPicPr>
        <p:blipFill>
          <a:blip r:embed="rId9"/>
          <a:stretch/>
        </p:blipFill>
        <p:spPr>
          <a:xfrm>
            <a:off x="3505320" y="1676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Картинка 12 из 126023"/>
          <p:cNvPicPr/>
          <p:nvPr/>
        </p:nvPicPr>
        <p:blipFill>
          <a:blip r:embed="rId1"/>
          <a:stretch/>
        </p:blipFill>
        <p:spPr>
          <a:xfrm>
            <a:off x="457200" y="507960"/>
            <a:ext cx="8458200" cy="6350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Картинка 7 из 416570"/>
          <p:cNvPicPr/>
          <p:nvPr/>
        </p:nvPicPr>
        <p:blipFill>
          <a:blip r:embed="rId2"/>
          <a:stretch/>
        </p:blipFill>
        <p:spPr>
          <a:xfrm>
            <a:off x="2971800" y="16002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Картинка 66 из 160151"/>
          <p:cNvPicPr/>
          <p:nvPr/>
        </p:nvPicPr>
        <p:blipFill>
          <a:blip r:embed="rId3"/>
          <a:stretch/>
        </p:blipFill>
        <p:spPr>
          <a:xfrm>
            <a:off x="4267080" y="3352680"/>
            <a:ext cx="1136880" cy="79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Картинка 72 из 135113"/>
          <p:cNvPicPr/>
          <p:nvPr/>
        </p:nvPicPr>
        <p:blipFill>
          <a:blip r:embed="rId4"/>
          <a:stretch/>
        </p:blipFill>
        <p:spPr>
          <a:xfrm>
            <a:off x="6172200" y="4114800"/>
            <a:ext cx="558720" cy="55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Картинка 72 из 135113"/>
          <p:cNvPicPr/>
          <p:nvPr/>
        </p:nvPicPr>
        <p:blipFill>
          <a:blip r:embed="rId5"/>
          <a:stretch/>
        </p:blipFill>
        <p:spPr>
          <a:xfrm>
            <a:off x="3657600" y="4495680"/>
            <a:ext cx="558720" cy="554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Картинка 36 из 82282"/>
          <p:cNvPicPr/>
          <p:nvPr/>
        </p:nvPicPr>
        <p:blipFill>
          <a:blip r:embed="rId6"/>
          <a:stretch/>
        </p:blipFill>
        <p:spPr>
          <a:xfrm>
            <a:off x="7772400" y="5181480"/>
            <a:ext cx="990720" cy="517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Картинка 1 из 168523"/>
          <p:cNvPicPr/>
          <p:nvPr/>
        </p:nvPicPr>
        <p:blipFill>
          <a:blip r:embed="rId7"/>
          <a:stretch/>
        </p:blipFill>
        <p:spPr>
          <a:xfrm>
            <a:off x="6781680" y="4343400"/>
            <a:ext cx="1486080" cy="15066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med.png"/>
          <p:cNvPicPr/>
          <p:nvPr/>
        </p:nvPicPr>
        <p:blipFill>
          <a:blip r:embed="rId8"/>
          <a:stretch/>
        </p:blipFill>
        <p:spPr>
          <a:xfrm>
            <a:off x="7467480" y="685800"/>
            <a:ext cx="771480" cy="6984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8" descr="672050d5d076t.jpg"/>
          <p:cNvPicPr/>
          <p:nvPr/>
        </p:nvPicPr>
        <p:blipFill>
          <a:blip r:embed="rId9"/>
          <a:stretch/>
        </p:blipFill>
        <p:spPr>
          <a:xfrm>
            <a:off x="1066680" y="5715000"/>
            <a:ext cx="785880" cy="4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Картинка 72 из 135113"/>
          <p:cNvPicPr/>
          <p:nvPr/>
        </p:nvPicPr>
        <p:blipFill>
          <a:blip r:embed="rId10"/>
          <a:stretch/>
        </p:blipFill>
        <p:spPr>
          <a:xfrm>
            <a:off x="1371600" y="5791320"/>
            <a:ext cx="558720" cy="554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Картинка 7 из 12893"/>
          <p:cNvPicPr/>
          <p:nvPr/>
        </p:nvPicPr>
        <p:blipFill>
          <a:blip r:embed="rId11"/>
          <a:stretch/>
        </p:blipFill>
        <p:spPr>
          <a:xfrm>
            <a:off x="5486400" y="5715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1" descr="Картинка 148 из 115062"/>
          <p:cNvPicPr/>
          <p:nvPr/>
        </p:nvPicPr>
        <p:blipFill>
          <a:blip r:embed="rId12"/>
          <a:stretch/>
        </p:blipFill>
        <p:spPr>
          <a:xfrm>
            <a:off x="4648320" y="2895480"/>
            <a:ext cx="93348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2" descr="Картинка 1 из 168523"/>
          <p:cNvPicPr/>
          <p:nvPr/>
        </p:nvPicPr>
        <p:blipFill>
          <a:blip r:embed="rId13"/>
          <a:stretch/>
        </p:blipFill>
        <p:spPr>
          <a:xfrm>
            <a:off x="5181480" y="21337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Картинка 12 из 153951"/>
          <p:cNvPicPr/>
          <p:nvPr/>
        </p:nvPicPr>
        <p:blipFill>
          <a:blip r:embed="rId14"/>
          <a:stretch/>
        </p:blipFill>
        <p:spPr>
          <a:xfrm>
            <a:off x="685800" y="6858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Картинка 7 из 416570"/>
          <p:cNvPicPr/>
          <p:nvPr/>
        </p:nvPicPr>
        <p:blipFill>
          <a:blip r:embed="rId15"/>
          <a:stretch/>
        </p:blipFill>
        <p:spPr>
          <a:xfrm>
            <a:off x="457200" y="121932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9" descr="Картинка 1 из 168523"/>
          <p:cNvPicPr/>
          <p:nvPr/>
        </p:nvPicPr>
        <p:blipFill>
          <a:blip r:embed="rId16"/>
          <a:stretch/>
        </p:blipFill>
        <p:spPr>
          <a:xfrm>
            <a:off x="533520" y="2590920"/>
            <a:ext cx="148572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-0.07344 0.04398 -0.14671 0.08797 -0.17605 0.10556 E">
                                      <p:cBhvr>
                                        <p:cTn id="6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C 0.04305 0.0412 0.10764 0.09282 0.13125 0.05254 C 0.16597 -0.00487 -0.02257 -0.21783 0.01805 -0.28797 C 0.05607 -0.34977 0.20364 -0.13403 0.23889 -0.19561 C 0.27743 -0.25764 0.13507 -0.35625 0.17621 -0.42269 C 0.21232 -0.48195 0.27448 -0.35926 0.30642 -0.41274 C 0.33802 -0.46551 0.25885 -0.50533 0.2875 -0.55186 C 0.30434 -0.57848 0.3217 -0.56227 0.33663 -0.55047 E">
                                      <p:cBhvr>
                                        <p:cTn id="66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55 0.05 C -0.05486 0.04375 -0.05191 0.04213 -0.04566 0.03912 C -0.0434 0.03797 -0.04045 0.03774 -0.03819 0.03588 C -0.03125 0.03033 -0.02066 0.02061 -0.01545 0.01297 C -0.01267 0.00857 -0.01145 0.00325 -0.0092 -0.00115 C -0.00711 -0.02013 -0.00694 -0.02384 -0.00312 -0.03958 C -0.00243 -0.04166 0.00313 -0.04976 0.00452 -0.05324 C 0.00573 -0.05625 0.00539 -0.06041 0.0073 -0.0625 C 0.0132 -0.06967 0.01007 -0.06527 0.01598 -0.07662 C 0.01684 -0.07824 0.01858 -0.07847 0.01997 -0.07939 C 0.02674 -0.08611 0.03351 -0.09328 0.03976 -0.10092 C 0.04236 -0.10925 0.04011 -0.10347 0.04636 -0.11481 C 0.04705 -0.11643 0.04879 -0.11967 0.04879 -0.11944 C 0.05139 -0.1412 0.06007 -0.1868 0.03976 -0.1949 C 0.02969 -0.2074 0.01441 -0.2074 0.00105 -0.2118 C -0.02135 -0.21088 -0.03107 -0.21666 -0.04566 -0.20555 C -0.05086 -0.19606 -0.06024 -0.19004 -0.06475 -0.17939 C -0.06527 -0.17777 -0.06527 -0.17592 -0.06597 -0.17476 C -0.06736 -0.17152 -0.06944 -0.16851 -0.071 -0.1655 C -0.07187 -0.16388 -0.07343 -0.16088 -0.07343 -0.16064 C -0.07482 -0.15625 -0.07743 -0.15231 -0.07847 -0.14722 C -0.08194 -0.13055 -0.08159 -0.12638 -0.09236 -0.11342 C -0.1 -0.10439 -0.09861 -0.09953 -0.11007 -0.0949 C -0.11441 -0.09537 -0.11857 -0.09537 -0.12257 -0.09629 C -0.12951 -0.09861 -0.13559 -0.10856 -0.14166 -0.11342 C -0.14861 -0.12546 -0.15642 -0.13634 -0.16319 -0.14884 C -0.1651 -0.15231 -0.16736 -0.15648 -0.17083 -0.1581 C -0.17309 -0.15902 -0.1783 -0.16088 -0.1783 -0.16064 C -0.18507 -0.16736 -0.1927 -0.16828 -0.20069 -0.17175 C -0.22066 -0.17129 -0.24045 -0.17268 -0.26007 -0.17013 C -0.26302 -0.16967 -0.2677 -0.16388 -0.2677 -0.16365 C -0.26909 -0.16018 -0.27239 -0.15717 -0.27257 -0.15324 C -0.27326 -0.14328 -0.27083 -0.1324 -0.26632 -0.12407 C -0.26666 -0.11342 -0.26597 -0.10231 -0.2677 -0.09166 C -0.26892 -0.08333 -0.27482 -0.08055 -0.2802 -0.07777 C -0.29705 -0.06944 -0.30711 -0.0699 -0.32691 -0.06851 C -0.33368 -0.06805 -0.34027 -0.06759 -0.34705 -0.06713 C -0.35625 -0.06643 -0.36562 -0.0662 -0.37482 -0.06574 C -0.38073 -0.06342 -0.38663 -0.06203 -0.39253 -0.05925 C -0.39739 -0.05324 -0.41875 -0.03263 -0.42656 -0.03194 C -0.44305 -0.02963 -0.48715 -0.02893 -0.49583 -0.0287 C -0.50225 -0.02708 -0.5085 -0.025 -0.51475 -0.02268 C -0.51909 -0.01736 -0.52361 -0.01157 -0.52864 -0.00717 C -0.52986 -0.00486 -0.53715 0.00834 -0.53732 0.00973 C -0.5375 0.01065 -0.53576 0.01065 -0.53489 0.01135 E">
                                      <p:cBhvr>
                                        <p:cTn id="7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07407E-006 C -0.054 0.06227 -0.10799 0.12454 -0.14167 0.13495 C -0.17535 0.14537 -0.1889 0.1037 -0.20244 0.06204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7f3210bfdc918b98a42ad822c7bdfbc2.gif"/>
          <p:cNvPicPr/>
          <p:nvPr/>
        </p:nvPicPr>
        <p:blipFill>
          <a:blip r:embed="rId1"/>
          <a:stretch/>
        </p:blipFill>
        <p:spPr>
          <a:xfrm>
            <a:off x="1219320" y="1295280"/>
            <a:ext cx="3757320" cy="2637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ежик.png"/>
          <p:cNvPicPr/>
          <p:nvPr/>
        </p:nvPicPr>
        <p:blipFill>
          <a:blip r:embed="rId2"/>
          <a:stretch/>
        </p:blipFill>
        <p:spPr>
          <a:xfrm>
            <a:off x="5638680" y="990720"/>
            <a:ext cx="2648160" cy="280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Картинка 6 из 153951"/>
          <p:cNvPicPr/>
          <p:nvPr/>
        </p:nvPicPr>
        <p:blipFill>
          <a:blip r:embed="rId3"/>
          <a:stretch/>
        </p:blipFill>
        <p:spPr>
          <a:xfrm>
            <a:off x="5638680" y="3886200"/>
            <a:ext cx="2438640" cy="242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Картинка 85 из 38441"/>
          <p:cNvPicPr/>
          <p:nvPr/>
        </p:nvPicPr>
        <p:blipFill>
          <a:blip r:embed="rId4"/>
          <a:stretch/>
        </p:blipFill>
        <p:spPr>
          <a:xfrm>
            <a:off x="1676520" y="3886200"/>
            <a:ext cx="2895480" cy="2259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1548720" y="0"/>
            <a:ext cx="632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Кто лишни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Картинка 7 из 6696"/>
          <p:cNvPicPr/>
          <p:nvPr/>
        </p:nvPicPr>
        <p:blipFill>
          <a:blip r:embed="rId5"/>
          <a:stretch/>
        </p:blipFill>
        <p:spPr>
          <a:xfrm>
            <a:off x="2133720" y="1828800"/>
            <a:ext cx="1904760" cy="150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Картинка 7 из 6696"/>
          <p:cNvPicPr/>
          <p:nvPr/>
        </p:nvPicPr>
        <p:blipFill>
          <a:blip r:embed="rId6"/>
          <a:stretch/>
        </p:blipFill>
        <p:spPr>
          <a:xfrm>
            <a:off x="2286000" y="4419720"/>
            <a:ext cx="1905120" cy="150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Картинка 7 из 6696"/>
          <p:cNvPicPr/>
          <p:nvPr/>
        </p:nvPicPr>
        <p:blipFill>
          <a:blip r:embed="rId7"/>
          <a:stretch/>
        </p:blipFill>
        <p:spPr>
          <a:xfrm>
            <a:off x="6172200" y="4267080"/>
            <a:ext cx="1905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983320" y="685800"/>
            <a:ext cx="446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Картинка 38 из 17399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Картинка 90 из 7082"/>
          <p:cNvPicPr/>
          <p:nvPr/>
        </p:nvPicPr>
        <p:blipFill>
          <a:blip r:embed="rId2"/>
          <a:stretch/>
        </p:blipFill>
        <p:spPr>
          <a:xfrm>
            <a:off x="5181480" y="2438280"/>
            <a:ext cx="28479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Настя</cp:lastModifiedBy>
  <dcterms:modified xsi:type="dcterms:W3CDTF">2012-12-12T19:00:48Z</dcterms:modified>
  <cp:revision>57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