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7.jpeg" ContentType="image/jpeg"/>
  <Override PartName="/ppt/media/image3.gif" ContentType="image/gif"/>
  <Override PartName="/ppt/media/image6.png" ContentType="image/png"/>
  <Override PartName="/ppt/media/image13.png" ContentType="image/png"/>
  <Override PartName="/ppt/media/image12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D8EB-DD47-4A27-91B6-8C135FBE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7B9A-4A7E-47BF-9D7A-314EAEF3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C92F-46E5-4C4D-A196-119D86E5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633B-BF6A-4123-90B1-02EC055C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A98D-CBE8-4F3E-AF2B-181CB715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DAB-E12B-4597-90C4-005BA15D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4AD8-9ED1-46B6-AF6F-931C11AE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5C6-3971-43A7-A604-FAFC72B1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3B73-18F0-4778-AB63-D333008A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4E5B-DC9B-4AB0-8974-3707A51D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288D-4B1A-47FD-B28F-96E35C76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292-663A-4102-A8A0-B67BBC4E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BD06-A66D-4D52-9983-AAD6D91ED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24000" y="836640"/>
            <a:ext cx="47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кан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188360" y="2708280"/>
            <a:ext cx="716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состоит из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клеток</a:t>
            </a: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и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межклеточног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веществ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4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56520" y="485640"/>
            <a:ext cx="308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До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47440" y="485640"/>
            <a:ext cx="256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Сейча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7840" y="1844640"/>
            <a:ext cx="4972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зн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поним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мог представи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мог вырази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мог выполни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3512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18200" y="2060640"/>
            <a:ext cx="3670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знаком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уч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омн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9640" y="549360"/>
            <a:ext cx="6985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работ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36738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519640" cy="208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88000" y="333360"/>
            <a:ext cx="2303640" cy="201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9280" y="4581360"/>
            <a:ext cx="2374920" cy="2089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59640" y="4581360"/>
            <a:ext cx="2232000" cy="2013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627280" y="2060640"/>
            <a:ext cx="44658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3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99cc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Ткани </a:t>
            </a:r>
            <a:endParaRPr b="1" lang="en-US" sz="1800" spc="1" strike="noStrike">
              <a:ln w="63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99cc00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3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99cc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растений</a:t>
            </a:r>
            <a:endParaRPr b="1" lang="en-US" sz="1800" spc="1" strike="noStrike">
              <a:ln w="63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99cc00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497800" cy="612000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8820000" y="6021360"/>
            <a:ext cx="324000" cy="549360"/>
          </a:xfrm>
          <a:prstGeom prst="irregularSeal2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3311280" cy="2160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168720" cy="2158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26920" y="981000"/>
            <a:ext cx="3240360" cy="223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219640" y="3789360"/>
            <a:ext cx="30974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763200"/>
            <a:ext cx="3600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Одежда, защита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Опора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Вода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Питание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Рост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91240" y="981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окров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90120" y="1989000"/>
            <a:ext cx="389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Механическ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5400" y="2803680"/>
            <a:ext cx="340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роводящ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6880" y="3524400"/>
            <a:ext cx="26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Основ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28680" y="4316400"/>
            <a:ext cx="468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Образователь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8136000" cy="4464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627280" y="69228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Times New Roman"/>
              </a:rPr>
              <a:t>Псилофи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28120" y="835200"/>
            <a:ext cx="822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 Кончик корня, побега, зародыш растения состоит и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образовательной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к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 Скорлупа грецкого ореха состоит из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механическо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к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 Поверхность всех органов  состоит из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кровно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тк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) Мякоть листа, плодов, сердцевина стеблей –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основн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ка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) Трубочки, сосуды корня, стебля, жилки листов –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роводящ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к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35280" y="18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8604360" y="6381720"/>
            <a:ext cx="360360" cy="287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51280" y="1052640"/>
            <a:ext cx="4033800" cy="3457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55640" y="404640"/>
            <a:ext cx="1457280" cy="5185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9080" y="5891040"/>
            <a:ext cx="30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водящ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95240" y="5151600"/>
            <a:ext cx="25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749760" cy="3889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2840040" cy="3816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35280" y="3573360"/>
            <a:ext cx="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32720" y="2852640"/>
            <a:ext cx="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1640" y="3573360"/>
            <a:ext cx="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5080" y="530064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зова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7640" y="52293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кровн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72720" y="450864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одя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4:54:12Z</dcterms:created>
  <dc:creator>Агат</dc:creator>
  <dc:description/>
  <dc:language>en-US</dc:language>
  <cp:lastModifiedBy>Сергей</cp:lastModifiedBy>
  <dcterms:modified xsi:type="dcterms:W3CDTF">2012-12-02T11:08:47Z</dcterms:modified>
  <cp:revision>6</cp:revision>
  <dc:subject/>
  <dc:title>Слайд 1</dc:title>
</cp:coreProperties>
</file>