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2.gif" ContentType="image/gif"/>
  <Override PartName="/ppt/media/image5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gif" ContentType="image/gif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7.jpeg" ContentType="image/jpeg"/>
  <Override PartName="/ppt/media/image3.gif" ContentType="image/gif"/>
  <Override PartName="/ppt/media/image6.png" ContentType="image/png"/>
  <Override PartName="/ppt/media/image13.png" ContentType="image/png"/>
  <Override PartName="/ppt/media/image12.jpeg" ContentType="image/jpeg"/>
  <Override PartName="/ppt/media/image4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B5B70-5071-4331-AE2E-91CD21365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9CB20-E009-4890-9DD4-3B2D5B3A1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9F57F-ECE5-40A9-A2AB-90E414127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EF04B-E715-4B69-A721-44311C808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BCD8E-DE08-46A0-B4E0-F4315509C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818DB-4F83-4540-BC97-7A325C3EB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EF400-4390-4A8A-B54E-005ACC0E9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683F5-253E-4BD5-9C39-DF3502E71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F6853-6782-49D9-A53D-61B0EC1C0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2652C-46FC-4A72-BB04-0BCC4B3A4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D0416-AC13-4AC1-81E1-19E5474AF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5829E-990A-4D96-9CAD-F8F8B3106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C4881-70E0-4572-92BA-973B8761C4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" Target="slide7.xml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5fa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124000" y="836640"/>
            <a:ext cx="475308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кань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" name=""/>
          <p:cNvSpPr/>
          <p:nvPr/>
        </p:nvSpPr>
        <p:spPr>
          <a:xfrm>
            <a:off x="1188360" y="2708280"/>
            <a:ext cx="7163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cc"/>
                </a:solidFill>
                <a:latin typeface="Arial"/>
              </a:rPr>
              <a:t>состоит из </a:t>
            </a:r>
            <a:r>
              <a:rPr b="1" lang="en-US" sz="6000" spc="-1" strike="noStrike">
                <a:solidFill>
                  <a:srgbClr val="ff3300"/>
                </a:solidFill>
                <a:latin typeface="Arial"/>
              </a:rPr>
              <a:t>клеток</a:t>
            </a:r>
            <a:r>
              <a:rPr b="1" lang="en-US" sz="60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cc"/>
                </a:solidFill>
                <a:latin typeface="Arial"/>
              </a:rPr>
              <a:t>и </a:t>
            </a:r>
            <a:r>
              <a:rPr b="1" lang="en-US" sz="6000" spc="-1" strike="noStrike">
                <a:solidFill>
                  <a:srgbClr val="ff3300"/>
                </a:solidFill>
                <a:latin typeface="Arial"/>
              </a:rPr>
              <a:t>межклеточного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Arial"/>
              </a:rPr>
              <a:t>вещества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50000">
              <a:srgbClr val="fee4fe"/>
            </a:gs>
            <a:gs pos="100000">
              <a:srgbClr val="ff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956520" y="485640"/>
            <a:ext cx="3084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Arial"/>
              </a:rPr>
              <a:t>До урока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347440" y="485640"/>
            <a:ext cx="2567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Arial"/>
              </a:rPr>
              <a:t>Сейчас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77840" y="1844640"/>
            <a:ext cx="49723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Не знал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Не понимал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Не мог представить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Не мог выразить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Не мог выполнить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35120" y="3448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218200" y="2060640"/>
            <a:ext cx="36705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ознакомился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ыяснил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ыучил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Запомнил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539640" y="549360"/>
            <a:ext cx="698508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Спасибо за работу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4643280" y="3573360"/>
            <a:ext cx="3673800" cy="29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2519640" cy="20876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6588000" y="333360"/>
            <a:ext cx="2303640" cy="20160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179280" y="4581360"/>
            <a:ext cx="2374920" cy="20894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6659640" y="4581360"/>
            <a:ext cx="2232000" cy="20131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 txBox="1"/>
          <p:nvPr/>
        </p:nvSpPr>
        <p:spPr>
          <a:xfrm>
            <a:off x="2627280" y="2060640"/>
            <a:ext cx="4465800" cy="23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63360">
                  <a:solidFill>
                    <a:srgbClr val="008000"/>
                  </a:solidFill>
                  <a:miter/>
                </a:ln>
                <a:gradFill rotWithShape="0">
                  <a:gsLst>
                    <a:gs pos="0">
                      <a:srgbClr val="ffcc00"/>
                    </a:gs>
                    <a:gs pos="50000">
                      <a:srgbClr val="99cc00"/>
                    </a:gs>
                    <a:gs pos="100000">
                      <a:srgbClr val="ffcc00"/>
                    </a:gs>
                  </a:gsLst>
                  <a:lin ang="5400000"/>
                </a:gradFill>
                <a:latin typeface="Arial"/>
              </a:rPr>
              <a:t>Ткани </a:t>
            </a:r>
            <a:endParaRPr b="1" lang="en-US" sz="1800" spc="1" strike="noStrike">
              <a:ln w="63360">
                <a:solidFill>
                  <a:srgbClr val="008000"/>
                </a:solidFill>
                <a:miter/>
              </a:ln>
              <a:gradFill rotWithShape="0">
                <a:gsLst>
                  <a:gs pos="0">
                    <a:srgbClr val="ffcc00"/>
                  </a:gs>
                  <a:gs pos="50000">
                    <a:srgbClr val="99cc00"/>
                  </a:gs>
                  <a:gs pos="100000">
                    <a:srgbClr val="ffcc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63360">
                  <a:solidFill>
                    <a:srgbClr val="008000"/>
                  </a:solidFill>
                  <a:miter/>
                </a:ln>
                <a:gradFill rotWithShape="0">
                  <a:gsLst>
                    <a:gs pos="0">
                      <a:srgbClr val="ffcc00"/>
                    </a:gs>
                    <a:gs pos="50000">
                      <a:srgbClr val="99cc00"/>
                    </a:gs>
                    <a:gs pos="100000">
                      <a:srgbClr val="ffcc00"/>
                    </a:gs>
                  </a:gsLst>
                  <a:lin ang="5400000"/>
                </a:gradFill>
                <a:latin typeface="Arial"/>
              </a:rPr>
              <a:t>растений</a:t>
            </a:r>
            <a:endParaRPr b="1" lang="en-US" sz="1800" spc="1" strike="noStrike">
              <a:ln w="63360">
                <a:solidFill>
                  <a:srgbClr val="008000"/>
                </a:solidFill>
                <a:miter/>
              </a:ln>
              <a:gradFill rotWithShape="0">
                <a:gsLst>
                  <a:gs pos="0">
                    <a:srgbClr val="ffcc00"/>
                  </a:gs>
                  <a:gs pos="50000">
                    <a:srgbClr val="99cc00"/>
                  </a:gs>
                  <a:gs pos="100000">
                    <a:srgbClr val="ffcc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395280" y="404640"/>
            <a:ext cx="8497800" cy="6120000"/>
          </a:xfrm>
          <a:prstGeom prst="rect">
            <a:avLst/>
          </a:prstGeom>
          <a:ln w="0">
            <a:noFill/>
          </a:ln>
        </p:spPr>
      </p:pic>
      <p:sp>
        <p:nvSpPr>
          <p:cNvPr id="49" name="">
            <a:hlinkClick r:id="rId3" action="ppaction://hlinksldjump"/>
          </p:cNvPr>
          <p:cNvSpPr/>
          <p:nvPr/>
        </p:nvSpPr>
        <p:spPr>
          <a:xfrm>
            <a:off x="8820000" y="6021360"/>
            <a:ext cx="324000" cy="549360"/>
          </a:xfrm>
          <a:prstGeom prst="irregularSeal2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84360" y="3789360"/>
            <a:ext cx="3311280" cy="21607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5148360" y="981000"/>
            <a:ext cx="3168720" cy="21589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826920" y="981000"/>
            <a:ext cx="3240360" cy="22320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5219640" y="3789360"/>
            <a:ext cx="309744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50920" y="763200"/>
            <a:ext cx="360036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Arial"/>
              </a:rPr>
              <a:t>Одежда, защита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Arial"/>
              </a:rPr>
              <a:t>Опора –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Arial"/>
              </a:rPr>
              <a:t>Вода –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Arial"/>
              </a:rPr>
              <a:t>Питание –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Arial"/>
              </a:rPr>
              <a:t>Рост –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91240" y="981000"/>
            <a:ext cx="2923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Покровна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290120" y="1989000"/>
            <a:ext cx="3899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Механическая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05400" y="2803680"/>
            <a:ext cx="3408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Проводяща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46880" y="3524400"/>
            <a:ext cx="2669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Основна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928680" y="4316400"/>
            <a:ext cx="4687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Образовательна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539640" y="1844640"/>
            <a:ext cx="8136000" cy="4464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2627280" y="692280"/>
            <a:ext cx="504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0099"/>
                </a:solidFill>
                <a:latin typeface="Times New Roman"/>
              </a:rPr>
              <a:t>Псилофит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528120" y="835200"/>
            <a:ext cx="822564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А) Кончик корня, побега, зародыш растения состоит из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образовательной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тка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Б) Скорлупа грецкого ореха состоит из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механической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тка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) Поверхность всех органов  состоит из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покровной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тка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Г) Мякоть листа, плодов, сердцевина стеблей – эт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основная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ткан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Д) Трубочки, сосуды корня, стебля, жилки листов – эт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                                                                                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проводящая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тка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35280" y="189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>
            <a:hlinkClick r:id="rId2" action="ppaction://hlinksldjump"/>
          </p:cNvPr>
          <p:cNvSpPr/>
          <p:nvPr/>
        </p:nvSpPr>
        <p:spPr>
          <a:xfrm>
            <a:off x="8604360" y="6381720"/>
            <a:ext cx="360360" cy="28728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480" bIns="42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3851280" y="1052640"/>
            <a:ext cx="4033800" cy="34574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755640" y="404640"/>
            <a:ext cx="1457280" cy="518508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379080" y="5891040"/>
            <a:ext cx="308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роводящ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295240" y="5151600"/>
            <a:ext cx="254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Основна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5076720" y="333360"/>
            <a:ext cx="3749760" cy="388944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468360" y="333360"/>
            <a:ext cx="2840040" cy="381636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835280" y="3573360"/>
            <a:ext cx="0" cy="1584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732720" y="2852640"/>
            <a:ext cx="0" cy="1584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1640" y="3573360"/>
            <a:ext cx="0" cy="1584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5080" y="5300640"/>
            <a:ext cx="297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бразовательна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427640" y="5229360"/>
            <a:ext cx="200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кровная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72720" y="4508640"/>
            <a:ext cx="220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оводяща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3T14:54:12Z</dcterms:created>
  <dc:creator>Агат</dc:creator>
  <dc:description/>
  <dc:language>en-US</dc:language>
  <cp:lastModifiedBy>Сергей</cp:lastModifiedBy>
  <dcterms:modified xsi:type="dcterms:W3CDTF">2012-12-02T11:08:47Z</dcterms:modified>
  <cp:revision>6</cp:revision>
  <dc:subject/>
  <dc:title>Слайд 1</dc:title>
</cp:coreProperties>
</file>