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742-78D7-4E3F-A6B7-08A53FC4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FA-79DB-42B9-AA34-6F9E802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2A2-6478-457A-B935-36A41BC4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00-18F7-419E-9F41-C8F31F96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B65-9C86-4B31-9EB8-38602C0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9E7-11A2-4202-BE20-65564A6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CE3-527F-453F-B8E0-B85FB1B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21A-3B08-4868-9430-6F5C0E92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D9F-AF31-4084-A3D2-22195B9D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9A6-4302-4361-ABB6-ECDE27E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A94-9645-44A9-9E13-08E01E6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303-B972-4996-A306-F8D1028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1885-1A4F-4CE7-B69A-FFFB811DC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дел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окласс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гко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даптировался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214960" y="4214880"/>
            <a:ext cx="3643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ервоклассники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к же любят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казы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казки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ед сном, как и более младшие де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:\XCAA4LYQWCAU58FQTCA8NX3X8CA8YBW5BCA7N3S5NCAAY8LP2CAO4JSHBCAYHGBBMCAH3M3L5CAPR0I6WCAHPFMXDCAX01ECYCARI3LWFCAR8X4EDCAHIX4NWCAPEMO0SCA87TXE4CA21RD3BCA63HL4Q.jpg"/>
          <p:cNvPicPr/>
          <p:nvPr/>
        </p:nvPicPr>
        <p:blipFill>
          <a:blip r:embed="rId1"/>
          <a:stretch/>
        </p:blipFill>
        <p:spPr>
          <a:xfrm>
            <a:off x="2143080" y="3214800"/>
            <a:ext cx="464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0004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 Будите утром ребенка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покойно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одгоняйте,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тороп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:\sleepy-boy.jpg"/>
          <p:cNvPicPr/>
          <p:nvPr/>
        </p:nvPicPr>
        <p:blipFill>
          <a:blip r:embed="rId1"/>
          <a:stretch/>
        </p:blipFill>
        <p:spPr>
          <a:xfrm>
            <a:off x="2643120" y="2357280"/>
            <a:ext cx="3857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5840" y="7858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Не отправляйте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бенка в школу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 завтрака.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:\b1ce7cc1d984f39e9a93fde703dec92c.jpg"/>
          <p:cNvPicPr/>
          <p:nvPr/>
        </p:nvPicPr>
        <p:blipFill>
          <a:blip r:embed="rId1"/>
          <a:stretch/>
        </p:blipFill>
        <p:spPr>
          <a:xfrm>
            <a:off x="2143080" y="2786040"/>
            <a:ext cx="49291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50004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желай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тром ребенку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орошего дня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бнимите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F:\79942563_3649429_shutterstock_11312956_2981.jpg"/>
          <p:cNvPicPr/>
          <p:nvPr/>
        </p:nvPicPr>
        <p:blipFill>
          <a:blip r:embed="rId1"/>
          <a:stretch/>
        </p:blipFill>
        <p:spPr>
          <a:xfrm>
            <a:off x="1714680" y="2500200"/>
            <a:ext cx="5037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Встречайте ребенка после школы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покойно, радос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2000160" y="2857680"/>
            <a:ext cx="53467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 школ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обходимо 2 часа отдыха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осстановления с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photo-sborka.ru_299_view_5B4.jpg"/>
          <p:cNvPicPr/>
          <p:nvPr/>
        </p:nvPicPr>
        <p:blipFill>
          <a:blip r:embed="rId1"/>
          <a:stretch/>
        </p:blipFill>
        <p:spPr>
          <a:xfrm>
            <a:off x="2000160" y="3000240"/>
            <a:ext cx="507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елательно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тобы ребенок был бы записан в какую-нибудь спортивную секцию или ходил на танцы  и т.д.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:\3_(23).jpg"/>
          <p:cNvPicPr/>
          <p:nvPr/>
        </p:nvPicPr>
        <p:blipFill>
          <a:blip r:embed="rId1"/>
          <a:stretch/>
        </p:blipFill>
        <p:spPr>
          <a:xfrm>
            <a:off x="1857240" y="2857680"/>
            <a:ext cx="4500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105264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ребенка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римером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н равняется на Ва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13453847423722 (1).jpeg"/>
          <p:cNvPicPr/>
          <p:nvPr/>
        </p:nvPicPr>
        <p:blipFill>
          <a:blip r:embed="rId1"/>
          <a:stretch/>
        </p:blipFill>
        <p:spPr>
          <a:xfrm>
            <a:off x="2000160" y="3071880"/>
            <a:ext cx="4603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течение дня хотя б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часа,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гда вы будете принадлежать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ребе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:\6CAETM86PCAJU0HR4CAUMZ3FOCAVE7G7OCA7SXFGPCAZFEM63CAXYYTN8CA25E2WHCA0Z38NKCALHTNOXCA1OGYKZCA5CHVKZCA90J7D9CACFK0CPCAU8WMTACAR53SLICABUYYEECA6U77ERCA7H8INX.jpg"/>
          <p:cNvPicPr/>
          <p:nvPr/>
        </p:nvPicPr>
        <p:blipFill>
          <a:blip r:embed="rId1"/>
          <a:stretch/>
        </p:blipFill>
        <p:spPr>
          <a:xfrm>
            <a:off x="2500200" y="314316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8T05:06:56Z</dcterms:modified>
  <cp:revision>53</cp:revision>
  <dc:subject/>
  <dc:title>Слайд 1</dc:title>
</cp:coreProperties>
</file>