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5CA4-D65B-4FE9-9742-E5895B10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670F-F9CE-4153-9501-86DB99A7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0BE5-2CEA-45E7-8895-70D70644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5969-8B25-4773-8C3F-D717BFFC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9D80-EB29-4B77-A1FB-01F66BC7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9AF-7356-4DA7-83D5-BB819201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354D-2D2B-4D7F-8CAB-59C8BC6C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878-07C4-4907-B68F-C195944B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5B0C-6D4E-4A57-B2D2-93E07685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16AC-3FEB-4D16-9F48-AEF0107B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DEDD-8E74-4A7C-8183-738FA083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9571-ADF5-4750-9E33-EEB671CD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9443-49A7-446A-9DB7-CBA31CDCB7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85840" y="500040"/>
            <a:ext cx="885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то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лжен дел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ОДИТЕЛЬ</a:t>
            </a: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lang="ru-RU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тобы  </a:t>
            </a: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вокласс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гко</a:t>
            </a: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адаптировался к школ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Documents and Settings\Admin\Мои документы\Мои рисунки\психология_родители\rd01.jpg"/>
          <p:cNvPicPr/>
          <p:nvPr/>
        </p:nvPicPr>
        <p:blipFill>
          <a:blip r:embed="rId1"/>
          <a:stretch/>
        </p:blipFill>
        <p:spPr>
          <a:xfrm>
            <a:off x="5214960" y="4214880"/>
            <a:ext cx="36432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357120" y="857160"/>
            <a:ext cx="8429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9. </a:t>
            </a:r>
            <a:r>
              <a:rPr b="0" lang="ru-RU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Первоклассники </a:t>
            </a:r>
            <a:r>
              <a:rPr b="0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ак же любят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казы </a:t>
            </a:r>
            <a:r>
              <a:rPr b="0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казки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еред сном, как и более младшие де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G:\XCAA4LYQWCAU58FQTCA8NX3X8CA8YBW5BCA7N3S5NCAAY8LP2CAO4JSHBCAYHGBBMCAH3M3L5CAPR0I6WCAHPFMXDCAX01ECYCARI3LWFCAR8X4EDCAHIX4NWCAPEMO0SCA87TXE4CA21RD3BCA63HL4Q.jpg"/>
          <p:cNvPicPr/>
          <p:nvPr/>
        </p:nvPicPr>
        <p:blipFill>
          <a:blip r:embed="rId1"/>
          <a:stretch/>
        </p:blipFill>
        <p:spPr>
          <a:xfrm>
            <a:off x="2143080" y="3214800"/>
            <a:ext cx="46436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500040" y="214200"/>
            <a:ext cx="8429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d68"/>
                </a:solidFill>
                <a:latin typeface="Times New Roman"/>
                <a:ea typeface="Times New Roman"/>
              </a:rPr>
              <a:t>Советы   ребёнка 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571680" y="5484960"/>
            <a:ext cx="8001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БАЛУЙТЕ МЕН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Admin\Мои документы\Мои рисунки\психология_родители\post-1953-1126694849_thumb.jpg"/>
          <p:cNvPicPr/>
          <p:nvPr/>
        </p:nvPicPr>
        <p:blipFill>
          <a:blip r:embed="rId1"/>
          <a:stretch/>
        </p:blipFill>
        <p:spPr>
          <a:xfrm>
            <a:off x="2597040" y="1042920"/>
            <a:ext cx="405288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500040" y="214200"/>
            <a:ext cx="8429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d68"/>
                </a:solidFill>
                <a:latin typeface="Times New Roman"/>
                <a:ea typeface="Times New Roman"/>
              </a:rPr>
              <a:t>Советы   ребёнка 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571680" y="5143680"/>
            <a:ext cx="8001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БОЙТЕСЬ БЫТЬ ТВЁРДЫМИ СО МНО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C:\Documents and Settings\Admin\Мои документы\Мои рисунки\психология_родители\090c64442748174609767f90c0705790.jpg"/>
          <p:cNvPicPr/>
          <p:nvPr/>
        </p:nvPicPr>
        <p:blipFill>
          <a:blip r:embed="rId1"/>
          <a:stretch/>
        </p:blipFill>
        <p:spPr>
          <a:xfrm>
            <a:off x="3500280" y="1214280"/>
            <a:ext cx="200052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500040" y="214200"/>
            <a:ext cx="8429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d68"/>
                </a:solidFill>
                <a:latin typeface="Times New Roman"/>
                <a:ea typeface="Times New Roman"/>
              </a:rPr>
              <a:t>Советы   ребёнка 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571680" y="4857840"/>
            <a:ext cx="8001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 ПОЛАГАЙТЕ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ПРИМЕНЕНИЕ СИ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ОТНОШЕНИЯХ СО МН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:\Documents and Settings\Admin\Мои документы\Мои рисунки\психология_родители\777.jpg"/>
          <p:cNvPicPr/>
          <p:nvPr/>
        </p:nvPicPr>
        <p:blipFill>
          <a:blip r:embed="rId1"/>
          <a:stretch/>
        </p:blipFill>
        <p:spPr>
          <a:xfrm>
            <a:off x="2097000" y="1042920"/>
            <a:ext cx="488952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500040" y="214200"/>
            <a:ext cx="8429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d68"/>
                </a:solidFill>
                <a:latin typeface="Times New Roman"/>
                <a:ea typeface="Times New Roman"/>
              </a:rPr>
              <a:t>Советы   ребёнка 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571680" y="4643280"/>
            <a:ext cx="8001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ДАВАЙТЕ  ОБЕЩАНИЙ, КОТОРЫЕ  НЕ  В  СИЛАХ ВЫПОЛНИ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Documents and Settings\Admin\Мои документы\Мои рисунки\психология_родители\ec48dabfea7b.jpg"/>
          <p:cNvPicPr/>
          <p:nvPr/>
        </p:nvPicPr>
        <p:blipFill>
          <a:blip r:embed="rId1"/>
          <a:stretch/>
        </p:blipFill>
        <p:spPr>
          <a:xfrm>
            <a:off x="2170080" y="1116000"/>
            <a:ext cx="49928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500040" y="857160"/>
            <a:ext cx="842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.  Будите утром ребенка </a:t>
            </a:r>
            <a:r>
              <a:rPr b="0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спокойно,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 подгоняйте, </a:t>
            </a: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торопи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F:\sleepy-boy.jpg"/>
          <p:cNvPicPr/>
          <p:nvPr/>
        </p:nvPicPr>
        <p:blipFill>
          <a:blip r:embed="rId1"/>
          <a:stretch/>
        </p:blipFill>
        <p:spPr>
          <a:xfrm>
            <a:off x="2643120" y="2357280"/>
            <a:ext cx="38577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85840" y="785880"/>
            <a:ext cx="84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 Не отправляйте 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бенка в школу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з завтрака. </a:t>
            </a:r>
            <a:r>
              <a:rPr b="0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:\b1ce7cc1d984f39e9a93fde703dec92c.jpg"/>
          <p:cNvPicPr/>
          <p:nvPr/>
        </p:nvPicPr>
        <p:blipFill>
          <a:blip r:embed="rId1"/>
          <a:stretch/>
        </p:blipFill>
        <p:spPr>
          <a:xfrm>
            <a:off x="2143080" y="2786040"/>
            <a:ext cx="492912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714240" y="500040"/>
            <a:ext cx="842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3.  </a:t>
            </a: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желайте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тром ребенку </a:t>
            </a: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хорошего дня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обнимите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бё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F:\79942563_3649429_shutterstock_11312956_2981.jpg"/>
          <p:cNvPicPr/>
          <p:nvPr/>
        </p:nvPicPr>
        <p:blipFill>
          <a:blip r:embed="rId1"/>
          <a:stretch/>
        </p:blipFill>
        <p:spPr>
          <a:xfrm>
            <a:off x="1714680" y="2500200"/>
            <a:ext cx="50371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357120" y="857160"/>
            <a:ext cx="842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4. Встречайте ребенка после школы </a:t>
            </a:r>
            <a:r>
              <a:rPr b="0" lang="ru-RU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спокойно, радост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Admin\Мои документы\Мои рисунки\психология_родители\tumblr_l3c89yJzNi1qb6plo.jpg"/>
          <p:cNvPicPr/>
          <p:nvPr/>
        </p:nvPicPr>
        <p:blipFill>
          <a:blip r:embed="rId1"/>
          <a:stretch/>
        </p:blipFill>
        <p:spPr>
          <a:xfrm>
            <a:off x="2000160" y="2857680"/>
            <a:ext cx="534672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57120" y="857160"/>
            <a:ext cx="842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5. 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сле школы </a:t>
            </a:r>
            <a:r>
              <a:rPr b="0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еобходимо 2 часа отдыха 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ля восстановления си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:\photo-sborka.ru_299_view_5B4.jpg"/>
          <p:cNvPicPr/>
          <p:nvPr/>
        </p:nvPicPr>
        <p:blipFill>
          <a:blip r:embed="rId1"/>
          <a:stretch/>
        </p:blipFill>
        <p:spPr>
          <a:xfrm>
            <a:off x="2000160" y="3000240"/>
            <a:ext cx="5072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357120" y="857160"/>
            <a:ext cx="8429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6.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Желательно,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чтобы ребенок был бы записан в какую-нибудь спортивную секцию или ходил на танцы  и т.д.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F:\3_(23).jpg"/>
          <p:cNvPicPr/>
          <p:nvPr/>
        </p:nvPicPr>
        <p:blipFill>
          <a:blip r:embed="rId1"/>
          <a:stretch/>
        </p:blipFill>
        <p:spPr>
          <a:xfrm>
            <a:off x="1857240" y="2857680"/>
            <a:ext cx="450072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50920" y="1052640"/>
            <a:ext cx="84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7.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дьте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ля ребенка </a:t>
            </a:r>
            <a:r>
              <a:rPr b="0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римером,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н равняется на Вас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:\13453847423722 (1).jpeg"/>
          <p:cNvPicPr/>
          <p:nvPr/>
        </p:nvPicPr>
        <p:blipFill>
          <a:blip r:embed="rId1"/>
          <a:stretch/>
        </p:blipFill>
        <p:spPr>
          <a:xfrm>
            <a:off x="2000160" y="3071880"/>
            <a:ext cx="46036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357120" y="857160"/>
            <a:ext cx="8429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8. </a:t>
            </a:r>
            <a:r>
              <a:rPr b="0" lang="ru-RU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Найдите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течение дня хотя бы </a:t>
            </a:r>
            <a:r>
              <a:rPr b="0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олчаса, 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огда вы будете принадлежать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олько ребен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G:\6CAETM86PCAJU0HR4CAUMZ3FOCAVE7G7OCA7SXFGPCAZFEM63CAXYYTN8CA25E2WHCA0Z38NKCALHTNOXCA1OGYKZCA5CHVKZCA90J7D9CACFK0CPCAU8WMTACAR53SLICABUYYEECA6U77ERCA7H8INX.jpg"/>
          <p:cNvPicPr/>
          <p:nvPr/>
        </p:nvPicPr>
        <p:blipFill>
          <a:blip r:embed="rId1"/>
          <a:stretch/>
        </p:blipFill>
        <p:spPr>
          <a:xfrm>
            <a:off x="2500200" y="3143160"/>
            <a:ext cx="39290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5:47:01Z</dcterms:created>
  <dc:creator>Admin</dc:creator>
  <dc:description/>
  <dc:language>en-US</dc:language>
  <cp:lastModifiedBy>L314</cp:lastModifiedBy>
  <dcterms:modified xsi:type="dcterms:W3CDTF">2014-09-08T05:06:56Z</dcterms:modified>
  <cp:revision>53</cp:revision>
  <dc:subject/>
  <dc:title>Слайд 1</dc:title>
</cp:coreProperties>
</file>