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6E1-E394-4991-9797-59CBFA11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364-F9DD-4452-B0BC-B8679F6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829-58A7-42D6-94F4-128E0D7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76C-A668-4B02-BE21-C3F5F5BF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910-3FDD-4589-8528-634C0864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DBF-380E-42DD-AA84-09AEFA8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9202-C9DB-4B42-A2A8-C2CE61C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53EA-6C57-4C1F-BDF6-9F4AEDF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1BC-CDF1-4C75-B142-7605021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4D20-C330-4A52-8CE1-FD839A1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856-3DC3-468A-9EAB-F682E17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714-B17C-4BB0-AAF0-632CCD52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D3E1-9386-4399-B28C-C0B3BE3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8D30-61C9-4607-BB68-B28E9DD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CD9-6F17-4A9A-A9A3-41A9BF1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0497-6183-4F48-B2B6-C9D352DD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C12A-86D2-47F3-9F53-7A1903C6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29E9-C46D-41BF-B0E1-9DA6580A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99B7-60F5-432B-9A4E-7212512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90A9-C92B-4EEE-9F54-E8615C7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44BE-6B4B-45A5-A5C4-BB60B76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A314-A249-4E14-B0FE-6C8660D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8BD-1142-428B-A421-979660F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884E-2717-4B13-923B-C45D0109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8F37-4A5A-49FF-B3A5-903AF6E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176F-F31A-4C9B-AE8E-5759239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D546-B8C5-4B4A-9CB7-F7C9BD4F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9425-30DF-4C7E-8A05-19AC161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BCD7-A021-444D-9004-AA164DD4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7CA8-3785-4386-B074-2D9907B8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7509-60A7-4E75-84FD-223BD614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E378-F209-475A-8881-DF5675B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8048-BC88-49D3-A513-8544C695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FE1-B34B-46EA-BF01-38AFC814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F4FB-4FDC-4AD3-B477-D169A0D9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A109-5676-4DEB-8F24-2F992425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8FAA-A8C2-46C1-A88C-4A254347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3AE4-6F7C-4045-B4D2-2C828FC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618A-CC2A-4D8A-910E-3F981DF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8746-A761-4E53-9171-898E0A5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A9CF-7218-4698-A0A5-EB1EF1E7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990F-21C9-4FDA-B5A3-0D9D8C4B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C806-D03B-4809-BCDD-13B8AB19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8050-12DE-4F8D-A93E-CDEEEA1C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693-8921-4A34-A2A5-5B376E3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47E29-EBC8-4C70-B3CB-73D9111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277C-4994-4246-AC5E-D548ADF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A981-ECC5-4438-9A97-8EFEF89A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12F51-9287-4901-A4A3-A9E48C3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0C79-E11B-4721-B457-ED84B2C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EA17-05EB-4C15-9552-7D373D23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0B49-159A-4DD5-9E7C-1FD555C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7223-2524-41B8-847C-C4C7EDE5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F9EAC-757E-40B0-BD98-3E1DA968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CF6A-CE3C-44C2-AD28-02568A1F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C6D-8695-492D-8973-CA644BE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DBC8-C815-48E3-BDC2-43E150D6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AABE-7E28-454A-9E12-F15B51B0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3F37-5156-4E48-A739-DC315AA3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BA30-23B4-4F45-81AA-257E0A7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3F20-BC2D-475C-8555-551325B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74DA-E55E-4120-8ED2-2D5C715C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E69A-1ECB-4359-BDE6-93854B75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DE6D-1570-4B1E-8CD4-3041140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C516-05F5-4122-BA9D-F955486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97D4-91BB-4D9B-B53A-57051BE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888-7C24-42F3-9261-6E70BCB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4D307-625C-43FD-B3F1-155B715D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0AD5-F3D3-40B6-9A38-B7C28A46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CE8A-EA65-41DC-A8E6-71A1FF6F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F8AF-AB53-4AC7-B2B7-CC1FD1FE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4E09-B93F-4E35-9D8A-BB1F864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58D6-DC74-4221-878D-0F7FCDE5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01BE8-37C1-4504-AC5D-D1B12AB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945BD-10A8-4A8E-BD2B-AAE6740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ECA03-C5FF-4D90-AFA7-1576C3B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CFA7A-38CD-41A6-ABE5-7AE71E2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F3B-FA5C-4534-8233-90F7842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EDCE-4009-4C84-8AEE-D4A129C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049E5-B13C-44E4-98D8-B1B1A1A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63E8-A41E-48BB-9DB7-F4C7EB2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05BC-1A4C-49CD-9C05-52EA01B4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0768-FE0B-4584-A9F6-69AF5B98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3C8-35CD-4522-88AA-2F0913C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0B8-0406-4DE0-8971-9DC7379DA4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6740-1C94-43F2-B622-7A62A4948D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41BB-788C-46DB-8285-0FB25F6285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1B9-4D80-4903-9B40-FC66871B9F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E43-72A5-4936-A8D9-5C39C0D8E4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5B83-100A-4F5A-86B0-3C367272D0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579-E1CB-414D-A833-D30DCA1267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" descr=""/>
          <p:cNvPicPr/>
          <p:nvPr/>
        </p:nvPicPr>
        <p:blipFill>
          <a:blip r:embed="rId1"/>
          <a:stretch/>
        </p:blipFill>
        <p:spPr>
          <a:xfrm>
            <a:off x="5214960" y="285840"/>
            <a:ext cx="3370320" cy="3402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5"/>
          <p:cNvSpPr/>
          <p:nvPr/>
        </p:nvSpPr>
        <p:spPr>
          <a:xfrm>
            <a:off x="1714680" y="47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/>
  <dc:description/>
  <dc:language>en-US</dc:language>
  <cp:lastModifiedBy>САДИК</cp:lastModifiedBy>
  <dcterms:modified xsi:type="dcterms:W3CDTF">2015-10-19T07:14:25Z</dcterms:modified>
  <cp:revision>50</cp:revision>
  <dc:subject/>
  <dc:title>Слайд 1</dc:title>
</cp:coreProperties>
</file>