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9.jpeg" ContentType="image/jpeg"/>
  <Override PartName="/ppt/media/image30.png" ContentType="image/png"/>
  <Override PartName="/ppt/media/image8.png" ContentType="image/png"/>
  <Override PartName="/ppt/media/image5.jpeg" ContentType="image/jpeg"/>
  <Override PartName="/ppt/media/image32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9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2CC-B1BF-445A-8FEB-2808DF78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FFE-5D44-4789-8862-E5BBAF15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934-377D-47BA-80B3-77421655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1B3-C422-47C3-9526-C142CA2D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23AB-9B13-4650-8951-956CAED7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CF91-4F3D-4671-80B8-EF4A2C17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821E-B32F-48E2-9DD6-CD8478A7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7BC3-050F-4E0C-A224-37089FA3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B63C-6BE7-495E-A523-E7241833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ED1E-FCE6-4708-97AE-6B35FA86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8921-27F0-4282-804B-A5CD893D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F56-B9D1-4D92-84D5-E4B476BC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0A56-5E23-4E6B-AE35-95D884FD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FC3C-FB3E-448B-884A-410B89A1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DBF4-7415-429A-8B33-A453E741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1638-DA27-4F23-ACA9-041B39EF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C1D6-81A4-495F-852E-BAD050B4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4DEBA-03FD-4EED-90A8-6DF41EEC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E4CCD-8FED-456F-B084-BE613192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59873-EEC5-49A3-84D7-61610B9E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27E01-AA85-43DE-AEEC-F7751266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4A3B7-BF1E-4F41-BE80-48805EC7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71C-E73F-4680-9B75-F23746F8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9F674-D006-4325-B30A-B7D18CCB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AE67A-A7CE-47CF-A022-C58170F0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AF14C-C4A9-44FC-981B-E352188E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FE651-2CE2-4C94-BEE0-563BE412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8C89-FFE3-4A34-9685-B8DD3127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84F1F-6CB4-4C02-A379-9831F5B5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F5F90-8107-4CC5-A7CB-6AD4D227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81854-97E4-45F4-8111-222AFA0D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50274-3A04-4719-9FCE-FC76CD0B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25B25-C857-4D83-883A-B912813D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74F-6996-47E4-9320-F42C67A6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4FD2A-B57D-4645-87EF-2005761B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70FEA-EF44-4B17-A208-0E9298A9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934F1-4DE4-4A2B-A470-CCB1DDCA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6EAA7-F045-4023-9DF9-08C1F630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C727D-A141-4432-90AE-BB365CF9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08F99-4040-4388-A747-48522CBB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C05CC-F43F-4F75-AF2F-3A06EEB4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A3D70-A25B-4962-AFDF-5BC34BF1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B7B7A-F8A0-4966-A142-45015575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33C88-992E-4FB5-B218-95B7B940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DB6-BA4F-41E8-9135-8BBCF385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91E85-A909-46A7-96B6-136A8F1F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06534-6C30-4C5C-8895-37011D5D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A95A8-57AF-4E86-94FA-0F6B49EF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41365-EFA6-4D8A-AC27-F5D9C873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3C2DA-4918-4B41-82D3-3CBE00BA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5F40F-375D-4964-A159-DB6F10B7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7A9B6-99C7-49EA-87F1-1FAD0870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F994E-D0C9-47AF-ADC2-4ED81C81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CC49E-9ED0-44FB-A324-721FFF6C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2A2EA-86D6-4EA4-B6B8-4466C2AF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721-341D-4479-B150-D76AA012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754F3-8A7B-4BA8-8D6F-DE860575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B0264-5DBE-4725-B08F-DF45B007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65F14-C6AD-4EDF-A97D-6F63A2B8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0CAC6-33FF-4950-BFA2-87B7932F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B5C81-84E6-46A6-A58C-07CF2DE6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0F969-55AE-47AE-B07A-6F7AC611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14929-F065-4C95-9775-626B31E1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957A9-5DFA-45BB-B135-125400DA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0D2F6-E6D2-4823-8344-36C75F69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CD6E3-6D07-4014-BA5D-9A6E41A1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2EF-42FD-4448-BBB4-CDBCBF1A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D84AD-CF35-433D-A978-CEF8CCD8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0CBF7-4DC8-4926-A967-ED19319C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7F785-4203-4D1C-B7A6-F91B0B26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8D9D0-B874-4DA9-A43C-5A4C080D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F054E-01B2-41A9-A4B5-79F7C95F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5A74E-9BCC-484E-9F2E-34CAFA7E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98037-C042-4475-853F-1BA2086E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05DAA-91C2-4D74-B1EE-039108DE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C6AF7-D897-451E-A3A2-A9347072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400D9-528F-445F-9690-3E2268AE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B8F7-9B2B-442E-928D-D5E7D683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CDBD5-9CB6-4E47-A925-61D33D7D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3B219-7A1F-4EBE-8F10-D80E04AC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CBB9D-9257-4360-9FC3-6562631C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36982-01C9-45EB-9815-FF2B6374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96A42-7DDC-45AF-AED5-9B70803C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535-76AB-4752-89DF-3458DDD8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088C-5747-4293-B2EA-0433306E64C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3E69-2954-4BE5-8A63-E5C44992085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3407-0E9D-42DD-B9CF-B007E55D7A5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8330-1EC8-4BD7-A01C-A60B616EF5D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C0C6-7DC4-43EA-863B-92DA6418F60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A2E5-5F65-4384-BBD8-ED14A3DBAC1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3605-7A4D-4D38-9A57-3E922834802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humbe_2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3"/>
          <p:cNvSpPr/>
          <p:nvPr/>
        </p:nvSpPr>
        <p:spPr>
          <a:xfrm>
            <a:off x="1785960" y="1500120"/>
            <a:ext cx="621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збу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Содержимое 5" descr="золушка.bmp"/>
          <p:cNvPicPr/>
          <p:nvPr/>
        </p:nvPicPr>
        <p:blipFill>
          <a:blip r:embed="rId1"/>
          <a:stretch/>
        </p:blipFill>
        <p:spPr>
          <a:xfrm>
            <a:off x="5500800" y="285840"/>
            <a:ext cx="3000240" cy="42861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2"/>
          <p:cNvSpPr/>
          <p:nvPr/>
        </p:nvSpPr>
        <p:spPr>
          <a:xfrm>
            <a:off x="1643040" y="357120"/>
            <a:ext cx="292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1357200" y="4798080"/>
            <a:ext cx="73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олуш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любимая падчерица, героиня одноименной сказки Ш.Пер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1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2"/>
          <p:cNvSpPr/>
          <p:nvPr/>
        </p:nvSpPr>
        <p:spPr>
          <a:xfrm>
            <a:off x="1500120" y="785880"/>
            <a:ext cx="2071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"/>
          <p:cNvSpPr/>
          <p:nvPr/>
        </p:nvSpPr>
        <p:spPr>
          <a:xfrm>
            <a:off x="1643040" y="4218840"/>
            <a:ext cx="707220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7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ванушка - дурачо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ерой русских народных сказ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Содержимое 5" descr="kolobok.jpg"/>
          <p:cNvPicPr/>
          <p:nvPr/>
        </p:nvPicPr>
        <p:blipFill>
          <a:blip r:embed="rId1"/>
          <a:stretch/>
        </p:blipFill>
        <p:spPr>
          <a:xfrm>
            <a:off x="5143680" y="50004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350" name="TextBox 3"/>
          <p:cNvSpPr/>
          <p:nvPr/>
        </p:nvSpPr>
        <p:spPr>
          <a:xfrm>
            <a:off x="1571760" y="6429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4"/>
          <p:cNvSpPr/>
          <p:nvPr/>
        </p:nvSpPr>
        <p:spPr>
          <a:xfrm>
            <a:off x="1285920" y="3929040"/>
            <a:ext cx="785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лобо́к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одноимённой русской народной сказки, изображаемый в виде небольшого хлеба сферической формы жёлтого цвета, который принял сказочный образ говорящего существ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"/>
          <p:cNvSpPr/>
          <p:nvPr/>
        </p:nvSpPr>
        <p:spPr>
          <a:xfrm>
            <a:off x="1285920" y="4500720"/>
            <a:ext cx="764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унти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лавный герой мультипликационного телесериала «Приключения Лунти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рождения Лунтика 12 апр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Содержимое 5" descr="лунтик.jpg"/>
          <p:cNvPicPr/>
          <p:nvPr/>
        </p:nvPicPr>
        <p:blipFill>
          <a:blip r:embed="rId1"/>
          <a:stretch/>
        </p:blipFill>
        <p:spPr>
          <a:xfrm>
            <a:off x="5072040" y="428760"/>
            <a:ext cx="3714840" cy="37861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1500120" y="50004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1285920" y="492912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о́скин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вымышленный кот, популярный персонаж произведений детского писателя Эдуарда Успен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Содержимое 5" descr="матроскин.jpg"/>
          <p:cNvPicPr/>
          <p:nvPr/>
        </p:nvPicPr>
        <p:blipFill>
          <a:blip r:embed="rId1"/>
          <a:stretch/>
        </p:blipFill>
        <p:spPr>
          <a:xfrm>
            <a:off x="4429080" y="500040"/>
            <a:ext cx="4500720" cy="41688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3"/>
          <p:cNvSpPr/>
          <p:nvPr/>
        </p:nvSpPr>
        <p:spPr>
          <a:xfrm>
            <a:off x="1500120" y="50004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Рисунок 1" descr=""/>
          <p:cNvPicPr/>
          <p:nvPr/>
        </p:nvPicPr>
        <p:blipFill>
          <a:blip r:embed="rId1"/>
          <a:stretch/>
        </p:blipFill>
        <p:spPr>
          <a:xfrm>
            <a:off x="5286240" y="428760"/>
            <a:ext cx="3357720" cy="392904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"/>
          <p:cNvSpPr/>
          <p:nvPr/>
        </p:nvSpPr>
        <p:spPr>
          <a:xfrm>
            <a:off x="1071720" y="4244400"/>
            <a:ext cx="807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знайка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едставитель племени маленьких человечков — коротышек, — известный прежде всего как литературный персонаж трилогии Николая Нос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1571760" y="500040"/>
            <a:ext cx="2643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1" descr=""/>
          <p:cNvPicPr/>
          <p:nvPr/>
        </p:nvPicPr>
        <p:blipFill>
          <a:blip r:embed="rId1"/>
          <a:stretch/>
        </p:blipFill>
        <p:spPr>
          <a:xfrm>
            <a:off x="4929120" y="285840"/>
            <a:ext cx="4002120" cy="37861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1"/>
          <p:cNvSpPr/>
          <p:nvPr/>
        </p:nvSpPr>
        <p:spPr>
          <a:xfrm>
            <a:off x="1285920" y="4169160"/>
            <a:ext cx="785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ли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а́-Иа́  — персонаж книги Алана Милна «Винни-Пух».  Вечно печальный, пессимистически настроенный, пожилой серый ослик ,один из главных друзей главного персонажа — Винни-П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3"/>
          <p:cNvSpPr/>
          <p:nvPr/>
        </p:nvSpPr>
        <p:spPr>
          <a:xfrm>
            <a:off x="1571760" y="571680"/>
            <a:ext cx="2643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"/>
          <p:cNvPicPr/>
          <p:nvPr/>
        </p:nvPicPr>
        <p:blipFill>
          <a:blip r:embed="rId1"/>
          <a:stretch/>
        </p:blipFill>
        <p:spPr>
          <a:xfrm>
            <a:off x="4643280" y="785880"/>
            <a:ext cx="3732480" cy="311940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2"/>
          <p:cNvSpPr/>
          <p:nvPr/>
        </p:nvSpPr>
        <p:spPr>
          <a:xfrm>
            <a:off x="1214280" y="500076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ятачо́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ленький поросенок, самый близкий друг Винни-П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1571760" y="6429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Содержимое 10" descr="русалочка.jpg"/>
          <p:cNvPicPr/>
          <p:nvPr/>
        </p:nvPicPr>
        <p:blipFill>
          <a:blip r:embed="rId1"/>
          <a:stretch/>
        </p:blipFill>
        <p:spPr>
          <a:xfrm>
            <a:off x="4929120" y="428760"/>
            <a:ext cx="3903840" cy="37144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"/>
          <p:cNvSpPr/>
          <p:nvPr/>
        </p:nvSpPr>
        <p:spPr>
          <a:xfrm>
            <a:off x="1285920" y="45788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ал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ероиня мифов, сказок, в образе девушки с длинными волосами и рыбьим хвостом, живущая в в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1714680" y="500040"/>
            <a:ext cx="23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1" descr=""/>
          <p:cNvPicPr/>
          <p:nvPr/>
        </p:nvPicPr>
        <p:blipFill>
          <a:blip r:embed="rId1"/>
          <a:stretch/>
        </p:blipFill>
        <p:spPr>
          <a:xfrm>
            <a:off x="4857840" y="357120"/>
            <a:ext cx="3917880" cy="353700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2"/>
          <p:cNvSpPr/>
          <p:nvPr/>
        </p:nvSpPr>
        <p:spPr>
          <a:xfrm>
            <a:off x="1214280" y="4500720"/>
            <a:ext cx="771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шари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забавные круглые зверушки, живущие  в собственном вымышленном ми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1643040" y="57168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1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3643200" cy="40719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2"/>
          <p:cNvSpPr/>
          <p:nvPr/>
        </p:nvSpPr>
        <p:spPr>
          <a:xfrm>
            <a:off x="1643040" y="357120"/>
            <a:ext cx="25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"/>
          <p:cNvSpPr/>
          <p:nvPr/>
        </p:nvSpPr>
        <p:spPr>
          <a:xfrm>
            <a:off x="1214280" y="4643280"/>
            <a:ext cx="771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йболи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его настоящее имя - доктор Дулитл, и появился он на свет благодаря английскому писателю Хью Лофтин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1" descr=""/>
          <p:cNvPicPr/>
          <p:nvPr/>
        </p:nvPicPr>
        <p:blipFill>
          <a:blip r:embed="rId1"/>
          <a:stretch/>
        </p:blipFill>
        <p:spPr>
          <a:xfrm>
            <a:off x="4929120" y="428760"/>
            <a:ext cx="3689280" cy="3576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2"/>
          <p:cNvSpPr/>
          <p:nvPr/>
        </p:nvSpPr>
        <p:spPr>
          <a:xfrm>
            <a:off x="1785960" y="35712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3"/>
          <p:cNvSpPr/>
          <p:nvPr/>
        </p:nvSpPr>
        <p:spPr>
          <a:xfrm>
            <a:off x="1214280" y="421488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о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ультипликационный  кот серо-голубого окраса из мультсериала Том и Джерри, гоняющийся за мышонком Джерр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Содержимое 4" descr="Удав.bmp"/>
          <p:cNvPicPr/>
          <p:nvPr/>
        </p:nvPicPr>
        <p:blipFill>
          <a:blip r:embed="rId1"/>
          <a:stretch/>
        </p:blipFill>
        <p:spPr>
          <a:xfrm>
            <a:off x="5072040" y="285840"/>
            <a:ext cx="3657600" cy="3500280"/>
          </a:xfrm>
          <a:prstGeom prst="rect">
            <a:avLst/>
          </a:prstGeom>
          <a:ln w="0">
            <a:noFill/>
          </a:ln>
        </p:spPr>
      </p:pic>
      <p:sp>
        <p:nvSpPr>
          <p:cNvPr id="377" name="TextBox 2"/>
          <p:cNvSpPr/>
          <p:nvPr/>
        </p:nvSpPr>
        <p:spPr>
          <a:xfrm>
            <a:off x="1643040" y="500040"/>
            <a:ext cx="2357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1428840" y="407196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да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герой мультфиль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8 попугаев» , где длину задумчивого Удава измеряли в слонах, мартышках и попуга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1" descr=""/>
          <p:cNvPicPr/>
          <p:nvPr/>
        </p:nvPicPr>
        <p:blipFill>
          <a:blip r:embed="rId1"/>
          <a:stretch/>
        </p:blipFill>
        <p:spPr>
          <a:xfrm>
            <a:off x="5429160" y="285840"/>
            <a:ext cx="3232080" cy="35719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2"/>
          <p:cNvSpPr/>
          <p:nvPr/>
        </p:nvSpPr>
        <p:spPr>
          <a:xfrm>
            <a:off x="1785960" y="500040"/>
            <a:ext cx="2571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1071720" y="464328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ио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нцесса из популярного мультфильма «Шрек». Родилась она в Великобрита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1" descr=""/>
          <p:cNvPicPr/>
          <p:nvPr/>
        </p:nvPicPr>
        <p:blipFill>
          <a:blip r:embed="rId1"/>
          <a:stretch/>
        </p:blipFill>
        <p:spPr>
          <a:xfrm>
            <a:off x="5429160" y="214200"/>
            <a:ext cx="3357720" cy="303876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"/>
          <p:cNvSpPr/>
          <p:nvPr/>
        </p:nvSpPr>
        <p:spPr>
          <a:xfrm>
            <a:off x="1071720" y="3420720"/>
            <a:ext cx="807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рюш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ерсонаж детской телепередачи «Спокойной ночи, малыши!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рождения Хрюши счит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февраля 197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 — поросёнок. Хрюша часто шалит и попадает в неприятные исто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1714680" y="28584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Содержимое 4" descr="цар-лягушка.bmp"/>
          <p:cNvPicPr/>
          <p:nvPr/>
        </p:nvPicPr>
        <p:blipFill>
          <a:blip r:embed="rId1"/>
          <a:stretch/>
        </p:blipFill>
        <p:spPr>
          <a:xfrm>
            <a:off x="5072040" y="214200"/>
            <a:ext cx="3857760" cy="342900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2"/>
          <p:cNvSpPr/>
          <p:nvPr/>
        </p:nvSpPr>
        <p:spPr>
          <a:xfrm>
            <a:off x="1214280" y="371484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аре́вна - Лягу́шк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русских народных волшебных сказок. Иван-Царевич стрелял из лука, чтобы стрела привела его к невесте, но вместо девушки находит лягушку в болоте, которая держит его стре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643040" y="357120"/>
            <a:ext cx="200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Рисунок 1" descr=""/>
          <p:cNvPicPr/>
          <p:nvPr/>
        </p:nvPicPr>
        <p:blipFill>
          <a:blip r:embed="rId1"/>
          <a:stretch/>
        </p:blipFill>
        <p:spPr>
          <a:xfrm>
            <a:off x="5572080" y="214200"/>
            <a:ext cx="3375000" cy="32148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1"/>
          <p:cNvSpPr/>
          <p:nvPr/>
        </p:nvSpPr>
        <p:spPr>
          <a:xfrm>
            <a:off x="785880" y="3453480"/>
            <a:ext cx="835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ебура́ш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кни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Успенского «Крокодил Гена и его друз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 представляет собой существо с огромными ушами, большими глазами и коричневой шерстью, ходящее на задних лап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571760" y="285840"/>
            <a:ext cx="2786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Рисунок 1" descr=""/>
          <p:cNvPicPr/>
          <p:nvPr/>
        </p:nvPicPr>
        <p:blipFill>
          <a:blip r:embed="rId1"/>
          <a:stretch/>
        </p:blipFill>
        <p:spPr>
          <a:xfrm>
            <a:off x="5072040" y="428760"/>
            <a:ext cx="3398760" cy="313344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2"/>
          <p:cNvSpPr/>
          <p:nvPr/>
        </p:nvSpPr>
        <p:spPr>
          <a:xfrm>
            <a:off x="1214280" y="3500280"/>
            <a:ext cx="7715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Шре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громный зелёный великан, который живёт в одиночестве на болоте в окрестностях города-государства Далок, населённого людьми, животными, куклами  из разных европейских сказок и леге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3"/>
          <p:cNvSpPr/>
          <p:nvPr/>
        </p:nvSpPr>
        <p:spPr>
          <a:xfrm>
            <a:off x="1428840" y="357120"/>
            <a:ext cx="3571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Содержимое 4" descr="щука.bmp"/>
          <p:cNvPicPr/>
          <p:nvPr/>
        </p:nvPicPr>
        <p:blipFill>
          <a:blip r:embed="rId1"/>
          <a:stretch/>
        </p:blipFill>
        <p:spPr>
          <a:xfrm>
            <a:off x="5286240" y="357120"/>
            <a:ext cx="3470400" cy="33577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"/>
          <p:cNvSpPr/>
          <p:nvPr/>
        </p:nvSpPr>
        <p:spPr>
          <a:xfrm>
            <a:off x="1285920" y="438264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Щу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весьма популярным персонажем русского фольклора, она фигурирует в пословицах ,сказках , баснях , рассказа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1785960" y="285840"/>
            <a:ext cx="30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Рисунок 1" descr=""/>
          <p:cNvPicPr/>
          <p:nvPr/>
        </p:nvPicPr>
        <p:blipFill>
          <a:blip r:embed="rId1"/>
          <a:stretch/>
        </p:blipFill>
        <p:spPr>
          <a:xfrm>
            <a:off x="5214960" y="285840"/>
            <a:ext cx="3370320" cy="34020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2"/>
          <p:cNvSpPr/>
          <p:nvPr/>
        </p:nvSpPr>
        <p:spPr>
          <a:xfrm>
            <a:off x="1714680" y="428760"/>
            <a:ext cx="257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5"/>
          <p:cNvSpPr/>
          <p:nvPr/>
        </p:nvSpPr>
        <p:spPr>
          <a:xfrm>
            <a:off x="1714680" y="4786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льф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ухи «Волшебной стра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Рисунок 1" descr=""/>
          <p:cNvPicPr/>
          <p:nvPr/>
        </p:nvPicPr>
        <p:blipFill>
          <a:blip r:embed="rId1"/>
          <a:stretch/>
        </p:blipFill>
        <p:spPr>
          <a:xfrm>
            <a:off x="5357880" y="285840"/>
            <a:ext cx="3368520" cy="335736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2"/>
          <p:cNvSpPr/>
          <p:nvPr/>
        </p:nvSpPr>
        <p:spPr>
          <a:xfrm>
            <a:off x="1285920" y="3643200"/>
            <a:ext cx="757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о -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Юдо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руппа многоголовых  драконов, отрицательных персонажей русской сказки «Иван — крестьянский сын и Чудо-юдо». Живут за рекой Смородиной, через которую перебираются по Калинову мос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1428840" y="500040"/>
            <a:ext cx="335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Рисунок 1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4214880" cy="42148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2"/>
          <p:cNvSpPr/>
          <p:nvPr/>
        </p:nvSpPr>
        <p:spPr>
          <a:xfrm>
            <a:off x="1714680" y="57168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1357200" y="4572000"/>
            <a:ext cx="74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лоснежка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расивая девушка, персонаж известный по сказ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ьев Гри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Содержимое 6" descr="баба яга.bmp"/>
          <p:cNvPicPr/>
          <p:nvPr/>
        </p:nvPicPr>
        <p:blipFill>
          <a:blip r:embed="rId1"/>
          <a:stretch/>
        </p:blipFill>
        <p:spPr>
          <a:xfrm>
            <a:off x="5357880" y="285840"/>
            <a:ext cx="3552840" cy="35812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"/>
          <p:cNvSpPr/>
          <p:nvPr/>
        </p:nvSpPr>
        <p:spPr>
          <a:xfrm>
            <a:off x="1071720" y="4105800"/>
            <a:ext cx="8072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́ба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га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ерсонаж  волшебной сказки, старуха-чародейка, наделённая магической силой. По своим свойствам ближе всего к ведьме.  Чаще всего — отрицательный персон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1643040" y="500040"/>
            <a:ext cx="2571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1" descr=""/>
          <p:cNvPicPr/>
          <p:nvPr/>
        </p:nvPicPr>
        <p:blipFill>
          <a:blip r:embed="rId1"/>
          <a:stretch/>
        </p:blipFill>
        <p:spPr>
          <a:xfrm>
            <a:off x="4786200" y="285840"/>
            <a:ext cx="4000680" cy="392904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1714680" y="42876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1214280" y="465012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и́нни-Пу́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— плюшевый мишка, персонаж повестей и стихов Алана Александра Мил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" descr=""/>
          <p:cNvPicPr/>
          <p:nvPr/>
        </p:nvPicPr>
        <p:blipFill>
          <a:blip r:embed="rId1"/>
          <a:stretch/>
        </p:blipFill>
        <p:spPr>
          <a:xfrm>
            <a:off x="4643280" y="428760"/>
            <a:ext cx="4214880" cy="4143240"/>
          </a:xfrm>
          <a:prstGeom prst="rect">
            <a:avLst/>
          </a:prstGeom>
          <a:ln w="0">
            <a:noFill/>
          </a:ln>
        </p:spPr>
      </p:pic>
      <p:sp>
        <p:nvSpPr>
          <p:cNvPr id="329" name="TextBox 2"/>
          <p:cNvSpPr/>
          <p:nvPr/>
        </p:nvSpPr>
        <p:spPr>
          <a:xfrm>
            <a:off x="1571760" y="4287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"/>
          <p:cNvSpPr/>
          <p:nvPr/>
        </p:nvSpPr>
        <p:spPr>
          <a:xfrm>
            <a:off x="1428840" y="4572000"/>
            <a:ext cx="7429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а́рфилд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— популярный персонаж одноимённой серии комиксов созданный художником Джимом Дэвис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1" descr="http://upload.wikimedia.org/wikipedia/ru/thumb/9/92/Thumbe_2.jpg/210px-Thumbe_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500040"/>
            <a:ext cx="3843360" cy="3714840"/>
          </a:xfrm>
          <a:prstGeom prst="rect">
            <a:avLst/>
          </a:prstGeom>
          <a:ln w="0">
            <a:noFill/>
          </a:ln>
        </p:spPr>
      </p:pic>
      <p:sp>
        <p:nvSpPr>
          <p:cNvPr id="332" name="TextBox 2"/>
          <p:cNvSpPr/>
          <p:nvPr/>
        </p:nvSpPr>
        <p:spPr>
          <a:xfrm>
            <a:off x="1571760" y="571680"/>
            <a:ext cx="257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"/>
          <p:cNvSpPr/>
          <p:nvPr/>
        </p:nvSpPr>
        <p:spPr>
          <a:xfrm>
            <a:off x="1428840" y="4429080"/>
            <a:ext cx="7429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юймо́воч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рохотная девочка, героиня одноимённой сказки датского поэта, путешественника и сказоч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Х. Андерс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4"/>
          <p:cNvSpPr/>
          <p:nvPr/>
        </p:nvSpPr>
        <p:spPr>
          <a:xfrm>
            <a:off x="1285920" y="500076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мел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ленивый персонаж русской народной сказ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 щучьему веленью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4643280" y="571680"/>
            <a:ext cx="4071960" cy="37144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6"/>
          <p:cNvSpPr/>
          <p:nvPr/>
        </p:nvSpPr>
        <p:spPr>
          <a:xfrm>
            <a:off x="1428840" y="428760"/>
            <a:ext cx="23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1" descr=""/>
          <p:cNvPicPr/>
          <p:nvPr/>
        </p:nvPicPr>
        <p:blipFill>
          <a:blip r:embed="rId1"/>
          <a:stretch/>
        </p:blipFill>
        <p:spPr>
          <a:xfrm>
            <a:off x="4714920" y="500040"/>
            <a:ext cx="4000320" cy="37861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2"/>
          <p:cNvSpPr/>
          <p:nvPr/>
        </p:nvSpPr>
        <p:spPr>
          <a:xfrm>
            <a:off x="1714680" y="57168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1357200" y="507204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жи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лавный герой мультсериала «Смешари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1"/>
          <p:cNvSpPr/>
          <p:nvPr/>
        </p:nvSpPr>
        <p:spPr>
          <a:xfrm>
            <a:off x="1214280" y="4143240"/>
            <a:ext cx="7715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ар-птиц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казочная птица, персонаж русских сказок.  Перья жар-птицы обладают способностью светить и своим блеском поражают зрение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Содержимое 4" descr="жарптиц.jpg"/>
          <p:cNvPicPr/>
          <p:nvPr/>
        </p:nvPicPr>
        <p:blipFill>
          <a:blip r:embed="rId1"/>
          <a:stretch/>
        </p:blipFill>
        <p:spPr>
          <a:xfrm>
            <a:off x="4714920" y="357120"/>
            <a:ext cx="4086360" cy="3786120"/>
          </a:xfrm>
          <a:prstGeom prst="rect">
            <a:avLst/>
          </a:prstGeom>
          <a:ln w="0">
            <a:noFill/>
          </a:ln>
        </p:spPr>
      </p:pic>
      <p:sp>
        <p:nvSpPr>
          <p:cNvPr id="342" name="TextBox 3"/>
          <p:cNvSpPr/>
          <p:nvPr/>
        </p:nvSpPr>
        <p:spPr>
          <a:xfrm>
            <a:off x="1571760" y="35712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11:33Z</dcterms:created>
  <dc:creator/>
  <dc:description/>
  <dc:language>en-US</dc:language>
  <cp:lastModifiedBy>САДИК</cp:lastModifiedBy>
  <dcterms:modified xsi:type="dcterms:W3CDTF">2015-10-19T07:14:25Z</dcterms:modified>
  <cp:revision>50</cp:revision>
  <dc:subject/>
  <dc:title>Слайд 1</dc:title>
</cp:coreProperties>
</file>