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213-F5FF-4DA3-9422-5A14E35D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76F-A6BC-4EB1-8DA7-A0C3CCBC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707E-B0EB-4035-8501-C361C145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DFB-9655-4A70-BA29-F463EFA1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D96B-7694-4ED7-8266-77CF5A32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55D7-76CE-4CB6-AA2C-E5EB0C0E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3F39-C140-48CB-B2B5-D02EBD0C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F486-7276-4175-A8EB-DD826B5F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7295-8B1F-4BC3-9369-DFE131C6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4595-2671-4C9D-A6DD-19BC8159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4C30-E865-4753-8F2C-4A576A26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C5D-3562-433C-95BE-51DD5637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A443-A232-4801-B84F-1C0180B8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DFA3-B530-45C0-8AF8-39F88DA0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2EB2-815C-4044-A9AD-EBAD9AEB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1613-68E6-45DD-B0A8-D6283429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16AD-38F0-40FE-899D-B75BF7FE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E70-DEB0-45AE-87E5-41FBC52F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B99-CC58-407E-880B-913E741D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33F-D31D-4A65-A255-4694D7AC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9E7-6D6B-4877-89C7-E9689552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85B-F96E-4281-86FD-A1A08009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597-480B-4546-83B4-F79BD2BC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EDA-50E4-486B-B8A3-05843A8B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0558-65E3-4470-889F-BF6A7A009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B56C-2484-4CCD-92E8-55E7A18CCD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9257"/>
                </a:solidFill>
                <a:latin typeface="Arial"/>
              </a:rPr>
              <a:t>МАСТЕР – КЛАСС 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ЕЛОСНЕЖНОЕ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ИВО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ИРО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нгуш Га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ыртык-Кар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У СОШ с. Элег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8840" y="367920"/>
            <a:ext cx="7956360" cy="69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39257"/>
                </a:solidFill>
                <a:latin typeface="Arial"/>
              </a:rPr>
              <a:t>Созвучны ли данные снимки стихотворению К.Бальмонта?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. Лебедь также прекрасен и так же слит с миром воды, воздуха и солнечных звезд, они создают пространство вокруг царственной пт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ебедь такой белоснежный, в его оперении нет никаких других цветов. И это белое оперение, мягкий нежный пух сделали его символом благородства и чист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img358"/>
          <p:cNvPicPr/>
          <p:nvPr/>
        </p:nvPicPr>
        <p:blipFill>
          <a:blip r:embed="rId1"/>
          <a:stretch/>
        </p:blipFill>
        <p:spPr>
          <a:xfrm>
            <a:off x="1714680" y="1214280"/>
            <a:ext cx="5400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img357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хотворение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бедь в зоопарк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возь летние сумерки п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краю искусственных 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авица, дева, дикарк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лебедь плы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ывет белоснежное ди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ое, полное гре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ебля на лоне зал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ловые тени бере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ка ее шелковис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антия снега бе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дивные два амет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цают в глазницах у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колай Заболоц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4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30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Н.Заболоцкий называет ее «белоснежным дивом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а грациозна, нежна, величава. Белизна ее оперения особенно отчетлива в сумер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сравнения помогают Заболоцкому передать красоту лебед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а- «дева, дикарка», у нее не оперение, а «мантия снега белей», ее глаза- «дивные два аметиста» (аметист- горный хрусталь фиолетового цвета), своей грацией и изгибом она напоминает застывшую вол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mg359"/>
          <p:cNvPicPr/>
          <p:nvPr/>
        </p:nvPicPr>
        <p:blipFill>
          <a:blip r:embed="rId1"/>
          <a:stretch/>
        </p:blipFill>
        <p:spPr>
          <a:xfrm>
            <a:off x="1763640" y="333360"/>
            <a:ext cx="5256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генда « Лебед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лонив гибкую шею к зеркалу воды, лебедь долго всматривался в свое отражение. Он понял причину усталости и озноба, пронизывающего все тело, словно в зимние хол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ерь он доподлинно знал, что час его пробил и настала пора прощания с жизнью. Его перья были так же прекрасны и белоснежны, как и в далекие годы юности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…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глубокой вечерней тишине, воцарившейся вокруг, послышалось лебединое пение. Никогда ранее лебедь не пел с такой проникновенной задушевностью и щемящей тоской. Он вдохновенно пел о своей любви к природе, небу, воде, земле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Лебедь поет,- прошептали зачарованные прощальной песней рыбы, птицы и все прочие обитатели полей, лесов и  лугов.- Это песня умирающего лебед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жная грустная песня эхом разнеслась по округе и замерла с последними лучами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онардо да Вин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чем же поет лебедь? Какие картины прожитой жизни встают перед н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бедь, наверно,  поет о прекрасно прожитой жизни. Перед ее глазами отчетливо проплывают моменты, когда он впервые увидел большой мир, яркий и сверкающий; день, когда он встретил свою красавицу- лебедушку; он  вспоминает появление на свет первенцев – малышей- лебедят; волнующие осенне - весенние перелеты над бурным морем; синие его волны, пронизанные лучами золотого солнца; добрые руки людей, протягивающих птицам хлеб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бедь поражал человека своей белоснежной чистотой, верностью. И выражение «лебединая верность» связано с наблюдениями человека за жизнью лебедей. Лебедь обычно выбирает себе пару на много лет, он охраняет свою подругу, вместе с ней высиживает птенцов, а лишившись ее, не заводит дру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img362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9257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детей умению видеть эстетическую сторону текста, читать его как художественн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творческое и ассоциативное мышление, воображение, письменную и устную реч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ивать интерес к предмету, к различным видам искусств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любовь и бережное отношение к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img364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 этом сложил стихи поэт Андрей Дементьев, а композитор Евгений Мартынов положил на них музы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 настроение создает эта пес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мы так близко к сердцу принимаем трагедию пт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ем мечтают поэт и композитор в этой пес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Лебединая вернос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 землей летели лебеди солнечным д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им светло и радостно в небе вдво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емля казалась ласковой. И в этот м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руг по птицам кто-то выстрел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ырвался кр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то с тобой, моя любим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зовись скор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любви твоей небо все груст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же ты, моя любимая? Возвратись скор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отой своею нежной сердце мне согрей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бесах  искал подругу он, звал из гне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молчанием ответила птице б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ететь в края далекие лебедь не м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еряв подругу верную, он стал од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ы прости меня, любимая, за чужое з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ое крыло счастье не спа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прости меня, любимая, что весенним д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бе голубом, как прежде, нам не плыть вдвое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ыла непоправимою эта бе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с любимою не встретится он нико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бедь вновь поднялся к облаку, песню прерв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 сложив бесстрашно крылья, на землю уп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хочу, чтоб жили лебеди и от белы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от белых стай мир добрее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летят по небу лебеди над зем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 судьбой моей летите в свет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img360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сня вызывает грустное настроение: мы переживаем трагедию птиц, преданности, любви. И их боль не меньше боли человеческой, и потому мы принимаем ее близко к сердцу. Поэт и композитор мечтают, «… чтоб жили лебеди / И от белых стай / Мир добрее стал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лизна лебедя символизировала также искренность  поэта и пев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вы думаете, можно ли поставить памятник лебедю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истории искусства известно немало памятников, поставленных животным и пти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 лебедя есть чему поучиться и человеку: чистоте, грации, верности, не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img363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925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b39257"/>
                </a:solidFill>
                <a:latin typeface="Arial"/>
              </a:rPr>
              <a:t>Проект «Памятник лебедю».</a:t>
            </a: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рная, нежная любовь как пример дл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бедь как воплощение вдохновения и поэ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бедь- птица из сказки, олицетворение меч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бедь как символ человеческой души и ее стремления к чистоте и целомуд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зыв к бережному отношению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2268360" y="33577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какого материала и почему будет изваян памятн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мра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брон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гра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известн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. другие материалы (замазка, пластилин, бумаг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…ПУСТЬ ЛЕТЯТ ПО НЕБУ ЛЕБЕДИ НАД ЗЕМЛЕЙ МОЕ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/Андрей Дементьев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925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ыли на этом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сви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img356"/>
          <p:cNvPicPr/>
          <p:nvPr/>
        </p:nvPicPr>
        <p:blipFill>
          <a:blip r:embed="rId1"/>
          <a:stretch/>
        </p:blipFill>
        <p:spPr>
          <a:xfrm>
            <a:off x="1187280" y="260280"/>
            <a:ext cx="7056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беди с древних времен привлекают внимание  человека, их изображают на полотнах, складывают с них легенды, песни, сказки, стихи, сочиняют музы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лебедях есть множество народных и литературных сказок и леге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2296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БЕДИ – самые крупные из гусеобразных птиц.  В России их три ви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ндровый или малый леб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ку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п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 живут соответственно в тундровой, лесной и лесостепной природных зо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из Энциклопедии для дет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Биология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img361"/>
          <p:cNvPicPr/>
          <p:nvPr/>
        </p:nvPicPr>
        <p:blipFill>
          <a:blip r:embed="rId1"/>
          <a:stretch/>
        </p:blipFill>
        <p:spPr>
          <a:xfrm>
            <a:off x="611280" y="260280"/>
            <a:ext cx="7993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хотворение «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ый лебед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ый лебедь, лебедь чист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ы твои безмолв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мятежно- серебрист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скользишь, рождая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тобою- глубь нем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привета, без отв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кользишь ты, утоп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ездне воздуха и 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 нежности бесстраст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казанной, несмел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рак женственно – прекрас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бедь чистый, лебедь белы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антин Бальмо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восхищает поэта в лебе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н рисует красоту лебед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льмонта восхищает красота лебедя, удвоенная отражением в воде; кажется «серебристым», поражает чистотой, нежностью, гр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2:03:55Z</dcterms:created>
  <dc:creator>User</dc:creator>
  <dc:description/>
  <dc:language>en-US</dc:language>
  <cp:lastModifiedBy>Igrok</cp:lastModifiedBy>
  <dcterms:modified xsi:type="dcterms:W3CDTF">2015-10-19T08:50:28Z</dcterms:modified>
  <cp:revision>19</cp:revision>
  <dc:subject/>
  <dc:title>МОУ СОШ с.Элегест               им. Бавун- оола у.А.               Чеди –Хольского кожууна</dc:title>
</cp:coreProperties>
</file>